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3794-0B6B-4A8E-8121-B638B3F0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1B4-97CE-4BE7-9109-F9CF082B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6C0-42C2-4962-A05F-2B6FAC41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74A-1CCA-4B01-8192-0D0D651C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137-4E1F-42EA-8BBE-A3016BC9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BEE-6A7B-46A2-ADB8-8A450724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979-3A79-4CFE-96EB-5C74C69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8BCF-68DC-45A3-B1F5-E65BE57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7AAE-BCD9-47C9-9221-ABAF733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2652-6CD8-47AD-B5D2-488766A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1EF-78B9-4AAD-AD9C-708BA50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CBB-2201-43A2-9806-0C3BC62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280B-3DD7-442D-AB2A-36681A6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A10-44FC-4A13-8863-54438B7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42C-5D5F-4EAB-846F-D97A0A6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9D56-FE79-4847-9083-D283AF3C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ED49-DEED-416D-8674-C027FAF6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A2866-C28E-4DCB-B32C-21645D25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FBD9E-D65B-457A-859E-52119B14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E9455-2AE5-4EB2-95CA-21CF767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41C17-AEBE-46AC-9ADF-5A1B0A6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1BEE6-16BE-4AED-BB74-9BDF1DC0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AA4-AF74-45CF-BF62-BA7177C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74BB8-20DB-4719-B1EF-92E73BDD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B0FB7-3F2C-4C9E-A909-E276246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1F5ED-7E56-41E1-9CAE-591DDB8A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D2F31-C42F-4640-997B-03583594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1DCDE-32F4-4523-9462-EE4BD94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233F2-6577-4F82-8BB6-866A7038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1F147-4A06-49C0-900D-12C01B1B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0A19-D1F4-4BC3-89F4-F133CA2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90BD-B7C5-4403-9D5C-402ADB12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1754-BD2C-4531-9037-40FED1B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AF2-800D-489D-8333-20155562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5248-D20B-4294-A97E-5B46D211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8E73-A1D6-465D-85ED-D05379A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6F05-2CAD-45D0-B7D7-FF95DBD3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4443-ECD4-4BAE-98FD-B908E3F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565E-391F-4976-87BE-44C5A00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AF7E4-7C07-487C-8C58-06CE208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AEF3-1F6C-42E4-8FA1-72586C4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EA05-FA25-4735-B01A-43017839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F2D9-3417-4C51-8D22-1009085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78053-AED1-436A-9273-54080DEA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4FC-C3D0-44BC-AF7D-5958A8E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B1AB2-5BEE-482A-AF7D-77ADEE8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D0855-E2C4-46C5-B62D-500FD58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C1046-CCE2-4CFA-94C2-19FE79E9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15EC3-519A-4204-B607-C33772C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99A85-45A1-4514-AA93-9C1A158B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C8416-6B6B-4FD3-B781-4C1FEA3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65791-F7E4-40EA-A0A6-C0FEFFAE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9A35B-E84F-4797-AB5C-1B977F2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65C4F-4D9B-4296-B509-B3A33658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6F121-ADE5-4B66-B527-687607B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389-A6BB-4A2D-A32A-6F9416A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05A52-3A2A-44CA-90B1-E9D7EA96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5F141-788F-4B1C-9CAF-48391116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D2BD57-39D1-4F6D-9D81-87F93318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5B750-4EA0-4F08-80A5-7AA2B7F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FD011-0165-4D0A-B82D-F0506099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4A6E6-7D14-4425-BFA9-9D35A43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F94ED-88A7-496F-8DB8-A561530C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E7770-11E3-49E9-91E5-57263FC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EDA1B-FA15-4AB5-BD96-AB24AA2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A77C7-5966-403D-B4C7-FBC33DC3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11D-48AB-4EBA-A3CE-D29B508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82CB4-345B-461D-BF00-24816B65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26EB8-CEA9-4CE7-9725-88364C94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CDA0D-3EE2-4350-BE7A-E77104F0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B87E2-10BB-4066-A1D5-7BE7222E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C75D9-B819-446A-8B09-A5DEF22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664BC-E524-4BDC-A65A-A28FADE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ED678-4D04-478C-B045-174A5C3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FDAA5-A9DE-4A89-B2BC-910FCF10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DB3D4-468F-4804-869B-FD44B829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DB976-9EA9-43FB-B2D7-8ECA869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D6D-F3B7-4A1D-8D1F-5F5492E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BE026-323A-4F5A-9122-DE8DEA8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13166-03D8-47EF-85B4-C7F55950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2E712-F3D0-4025-9F25-4D4775AF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D4B3F-94D2-4D43-ADC8-98393F0E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8DFC7-B08D-427A-92BD-1CA7C632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FFD-098A-466D-B970-3365E61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D6CE-D5B6-4E69-B9AD-DE11CD073E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426A-EBC3-473B-98D6-1C28B2D9AD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F26A-68CE-4431-B525-AD65C889D1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9FC-2CAD-4E12-AC17-A17D6F34E9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C37A-A2CB-4C5A-970A-63C1731589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EDA-385E-4061-8789-46FF575092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D48C-8E56-4D6E-94BC-69F08D09E0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0009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04c0"/>
                </a:solidFill>
                <a:latin typeface="Century Schoolbook"/>
              </a:rPr>
              <a:t>ГОРОД ЧЕБОКСАРЫ   В ЧИСЛАХ И ЗАДАЧАХ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43280" y="3933720"/>
            <a:ext cx="33861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полнитель:                                                                                            Смирнов Евгений,                                                                      ученик  5 класса.                                                                              Руководитель:  Смирнова И.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083280" y="1916280"/>
            <a:ext cx="3060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14360" y="214200"/>
            <a:ext cx="6172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a160b"/>
                </a:solidFill>
                <a:latin typeface="Century Schoolbook"/>
              </a:rPr>
              <a:t>АВТОРСКИЕ ЗАДАЧ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785960" y="857160"/>
            <a:ext cx="4500720" cy="1928880"/>
          </a:xfrm>
          <a:prstGeom prst="rect">
            <a:avLst/>
          </a:prstGeom>
          <a:noFill/>
          <a:ln w="63360">
            <a:solidFill>
              <a:srgbClr val="862110">
                <a:alpha val="0"/>
              </a:srgbClr>
            </a:solidFill>
            <a:miter/>
          </a:ln>
          <a:effectLst>
            <a:outerShdw dist="50760" dir="5400000" blurRad="0" rotWithShape="0">
              <a:srgbClr val="f2f2f2"/>
            </a:outerShdw>
          </a:effectLst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Сколько лет городу Чебоксары, если он был основан в 1469 году? Если сейчас 2016 го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2. Московский мост был построен в 1969 году. Сколько лет мосту? Если сейчас 2015 го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286240" y="3143160"/>
            <a:ext cx="3857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исленность населения Чебоксар в 1998 году составляла 455800 человек, в  2016 году 480 124  человек.  На сколько выросло население с 1998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В 1925 году город становится столицей ЧАССР. Сколько лет прошло с тех по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5041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48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Численность населе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4" name="Текст 12"/>
          <p:cNvGraphicFramePr/>
          <p:nvPr/>
        </p:nvGraphicFramePr>
        <p:xfrm>
          <a:off x="1187280" y="692280"/>
          <a:ext cx="745344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Текс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692280"/>
                    <a:ext cx="745344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771640" y="54450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этой диаграмме можно составить очень много зада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9 класса-  для раздела «Реальная 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14360" y="428760"/>
            <a:ext cx="64292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СБОРНИК ЗАДАЧ. </a:t>
            </a:r>
            <a:br>
              <a:rPr sz="2400"/>
            </a:b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«Город Чебоксары. Столица </a:t>
            </a:r>
            <a:br>
              <a:rPr sz="2400"/>
            </a:br>
            <a:r>
              <a:rPr b="1" i="1" lang="en-US" sz="2400" spc="-1" strike="noStrike">
                <a:solidFill>
                  <a:srgbClr val="5a160b"/>
                </a:solidFill>
                <a:latin typeface="Arial"/>
              </a:rPr>
              <a:t>в числах и задачах.</a:t>
            </a: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http://images8.okr.ro/auctions.v3/700_700/2011/01/04/c/5/249122238-5567021-700_700.jpg"/>
          <p:cNvPicPr/>
          <p:nvPr/>
        </p:nvPicPr>
        <p:blipFill>
          <a:blip r:embed="rId1"/>
          <a:stretch/>
        </p:blipFill>
        <p:spPr>
          <a:xfrm>
            <a:off x="2195640" y="2565360"/>
            <a:ext cx="6143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755280" y="184428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a160b"/>
                </a:solidFill>
                <a:latin typeface="Century Schoolbook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676160" y="2820960"/>
            <a:ext cx="74674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Приезжайте в Чебоксары –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Город дружбы, город славы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С детьми. Взрослый, пожилой,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Будешь братом и сестрой.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Город наш красив, хорош, 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Краше в мире не найдёшь.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Пятьсот сорок лет живет, 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Ему слава и почё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оя Носова-Павлов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410920" y="1268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Можно ли изучая математику,  знакомиться с  историей  своей малой   Родины, ее географическим  положением и культур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6804000" y="4005360"/>
            <a:ext cx="2201760" cy="2376360"/>
          </a:xfrm>
          <a:prstGeom prst="rect">
            <a:avLst/>
          </a:prstGeom>
          <a:ln w="0">
            <a:noFill/>
          </a:ln>
        </p:spPr>
      </p:pic>
      <p:sp>
        <p:nvSpPr>
          <p:cNvPr id="358" name="Заголовок 1"/>
          <p:cNvSpPr/>
          <p:nvPr/>
        </p:nvSpPr>
        <p:spPr>
          <a:xfrm>
            <a:off x="1979640" y="476280"/>
            <a:ext cx="6172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804c0"/>
                </a:solidFill>
                <a:latin typeface="Century Schoolbook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рис.4"/>
          <p:cNvPicPr/>
          <p:nvPr/>
        </p:nvPicPr>
        <p:blipFill>
          <a:blip r:embed="rId2"/>
          <a:stretch/>
        </p:blipFill>
        <p:spPr>
          <a:xfrm>
            <a:off x="0" y="2924280"/>
            <a:ext cx="6156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61722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804c0"/>
                </a:solidFill>
                <a:latin typeface="Century Schoolbook"/>
              </a:rPr>
              <a:t>ЦЕЛ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771280" y="189000"/>
            <a:ext cx="61722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Изучение текстовых задач для  установления взаимосвязи математики с практической жизнью человека, историей, географией   и другими учебными  дисциплин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5364000" y="3500280"/>
            <a:ext cx="2610000" cy="2818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рис.2"/>
          <p:cNvPicPr/>
          <p:nvPr/>
        </p:nvPicPr>
        <p:blipFill>
          <a:blip r:embed="rId2"/>
          <a:stretch/>
        </p:blipFill>
        <p:spPr>
          <a:xfrm>
            <a:off x="468360" y="2133720"/>
            <a:ext cx="466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entury Schoolbook"/>
              </a:rPr>
              <a:t>ЗАДАЧИ</a:t>
            </a:r>
            <a:r>
              <a:rPr b="1" i="1" lang="en-US" sz="3200" spc="-1" strike="noStrike">
                <a:solidFill>
                  <a:srgbClr val="5a160b"/>
                </a:solidFill>
                <a:latin typeface="Century Schoolboo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6000" y="259920"/>
            <a:ext cx="68580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Собрать материалы и изучить литературу по данной теме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Рассмотреть виды текстовых задач и  правила их состав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Составить банк текстовых задач с использованием  исторических  и географических  сведений о городе Чебокса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" descr="рис.5"/>
          <p:cNvPicPr/>
          <p:nvPr/>
        </p:nvPicPr>
        <p:blipFill>
          <a:blip r:embed="rId1"/>
          <a:stretch/>
        </p:blipFill>
        <p:spPr>
          <a:xfrm>
            <a:off x="0" y="3213000"/>
            <a:ext cx="4392720" cy="2908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рис.6"/>
          <p:cNvPicPr/>
          <p:nvPr/>
        </p:nvPicPr>
        <p:blipFill>
          <a:blip r:embed="rId2"/>
          <a:stretch/>
        </p:blipFill>
        <p:spPr>
          <a:xfrm>
            <a:off x="514836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entury Schoolbook"/>
              </a:rPr>
              <a:t>ЗАДАЧА</a:t>
            </a:r>
            <a:r>
              <a:rPr b="1" i="1" lang="en-US" sz="7200" spc="-1" strike="noStrike">
                <a:solidFill>
                  <a:srgbClr val="5a160b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6221520" y="3429000"/>
            <a:ext cx="2922480" cy="3156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03280" y="1484280"/>
            <a:ext cx="58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сновополагающим понятием всего проекта является понятие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«задача».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С термином «задача» люди постоянно сталкиваются в повседневной жизни,  как на бытовом, так и на профессиональном уровне. Под задачей понимается некоторая ситуация, требующая исследования и решения человеком. Задачи, все объекты которых математические, называют математическими зада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хема 4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6499440" cy="35542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372" name="Picture 2" descr="http://cs305410.vkontakte.ru/u75495740/-14/x_de7364c4.jpg"/>
          <p:cNvPicPr/>
          <p:nvPr/>
        </p:nvPicPr>
        <p:blipFill>
          <a:blip r:embed="rId2"/>
          <a:stretch/>
        </p:blipFill>
        <p:spPr>
          <a:xfrm>
            <a:off x="6643800" y="4714920"/>
            <a:ext cx="1676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7467480" y="1700280"/>
            <a:ext cx="1676520" cy="1809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77756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Я хочу особо обратит вним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«Авторским задачам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В ходе решения и составления  таких задач    изучаются дополнительные сведения о развитии экономики города, его истории, о том, что город делает для подрастающего поколения. Кроме того составление задач позволяет лучше осознать суть задачи и способов ее реш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Изучив историю города Чебоксары, его внешний облик, географическое положение, были составлены различного вида текстовые задачи, решая которые ученики не только учатся находить ответы на поставленные вопросы, но и могут одновременно изучать историю родного кр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http://poetree.ru/profile/avatar.jpg"/>
          <p:cNvPicPr/>
          <p:nvPr/>
        </p:nvPicPr>
        <p:blipFill>
          <a:blip r:embed="rId1"/>
          <a:stretch/>
        </p:blipFill>
        <p:spPr>
          <a:xfrm>
            <a:off x="7215120" y="5000760"/>
            <a:ext cx="1928880" cy="166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172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a160b"/>
                </a:solidFill>
                <a:latin typeface="Century Schoolbook"/>
              </a:rPr>
              <a:t>ПАМЯТК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203640" y="1196640"/>
            <a:ext cx="4897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1.  выписать из исторической справки все числовые данные и установить зависимости между числами или выяснить, во сколько раз (на сколько) одно число отличается от другого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2. составить условие задачи в виде схемы, сформулировать условие и вопрос задач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3. решить задачу выбранным методом или составить кроссворд с терминами по данной теме или получить ответ, выполнив следующие действия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6:09:33Z</dcterms:created>
  <dc:creator>Таня</dc:creator>
  <dc:description/>
  <dc:language>en-US</dc:language>
  <cp:lastModifiedBy>Ирина Аркадьевна</cp:lastModifiedBy>
  <dcterms:modified xsi:type="dcterms:W3CDTF">2017-01-18T08:47:31Z</dcterms:modified>
  <cp:revision>57</cp:revision>
  <dc:subject>Город Чебоксары в числах и задачах.</dc:subject>
  <dc:title>Город Чебоксары в числах и задачах</dc:title>
</cp:coreProperties>
</file>