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3.wmf" ContentType="image/x-wmf"/>
  <Override PartName="/ppt/media/image10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39DE-F244-481E-9A4D-CF607B080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AA66-E5D6-4768-8776-709DA5A3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3240-CCC1-4FE2-8E83-9CEF284F8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9A5E-7922-4052-BB2D-D2E9EF530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B538-2297-46C7-9F6D-9B3FEC29D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0CC3-8FC7-448F-9DF7-2E26F3C8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3070-E130-4861-BC87-111904BAD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DE4D-4226-429E-8F1A-043A30F5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73ECF-9DDA-4166-A8F6-D1F62F88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385C-921C-4655-913F-C273A8C4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D391-84C8-4D84-868A-D02BE3B2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140B-C929-451D-9561-095BF30A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8C876-BC87-4CDA-8655-605E676E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20B64-7B36-47A6-AD7A-4041487E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11C6C-05F6-4EC0-9BDF-3CCCD2D7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7C8AE-2424-4375-98C4-A5AF4E74E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5616-F753-436A-948B-191844C19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195C72-058C-435B-9F57-F85A3E5A6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16B3A8-BAEB-4058-9E56-FDAD2DC4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ADE209-B8DA-4C9F-A02B-393FF564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87E10C-9471-4975-A616-DFFF10AC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E1E956-C8DE-47DA-A418-AB4D0643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ED18-3C3A-4B9E-A7F5-2BCCC413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9201EC-49EA-40C0-A4D2-A6F0B1C3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43D106-AF1F-4AC1-BD71-AED871D0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F5179B-762E-4376-B861-92030640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11154D-D3B3-4E3B-9E4F-06EC09EE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B92359-1DEA-4756-B509-655C45E6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2ACAD2-52C5-4BB2-AA28-67D0F8320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E68C1B-3C3C-4FBF-ACD4-D35761193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0B543-FE88-4C85-83B4-BA2310DEF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838CC-916B-4C2E-9E06-85576E89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1EC15-4B2C-460D-B970-5D0D3789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E31A-2B57-431F-BA83-D91FF833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7D8CB-F901-446F-B995-9B1F3AD8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DE2D1-B20C-47CC-8EE0-454ED212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B623B-E255-4ADB-8AD7-E14885C7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31B3B-E8B7-4039-903D-70B207F2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32DB2-5071-4791-B828-CE62BC4D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62E8E-4AC0-48D0-82FB-E7931F23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D4F9C-D0ED-4323-B834-B212B6EF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02C87-7340-4C94-8F96-4B9895815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9BFC0-6A05-4A77-BA84-7EBE2FC6A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E8B136-D34D-4691-B20C-CB6C74268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1047-F4C9-4954-B27E-6BD3394B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0DD1BC-1AA5-487D-83A3-E384FEEB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06586D-35D8-4FC1-8DC4-97473C8B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12F326-1972-42A9-9FD6-EFAA27C5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4B232A-FFB2-46AD-92BC-BB63F847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EA2563-3B06-4BE1-A11A-1EA18E19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930112-81ED-49A7-A526-3F0FF6F5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F1EF0E-1D20-4920-A678-BF01FC74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4CF069-0E29-40F1-A8A6-6680F899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2C958E-CEBA-4D94-8624-7C604169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6D2A23-9490-4E16-A9A6-EC4818C99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9283-2466-44D0-993D-71998F4D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A6475E-33F4-493D-B301-46C85E009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FC2C81-14D9-4D00-AB0A-662F3CCF7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781D6B-2017-47C5-B1C5-8E4AB9D0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FF9CDA-A4C5-49F8-8EA1-F6396F6B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674B27-EE04-4A47-9673-E406BC77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43C4A3-D2A4-4160-A97F-5E78890D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9E8A34-E2B8-4C5B-B5E4-60E74D48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9F8FD4-3EB2-4BD8-9567-76E3E8B6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531136-BFF3-404F-BEB2-8CB638C2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E6BED5-AFC9-41FF-88FE-5D63845C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6A79-D1AE-4B9E-820A-2E5F1558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DFD323-83BC-4236-8F31-0730A290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E47916-CCDC-4B2E-90B7-3A217923A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D798A5-53D4-416D-AB1C-57FDEF4B6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3DB45E-F9E1-4C55-BE63-68E51A94F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2951A4-9345-4D4D-8252-45C2CC9E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B8A970-E2DA-4D70-8866-A42D92F4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80496E-D224-4B54-9F2B-02F06BC8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8C2BE0-C748-41A3-815B-D1CAB959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8B8234-637D-414D-8BD3-BD1E2924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D4665B-D658-441D-B4AE-A97A75CD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CCF8-2C74-4AFA-AC1A-D89466BF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DA4546-7CC0-4161-862D-4484F07D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756D6A-E2FA-4F13-A624-828543F6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9C4B22-510E-49C9-ABB9-AB3FEC0B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01A56F-D3C0-4451-B436-B1386FA0B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869A27-40FA-4EC3-8283-C45781426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F8FE-0515-4884-A2E4-21210E51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87EE-ECEE-4371-AA9C-8E6B1E4BAED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1626-050D-423E-B8CC-0306F8B146A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1BBC-7532-4FEC-AFFC-0470C1DFDC5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E534-BD2D-4D6F-8F08-45028CAFB10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73B9-556A-4BD2-8FCB-623A147D7D5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9345-CA39-47D8-AFBB-C0F8D308563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EF53-DB13-452A-8EE8-684CD529C27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000920" cy="24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804c0"/>
                </a:solidFill>
                <a:latin typeface="Century Schoolbook"/>
              </a:rPr>
              <a:t>ГОРОД ЧЕБОКСАРЫ   В ЧИСЛАХ И ЗАДАЧАХ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843280" y="3933720"/>
            <a:ext cx="338616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i="1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сполнитель:                                                                                            Смирнов Евгений,                                                                      ученик  5 класса.                                                                              Руководитель:  Смирнова И.А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6083280" y="1916280"/>
            <a:ext cx="306072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14360" y="214200"/>
            <a:ext cx="61722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5a160b"/>
                </a:solidFill>
                <a:latin typeface="Century Schoolbook"/>
              </a:rPr>
              <a:t>АВТОРСКИЕ ЗАДАЧИ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785960" y="857160"/>
            <a:ext cx="4500720" cy="1928880"/>
          </a:xfrm>
          <a:prstGeom prst="rect">
            <a:avLst/>
          </a:prstGeom>
          <a:noFill/>
          <a:ln w="63360">
            <a:solidFill>
              <a:srgbClr val="862110">
                <a:alpha val="0"/>
              </a:srgbClr>
            </a:solidFill>
            <a:miter/>
          </a:ln>
          <a:effectLst>
            <a:outerShdw dist="50760" dir="5400000" blurRad="0" rotWithShape="0">
              <a:srgbClr val="f2f2f2"/>
            </a:outerShdw>
          </a:effectLst>
        </p:spPr>
        <p:txBody>
          <a:bodyPr anchor="t">
            <a:noAutofit/>
          </a:bodyPr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a160b"/>
                </a:solidFill>
                <a:latin typeface="Times New Roman"/>
                <a:ea typeface="Times New Roman"/>
              </a:rPr>
              <a:t>1. </a:t>
            </a:r>
            <a:r>
              <a:rPr b="1" i="1" lang="en-US" sz="1800" spc="-1" strike="noStrike">
                <a:solidFill>
                  <a:srgbClr val="000000"/>
                </a:solidFill>
                <a:latin typeface="Century Schoolbook"/>
              </a:rPr>
              <a:t>Сколько лет городу Чебоксары, если он был основан в 1469 году? Если сейчас 2016 год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entury Schoolbook"/>
              </a:rPr>
              <a:t>2. Московский мост был построен в 1969 году. Сколько лет мосту? Если сейчас 2015 год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TextBox 5"/>
          <p:cNvSpPr/>
          <p:nvPr/>
        </p:nvSpPr>
        <p:spPr>
          <a:xfrm>
            <a:off x="5286240" y="3143160"/>
            <a:ext cx="38577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a160b"/>
                </a:solidFill>
                <a:latin typeface="Times New Roman"/>
                <a:ea typeface="Times New Roman"/>
              </a:rPr>
              <a:t>3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Численность населения Чебоксар в 1998 году составляла 455800 человек, в  2016 году 480 124  человек.  На сколько выросло население с 1998 год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4. В 1925 году город становится столицей ЧАССР. Сколько лет прошло с тех пор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50920" y="3213000"/>
            <a:ext cx="50418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79640" y="260280"/>
            <a:ext cx="5487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entury Schoolbook"/>
              </a:rPr>
              <a:t>Численность населения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84" name="Текст 12"/>
          <p:cNvGraphicFramePr/>
          <p:nvPr/>
        </p:nvGraphicFramePr>
        <p:xfrm>
          <a:off x="1187280" y="692280"/>
          <a:ext cx="7453440" cy="49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Текст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692280"/>
                    <a:ext cx="7453440" cy="49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2771640" y="5445000"/>
            <a:ext cx="52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 этой диаграмме можно составить очень много задач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для 9 класса-  для раздела «Реальная математи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214360" y="428760"/>
            <a:ext cx="6429240" cy="18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5a160b"/>
                </a:solidFill>
                <a:latin typeface="Century Schoolbook"/>
              </a:rPr>
              <a:t>СБОРНИК ЗАДАЧ. </a:t>
            </a:r>
            <a:br>
              <a:rPr sz="2400"/>
            </a:br>
            <a:r>
              <a:rPr b="1" i="1" lang="en-US" sz="2400" spc="-1" strike="noStrike">
                <a:solidFill>
                  <a:srgbClr val="5a160b"/>
                </a:solidFill>
                <a:latin typeface="Century Schoolbook"/>
              </a:rPr>
              <a:t>«Город Чебоксары. Столица </a:t>
            </a:r>
            <a:br>
              <a:rPr sz="2400"/>
            </a:br>
            <a:r>
              <a:rPr b="1" i="1" lang="en-US" sz="2400" spc="-1" strike="noStrike">
                <a:solidFill>
                  <a:srgbClr val="5a160b"/>
                </a:solidFill>
                <a:latin typeface="Arial"/>
              </a:rPr>
              <a:t>в числах и задачах.</a:t>
            </a:r>
            <a:r>
              <a:rPr b="1" i="1" lang="en-US" sz="2400" spc="-1" strike="noStrike">
                <a:solidFill>
                  <a:srgbClr val="5a160b"/>
                </a:solidFill>
                <a:latin typeface="Century Schoolbook"/>
              </a:rPr>
              <a:t>»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8" name="Picture 2" descr="http://images8.okr.ro/auctions.v3/700_700/2011/01/04/c/5/249122238-5567021-700_700.jpg"/>
          <p:cNvPicPr/>
          <p:nvPr/>
        </p:nvPicPr>
        <p:blipFill>
          <a:blip r:embed="rId1"/>
          <a:stretch/>
        </p:blipFill>
        <p:spPr>
          <a:xfrm>
            <a:off x="2195640" y="2565360"/>
            <a:ext cx="61434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755280" y="1844280"/>
            <a:ext cx="746748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5a160b"/>
                </a:solidFill>
                <a:latin typeface="Century Schoolbook"/>
              </a:rPr>
              <a:t>Спасибо за внимание!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1676160" y="2820960"/>
            <a:ext cx="74674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Century Schoolbook"/>
              </a:rPr>
              <a:t>Приезжайте в Чебоксары –</a:t>
            </a:r>
            <a:br>
              <a:rPr sz="2400"/>
            </a:br>
            <a:r>
              <a:rPr b="1" i="1" lang="en-US" sz="2400" spc="-1" strike="noStrike">
                <a:solidFill>
                  <a:srgbClr val="0000ff"/>
                </a:solidFill>
                <a:latin typeface="Century Schoolbook"/>
              </a:rPr>
              <a:t>Город дружбы, город славы</a:t>
            </a:r>
            <a:br>
              <a:rPr sz="2400"/>
            </a:br>
            <a:r>
              <a:rPr b="1" i="1" lang="en-US" sz="2400" spc="-1" strike="noStrike">
                <a:solidFill>
                  <a:srgbClr val="0000ff"/>
                </a:solidFill>
                <a:latin typeface="Century Schoolbook"/>
              </a:rPr>
              <a:t>С детьми. Взрослый, пожилой,</a:t>
            </a:r>
            <a:br>
              <a:rPr sz="2400"/>
            </a:br>
            <a:r>
              <a:rPr b="1" i="1" lang="en-US" sz="2400" spc="-1" strike="noStrike">
                <a:solidFill>
                  <a:srgbClr val="0000ff"/>
                </a:solidFill>
                <a:latin typeface="Century Schoolbook"/>
              </a:rPr>
              <a:t>Будешь братом и сестрой.</a:t>
            </a:r>
            <a:br>
              <a:rPr sz="2400"/>
            </a:br>
            <a:r>
              <a:rPr b="1" i="1" lang="en-US" sz="2400" spc="-1" strike="noStrike">
                <a:solidFill>
                  <a:srgbClr val="0000ff"/>
                </a:solidFill>
                <a:latin typeface="Century Schoolbook"/>
              </a:rPr>
              <a:t>Город наш красив, хорош, </a:t>
            </a:r>
            <a:br>
              <a:rPr sz="2400"/>
            </a:br>
            <a:r>
              <a:rPr b="1" i="1" lang="en-US" sz="2400" spc="-1" strike="noStrike">
                <a:solidFill>
                  <a:srgbClr val="0000ff"/>
                </a:solidFill>
                <a:latin typeface="Century Schoolbook"/>
              </a:rPr>
              <a:t>Краше в мире не найдёшь.</a:t>
            </a:r>
            <a:br>
              <a:rPr sz="2400"/>
            </a:br>
            <a:r>
              <a:rPr b="1" i="1" lang="en-US" sz="2400" spc="-1" strike="noStrike">
                <a:solidFill>
                  <a:srgbClr val="0000ff"/>
                </a:solidFill>
                <a:latin typeface="Century Schoolbook"/>
              </a:rPr>
              <a:t>Пятьсот сорок лет живет, </a:t>
            </a:r>
            <a:br>
              <a:rPr sz="2400"/>
            </a:br>
            <a:r>
              <a:rPr b="1" i="1" lang="en-US" sz="2400" spc="-1" strike="noStrike">
                <a:solidFill>
                  <a:srgbClr val="0000ff"/>
                </a:solidFill>
                <a:latin typeface="Century Schoolbook"/>
              </a:rPr>
              <a:t>Ему слава и почёт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Зоя Носова-Павлова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7624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2410920" y="126828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Можно ли изучая математику,  знакомиться с  историей  своей малой   Родины, ее географическим  положением и культурой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7" name="Picture 2" descr="http://cs305410.vkontakte.ru/u75495740/-14/x_de7364c4.jpg"/>
          <p:cNvPicPr/>
          <p:nvPr/>
        </p:nvPicPr>
        <p:blipFill>
          <a:blip r:embed="rId1"/>
          <a:stretch/>
        </p:blipFill>
        <p:spPr>
          <a:xfrm>
            <a:off x="6804000" y="4005360"/>
            <a:ext cx="2201760" cy="2376360"/>
          </a:xfrm>
          <a:prstGeom prst="rect">
            <a:avLst/>
          </a:prstGeom>
          <a:ln w="0">
            <a:noFill/>
          </a:ln>
        </p:spPr>
      </p:pic>
      <p:sp>
        <p:nvSpPr>
          <p:cNvPr id="358" name="Заголовок 1"/>
          <p:cNvSpPr/>
          <p:nvPr/>
        </p:nvSpPr>
        <p:spPr>
          <a:xfrm>
            <a:off x="1979640" y="476280"/>
            <a:ext cx="61722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804c0"/>
                </a:solidFill>
                <a:latin typeface="Century Schoolbook"/>
              </a:rPr>
              <a:t>ПРОБЛ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рис.4"/>
          <p:cNvPicPr/>
          <p:nvPr/>
        </p:nvPicPr>
        <p:blipFill>
          <a:blip r:embed="rId2"/>
          <a:stretch/>
        </p:blipFill>
        <p:spPr>
          <a:xfrm>
            <a:off x="0" y="2924280"/>
            <a:ext cx="615636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61722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804c0"/>
                </a:solidFill>
                <a:latin typeface="Century Schoolbook"/>
              </a:rPr>
              <a:t>ЦЕЛЬ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2771280" y="189000"/>
            <a:ext cx="617220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Century Schoolbook"/>
              </a:rPr>
              <a:t>Изучение текстовых задач для  установления взаимосвязи математики с практической жизнью человека, историей, географией   и другими учебными  дисциплинам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2" name="Picture 2" descr="http://cs305410.vkontakte.ru/u75495740/-14/x_de7364c4.jpg"/>
          <p:cNvPicPr/>
          <p:nvPr/>
        </p:nvPicPr>
        <p:blipFill>
          <a:blip r:embed="rId1"/>
          <a:stretch/>
        </p:blipFill>
        <p:spPr>
          <a:xfrm>
            <a:off x="5364000" y="3500280"/>
            <a:ext cx="2610000" cy="281808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рис.2"/>
          <p:cNvPicPr/>
          <p:nvPr/>
        </p:nvPicPr>
        <p:blipFill>
          <a:blip r:embed="rId2"/>
          <a:stretch/>
        </p:blipFill>
        <p:spPr>
          <a:xfrm>
            <a:off x="468360" y="2133720"/>
            <a:ext cx="46623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61722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Century Schoolbook"/>
              </a:rPr>
              <a:t>ЗАДАЧИ</a:t>
            </a:r>
            <a:r>
              <a:rPr b="1" i="1" lang="en-US" sz="3200" spc="-1" strike="noStrike">
                <a:solidFill>
                  <a:srgbClr val="5a160b"/>
                </a:solidFill>
                <a:latin typeface="Century Schoolbook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2286000" y="259920"/>
            <a:ext cx="68580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04c0"/>
                </a:solidFill>
                <a:latin typeface="Century Schoolbook"/>
              </a:rPr>
              <a:t>Собрать материалы и изучить литературу по данной теме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04c0"/>
                </a:solidFill>
                <a:latin typeface="Century Schoolbook"/>
              </a:rPr>
              <a:t>Рассмотреть виды текстовых задач и  правила их составле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04c0"/>
                </a:solidFill>
                <a:latin typeface="Century Schoolbook"/>
              </a:rPr>
              <a:t>Составить банк текстовых задач с использованием  исторических  и географических  сведений о городе Чебоксар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6" name="" descr="рис.5"/>
          <p:cNvPicPr/>
          <p:nvPr/>
        </p:nvPicPr>
        <p:blipFill>
          <a:blip r:embed="rId1"/>
          <a:stretch/>
        </p:blipFill>
        <p:spPr>
          <a:xfrm>
            <a:off x="0" y="3213000"/>
            <a:ext cx="4392720" cy="2908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рис.6"/>
          <p:cNvPicPr/>
          <p:nvPr/>
        </p:nvPicPr>
        <p:blipFill>
          <a:blip r:embed="rId2"/>
          <a:stretch/>
        </p:blipFill>
        <p:spPr>
          <a:xfrm>
            <a:off x="5148360" y="378936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61722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ff"/>
                </a:solidFill>
                <a:latin typeface="Century Schoolbook"/>
              </a:rPr>
              <a:t>ЗАДАЧА</a:t>
            </a:r>
            <a:r>
              <a:rPr b="1" i="1" lang="en-US" sz="7200" spc="-1" strike="noStrike">
                <a:solidFill>
                  <a:srgbClr val="5a160b"/>
                </a:solidFill>
                <a:latin typeface="Century Schoolbook"/>
              </a:rPr>
              <a:t> </a:t>
            </a:r>
            <a:endParaRPr b="0" lang="en-US" sz="7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9" name="Picture 2" descr="http://cs305410.vkontakte.ru/u75495740/-14/x_de7364c4.jpg"/>
          <p:cNvPicPr/>
          <p:nvPr/>
        </p:nvPicPr>
        <p:blipFill>
          <a:blip r:embed="rId1"/>
          <a:stretch/>
        </p:blipFill>
        <p:spPr>
          <a:xfrm>
            <a:off x="6221520" y="3429000"/>
            <a:ext cx="2922480" cy="315612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1403280" y="1484280"/>
            <a:ext cx="5832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Основополагающим понятием всего проекта является понятие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«задача».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С термином «задача» люди постоянно сталкиваются в повседневной жизни,  как на бытовом, так и на профессиональном уровне. Под задачей понимается некоторая ситуация, требующая исследования и решения человеком. Задачи, все объекты которых математические, называют математическими задач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Схема 4" descr=""/>
          <p:cNvPicPr/>
          <p:nvPr/>
        </p:nvPicPr>
        <p:blipFill>
          <a:blip r:embed="rId1"/>
          <a:stretch/>
        </p:blipFill>
        <p:spPr>
          <a:xfrm>
            <a:off x="2268360" y="692280"/>
            <a:ext cx="6499440" cy="3554280"/>
          </a:xfrm>
          <a:prstGeom prst="rect">
            <a:avLst/>
          </a:prstGeom>
          <a:ln w="9360">
            <a:solidFill>
              <a:srgbClr val="009900"/>
            </a:solidFill>
            <a:miter/>
          </a:ln>
        </p:spPr>
      </p:pic>
      <p:pic>
        <p:nvPicPr>
          <p:cNvPr id="372" name="Picture 2" descr="http://cs305410.vkontakte.ru/u75495740/-14/x_de7364c4.jpg"/>
          <p:cNvPicPr/>
          <p:nvPr/>
        </p:nvPicPr>
        <p:blipFill>
          <a:blip r:embed="rId2"/>
          <a:stretch/>
        </p:blipFill>
        <p:spPr>
          <a:xfrm>
            <a:off x="6643800" y="4714920"/>
            <a:ext cx="167616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http://cs305410.vkontakte.ru/u75495740/-14/x_de7364c4.jpg"/>
          <p:cNvPicPr/>
          <p:nvPr/>
        </p:nvPicPr>
        <p:blipFill>
          <a:blip r:embed="rId1"/>
          <a:stretch/>
        </p:blipFill>
        <p:spPr>
          <a:xfrm>
            <a:off x="7467480" y="1700280"/>
            <a:ext cx="1676520" cy="180972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250560" y="260280"/>
            <a:ext cx="777564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Я хочу особо обратит внимание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«Авторским задачам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В ходе решения и составления  таких задач    изучаются дополнительные сведения о развитии экономики города, его истории, о том, что город делает для подрастающего поколения. Кроме того составление задач позволяет лучше осознать суть задачи и способов ее решени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 Schoolbook"/>
              </a:rPr>
              <a:t>Изучив историю города Чебоксары, его внешний облик, географическое положение, были составлены различного вида текстовые задачи, решая которые ученики не только учатся находить ответы на поставленные вопросы, но и могут одновременно изучать историю родного кра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6" descr="http://poetree.ru/profile/avatar.jpg"/>
          <p:cNvPicPr/>
          <p:nvPr/>
        </p:nvPicPr>
        <p:blipFill>
          <a:blip r:embed="rId1"/>
          <a:stretch/>
        </p:blipFill>
        <p:spPr>
          <a:xfrm>
            <a:off x="7215120" y="5000760"/>
            <a:ext cx="1928880" cy="166356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339640" y="333360"/>
            <a:ext cx="61722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5a160b"/>
                </a:solidFill>
                <a:latin typeface="Century Schoolbook"/>
              </a:rPr>
              <a:t>ПАМЯТКА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3203640" y="1196640"/>
            <a:ext cx="489744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a160b"/>
                </a:solidFill>
                <a:latin typeface="Times New Roman"/>
                <a:ea typeface="Times New Roman"/>
              </a:rPr>
              <a:t>1.  выписать из исторической справки все числовые данные и установить зависимости между числами или выяснить, во сколько раз (на сколько) одно число отличается от другого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a160b"/>
                </a:solidFill>
                <a:latin typeface="Times New Roman"/>
                <a:ea typeface="Times New Roman"/>
              </a:rPr>
              <a:t>2. составить условие задачи в виде схемы, сформулировать условие и вопрос задачи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a160b"/>
                </a:solidFill>
                <a:latin typeface="Times New Roman"/>
                <a:ea typeface="Times New Roman"/>
              </a:rPr>
              <a:t>3. решить задачу выбранным методом или составить кроссворд с терминами по данной теме или получить ответ, выполнив следующие действия…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71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7T16:09:33Z</dcterms:created>
  <dc:creator>Таня</dc:creator>
  <dc:description/>
  <dc:language>en-US</dc:language>
  <cp:lastModifiedBy>Ирина Аркадьевна</cp:lastModifiedBy>
  <dcterms:modified xsi:type="dcterms:W3CDTF">2017-01-18T08:47:31Z</dcterms:modified>
  <cp:revision>57</cp:revision>
  <dc:subject>Город Чебоксары в числах и задачах.</dc:subject>
  <dc:title>Город Чебоксары в числах и задачах</dc:title>
</cp:coreProperties>
</file>