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267D-FB3B-45D7-B1B6-A0EFFAEB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9145-266A-47DE-B07E-4BE80DA5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7D6F-56A7-4FEF-998F-30EDF6BD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6990-FFB3-4549-B086-7F76A9BD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5749-BEFB-408A-A240-FA7E3E82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EF93-5754-4C94-9754-9D9C589F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222C-33DF-4A28-92FC-8349C107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E28E-E276-4E2C-9D6D-1AA05C25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3201-126E-4693-86C2-F2EF51F0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4154-F37E-4986-A552-FE246AFD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EC0B-0E94-4383-9B31-05F2A1C8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E842-8A7A-48F1-94B9-A21699CC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10F2-BB8B-4EB4-AC21-5F87A770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0CBB-1A46-42C7-AD20-7EC5E034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DFB4-5C2D-480A-AE23-DF4B26E7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8646-451C-4161-982E-C990C15E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7C6B-841A-4677-B51A-4C4448E1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71DA86-E4D4-4D56-A939-427996DB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E3A47B-61AA-495C-91E6-8750262E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FAA33-1F4A-4627-8D3A-A913F01C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947CCA-6DBD-47AB-BCB1-40F8D78C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4DC86-B4D5-47DC-B947-7CB4D1E7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71B8-6809-416A-9431-A47335AE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060DFC-7E17-45E3-B6DE-D644B998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5721D-1698-4300-89DB-F8F76381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1EDC9-A66F-4D4A-8BAC-CF4BB87A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3B5BD-0521-41D6-B44F-F4313B18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0C67B-A50D-4B58-B771-6060C615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C192A-1296-4DCC-A877-13985523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C48119-A1D6-4750-97DE-B276A3DB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20DCA-057F-4EC4-9F4B-90A79149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05C36-5564-4309-8A1D-4AA1E026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765D4-EE12-4D43-A4FB-057FCC72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372-5EB4-427A-AD3D-8F27B893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9B8D1-5BAB-4B3C-B4BD-40864CD5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3BE2B-A8D4-4843-8062-9D99D6EC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545A6-808F-4606-BCB0-2D781523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CD02F-0043-4DB1-969B-12B0E024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1DD4B-D19E-435B-97A8-8C2A595A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5CB76-7ABD-4674-B2DE-4D0CE5C8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80D79-3669-4204-A04D-BE630F4F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FF3F1-169C-4493-92A6-7E88C1DA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4587C-EC0D-4D01-A44B-54395BB5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DE533C-1BA5-4206-8191-AA6DAB4A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7BB-3413-469B-91A3-E54B1645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5BCCE3-F07B-414D-BC3F-C952FC06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C9FEA3-BAA5-47AB-A69A-69F2287B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0782F6-1B0D-4A80-8E45-548FEF39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0C1550-0788-4754-A778-06A3BB4B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284594-E317-4B68-9130-E75669C0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9390CA-E7E1-4417-85A8-990C2638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D0C6B7-C98C-4E9D-89EA-EC476CA3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8A3445-F9C6-4E16-ACD7-9C710346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DB464F-6F54-4F46-8105-FFF568E9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0D7747-FDA7-4F90-91E3-E843FDCD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A05D-E3A0-45F9-848F-B6162589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BD7E52-27B8-4325-B4D5-39608C9D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EBB30D-25AE-4EBF-8F54-63819422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79BC26-54A5-44E8-B832-36C184EB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B0785D-B797-4185-8557-806BEA85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ECD62D-0063-408B-8052-56D33F94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7B4D85-8390-416A-B22A-E6F193F9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5F4351-21F1-4D67-AED7-F97C4CB7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50FDE8-5E11-4354-992B-94452409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137917-0CFE-423E-914E-0D7AF17E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6C329B-DDF0-4D27-A199-88C99FEB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00B6-C544-4D80-BBF4-1E69E243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96109C-5259-4AB7-8C2D-5552BC5C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0FE3F9-2828-4984-80B8-F469F1B2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7154EE-2F13-47C8-94C4-D60616B8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638A9A-9D3B-4266-99AD-B7C902EC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6C7CCD-656B-4DBF-961D-0BA4C931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657B8D-B998-4790-91FA-0EC2A412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C35AE7-AF98-48AF-9178-70160975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1F3AFD-42D7-49F6-A090-11B7C967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E00C4F-4B36-4A8C-AD37-F14980D5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C9E513-73A3-4D49-B588-AE0F77C2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29E-D489-453C-83AD-7BCE83C1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C04083-5DAD-48C6-B070-03D25332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0D9448-C429-4527-88CC-080AEB35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A6E026-B856-40F6-B11E-0623AF88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E83718-56B5-4480-9A89-4F5A5568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C31C78-191D-41FC-B8E3-BFD36A33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F1CF-A110-4D8B-B9BD-75D748DB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EF0C-C0AB-43FC-9D57-A24C0CCFDA5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3A5C-B260-46EC-99DB-3F3818DA122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ACF2-E3F8-4A67-883D-E0F16907721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1185-2EB5-4D9B-9CCB-1506C73DC81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F959-1482-4439-B309-BE89F72232B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CBBC-6578-458B-8D82-2E3EEB051D1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69CE-65DD-47CE-B0F8-58AC1C656B5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https://cdn.riastatic.com/photosnew/general/adv_photos/detskyy_sad_svetlyachok_yrpen_bucha_vorzel__21896575m.jpg"/>
          <p:cNvPicPr/>
          <p:nvPr/>
        </p:nvPicPr>
        <p:blipFill>
          <a:blip r:embed="rId1"/>
          <a:stretch/>
        </p:blipFill>
        <p:spPr>
          <a:xfrm>
            <a:off x="3500280" y="3714840"/>
            <a:ext cx="3500640" cy="26254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14360" y="18568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i="1" lang="ru-RU" sz="2700" spc="-1" strike="noStrike">
                <a:solidFill>
                  <a:srgbClr val="575f6d"/>
                </a:solidFill>
                <a:latin typeface="Century Schoolbook"/>
              </a:rPr>
              <a:t>"ГЛАВНЫМ РЕСУРСОМ РАЗВИВАЮЩЕГО ОБЩЕСТВА ЯВЛЯЮТСЯ ЛЮДИ, НЕ СТОЛЬКО ПОДГОТОВЛЕННЫЕ, СКОЛЬКО РАЗВИВАЮЩИЕСЯ НЕПРЕРЫВНО.«</a:t>
            </a:r>
            <a:br>
              <a:rPr sz="2700"/>
            </a:br>
            <a:r>
              <a:rPr b="1" i="1" lang="ru-RU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r>
              <a:rPr b="1" i="1" lang="ru-RU" sz="2700" spc="-1" strike="noStrike">
                <a:solidFill>
                  <a:srgbClr val="575f6d"/>
                </a:solidFill>
                <a:latin typeface="Century Schoolbook"/>
              </a:rPr>
              <a:t>Г.П. ЩЕДРОВИЦКИЙ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7772400" y="2552760"/>
            <a:ext cx="46080" cy="9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МЕТОДИКА ОБУЧЕНИЯ ЧТЕНИЮ </a:t>
            </a: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ПО ГЛЕНУ ДОМАНУ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36860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Прямоугольник 3"/>
          <p:cNvSpPr/>
          <p:nvPr/>
        </p:nvSpPr>
        <p:spPr>
          <a:xfrm>
            <a:off x="1071720" y="1714680"/>
            <a:ext cx="2071440" cy="5000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Этапы обуче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Прямоугольник 5"/>
          <p:cNvSpPr/>
          <p:nvPr/>
        </p:nvSpPr>
        <p:spPr>
          <a:xfrm>
            <a:off x="1071720" y="2571840"/>
            <a:ext cx="2071440" cy="5000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Чтение отдельных сл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Прямоугольник 13"/>
          <p:cNvSpPr/>
          <p:nvPr/>
        </p:nvSpPr>
        <p:spPr>
          <a:xfrm>
            <a:off x="1071720" y="3429000"/>
            <a:ext cx="2071440" cy="5000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Словосочета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Прямоугольник 14"/>
          <p:cNvSpPr/>
          <p:nvPr/>
        </p:nvSpPr>
        <p:spPr>
          <a:xfrm>
            <a:off x="1071720" y="4286160"/>
            <a:ext cx="2071440" cy="5000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ростые предложе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Прямоугольник 15"/>
          <p:cNvSpPr/>
          <p:nvPr/>
        </p:nvSpPr>
        <p:spPr>
          <a:xfrm>
            <a:off x="1071720" y="5143680"/>
            <a:ext cx="2071440" cy="5000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Распространенные предложе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Прямоугольник 16"/>
          <p:cNvSpPr/>
          <p:nvPr/>
        </p:nvSpPr>
        <p:spPr>
          <a:xfrm>
            <a:off x="1071720" y="5929200"/>
            <a:ext cx="2071440" cy="5000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ниг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99" name="Прямая со стрелкой 22"/>
          <p:cNvCxnSpPr>
            <a:stCxn id="393" idx="2"/>
            <a:endCxn id="394" idx="0"/>
          </p:cNvCxnSpPr>
          <p:nvPr/>
        </p:nvCxnSpPr>
        <p:spPr>
          <a:xfrm flipH="1">
            <a:off x="2106360" y="2214720"/>
            <a:ext cx="2160" cy="3578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0" name="Прямая со стрелкой 24"/>
          <p:cNvCxnSpPr>
            <a:stCxn id="394" idx="2"/>
            <a:endCxn id="395" idx="0"/>
          </p:cNvCxnSpPr>
          <p:nvPr/>
        </p:nvCxnSpPr>
        <p:spPr>
          <a:xfrm flipH="1">
            <a:off x="2106360" y="3071880"/>
            <a:ext cx="2160" cy="358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1" name="Прямая со стрелкой 26"/>
          <p:cNvCxnSpPr>
            <a:stCxn id="395" idx="2"/>
            <a:endCxn id="396" idx="0"/>
          </p:cNvCxnSpPr>
          <p:nvPr/>
        </p:nvCxnSpPr>
        <p:spPr>
          <a:xfrm flipH="1">
            <a:off x="2106360" y="3930120"/>
            <a:ext cx="2160" cy="3582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2" name="Прямая со стрелкой 28"/>
          <p:cNvCxnSpPr>
            <a:stCxn id="396" idx="2"/>
            <a:endCxn id="397" idx="0"/>
          </p:cNvCxnSpPr>
          <p:nvPr/>
        </p:nvCxnSpPr>
        <p:spPr>
          <a:xfrm flipH="1">
            <a:off x="2106360" y="4788000"/>
            <a:ext cx="2160" cy="3578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3" name="Прямая со стрелкой 32"/>
          <p:cNvCxnSpPr>
            <a:stCxn id="397" idx="2"/>
            <a:endCxn id="398" idx="0"/>
          </p:cNvCxnSpPr>
          <p:nvPr/>
        </p:nvCxnSpPr>
        <p:spPr>
          <a:xfrm flipH="1">
            <a:off x="2106360" y="5645160"/>
            <a:ext cx="2160" cy="2865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pic>
        <p:nvPicPr>
          <p:cNvPr id="404" name="Picture 2" descr="http://profi5.my1.ru/skazki/nomimatsii-dlya-vospitateley.jpg"/>
          <p:cNvPicPr/>
          <p:nvPr/>
        </p:nvPicPr>
        <p:blipFill>
          <a:blip r:embed="rId1"/>
          <a:stretch/>
        </p:blipFill>
        <p:spPr>
          <a:xfrm>
            <a:off x="5000760" y="2357280"/>
            <a:ext cx="27064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6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1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6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1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МЕТОДИКИ ПОВЫШАЮЩИЕ ЭФФЕКТИВНОСТЬ ОБУЧ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етодика эвристической бесед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етодика двуполушарного подхо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етодика развития творческого мышления и воображ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3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2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000080"/>
            <a:ext cx="746748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ование интерактивных технологий 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посредственной образовательной деятельности снимает нервную нагрузку дошкольников, дает возможность менять их формы деятельности, переключать внимание на вопросы темы занят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9" name="Рисунок 3" descr="http://www.zsrogalin.org.pl/wp-content/uploads/2014/02/dzieci1.png"/>
          <p:cNvPicPr/>
          <p:nvPr/>
        </p:nvPicPr>
        <p:blipFill>
          <a:blip r:embed="rId1"/>
          <a:stretch/>
        </p:blipFill>
        <p:spPr>
          <a:xfrm>
            <a:off x="1285920" y="4429080"/>
            <a:ext cx="57736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Спасибо за внимание!!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426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«ИНТЕРАКТИВНЫЕ ТЕХНОЛОГИИ</a:t>
            </a:r>
            <a:br>
              <a:rPr sz="2700"/>
            </a:b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 В ДОШКОЛЬНОМ ОБРАЗОВАНИИ»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714320"/>
            <a:ext cx="4357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нтерактивное обучение – специальная форма организации познавательной деятельност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уть  интерактивного обучения состоит в том, что практически все дети оказываются вовлеченными в процесс познания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Picture 2" descr="http://s-media-cache-ak0.pinimg.com/236x/d0/d0/dd/d0d0dd01d7e5da38b92144496054ba35.jpg"/>
          <p:cNvPicPr/>
          <p:nvPr/>
        </p:nvPicPr>
        <p:blipFill>
          <a:blip r:embed="rId1"/>
          <a:stretch/>
        </p:blipFill>
        <p:spPr>
          <a:xfrm>
            <a:off x="5572080" y="2214720"/>
            <a:ext cx="2247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00040" y="356760"/>
            <a:ext cx="7424640" cy="61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терактивная технология направлена на формирование у дошкольников новых качеств и умений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ктивизируется индивидуальная интеллектуальная активность каждого дошкольни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виваются межличностные отношения, дети учатся преодолевать коммуникативные барьеры в общении (скованность, неуверенность), создается ситуация успех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ируются условия для самообразования саморазвития личности каждого ребен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2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20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20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-14868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Овал 3"/>
          <p:cNvSpPr/>
          <p:nvPr/>
        </p:nvSpPr>
        <p:spPr>
          <a:xfrm>
            <a:off x="3286080" y="2071800"/>
            <a:ext cx="2428920" cy="150012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Организации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работы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Овал 6"/>
          <p:cNvSpPr/>
          <p:nvPr/>
        </p:nvSpPr>
        <p:spPr>
          <a:xfrm>
            <a:off x="428760" y="357120"/>
            <a:ext cx="2571480" cy="207180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II младшая группа – работа в парах, хоровод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Овал 9"/>
          <p:cNvSpPr/>
          <p:nvPr/>
        </p:nvSpPr>
        <p:spPr>
          <a:xfrm>
            <a:off x="5857920" y="428760"/>
            <a:ext cx="2571840" cy="207144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Овал 10"/>
          <p:cNvSpPr/>
          <p:nvPr/>
        </p:nvSpPr>
        <p:spPr>
          <a:xfrm>
            <a:off x="5429160" y="4214880"/>
            <a:ext cx="3000600" cy="228600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готовительная к школе группа – работа в парах, хоровод, цепочка, карусель, интервью, работа в малых группах (тройках),    аквариум, большой круг, дерево знаний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2214720" y="1500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0" y="44280"/>
            <a:ext cx="264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Овал 12"/>
          <p:cNvSpPr/>
          <p:nvPr/>
        </p:nvSpPr>
        <p:spPr>
          <a:xfrm>
            <a:off x="642960" y="4143240"/>
            <a:ext cx="2643120" cy="214344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ршая группа – работа в парах, хоровод, цепочка, карусель,интервью, работа в малых группах (тройках), аквариум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0" y="44280"/>
            <a:ext cx="264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TextBox 15"/>
          <p:cNvSpPr/>
          <p:nvPr/>
        </p:nvSpPr>
        <p:spPr>
          <a:xfrm>
            <a:off x="6357960" y="928800"/>
            <a:ext cx="1643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средняя группа – работа в парах, хоровод, цепочка, карусель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9" name="Прямая со стрелкой 19"/>
          <p:cNvCxnSpPr/>
          <p:nvPr/>
        </p:nvCxnSpPr>
        <p:spPr>
          <a:xfrm flipH="1" flipV="1">
            <a:off x="2999520" y="1785240"/>
            <a:ext cx="786600" cy="4294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0" name="Прямая со стрелкой 21"/>
          <p:cNvCxnSpPr/>
          <p:nvPr/>
        </p:nvCxnSpPr>
        <p:spPr>
          <a:xfrm flipV="1">
            <a:off x="5214960" y="1928520"/>
            <a:ext cx="714960" cy="2865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1" name="Прямая со стрелкой 25"/>
          <p:cNvCxnSpPr>
            <a:stCxn id="360" idx="3"/>
          </p:cNvCxnSpPr>
          <p:nvPr/>
        </p:nvCxnSpPr>
        <p:spPr>
          <a:xfrm flipH="1">
            <a:off x="2643120" y="3352320"/>
            <a:ext cx="999000" cy="862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2" name="Прямая со стрелкой 27"/>
          <p:cNvCxnSpPr>
            <a:stCxn id="360" idx="5"/>
          </p:cNvCxnSpPr>
          <p:nvPr/>
        </p:nvCxnSpPr>
        <p:spPr>
          <a:xfrm>
            <a:off x="5358240" y="3352320"/>
            <a:ext cx="856440" cy="862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МЕТОДИКА М.МОНТЕССОРИ</a:t>
            </a:r>
            <a:br>
              <a:rPr sz="27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11120" y="1600200"/>
            <a:ext cx="46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2" descr="http://ozgdou23.edumsko.ru/images/users-files/ozgdou23/kartinki_inet/i_31.jpg"/>
          <p:cNvPicPr/>
          <p:nvPr/>
        </p:nvPicPr>
        <p:blipFill>
          <a:blip r:embed="rId1"/>
          <a:stretch/>
        </p:blipFill>
        <p:spPr>
          <a:xfrm>
            <a:off x="1214280" y="1357200"/>
            <a:ext cx="2627640" cy="1976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76" name="Picture 4" descr="http://cs618628.vk.me/v618628778/e99f/K-ZoIix8ChY.jpg"/>
          <p:cNvPicPr/>
          <p:nvPr/>
        </p:nvPicPr>
        <p:blipFill>
          <a:blip r:embed="rId2"/>
          <a:stretch/>
        </p:blipFill>
        <p:spPr>
          <a:xfrm>
            <a:off x="5143680" y="1071720"/>
            <a:ext cx="3201840" cy="2143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77" name="Рисунок 5" descr="http://scontent-a.cdninstagram.com/hphotos-xfa1/t51.2885-15/10843904_1495186057436950_1761762371_a.jpg"/>
          <p:cNvPicPr/>
          <p:nvPr/>
        </p:nvPicPr>
        <p:blipFill>
          <a:blip r:embed="rId3"/>
          <a:stretch/>
        </p:blipFill>
        <p:spPr>
          <a:xfrm>
            <a:off x="4786200" y="3786120"/>
            <a:ext cx="3286080" cy="2357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78" name="Picture 6" descr="http://steshka.ru/wp-content/uploads/2012/03/colorcards-300x157.jpg"/>
          <p:cNvPicPr/>
          <p:nvPr/>
        </p:nvPicPr>
        <p:blipFill>
          <a:blip r:embed="rId4"/>
          <a:stretch/>
        </p:blipFill>
        <p:spPr>
          <a:xfrm>
            <a:off x="642960" y="3929040"/>
            <a:ext cx="3643200" cy="1852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42600" y="571320"/>
            <a:ext cx="72104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ТЕХНОЛОГИИ С КАРТОЧКАМИ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14240" y="1571400"/>
            <a:ext cx="385776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ика "Выбор деятельности" (по Л.Н.Прохоровой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ика Л.Шапиро "Коробка идей"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4" descr="http://skvorrf.hostfabrica.ru/wp-content/uploads/2015/07/035-300x95.jpg"/>
          <p:cNvPicPr/>
          <p:nvPr/>
        </p:nvPicPr>
        <p:blipFill>
          <a:blip r:embed="rId1"/>
          <a:stretch/>
        </p:blipFill>
        <p:spPr>
          <a:xfrm>
            <a:off x="2457360" y="4334040"/>
            <a:ext cx="4967280" cy="1731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http://gic0.mycdn.me/getImage?photoId=587979772426&amp;photoType=9"/>
          <p:cNvPicPr/>
          <p:nvPr/>
        </p:nvPicPr>
        <p:blipFill>
          <a:blip r:embed="rId2"/>
          <a:stretch/>
        </p:blipFill>
        <p:spPr>
          <a:xfrm>
            <a:off x="4956120" y="1474920"/>
            <a:ext cx="323064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" dur="3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5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" dur="5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1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571680"/>
            <a:ext cx="74674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КЕЙС-ТЕХНОЛОГИИ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599840"/>
            <a:ext cx="746748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ущностью кейс-технологий является анализ проблемной ситуаци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з, как логическая операция мышления, способствует речевому развитию ребенка, «поскольку речь является формой существования мышления, между речью и мышлением существует единство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С.Л.Рубинштейн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2" descr="http://images.cxotoday.com/2010/08/patni_announces_new_customers_Kjd.jpg"/>
          <p:cNvPicPr/>
          <p:nvPr/>
        </p:nvPicPr>
        <p:blipFill>
          <a:blip r:embed="rId1"/>
          <a:stretch/>
        </p:blipFill>
        <p:spPr>
          <a:xfrm>
            <a:off x="1071720" y="4643280"/>
            <a:ext cx="24285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3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3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3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3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К КЕЙС-ТЕХНОЛОГИЯМ ОТНОСЯТСЯ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 ситуативного анализа (метод анализа конкретных ситуаций, ситуационные задачи и упражнения; кейс-стадии; кейс-иллюстрации; фото-кейсы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 инцидент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 ситуационно-ролевых игр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 разбора деловой корреспонденци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гровое проектировани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 дискусс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3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3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3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3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3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30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СОЦИАЛЬНО ОРИЕНТИРОВАННЫЕ </a:t>
            </a: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ИГРОВЫЕ ТЕХНОЛОГИИ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599840"/>
            <a:ext cx="746748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"Вот она какая мама!" (вторая мл.групп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"Интересное кино" (вт.мл.гр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"Скажем"спасибо" нашим ветеранам!" (старш.гр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"Если все вокруг подружатся - будет больше доброты"(ст.гр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"Магазин вежливых слов" (ст.гр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"Роль мужчины и женщины в семье" (подг.гр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2" descr="http://nv-dnz9.edukit.zt.ua/files2/images/getImage%20%2816%29.jpg?size=11"/>
          <p:cNvPicPr/>
          <p:nvPr/>
        </p:nvPicPr>
        <p:blipFill>
          <a:blip r:embed="rId1"/>
          <a:stretch/>
        </p:blipFill>
        <p:spPr>
          <a:xfrm>
            <a:off x="3214800" y="5072040"/>
            <a:ext cx="228600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2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2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2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2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20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20:44:07Z</dcterms:created>
  <dc:creator>IRONMANN (AKA SHAMAN)</dc:creator>
  <dc:description/>
  <dc:language>en-US</dc:language>
  <cp:lastModifiedBy>IRONMANN (AKA SHAMAN)</cp:lastModifiedBy>
  <dcterms:modified xsi:type="dcterms:W3CDTF">2015-12-14T22:09:19Z</dcterms:modified>
  <cp:revision>1</cp:revision>
  <dc:subject/>
  <dc:title>"Главным ресурсом развивающего общества являются люди, не столько подготовленные, сколько развивающиеся непрерывно.«   Г.П. Щедровицкий.</dc:title>
</cp:coreProperties>
</file>