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538A-0079-4822-953A-AB9565ED9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8E29-98BF-455A-89AC-CEA45124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02B7-FBDE-49F3-9404-0F12C6C4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63BA-A70F-4BE8-9347-F5C771068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4ADC-6D65-4880-ADCE-B8DD4EA74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8BC6-9A67-49B2-9409-608A7F77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85FD-C820-437E-BED9-143E9551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440E-E235-484F-8DB1-2053E6E9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6051-8B0B-424F-9997-C66DB5FD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9CDA-6C86-45A8-96DF-F3E90E57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E5BC-5301-4897-A7DB-4D138C57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B9D7-31B1-4709-A278-4A58C707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2564-654C-4DAE-87DB-2980C04D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656C-5A78-4C73-A11C-111F0996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6F27-CC72-445F-955D-E07B50903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7ADA-0CA3-4FAA-8597-509597423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07BF-B6B8-4DA3-B0E7-8B2FEB385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8CA71A-92CA-48A6-B84E-56A58F8F2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3EC56D-4AEA-4DF8-91F4-445A52FD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AF4AA8-4E5F-4DD9-862C-F127E81B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F6F8CC-D9FE-4643-977E-AE22F484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D2DF2D-9740-41F3-885A-1D4EE1ED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0194-75A1-43D1-AB66-A64126D7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AB958A-8B67-4983-AD1E-387C38B2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CF16DF-0A17-4A45-907D-ACDDD5AE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BE3619-888B-4AE4-A976-17840541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2FCDA9-79CF-43B6-945F-C540D407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AC2AC2-3928-4FC3-BB5C-42A97DBC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A78B18-CAD1-4CDA-9F22-91FE69377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E11324-1911-4DCE-8CB1-CBDBFA84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9057B-CD8D-4869-9E7D-8B1929806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71F5F-E6E2-47B7-8FF0-8F1590B7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10215-C635-4DDF-A449-E4A1696D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9C74-60E3-4B92-A91A-6922335B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8C212-391C-4605-8BE7-24F8103C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82C23-B152-4EB8-832D-36BE2361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AB19D-FE8D-45E0-9F9B-8C67642F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A6C14-0353-41A9-BC4C-7DCEDE46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60080-AD4E-40AB-8B6B-73E171C7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4DE42-EB84-4137-BEC4-F18550B9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DD312-9340-46D0-8EBC-5DB38D8D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766CB-915D-4A6D-9EED-B46862827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456E2-21DA-46F7-8F6E-31575154F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145A26-1670-4358-A64A-BFBD7422F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C54C-5908-4C5D-98CA-B1C83C19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6AE4BB-2AF6-495F-89B2-A5D49A55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984DB4-869E-4626-B52C-A0E4CA32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B2D1FC-C181-4F96-B9BE-7F7D450D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3E5EF5-F257-405E-BAEF-82DDC8DD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F79792-3C63-4567-A108-A66D76A2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B52B49-3ED2-4503-9372-400C14F1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AE5BC9-BF3F-494F-996D-E670C014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A3019C-9049-480E-8424-E6374100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3CB3C9-4978-449C-BCC3-18E2FA26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8062CA-4A34-4DA2-A97A-D2CE83B66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28A2-8CD7-44D2-A257-54321C40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3B8D1A-97BD-4884-BCB2-E2D49EB45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E5EEC2-C5ED-44FE-BBB7-93011AFEF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983F82-C447-4BC1-958B-7DB8A1C7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2B0511-8A75-445E-92FA-72B553BB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BEC68D-5127-4643-9EBA-E9D1E236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864706-8724-476E-859D-F768C6D7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B906A9-C60F-49C2-8841-175171BB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E35808-093B-479E-96E7-0C076BE0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A2AD2C-E94D-40A0-945B-22D6A7D2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11E530-A949-428D-8735-0B7C5D6E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81AE-D9DE-4652-9724-68331C24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5A942A-0D24-4A27-8772-E34D4365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4FC398-80BB-4FBF-BB47-B5110E96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9B21FA-DAB8-4730-89D1-0A23E8146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8BE7E8-84B0-4A06-963A-D37F3561C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323ABD-93EC-455E-907B-B62FF728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EC55EC-61D4-493D-8A56-FCA02F0E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40D681-4283-419D-B896-4B271929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3684A5-7387-4FEE-B881-053E5E98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AAA316-1D56-41BE-92FA-4AD29E2D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6EB771-1403-452C-A3AF-0968FCBC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8B13-D9C2-4B24-9E91-0A8ADD4D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0698D2-A4E7-4DC7-8021-57375B4E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1535A0-FC66-481D-9B53-22B14A69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D0925F-A5AA-486E-B552-8ED60876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8C0D86-637B-433A-84D4-1C54E5DB8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5A3DF7-C5A9-4A7D-958C-728469860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DBA0-7BF2-494C-8AF2-D320B8BE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ABB4-1680-481D-A369-CAED5C42838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A1A5-E904-439D-90C3-C75D07EE9B9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6B6B-F28C-4115-BE03-70F02D71443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7C07-E119-463A-B5EF-1C7D005F2CB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8CCA-4F79-4165-ACA4-B8434E2701E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4687-FE80-4A40-B7B8-23967B08F4B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319A-39E0-4707-BBD9-FAEF216C3D3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https://cdn.riastatic.com/photosnew/general/adv_photos/detskyy_sad_svetlyachok_yrpen_bucha_vorzel__21896575m.jpg"/>
          <p:cNvPicPr/>
          <p:nvPr/>
        </p:nvPicPr>
        <p:blipFill>
          <a:blip r:embed="rId1"/>
          <a:stretch/>
        </p:blipFill>
        <p:spPr>
          <a:xfrm>
            <a:off x="3500280" y="3714840"/>
            <a:ext cx="3500640" cy="26254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214360" y="185688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i="1" lang="ru-RU" sz="2700" spc="-1" strike="noStrike">
                <a:solidFill>
                  <a:srgbClr val="575f6d"/>
                </a:solidFill>
                <a:latin typeface="Century Schoolbook"/>
              </a:rPr>
              <a:t>"ГЛАВНЫМ РЕСУРСОМ РАЗВИВАЮЩЕГО ОБЩЕСТВА ЯВЛЯЮТСЯ ЛЮДИ, НЕ СТОЛЬКО ПОДГОТОВЛЕННЫЕ, СКОЛЬКО РАЗВИВАЮЩИЕСЯ НЕПРЕРЫВНО.«</a:t>
            </a:r>
            <a:br>
              <a:rPr sz="2700"/>
            </a:br>
            <a:r>
              <a:rPr b="1" i="1" lang="ru-RU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2700"/>
            </a:br>
            <a:r>
              <a:rPr b="1" i="1" lang="ru-RU" sz="2700" spc="-1" strike="noStrike">
                <a:solidFill>
                  <a:srgbClr val="575f6d"/>
                </a:solidFill>
                <a:latin typeface="Century Schoolbook"/>
              </a:rPr>
              <a:t>Г.П. ЩЕДРОВИЦКИЙ.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7772400" y="2552760"/>
            <a:ext cx="46080" cy="98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 spd="med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МЕТОДИКА ОБУЧЕНИЯ ЧТЕНИЮ </a:t>
            </a:r>
            <a:br>
              <a:rPr sz="3000"/>
            </a:b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ПО ГЛЕНУ ДОМАНУ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368604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Прямоугольник 3"/>
          <p:cNvSpPr/>
          <p:nvPr/>
        </p:nvSpPr>
        <p:spPr>
          <a:xfrm>
            <a:off x="1071720" y="1714680"/>
            <a:ext cx="2071440" cy="5000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Этапы обучен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Прямоугольник 5"/>
          <p:cNvSpPr/>
          <p:nvPr/>
        </p:nvSpPr>
        <p:spPr>
          <a:xfrm>
            <a:off x="1071720" y="2571840"/>
            <a:ext cx="2071440" cy="5000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Чтение отдельных слов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Прямоугольник 13"/>
          <p:cNvSpPr/>
          <p:nvPr/>
        </p:nvSpPr>
        <p:spPr>
          <a:xfrm>
            <a:off x="1071720" y="3429000"/>
            <a:ext cx="2071440" cy="5000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Словосочетан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Прямоугольник 14"/>
          <p:cNvSpPr/>
          <p:nvPr/>
        </p:nvSpPr>
        <p:spPr>
          <a:xfrm>
            <a:off x="1071720" y="4286160"/>
            <a:ext cx="2071440" cy="5000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ростые предложен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Прямоугольник 15"/>
          <p:cNvSpPr/>
          <p:nvPr/>
        </p:nvSpPr>
        <p:spPr>
          <a:xfrm>
            <a:off x="1071720" y="5143680"/>
            <a:ext cx="2071440" cy="5000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Распространенные предложен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Прямоугольник 16"/>
          <p:cNvSpPr/>
          <p:nvPr/>
        </p:nvSpPr>
        <p:spPr>
          <a:xfrm>
            <a:off x="1071720" y="5929200"/>
            <a:ext cx="2071440" cy="50004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Книги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99" name="Прямая со стрелкой 22"/>
          <p:cNvCxnSpPr>
            <a:stCxn id="393" idx="2"/>
            <a:endCxn id="394" idx="0"/>
          </p:cNvCxnSpPr>
          <p:nvPr/>
        </p:nvCxnSpPr>
        <p:spPr>
          <a:xfrm flipH="1">
            <a:off x="2106360" y="2214720"/>
            <a:ext cx="2160" cy="3578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00" name="Прямая со стрелкой 24"/>
          <p:cNvCxnSpPr>
            <a:stCxn id="394" idx="2"/>
            <a:endCxn id="395" idx="0"/>
          </p:cNvCxnSpPr>
          <p:nvPr/>
        </p:nvCxnSpPr>
        <p:spPr>
          <a:xfrm flipH="1">
            <a:off x="2106360" y="3071880"/>
            <a:ext cx="2160" cy="3589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01" name="Прямая со стрелкой 26"/>
          <p:cNvCxnSpPr>
            <a:stCxn id="395" idx="2"/>
            <a:endCxn id="396" idx="0"/>
          </p:cNvCxnSpPr>
          <p:nvPr/>
        </p:nvCxnSpPr>
        <p:spPr>
          <a:xfrm flipH="1">
            <a:off x="2106360" y="3930120"/>
            <a:ext cx="2160" cy="3582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02" name="Прямая со стрелкой 28"/>
          <p:cNvCxnSpPr>
            <a:stCxn id="396" idx="2"/>
            <a:endCxn id="397" idx="0"/>
          </p:cNvCxnSpPr>
          <p:nvPr/>
        </p:nvCxnSpPr>
        <p:spPr>
          <a:xfrm flipH="1">
            <a:off x="2106360" y="4788000"/>
            <a:ext cx="2160" cy="3578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03" name="Прямая со стрелкой 32"/>
          <p:cNvCxnSpPr>
            <a:stCxn id="397" idx="2"/>
            <a:endCxn id="398" idx="0"/>
          </p:cNvCxnSpPr>
          <p:nvPr/>
        </p:nvCxnSpPr>
        <p:spPr>
          <a:xfrm flipH="1">
            <a:off x="2106360" y="5645160"/>
            <a:ext cx="2160" cy="2865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pic>
        <p:nvPicPr>
          <p:cNvPr id="404" name="Picture 2" descr="http://profi5.my1.ru/skazki/nomimatsii-dlya-vospitateley.jpg"/>
          <p:cNvPicPr/>
          <p:nvPr/>
        </p:nvPicPr>
        <p:blipFill>
          <a:blip r:embed="rId1"/>
          <a:stretch/>
        </p:blipFill>
        <p:spPr>
          <a:xfrm>
            <a:off x="5000760" y="2357280"/>
            <a:ext cx="270648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6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1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6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1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6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1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6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МЕТОДИКИ ПОВЫШАЮЩИЕ ЭФФЕКТИВНОСТЬ ОБУЧЕ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Методика эвристической бесед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Методика двуполушарного подход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Методика развития творческого мышления и воображе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3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8" dur="2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20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20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1000080"/>
            <a:ext cx="746748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спользование интерактивных технологий в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посредственной образовательной деятельности снимает нервную нагрузку дошкольников, дает возможность менять их формы деятельности, переключать внимание на вопросы темы занят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9" name="Рисунок 3" descr="http://www.zsrogalin.org.pl/wp-content/uploads/2014/02/dzieci1.png"/>
          <p:cNvPicPr/>
          <p:nvPr/>
        </p:nvPicPr>
        <p:blipFill>
          <a:blip r:embed="rId1"/>
          <a:stretch/>
        </p:blipFill>
        <p:spPr>
          <a:xfrm>
            <a:off x="1285920" y="4429080"/>
            <a:ext cx="57736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2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Спасибо за внимание!!!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42600" y="6426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«ИНТЕРАКТИВНЫЕ ТЕХНОЛОГИИ</a:t>
            </a:r>
            <a:br>
              <a:rPr sz="2700"/>
            </a:br>
            <a:r>
              <a:rPr b="1" lang="ru-RU" sz="2700" spc="-1" strike="noStrike">
                <a:solidFill>
                  <a:srgbClr val="575f6d"/>
                </a:solidFill>
                <a:latin typeface="Century Schoolbook"/>
              </a:rPr>
              <a:t> В ДОШКОЛЬНОМ ОБРАЗОВАНИИ»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71680" y="1714320"/>
            <a:ext cx="4357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Интерактивное обучение – специальная форма организации познавательной деятельности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just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Суть  интерактивного обучения состоит в том, что практически все дети оказываются вовлеченными в процесс познания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6" name="Picture 2" descr="http://s-media-cache-ak0.pinimg.com/236x/d0/d0/dd/d0d0dd01d7e5da38b92144496054ba35.jpg"/>
          <p:cNvPicPr/>
          <p:nvPr/>
        </p:nvPicPr>
        <p:blipFill>
          <a:blip r:embed="rId1"/>
          <a:stretch/>
        </p:blipFill>
        <p:spPr>
          <a:xfrm>
            <a:off x="5572080" y="2214720"/>
            <a:ext cx="22478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00040" y="356760"/>
            <a:ext cx="7424640" cy="611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нтерактивная технология направлена на формирование у дошкольников новых качеств и умений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ктивизируется индивидуальная интеллектуальная активность каждого дошкольник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виваются межличностные отношения, дети учатся преодолевать коммуникативные барьеры в общении (скованность, неуверенность), создается ситуация успех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ируются условия для самообразования саморазвития личности каждого ребен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2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20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20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2000"/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-148680"/>
            <a:ext cx="746748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Овал 3"/>
          <p:cNvSpPr/>
          <p:nvPr/>
        </p:nvSpPr>
        <p:spPr>
          <a:xfrm>
            <a:off x="3286080" y="2071800"/>
            <a:ext cx="2428920" cy="150012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Организации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работы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Овал 6"/>
          <p:cNvSpPr/>
          <p:nvPr/>
        </p:nvSpPr>
        <p:spPr>
          <a:xfrm>
            <a:off x="428760" y="357120"/>
            <a:ext cx="2571480" cy="207180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II младшая группа – работа в парах, хоровод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Овал 9"/>
          <p:cNvSpPr/>
          <p:nvPr/>
        </p:nvSpPr>
        <p:spPr>
          <a:xfrm>
            <a:off x="5857920" y="428760"/>
            <a:ext cx="2571840" cy="207144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Овал 10"/>
          <p:cNvSpPr/>
          <p:nvPr/>
        </p:nvSpPr>
        <p:spPr>
          <a:xfrm>
            <a:off x="5429160" y="4214880"/>
            <a:ext cx="3000600" cy="228600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дготовительная к школе группа – работа в парах, хоровод, цепочка, карусель, интервью, работа в малых группах (тройках),    аквариум, большой круг, дерево знаний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2214720" y="1500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0" y="44280"/>
            <a:ext cx="264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Овал 12"/>
          <p:cNvSpPr/>
          <p:nvPr/>
        </p:nvSpPr>
        <p:spPr>
          <a:xfrm>
            <a:off x="642960" y="4143240"/>
            <a:ext cx="2643120" cy="214344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ршая группа – работа в парах, хоровод, цепочка, карусель,интервью, работа в малых группах (тройках), аквариум;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0" y="44280"/>
            <a:ext cx="264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TextBox 15"/>
          <p:cNvSpPr/>
          <p:nvPr/>
        </p:nvSpPr>
        <p:spPr>
          <a:xfrm>
            <a:off x="6357960" y="928800"/>
            <a:ext cx="16430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Schoolbook"/>
              </a:rPr>
              <a:t>средняя группа – работа в парах, хоровод, цепочка, карусель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9" name="Прямая со стрелкой 19"/>
          <p:cNvCxnSpPr/>
          <p:nvPr/>
        </p:nvCxnSpPr>
        <p:spPr>
          <a:xfrm flipH="1" flipV="1">
            <a:off x="2999520" y="1785240"/>
            <a:ext cx="786600" cy="4294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0" name="Прямая со стрелкой 21"/>
          <p:cNvCxnSpPr/>
          <p:nvPr/>
        </p:nvCxnSpPr>
        <p:spPr>
          <a:xfrm flipV="1">
            <a:off x="5214960" y="1928520"/>
            <a:ext cx="714960" cy="2865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1" name="Прямая со стрелкой 25"/>
          <p:cNvCxnSpPr>
            <a:stCxn id="360" idx="3"/>
          </p:cNvCxnSpPr>
          <p:nvPr/>
        </p:nvCxnSpPr>
        <p:spPr>
          <a:xfrm flipH="1">
            <a:off x="2643120" y="3352320"/>
            <a:ext cx="999000" cy="8629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72" name="Прямая со стрелкой 27"/>
          <p:cNvCxnSpPr>
            <a:stCxn id="360" idx="5"/>
          </p:cNvCxnSpPr>
          <p:nvPr/>
        </p:nvCxnSpPr>
        <p:spPr>
          <a:xfrm>
            <a:off x="5358240" y="3352320"/>
            <a:ext cx="856440" cy="8629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entury Schoolbook"/>
              </a:rPr>
              <a:t>МЕТОДИКА М.МОНТЕССОРИ</a:t>
            </a:r>
            <a:br>
              <a:rPr sz="27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11120" y="1600200"/>
            <a:ext cx="460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5" name="Picture 2" descr="http://ozgdou23.edumsko.ru/images/users-files/ozgdou23/kartinki_inet/i_31.jpg"/>
          <p:cNvPicPr/>
          <p:nvPr/>
        </p:nvPicPr>
        <p:blipFill>
          <a:blip r:embed="rId1"/>
          <a:stretch/>
        </p:blipFill>
        <p:spPr>
          <a:xfrm>
            <a:off x="1214280" y="1357200"/>
            <a:ext cx="2627640" cy="1976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76" name="Picture 4" descr="http://cs618628.vk.me/v618628778/e99f/K-ZoIix8ChY.jpg"/>
          <p:cNvPicPr/>
          <p:nvPr/>
        </p:nvPicPr>
        <p:blipFill>
          <a:blip r:embed="rId2"/>
          <a:stretch/>
        </p:blipFill>
        <p:spPr>
          <a:xfrm>
            <a:off x="5143680" y="1071720"/>
            <a:ext cx="3201840" cy="2143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77" name="Рисунок 5" descr="http://scontent-a.cdninstagram.com/hphotos-xfa1/t51.2885-15/10843904_1495186057436950_1761762371_a.jpg"/>
          <p:cNvPicPr/>
          <p:nvPr/>
        </p:nvPicPr>
        <p:blipFill>
          <a:blip r:embed="rId3"/>
          <a:stretch/>
        </p:blipFill>
        <p:spPr>
          <a:xfrm>
            <a:off x="4786200" y="3786120"/>
            <a:ext cx="3286080" cy="2357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78" name="Picture 6" descr="http://steshka.ru/wp-content/uploads/2012/03/colorcards-300x157.jpg"/>
          <p:cNvPicPr/>
          <p:nvPr/>
        </p:nvPicPr>
        <p:blipFill>
          <a:blip r:embed="rId4"/>
          <a:stretch/>
        </p:blipFill>
        <p:spPr>
          <a:xfrm>
            <a:off x="642960" y="3929040"/>
            <a:ext cx="3643200" cy="18525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42600" y="571320"/>
            <a:ext cx="721044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ТЕХНОЛОГИИ С КАРТОЧКАМИ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714240" y="1571400"/>
            <a:ext cx="385776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тодика "Выбор деятельности" (по Л.Н.Прохоровой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тодика Л.Шапиро "Коробка идей"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Picture 4" descr="http://skvorrf.hostfabrica.ru/wp-content/uploads/2015/07/035-300x95.jpg"/>
          <p:cNvPicPr/>
          <p:nvPr/>
        </p:nvPicPr>
        <p:blipFill>
          <a:blip r:embed="rId1"/>
          <a:stretch/>
        </p:blipFill>
        <p:spPr>
          <a:xfrm>
            <a:off x="2457360" y="4334040"/>
            <a:ext cx="4967280" cy="17319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" descr="http://gic0.mycdn.me/getImage?photoId=587979772426&amp;photoType=9"/>
          <p:cNvPicPr/>
          <p:nvPr/>
        </p:nvPicPr>
        <p:blipFill>
          <a:blip r:embed="rId2"/>
          <a:stretch/>
        </p:blipFill>
        <p:spPr>
          <a:xfrm>
            <a:off x="4956120" y="1474920"/>
            <a:ext cx="323064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1" dur="3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6" dur="5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1" dur="5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1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571680"/>
            <a:ext cx="74674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КЕЙС-ТЕХНОЛОГИИ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599840"/>
            <a:ext cx="746748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ущностью кейс-технологий является анализ проблемной ситуаци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нализ, как логическая операция мышления, способствует речевому развитию ребенка, «поскольку речь является формой существования мышления, между речью и мышлением существует единство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(С.Л.Рубинштейн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2" descr="http://images.cxotoday.com/2010/08/patni_announces_new_customers_Kjd.jpg"/>
          <p:cNvPicPr/>
          <p:nvPr/>
        </p:nvPicPr>
        <p:blipFill>
          <a:blip r:embed="rId1"/>
          <a:stretch/>
        </p:blipFill>
        <p:spPr>
          <a:xfrm>
            <a:off x="1071720" y="4643280"/>
            <a:ext cx="242856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3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8" dur="3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3" dur="3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3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К КЕЙС-ТЕХНОЛОГИЯМ ОТНОСЯТСЯ: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тод ситуативного анализа (метод анализа конкретных ситуаций, ситуационные задачи и упражнения; кейс-стадии; кейс-иллюстрации; фото-кейсы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тод инцидент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тод ситуационно-ролевых игр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тод разбора деловой корреспонденци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гровое проектирование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тод дискусс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3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30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30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30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30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" dur="3000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СОЦИАЛЬНО ОРИЕНТИРОВАННЫЕ </a:t>
            </a:r>
            <a:br>
              <a:rPr sz="3000"/>
            </a:b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ИГРОВЫЕ ТЕХНОЛОГИИ</a:t>
            </a: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1599840"/>
            <a:ext cx="746748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"Вот она какая мама!" (вторая мл.группа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"Интересное кино" (вт.мл.гр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"Скажем"спасибо" нашим ветеранам!" (старш.гр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"Если все вокруг подружатся - будет больше доброты"(ст.гр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"Магазин вежливых слов" (ст.гр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"Роль мужчины и женщины в семье" (подг.гр.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Picture 2" descr="http://nv-dnz9.edukit.zt.ua/files2/images/getImage%20%2816%29.jpg?size=11"/>
          <p:cNvPicPr/>
          <p:nvPr/>
        </p:nvPicPr>
        <p:blipFill>
          <a:blip r:embed="rId1"/>
          <a:stretch/>
        </p:blipFill>
        <p:spPr>
          <a:xfrm>
            <a:off x="3214800" y="5072040"/>
            <a:ext cx="228600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9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2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20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20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20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20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2000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4T20:44:07Z</dcterms:created>
  <dc:creator>IRONMANN (AKA SHAMAN)</dc:creator>
  <dc:description/>
  <dc:language>en-US</dc:language>
  <cp:lastModifiedBy>IRONMANN (AKA SHAMAN)</cp:lastModifiedBy>
  <dcterms:modified xsi:type="dcterms:W3CDTF">2015-12-14T22:09:19Z</dcterms:modified>
  <cp:revision>1</cp:revision>
  <dc:subject/>
  <dc:title>"Главным ресурсом развивающего общества являются люди, не столько подготовленные, сколько развивающиеся непрерывно.«   Г.П. Щедровицкий.</dc:title>
</cp:coreProperties>
</file>