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0.jpeg" ContentType="image/jpeg"/>
  <Override PartName="/ppt/media/image29.wmf" ContentType="image/x-wmf"/>
  <Override PartName="/ppt/media/image31.png" ContentType="image/png"/>
  <Override PartName="/ppt/media/image19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587240" y="1006560"/>
            <a:ext cx="459252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4039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3996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549840" y="21002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3008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3996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549840" y="4586040"/>
            <a:ext cx="27709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30080" y="600120"/>
            <a:ext cx="860616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0080" y="45860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0080" y="2100240"/>
            <a:ext cx="41997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080" y="4586040"/>
            <a:ext cx="86061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861840" indent="-28548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29384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725480" indent="-214200"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1574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1574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157480" indent="-216000"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id.ru/museum/zal7/03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kainsk.tomsk.ru/g2003/inet20/zavis2.htm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azvod.ru/man.php?id=272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shkolazhizni.ru/archive/0/n-6497/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5099"/>
          <p:cNvPicPr/>
          <p:nvPr/>
        </p:nvPicPr>
        <p:blipFill>
          <a:blip r:embed="rId1"/>
          <a:stretch/>
        </p:blipFill>
        <p:spPr>
          <a:xfrm>
            <a:off x="6912000" y="250920"/>
            <a:ext cx="2952720" cy="2433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lick?url=http%3A%2F%2Fwww"/>
          <p:cNvPicPr/>
          <p:nvPr/>
        </p:nvPicPr>
        <p:blipFill>
          <a:blip r:embed="rId2"/>
          <a:stretch/>
        </p:blipFill>
        <p:spPr>
          <a:xfrm>
            <a:off x="3168720" y="1979640"/>
            <a:ext cx="3527280" cy="352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Интернет-зависимость сильнее кофеина и сигарет"/>
          <p:cNvPicPr/>
          <p:nvPr/>
        </p:nvPicPr>
        <p:blipFill>
          <a:blip r:embed="rId3"/>
          <a:stretch/>
        </p:blipFill>
        <p:spPr>
          <a:xfrm>
            <a:off x="287280" y="47116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2303640" y="1332000"/>
            <a:ext cx="540036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64785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995c"/>
                  </a:outerShdw>
                </a:effectLst>
                <a:latin typeface="Arial"/>
              </a:rPr>
              <a:t>Интернет-зависимость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995c"/>
                  </a:outerShdw>
                </a:effectLst>
                <a:latin typeface="Arial"/>
              </a:rPr>
              <a:t>- проблема века.</a:t>
            </a:r>
            <a:endParaRPr b="1" lang="en-US" sz="24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99995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545080" y="5940360"/>
            <a:ext cx="43196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бочкина Ирин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еница 10 кла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Корнеева Г.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У «СОШ № 46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. Рязан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6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280" y="250560"/>
            <a:ext cx="860580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Следить, наблюдать, искоренять... </a:t>
            </a:r>
            <a:br>
              <a:rPr sz="4000"/>
            </a:br>
            <a:endParaRPr b="0" lang="en-US" sz="40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84360" y="826560"/>
            <a:ext cx="8245440" cy="64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3400" indent="0">
              <a:lnSpc>
                <a:spcPct val="80000"/>
              </a:lnSpc>
              <a:spcAft>
                <a:spcPts val="1412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e6e6ff"/>
                </a:solidFill>
                <a:latin typeface="Times New Roman"/>
              </a:rPr>
              <a:t>Попробуйте протестировать себ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ВНИМАНИЕ: тест рассчитан на Вашу честность. Отвечайте на вопросы точно — ведь Вы делаете это для себя.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marL="563400" indent="-457200">
              <a:lnSpc>
                <a:spcPct val="8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колько Вы времени проводите в Интернете?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за сутки)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3-4 часа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5-6 часов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более 7 часов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marL="563400" indent="-457200">
              <a:lnSpc>
                <a:spcPct val="8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Как часто Вы заходите в Интернет?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Через день или реже 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Каждый день 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 нескольку раз в день или не выключаю его вообще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marL="563400" indent="-457200">
              <a:lnSpc>
                <a:spcPct val="80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Как часто Вы посещаете игровые сайты, форумы, чаты?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Иногда 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957240" indent="-3808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стоянно 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63280" y="539280"/>
            <a:ext cx="8605800" cy="67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Теперь подсчитайте баллы: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баллов соответствует номеру ответа, то есть ответ 1 — 1 балл, ответ 2 — 2 балла и т.д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ы набрали 3-5 баллов, Вам бояться нечего, следите за собой и все будет отлично.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ы набрали 6-8 баллов,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туация опасная!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Срочно начинайте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отвыкать от влияния Интернета!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03" name="Picture 4" descr="is?_emDjsmygzuhlU8imrOrJ8O1K0L2h0HQ8zZSXfqBKlo"/>
          <p:cNvPicPr/>
          <p:nvPr/>
        </p:nvPicPr>
        <p:blipFill>
          <a:blip r:embed="rId1"/>
          <a:stretch/>
        </p:blipFill>
        <p:spPr>
          <a:xfrm>
            <a:off x="7129440" y="4572000"/>
            <a:ext cx="2836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2000" y="97164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99"/>
                </a:solidFill>
                <a:latin typeface="Times New Roman"/>
              </a:rPr>
              <a:t>Результаты социологического исследования</a:t>
            </a:r>
            <a:endParaRPr b="0" lang="en-US" sz="6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" name="Text Box 80"/>
          <p:cNvSpPr/>
          <p:nvPr/>
        </p:nvSpPr>
        <p:spPr>
          <a:xfrm>
            <a:off x="1511280" y="3635280"/>
            <a:ext cx="8353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Место проведения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ОУ «СОШ 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ОШ 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6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Количество участников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100 челов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них уч-ся 9-11 классов – 93 чел., педагогов - 7 че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Время проведения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вра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1681200" y="1541520"/>
          <a:ext cx="671508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541520"/>
                    <a:ext cx="671508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5"/>
          <p:cNvSpPr/>
          <p:nvPr/>
        </p:nvSpPr>
        <p:spPr>
          <a:xfrm>
            <a:off x="2012760" y="466560"/>
            <a:ext cx="6672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По возрастным категори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8920" y="323640"/>
            <a:ext cx="86058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По полу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30080" y="1979640"/>
          <a:ext cx="8558280" cy="4297320"/>
        </p:xfrm>
        <a:graphic>
          <a:graphicData uri="http://schemas.openxmlformats.org/drawingml/2006/table">
            <a:tbl>
              <a:tblPr/>
              <a:tblGrid>
                <a:gridCol w="2079720"/>
                <a:gridCol w="2079720"/>
                <a:gridCol w="2084400"/>
                <a:gridCol w="2314440"/>
              </a:tblGrid>
              <a:tr h="7426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Всего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участнико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иним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аксим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уж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Жен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7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3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40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Object 46"/>
          <p:cNvGraphicFramePr/>
          <p:nvPr/>
        </p:nvGraphicFramePr>
        <p:xfrm>
          <a:off x="719280" y="1763640"/>
          <a:ext cx="871200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763640"/>
                    <a:ext cx="8712000" cy="5184720"/>
                  </a:xfrm>
                  <a:prstGeom prst="rect">
                    <a:avLst/>
                  </a:prstGeom>
                  <a:ln w="76320">
                    <a:solidFill>
                      <a:srgbClr val="ffff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000" y="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По стажу работы в Интернете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92000" y="1709640"/>
          <a:ext cx="8271000" cy="5599080"/>
        </p:xfrm>
        <a:graphic>
          <a:graphicData uri="http://schemas.openxmlformats.org/drawingml/2006/table">
            <a:tbl>
              <a:tblPr/>
              <a:tblGrid>
                <a:gridCol w="2759400"/>
                <a:gridCol w="1836720"/>
                <a:gridCol w="1838160"/>
                <a:gridCol w="183672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Ста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Же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уж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-6 ме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6 мес. - 1 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2 г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3 г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 г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5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7 л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Object 66"/>
          <p:cNvGraphicFramePr/>
          <p:nvPr/>
        </p:nvGraphicFramePr>
        <p:xfrm>
          <a:off x="503280" y="1403280"/>
          <a:ext cx="9217080" cy="587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03280"/>
                    <a:ext cx="921708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По количеству набранных баллов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9280" y="1547640"/>
          <a:ext cx="8702640" cy="5774040"/>
        </p:xfrm>
        <a:graphic>
          <a:graphicData uri="http://schemas.openxmlformats.org/drawingml/2006/table">
            <a:tbl>
              <a:tblPr/>
              <a:tblGrid>
                <a:gridCol w="1742760"/>
                <a:gridCol w="1738440"/>
                <a:gridCol w="1739880"/>
                <a:gridCol w="1725840"/>
                <a:gridCol w="1755720"/>
              </a:tblGrid>
              <a:tr h="1124280">
                <a:tc rowSpan="2"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Коли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уж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Же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ини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Макси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20-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30-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0-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50-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60-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06200" indent="-106200" algn="ctr">
                        <a:spcAft>
                          <a:spcPts val="1412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800" spc="-1" strike="noStrike">
                          <a:solidFill>
                            <a:srgbClr val="e6e6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Object 54"/>
          <p:cNvGraphicFramePr/>
          <p:nvPr/>
        </p:nvGraphicFramePr>
        <p:xfrm>
          <a:off x="360360" y="1476360"/>
          <a:ext cx="9217080" cy="587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1476360"/>
                    <a:ext cx="921708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86058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Итоги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6000" y="1115640"/>
            <a:ext cx="957744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циологическое исследование показало,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что 112 человек относятся к группе «обычных пользователей Интернета». Они могут путешествовать по сети сколь угодно долго, т.к. умеют контролировать себя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А 13 человек уже имеют некоторые проблемы, связанные с чрезмерным увлечением Интернетом. И если не обратить внимание на эти проблемы  сейчас, то в дальнейшем эти проблемы могут заполнить всю их жизнь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0080" y="600120"/>
            <a:ext cx="860616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6061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ходе наших исследований мы установили, что  на данный момент Интернет-зависимость не является проблемой среди учащихся 9 – 11 классов нашей школы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6360" y="179280"/>
            <a:ext cx="8966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imes New Roman"/>
              </a:rPr>
              <a:t>Лечение всегда возможно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4606920"/>
            <a:ext cx="986472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80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Необходимо как-то отвлечься.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 Например, купить интересную компьютерную игру, записаться на компьютерные курсы, спортивную секцию, завести домашнее животное и т.д. 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lnSpc>
                <a:spcPct val="80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И  может быть через некоторое время вы с радостью обнаружите, что к Интернету теперь подключаетесь только в случае необходимости. </a:t>
            </a:r>
            <a:br>
              <a:rPr sz="2800"/>
            </a:b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12033" t="27732" r="61234" b="41255"/>
          <a:stretch/>
        </p:blipFill>
        <p:spPr>
          <a:xfrm>
            <a:off x="6794640" y="1511280"/>
            <a:ext cx="3168360" cy="28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8" name="Text Box 5"/>
          <p:cNvSpPr/>
          <p:nvPr/>
        </p:nvSpPr>
        <p:spPr>
          <a:xfrm>
            <a:off x="216000" y="1187280"/>
            <a:ext cx="6553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Если тест показывает, что привыкание начинает развиваться, то необходимо начинать лечение, пока оно еще возможно на самостоятельном уров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Прежде всего вычислить сайты, форумы, чаты не относящиеся к образованию, и ограничить, а то и вовсе прекратить их посещ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0720" y="611280"/>
            <a:ext cx="75340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imes New Roman"/>
              </a:rPr>
              <a:t>Интернет - зависимость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84360" y="2555640"/>
            <a:ext cx="561672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7928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Нехимическая зависимость от пользования интернетом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179280" indent="0">
              <a:lnSpc>
                <a:spcPct val="98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>
              <a:lnSpc>
                <a:spcPct val="14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Навязчивое желание войти в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indent="0">
              <a:lnSpc>
                <a:spcPct val="146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интернет, находясь за его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indent="0">
              <a:lnSpc>
                <a:spcPct val="146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пределами, и неспособность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indent="0">
              <a:lnSpc>
                <a:spcPct val="146000"/>
              </a:lnSpc>
              <a:buNone/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выйти из него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64" name="Picture 4" descr="is?Cg6O-tBZn60dsIMeMmg2-BbIUni6dNu_992Z5YuhOf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49440" cy="2335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lick?url=http%3A%2F%2Fwww"/>
          <p:cNvPicPr/>
          <p:nvPr/>
        </p:nvPicPr>
        <p:blipFill>
          <a:blip r:embed="rId3"/>
          <a:stretch/>
        </p:blipFill>
        <p:spPr>
          <a:xfrm>
            <a:off x="7099200" y="5443560"/>
            <a:ext cx="2981520" cy="2116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19280" y="1763280"/>
            <a:ext cx="898992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Главное — найти то, что Вам интересно, и полностью посвятить свободное от учебы или работы время именно этому занятию.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еобязательно это должен быть компьютер: увлечение может быть любым.</a:t>
            </a:r>
            <a:br>
              <a:rPr sz="3200"/>
            </a:b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30" name="Picture 4" descr="book_prof1_repetitor"/>
          <p:cNvPicPr/>
          <p:nvPr/>
        </p:nvPicPr>
        <p:blipFill>
          <a:blip r:embed="rId1"/>
          <a:stretch/>
        </p:blipFill>
        <p:spPr>
          <a:xfrm>
            <a:off x="287280" y="179280"/>
            <a:ext cx="1944720" cy="1251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ugly - безобр^азный"/>
          <p:cNvPicPr/>
          <p:nvPr/>
        </p:nvPicPr>
        <p:blipFill>
          <a:blip r:embed="rId2"/>
          <a:stretch/>
        </p:blipFill>
        <p:spPr>
          <a:xfrm>
            <a:off x="7201080" y="5773680"/>
            <a:ext cx="25365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376360" y="1547640"/>
            <a:ext cx="73454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Проблема Интернета не будет настолько глобальной, если каждый из нас станет следить прежде всего за собой. Это даже вселяет радость, когда понимаешь, что ты можешь своими силами, хоть и немного, но все же улучшить этот мир.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133" name="Picture 4" descr="Социологи отмечают различие в интересах аудитории в зависимости от пола пользователя"/>
          <p:cNvPicPr/>
          <p:nvPr/>
        </p:nvPicPr>
        <p:blipFill>
          <a:blip r:embed="rId1"/>
          <a:stretch/>
        </p:blipFill>
        <p:spPr>
          <a:xfrm>
            <a:off x="6553080" y="4788000"/>
            <a:ext cx="3097440" cy="2477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s?6nRSucc8PYst5IJ7k184-uw0Vavk7qMMSbC3b8zqcbU"/>
          <p:cNvPicPr/>
          <p:nvPr/>
        </p:nvPicPr>
        <p:blipFill>
          <a:blip r:embed="rId2"/>
          <a:stretch/>
        </p:blipFill>
        <p:spPr>
          <a:xfrm>
            <a:off x="360360" y="324000"/>
            <a:ext cx="2233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7640" y="323640"/>
            <a:ext cx="86058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imes New Roman"/>
              </a:rPr>
              <a:t>Интернет-аддикция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87640" y="1763280"/>
            <a:ext cx="64087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 феномен психологической зависимости от сети Интернет, проявляющийся в своеобразном уходе от реальности, при котором процесс навигации по сети затягивает субъекта настолько, что он оказывается не в состоянии полноценно функционировать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реальном мире. 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68" name="Picture 4" descr="click?url=http%3A%2F%2Fpsyfactor"/>
          <p:cNvPicPr/>
          <p:nvPr/>
        </p:nvPicPr>
        <p:blipFill>
          <a:blip r:embed="rId1"/>
          <a:stretch/>
        </p:blipFill>
        <p:spPr>
          <a:xfrm>
            <a:off x="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Без помощи врачей заядлые игроки справиться с этим недугом уже не могут"/>
          <p:cNvPicPr/>
          <p:nvPr/>
        </p:nvPicPr>
        <p:blipFill>
          <a:blip r:embed="rId2"/>
          <a:stretch/>
        </p:blipFill>
        <p:spPr>
          <a:xfrm>
            <a:off x="7223040" y="5340240"/>
            <a:ext cx="2857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250560"/>
            <a:ext cx="860904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Times New Roman"/>
              </a:rPr>
              <a:t>Симптомы </a:t>
            </a:r>
            <a:br>
              <a:rPr sz="4800"/>
            </a:br>
            <a:r>
              <a:rPr b="0" lang="en-GB" sz="4800" spc="-1" strike="noStrike">
                <a:solidFill>
                  <a:srgbClr val="ffff99"/>
                </a:solidFill>
                <a:latin typeface="Times New Roman"/>
              </a:rPr>
              <a:t>интернет-зависимости</a:t>
            </a:r>
            <a:endParaRPr b="0" lang="en-US" sz="48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015640" y="4211280"/>
            <a:ext cx="7704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21420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Жалобы окружающих на то, что человек проводит слишком много времени в интернет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2" name="Picture 4" descr="Интернет-кризис"/>
          <p:cNvPicPr/>
          <p:nvPr/>
        </p:nvPicPr>
        <p:blipFill>
          <a:blip r:embed="rId1"/>
          <a:stretch/>
        </p:blipFill>
        <p:spPr>
          <a:xfrm>
            <a:off x="8034480" y="2667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Интернет-зависимость - это серьезно"/>
          <p:cNvPicPr/>
          <p:nvPr/>
        </p:nvPicPr>
        <p:blipFill>
          <a:blip r:embed="rId2"/>
          <a:stretch/>
        </p:blipFill>
        <p:spPr>
          <a:xfrm>
            <a:off x="82440" y="2900520"/>
            <a:ext cx="2089440" cy="1741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5651640"/>
            <a:ext cx="712800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30200" indent="-21600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Жалобы окружающих на то, что человек тратит слишком много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денег на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7" descr="money_s"/>
          <p:cNvPicPr/>
          <p:nvPr/>
        </p:nvPicPr>
        <p:blipFill>
          <a:blip r:embed="rId3"/>
          <a:stretch/>
        </p:blipFill>
        <p:spPr>
          <a:xfrm>
            <a:off x="7993080" y="5472000"/>
            <a:ext cx="1989000" cy="1989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2592360" y="1979640"/>
            <a:ext cx="61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Навязчивое желание проверить  электронную поч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302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Постоянное о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ж</a:t>
            </a: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идание следующего выхода в интер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0080" y="617040"/>
            <a:ext cx="860760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imes New Roman"/>
              </a:rPr>
              <a:t>Физиологические симптомы интернет-зависимости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0360" y="2556000"/>
            <a:ext cx="860760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Сухость в глазах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algn="just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Головные боли по типу мигрен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algn="just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Боли в спине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algn="just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Нерегулярное питание, пропуск приемов пищ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algn="just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Пренебрежение личной гигиеной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algn="just"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Расстройства сна, изменение режима сн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79" name="Picture 4" descr="click?url=http%3A%2F%2Flj"/>
          <p:cNvPicPr/>
          <p:nvPr/>
        </p:nvPicPr>
        <p:blipFill>
          <a:blip r:embed="rId1"/>
          <a:stretch/>
        </p:blipFill>
        <p:spPr>
          <a:xfrm>
            <a:off x="7056360" y="2124000"/>
            <a:ext cx="2592360" cy="190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s?m6AQPWFMloYC9C3gxwK0RTLRdrQP96EAmO-kkamX_W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85080" y="5435640"/>
            <a:ext cx="2879640" cy="19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s?vJZHGEPzkEccN2f7pNq5bOc74IudVhR21rhy2G2W2l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6360" y="5651640"/>
            <a:ext cx="3384360" cy="1585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ick?url=http%3A%2F%2Fnimd"/>
          <p:cNvPicPr/>
          <p:nvPr/>
        </p:nvPicPr>
        <p:blipFill>
          <a:blip r:embed="rId1"/>
          <a:stretch/>
        </p:blipFill>
        <p:spPr>
          <a:xfrm>
            <a:off x="-14400" y="1654200"/>
            <a:ext cx="5616720" cy="365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572080" y="1663560"/>
            <a:ext cx="4464000" cy="364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03280" y="1476360"/>
            <a:ext cx="7777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Интернет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— творение разума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 против психики?</a:t>
            </a:r>
            <a:br>
              <a:rPr sz="4400"/>
            </a:b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0080" y="617040"/>
            <a:ext cx="860760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imes New Roman"/>
              </a:rPr>
              <a:t>Психологические симптомы интернет-зависимости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26920" y="2700360"/>
            <a:ext cx="7537320" cy="46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Хорошее самочувствие или эйфория за компьютеро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Невозможность остановиться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Увеличение количества времени, проводимого за компьютеро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Пренебрежение семьей и друзьями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ff"/>
                </a:solidFill>
                <a:latin typeface="Times New Roman"/>
              </a:rPr>
              <a:t>Проблемы с работой или учебой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87" name="Picture 4" descr="book_prof7_M12"/>
          <p:cNvPicPr/>
          <p:nvPr/>
        </p:nvPicPr>
        <p:blipFill>
          <a:blip r:embed="rId1"/>
          <a:stretch/>
        </p:blipFill>
        <p:spPr>
          <a:xfrm>
            <a:off x="49320" y="611280"/>
            <a:ext cx="1368360" cy="1001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is?pC2ctwfUGCHdji3JixDLqvAn27RJkhGKrzYjcmhbTS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16880" y="5889600"/>
            <a:ext cx="2309760" cy="1533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71640" y="0"/>
            <a:ext cx="5670720" cy="762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image01"/>
          <p:cNvPicPr/>
          <p:nvPr/>
        </p:nvPicPr>
        <p:blipFill>
          <a:blip r:embed="rId2"/>
          <a:stretch/>
        </p:blipFill>
        <p:spPr>
          <a:xfrm>
            <a:off x="0" y="1403280"/>
            <a:ext cx="1844640" cy="2176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is?gprMudCsdtPIBLEzI8sELKjYggHsqe7jnv8t4jrZs3k"/>
          <p:cNvPicPr/>
          <p:nvPr/>
        </p:nvPicPr>
        <p:blipFill>
          <a:blip r:embed="rId3"/>
          <a:stretch/>
        </p:blipFill>
        <p:spPr>
          <a:xfrm>
            <a:off x="7472520" y="4510080"/>
            <a:ext cx="2673360" cy="315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is?AwGh_WJc_cw7N6neuSIpnd-5Yxc6wt3o_6tO0jOUiQE"/>
          <p:cNvPicPr/>
          <p:nvPr/>
        </p:nvPicPr>
        <p:blipFill>
          <a:blip r:embed="rId4"/>
          <a:stretch/>
        </p:blipFill>
        <p:spPr>
          <a:xfrm>
            <a:off x="0" y="6207120"/>
            <a:ext cx="1841400" cy="135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is?0nuaFAHZ5i3a9Is8hO-2fMCG6SG2loNKPXrKFkWnHck"/>
          <p:cNvPicPr/>
          <p:nvPr/>
        </p:nvPicPr>
        <p:blipFill>
          <a:blip r:embed="rId5"/>
          <a:srcRect l="1476" t="23885" r="0" b="25766"/>
          <a:stretch/>
        </p:blipFill>
        <p:spPr>
          <a:xfrm>
            <a:off x="0" y="3564000"/>
            <a:ext cx="1873080" cy="71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is?OaRmWZq2X4zcUAbgeRLcqmz6AYF6NmvK1QbN5wnrPhI"/>
          <p:cNvPicPr/>
          <p:nvPr/>
        </p:nvPicPr>
        <p:blipFill>
          <a:blip r:embed="rId6"/>
          <a:stretch/>
        </p:blipFill>
        <p:spPr>
          <a:xfrm>
            <a:off x="7504200" y="-19080"/>
            <a:ext cx="265104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is?pYyHmItz_USyCbFMEva6d65jMraEcBgPFwFHGEbqQkw"/>
          <p:cNvPicPr/>
          <p:nvPr/>
        </p:nvPicPr>
        <p:blipFill>
          <a:blip r:embed="rId7"/>
          <a:stretch/>
        </p:blipFill>
        <p:spPr>
          <a:xfrm>
            <a:off x="0" y="4284720"/>
            <a:ext cx="1849320" cy="1942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Интернет-зависимость"/>
          <p:cNvPicPr/>
          <p:nvPr/>
        </p:nvPicPr>
        <p:blipFill>
          <a:blip r:embed="rId8"/>
          <a:stretch/>
        </p:blipFill>
        <p:spPr>
          <a:xfrm>
            <a:off x="-20520" y="0"/>
            <a:ext cx="1871640" cy="139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expo6_clip_image014"/>
          <p:cNvPicPr/>
          <p:nvPr/>
        </p:nvPicPr>
        <p:blipFill>
          <a:blip r:embed="rId9"/>
          <a:srcRect l="0" t="5428" r="0" b="16217"/>
          <a:stretch/>
        </p:blipFill>
        <p:spPr>
          <a:xfrm>
            <a:off x="7488360" y="1835280"/>
            <a:ext cx="26701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50560"/>
            <a:ext cx="1008072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imes New Roman"/>
              </a:rPr>
              <a:t>Предупредить — значит предотвратить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763640"/>
            <a:ext cx="913464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80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Привыкание к Интернету вырабатывается чаще всего при неправильном или чрезмерном его использовании. 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0">
              <a:lnSpc>
                <a:spcPct val="80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Прежде всего нужно ограничивать самих себя: бывать в Интернете не больше 3 часов в день, меньше посещать игровые ресурсы, чаты, форумы, потому что именно они чаще всего вызывают привыкание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e6e6ff"/>
                </a:solidFill>
                <a:latin typeface="Times New Roman"/>
              </a:rPr>
              <a:t>Возникает дилемма: отказаться от общения или от психического здоровья. Ответ прост: необходимо следить за собой. Если это делать правильно и постоянно, то с 100%-й вероятностью можно утверждать: привыкание не разовьется!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тченков Илья</dc:creator>
  <dc:description/>
  <dc:language>en-US</dc:language>
  <cp:lastModifiedBy>Алексей</cp:lastModifiedBy>
  <dcterms:modified xsi:type="dcterms:W3CDTF">2017-01-18T16:59:04Z</dcterms:modified>
  <cp:revision>11</cp:revision>
  <dc:subject/>
  <dc:title>Слайд 1</dc:title>
</cp:coreProperties>
</file>