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D767-A19F-431F-822F-694094DF6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EC12-669E-452B-A933-859F1E59C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FBBD76-61B4-4571-9FBF-0F22B56CF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C55108-AC08-4CC7-A851-D8D56213B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CA8FBB-5C92-4C0A-A7CC-7DC9097E8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8C7A6E-4677-40CD-9EEE-F556ECD9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2243E6-1AF7-4AB8-88D9-001D3E20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4BD12F-DDCE-4B2E-A565-7275C8FE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D0C404-7363-4589-9573-7AC637AAF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806082-F293-41D1-9A2D-065CF6373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0EBA73-85E6-4C71-9667-9F0C96FD9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16EA-8329-4818-AEBB-CED5F5F25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1710-2CC6-4EB2-91C2-F6DDB777C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FBDFF-4A73-4CDC-9A32-A98B31355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AEFCD-0DF1-49CD-A38A-FECB8F1B3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C5838-D317-4120-9BC7-538D889D2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229E2-33CF-4132-99DD-992D02A20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86604-5C85-422D-9CF7-0CE3A594F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3679B-89C3-4E9A-8B29-C0464344E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A76C3-1C7A-4D20-A096-ECE721D6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CA6E-604F-451E-AA8C-4E51885E6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EBA33-D40C-4D69-97BA-4A8D6426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14D2C-488D-4321-9422-E41575C5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091AA-8522-4FE6-AED8-AAB021E38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19001-5232-48A4-B8DA-CBD0E302C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46BFB-9175-4E0C-BECE-15972CA6B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D17C9-3D97-4CA3-988C-010FD13B0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35068-52E0-4CB8-91BA-51FCF31A7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C843C-95CB-4E6E-9BF2-5284A5485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3B529-61CE-4F2A-8225-064C4A763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A5BC0-53B3-4933-8332-0E3588BDC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B791-3324-4674-9E34-AE8930878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F56BD-3BB2-48F9-A34F-273D3A673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AB5A2-10E9-4C06-9305-F7599DA1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6B69D-119E-4627-8E0C-4E5B3ED2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0C0B3-54AA-4140-A3F5-A193778E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E30E5-2318-4529-B975-DE3CAEAB9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0DEC5-503D-4683-B336-A508058F8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3403B-50D5-4038-AE75-69532A563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8BD1E-B463-464B-9514-79CAD1C9F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EBE04-6E5F-4695-BDFD-8B0272508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277D6-C898-4062-99CB-390BF5422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14AF-2160-4C6D-A55A-CE6B81D54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704FA-BFB6-4045-A7F5-27702CBD8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775F1-53AB-41B1-86F2-42C2E68F8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D825D-3C97-4C91-89A2-4D424D091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C596F-8CBE-41E9-8599-AE0F2A2A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BD81E-A2C8-4F16-99CE-D1F8C92D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D909D-671F-40AA-B9DD-37FAA90BA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D94FB-1DFC-4628-9235-9C21C564D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E4E08-6EC8-4D4D-9BB2-A5EFD2C53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455C3-8DBB-46A9-B9C8-A7F607C7E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B1582-5E08-4A15-AD15-47F7E0DDA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B90C-D33D-457A-B338-CB0F0197A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6960D-A8CC-4F7F-9F2C-F06782597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67B8D-8861-48FB-94AB-4D89F9B05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DE503-D5CD-468D-AD78-EF0771438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EF24D-A6FB-4291-B57C-676342160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181C2-F9B6-4476-BE07-628842E81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3E422-0DFC-4965-B2BC-3F0FDDE6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4F0DC-1822-4715-8AF7-99BB9C35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C9846-6832-4B9B-B722-3692D024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8D972-A410-46F3-B41B-A0C5D3C17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3425AB-0297-4F4F-A3DB-3EA3CDDED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CF00-159E-41CA-B56E-A54E28C6D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C677B-6AE7-4A13-AB75-2C31ADDB7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6212A-C36D-401F-AE56-542CC536B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6DA5D2-F7F5-4897-AA0B-0975791E3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AB7A7-C54E-43D6-BD7B-BBACC5D50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7FFD1C-4281-47F8-8526-3F8A494B7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BDC1A8-44C0-44EE-8810-4924C9A0E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42F968-5142-457F-93FF-EC4570662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E6E8F-0E2F-40B1-A1DF-1ED3C9FF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160B2-3A7D-4138-949A-ECE4F540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906D0-3FD0-463E-8CA9-79023203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214A-B3B1-4F1F-8953-857C0081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43C84-F70C-451D-A17B-1C9DC1409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A6932-A7E0-4A1B-A52F-ACCFCBB68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9E7A2-CED1-480A-A347-1ED8C4186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E3ED0D-B068-4266-A2F9-30274CC82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17123-1E50-448A-8385-8AF05C8AC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6A9F1-97C4-4552-8D60-D173DD5A0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6FFFF-8FD3-4D44-8926-F127147F2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7688E-DF54-49CF-A5A7-CF51D0A4D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9A4E83-C507-41E7-9018-3E9808567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0B3B59-68BF-49ED-9DC9-D5DBF6C9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27F4-B77A-4858-8510-9CC30F37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5F375-7FFD-4BA0-AD53-16CBE8B4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6B3A70-0DA9-4433-9966-A46F2C0E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1BBEB-B071-42B9-B002-1B71B8C09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74D07-80E1-433C-9703-E02B6C0A4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41C08-37CF-4CF5-AC91-35D452E35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66D784-F36E-4F61-8E97-8DB6CC070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CF7FAC-965B-4A54-9169-80B8C63B8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19190F-2E39-4159-AF3B-78071F8E6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0022DC-7D19-4109-BC7E-CA4D39ED5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83F9FA-BE05-4E74-8C55-806123B51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4429-332D-41D9-9C0D-DE9D3892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ED05EF-EAA2-4B9F-87B0-7EA9D292A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97B297-CB79-40AE-BE07-453CB5C9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DCCBA0-3C9A-45D2-B9F0-D4284A42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D57B9A-80BA-46D1-8C3F-E76DDFC5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DA2B82-B011-4DA9-B157-12AFA7BED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610011-3AFD-4FA7-B0C0-DD8AF71DE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8DEC01-A004-4C59-AB4B-13C7A799A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AB9691-D03D-4FB4-9182-F24DCD1CB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4EFCD8-3625-4020-BEF4-CFC658AC8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3C1E10-7469-4BA1-AF77-C519369BE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913B1-91B3-4F11-B6B2-0AC671EE698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DA9A8-0970-4A65-A94B-21951203AB8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CC6B4-7EB5-43CD-B2CE-46CAA4D3689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04EBC-4722-49A8-9129-AD48D19FB5B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41ABE-5305-40AD-A101-48C6EBE3EF9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2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9A742-7B82-4704-81EA-ADDEC29D009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6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DB6BF-1D0C-4E64-8C0E-A0B817A3126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31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F650A-AA67-4426-9B22-FA4C11838B7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35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5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6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7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C7963-29FF-4DC4-B8BE-7FB8E711670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22160" y="1820520"/>
            <a:ext cx="7772400" cy="139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7111"/>
                </a:solidFill>
                <a:latin typeface="Bookman Old Style"/>
              </a:rPr>
              <a:t>Как помочь подростку в кризисной ситуации</a:t>
            </a:r>
            <a:endParaRPr b="1" lang="en-US" sz="41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1476000" y="4653000"/>
            <a:ext cx="7056360" cy="151272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ПЕДАГОГ-ПСИХОЛОГ УЧЕБНОГО ОТДЕЛА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КЫЗЫЛСКОГО ПКУ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СМОЛЕНОВА А.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187280" y="3027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Bookman Old Style"/>
              </a:rPr>
              <a:t>Как помочь подростку в кризисной ситуации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427" name="Picture 5" descr=""/>
          <p:cNvPicPr/>
          <p:nvPr/>
        </p:nvPicPr>
        <p:blipFill>
          <a:blip r:embed="rId1"/>
          <a:stretch/>
        </p:blipFill>
        <p:spPr>
          <a:xfrm>
            <a:off x="2195640" y="1446120"/>
            <a:ext cx="5110200" cy="217188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68360" y="3675240"/>
            <a:ext cx="7975440" cy="2171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7000"/>
          </a:bodyPr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Утверждения о том, что кризис уже прошел, не должны ввести вас в заблуждение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Часто подросток  может почувствовать облегчение после разговора о его трудностях, но вскоре может опять вернуться к тем же мыслям. Поэтому так </a:t>
            </a:r>
            <a:r>
              <a:rPr b="0" i="1" lang="ru-RU" sz="2400" spc="-1" strike="noStrike">
                <a:solidFill>
                  <a:srgbClr val="674d26"/>
                </a:solidFill>
                <a:latin typeface="Bookman Old Style"/>
              </a:rPr>
              <a:t>важно не оставлять его в одиночестве даже после успешного разговора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042920" y="37908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Bookman Old Style"/>
              </a:rPr>
              <a:t>Как помочь подростку в кризисной ситуации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430" name="Picture 6" descr=""/>
          <p:cNvPicPr/>
          <p:nvPr/>
        </p:nvPicPr>
        <p:blipFill>
          <a:blip r:embed="rId1"/>
          <a:stretch/>
        </p:blipFill>
        <p:spPr>
          <a:xfrm>
            <a:off x="2227320" y="1490760"/>
            <a:ext cx="4865760" cy="206676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68360" y="3557520"/>
            <a:ext cx="8136000" cy="2301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5000"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74d26"/>
                </a:solidFill>
                <a:latin typeface="Bookman Old Style"/>
              </a:rPr>
              <a:t>Поддерживайте его и будьте настойчивы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Подростку в состоянии душевного кризиса нужны четкие утвердительные указа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Осознание вашей компетентности, заинтересованности в его судьбе и готовности помочь дадут ему эмоциональную опор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00000" y="2934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Bookman Old Style"/>
              </a:rPr>
              <a:t>Как помочь подростку в кризисной ситуации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16000" y="1417680"/>
            <a:ext cx="7386480" cy="2171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74d26"/>
                </a:solidFill>
                <a:latin typeface="Bookman Old Style"/>
              </a:rPr>
              <a:t>Убедите его в том, что он сделал верный шаг, приняв вашу помощ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5" descr=""/>
          <p:cNvPicPr/>
          <p:nvPr/>
        </p:nvPicPr>
        <p:blipFill>
          <a:blip r:embed="rId1"/>
          <a:stretch/>
        </p:blipFill>
        <p:spPr>
          <a:xfrm>
            <a:off x="2081160" y="3357720"/>
            <a:ext cx="5113440" cy="217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116000" y="3236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Bookman Old Style"/>
              </a:rPr>
              <a:t>Как помочь подростку в кризисной ситуации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436" name="Picture 6" descr=""/>
          <p:cNvPicPr/>
          <p:nvPr/>
        </p:nvPicPr>
        <p:blipFill>
          <a:blip r:embed="rId1"/>
          <a:stretch/>
        </p:blipFill>
        <p:spPr>
          <a:xfrm>
            <a:off x="1979640" y="1449360"/>
            <a:ext cx="5151240" cy="218916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4000" y="3927240"/>
            <a:ext cx="7848360" cy="2168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74d26"/>
                </a:solidFill>
                <a:latin typeface="Bookman Old Style"/>
              </a:rPr>
              <a:t>Оцените его внутренние резервы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Если подросток сохранил способность анализировать и воспринимать советы окружающих, ему легче вернуть душевные силы и стабильнос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00000" y="37908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Bookman Old Style"/>
              </a:rPr>
              <a:t>Как помочь подростку в кризисной ситуации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44640" y="1671120"/>
            <a:ext cx="7386480" cy="2171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Следует принять во внимание и другие возможные источники помощи: друзей, родственников, врачей, к которым можно обратить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0" name="Picture 5" descr=""/>
          <p:cNvPicPr/>
          <p:nvPr/>
        </p:nvPicPr>
        <p:blipFill>
          <a:blip r:embed="rId1"/>
          <a:stretch/>
        </p:blipFill>
        <p:spPr>
          <a:xfrm>
            <a:off x="1908000" y="3573360"/>
            <a:ext cx="5113440" cy="217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16000" y="35208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Bookman Old Style"/>
              </a:rPr>
              <a:t>Как помочь подростку в кризисной ситуации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442" name="Picture 6" descr=""/>
          <p:cNvPicPr/>
          <p:nvPr/>
        </p:nvPicPr>
        <p:blipFill>
          <a:blip r:embed="rId1"/>
          <a:stretch/>
        </p:blipFill>
        <p:spPr>
          <a:xfrm>
            <a:off x="2195640" y="1617840"/>
            <a:ext cx="5110200" cy="2171520"/>
          </a:xfrm>
          <a:prstGeom prst="rect">
            <a:avLst/>
          </a:prstGeom>
          <a:ln w="0">
            <a:noFill/>
          </a:ln>
        </p:spPr>
      </p:pic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10920" y="3922200"/>
            <a:ext cx="7777080" cy="21733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74d26"/>
                </a:solidFill>
                <a:latin typeface="Bookman Old Style"/>
              </a:rPr>
              <a:t>Попытайтесь убедить подростка обратиться к специалистам (психолог, врач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В противном случае обратитесь к ним сами, чтобы вместе разработать стратегию помощ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826920" y="1598760"/>
            <a:ext cx="7561440" cy="2171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1000"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Bookman Old Style"/>
              </a:rPr>
              <a:t>Спасибо за внимани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Bookman Old Style"/>
              </a:rPr>
              <a:t>БУДЕМ ВНИМАТЕЛЬНЫ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Bookman Old Style"/>
              </a:rPr>
              <a:t>ДРУГ К ДРУГУ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7111"/>
                </a:solidFill>
                <a:latin typeface="Bookman Old Style"/>
              </a:rPr>
              <a:t>Как помочь подростку в кризисной ситуации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11280" y="1773000"/>
            <a:ext cx="4032000" cy="4322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74d26"/>
                </a:solidFill>
                <a:latin typeface="Bookman Old Style"/>
              </a:rPr>
              <a:t>Внимательно выслушайте подростка, которому трудно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В состоянии душевного кризиса любому человеку  прежде всего необходим кто-нибудь, кто готов его выслушать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Bookman Old Style"/>
              </a:rPr>
              <a:t>Приложите все усилия, чтобы понять проблему, скрытую за словами этого человека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4" name="Picture 8" descr=""/>
          <p:cNvPicPr/>
          <p:nvPr/>
        </p:nvPicPr>
        <p:blipFill>
          <a:blip r:embed="rId1"/>
          <a:stretch/>
        </p:blipFill>
        <p:spPr>
          <a:xfrm>
            <a:off x="4738680" y="2492280"/>
            <a:ext cx="3962520" cy="18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71640" y="4554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Bookman Old Style"/>
              </a:rPr>
              <a:t>Как помочь подростку в кризисной ситуации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406" name="Picture 10" descr=""/>
          <p:cNvPicPr/>
          <p:nvPr/>
        </p:nvPicPr>
        <p:blipFill>
          <a:blip r:embed="rId1"/>
          <a:stretch/>
        </p:blipFill>
        <p:spPr>
          <a:xfrm>
            <a:off x="826920" y="2565360"/>
            <a:ext cx="3616560" cy="153684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680000" y="1699920"/>
            <a:ext cx="3852720" cy="4497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74d26"/>
                </a:solidFill>
                <a:latin typeface="Bookman Old Style"/>
              </a:rPr>
              <a:t>Оцените серьезность переживаний подростк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Если он или она уже имеет конкретный план суицида, то ситуация более острая, чем если планы этого ребенка были расплывчаты и неопределенн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28520" y="40428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Bookman Old Style"/>
              </a:rPr>
              <a:t>Как помочь подростку в кризисной ситуации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409" name="Picture 7" descr=""/>
          <p:cNvPicPr/>
          <p:nvPr/>
        </p:nvPicPr>
        <p:blipFill>
          <a:blip r:embed="rId1"/>
          <a:stretch/>
        </p:blipFill>
        <p:spPr>
          <a:xfrm>
            <a:off x="2211480" y="1521000"/>
            <a:ext cx="5110200" cy="217152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94920" y="3922200"/>
            <a:ext cx="8110440" cy="21733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indent="0" algn="ctr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74d26"/>
                </a:solidFill>
                <a:latin typeface="Bookman Old Style"/>
              </a:rPr>
              <a:t>Оцените глубину эмоционального кризиса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Bookman Old Style"/>
              </a:rPr>
              <a:t>Часто человек, недавно находившийся в состоянии депрессии, вдруг начинает бурную, неустанную деятельность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Bookman Old Style"/>
              </a:rPr>
              <a:t>Такое поведение также может служить основанием для тревог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71640" y="4554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Bookman Old Style"/>
              </a:rPr>
              <a:t>Как помочь подростку в кризисной ситуации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412" name="Picture 7" descr=""/>
          <p:cNvPicPr/>
          <p:nvPr/>
        </p:nvPicPr>
        <p:blipFill>
          <a:blip r:embed="rId1"/>
          <a:stretch/>
        </p:blipFill>
        <p:spPr>
          <a:xfrm>
            <a:off x="468360" y="2565360"/>
            <a:ext cx="3616200" cy="165564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025520" y="1598760"/>
            <a:ext cx="4506840" cy="4497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74d26"/>
                </a:solidFill>
                <a:latin typeface="Bookman Old Style"/>
              </a:rPr>
              <a:t>Внимательно отнеситесь ко всем, даже самым незначительным обидам и жалобам. Не пренебрегайте ничем из сказанного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Подросток может и не давать волю чувствам, скрывая  свои проблемы, но в то же время находиться в состоянии глубокого расстройства депресси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258920" y="3027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Bookman Old Style"/>
              </a:rPr>
              <a:t>Как помочь подростку в кризисной ситуации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415" name="Picture 5" descr=""/>
          <p:cNvPicPr/>
          <p:nvPr/>
        </p:nvPicPr>
        <p:blipFill>
          <a:blip r:embed="rId1"/>
          <a:stretch/>
        </p:blipFill>
        <p:spPr>
          <a:xfrm>
            <a:off x="2195640" y="1446120"/>
            <a:ext cx="5110200" cy="217188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71640" y="3675240"/>
            <a:ext cx="7386480" cy="2171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indent="0" algn="ctr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74d26"/>
                </a:solidFill>
                <a:latin typeface="Bookman Old Style"/>
              </a:rPr>
              <a:t>Не бойтесь прямо спросить, не думает ли он или она о каких-либо протестных действиях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Bookman Old Style"/>
              </a:rPr>
              <a:t>Опыт показывает, что такой вопрос редко приносит вред. Часто подросток бывает рад возможности открыто высказать свои проблемы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Bookman Old Style"/>
              </a:rPr>
              <a:t>Вопросы и замечания, 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Bookman Old Style"/>
              </a:rPr>
              <a:t>которые помогут Вам завести разговор о кризисе и определить степень риска в данной ситуации:</a:t>
            </a:r>
            <a:br>
              <a:rPr sz="2000"/>
            </a:b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7848360" cy="2171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4d26"/>
                </a:solidFill>
                <a:latin typeface="Bookman Old Style"/>
              </a:rPr>
              <a:t>Похоже, у тебя что-то стряслось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4d26"/>
                </a:solidFill>
                <a:latin typeface="Bookman Old Style"/>
              </a:rPr>
              <a:t>Что тебя мучает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4d26"/>
                </a:solidFill>
                <a:latin typeface="Bookman Old Style"/>
              </a:rPr>
              <a:t> </a:t>
            </a:r>
            <a:r>
              <a:rPr b="0" lang="ru-RU" sz="2400" spc="-1" strike="noStrike">
                <a:solidFill>
                  <a:srgbClr val="674d26"/>
                </a:solidFill>
                <a:latin typeface="Bookman Old Style"/>
              </a:rPr>
              <a:t>(Так можно завязать разговор о проблемах подростка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9" name="Picture 9" descr=""/>
          <p:cNvPicPr/>
          <p:nvPr/>
        </p:nvPicPr>
        <p:blipFill>
          <a:blip r:embed="rId1"/>
          <a:stretch/>
        </p:blipFill>
        <p:spPr>
          <a:xfrm>
            <a:off x="2124000" y="3716280"/>
            <a:ext cx="5113440" cy="217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26920" y="4903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Bookman Old Style"/>
              </a:rPr>
              <a:t>Вопросы и замечания,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Bookman Old Style"/>
              </a:rPr>
              <a:t>которые помогут Вам завести разговор о кризисе и определить степень риска в данной ситуации:</a:t>
            </a:r>
            <a:br>
              <a:rPr sz="1800"/>
            </a:b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421" name="Picture 5" descr=""/>
          <p:cNvPicPr/>
          <p:nvPr/>
        </p:nvPicPr>
        <p:blipFill>
          <a:blip r:embed="rId1"/>
          <a:stretch/>
        </p:blipFill>
        <p:spPr>
          <a:xfrm>
            <a:off x="2124000" y="1413000"/>
            <a:ext cx="5110200" cy="217152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042560" y="3715920"/>
            <a:ext cx="7386840" cy="21733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4d26"/>
                </a:solidFill>
                <a:latin typeface="Bookman Old Style"/>
              </a:rPr>
              <a:t>Тебе в голову приходят плохие мысли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16000" y="339840"/>
            <a:ext cx="74772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Bookman Old Style"/>
              </a:rPr>
              <a:t>Вопросы и замечания, </a:t>
            </a:r>
            <a:br>
              <a:rPr sz="2200"/>
            </a:br>
            <a:r>
              <a:rPr b="1" lang="ru-RU" sz="2200" spc="-1" strike="noStrike">
                <a:solidFill>
                  <a:srgbClr val="c00000"/>
                </a:solidFill>
                <a:latin typeface="Bookman Old Style"/>
              </a:rPr>
              <a:t>которые помогут Вам завести разговор о кризисе и определить степень риска в данной ситуации: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230480" y="1916280"/>
            <a:ext cx="7386480" cy="2171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4d26"/>
                </a:solidFill>
                <a:latin typeface="Bookman Old Style"/>
              </a:rPr>
              <a:t>Каким образом ты собираешься это сделать? (этот вопрос поможет определить степень риска: чем более подробно разработан план деструктивных действий, тем выше вероятность его осуществления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5" name="Picture 6" descr=""/>
          <p:cNvPicPr/>
          <p:nvPr/>
        </p:nvPicPr>
        <p:blipFill>
          <a:blip r:embed="rId1"/>
          <a:stretch/>
        </p:blipFill>
        <p:spPr>
          <a:xfrm>
            <a:off x="2195640" y="4005360"/>
            <a:ext cx="5113080" cy="2173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0T20:43:47Z</dcterms:created>
  <dc:creator>Наталья</dc:creator>
  <dc:description/>
  <dc:language>en-US</dc:language>
  <cp:lastModifiedBy>Анастасия Смоленова</cp:lastModifiedBy>
  <dcterms:modified xsi:type="dcterms:W3CDTF">2017-01-17T07:46:47Z</dcterms:modified>
  <cp:revision>10</cp:revision>
  <dc:subject/>
  <dc:title>Как помочь подростку в кризисной ситуации</dc:title>
</cp:coreProperties>
</file>