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30D-CC22-468F-808E-2C77C73D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C00-6CFD-461B-8DBA-8972118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EC69-662C-4C5A-A99E-A11642B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376A9-87A4-4667-9952-28640A5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92057-A2D3-4993-BAAB-4F64BD2B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514EB-47E1-4354-A77D-673B600B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43C7-DB95-4142-9DF0-4EC3A4DE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0595-FA3B-4393-9BF4-D108BB03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ECA62-2090-4508-9E2B-E2349E78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BC250-EC62-444F-9AEE-24AAB378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015A3-16F1-45D6-B6E8-795F4419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3DC-C387-44D6-BC58-813B6019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D59-CD3F-4288-A064-EAB16F18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6947-1860-4CB6-A750-4E7F58DE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D607-B1D0-4142-9A0B-DF0255FC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131D-ADF5-41A8-8D9E-1E2A311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71A0-5822-4ADC-B670-B9096596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9CC8-3D02-45A2-BDA9-F1A426BE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06DE-5F3A-46F3-9997-9194D3D2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F85-8293-402D-8A0A-8F1B127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630-CBE9-42EB-9AB4-46E2496E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C1C-F44E-45A5-A2AE-427B492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D57-942D-45BA-AA6F-0054643A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CF64-08C8-4F40-B5F9-A483611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AA51-5E95-410D-B165-93B36C35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EB1E-CEC2-4E22-BD0C-487D6439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0726-EC22-4888-8F63-14563966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AF9D-C516-44ED-81B6-63E8CFA3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2C74-8DF5-44E7-8F7F-F77127D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F305-3B3C-4160-B9E9-7EBAB7F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5713-8EFB-4215-A242-E315407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5B6-7F8D-49F8-BA0B-73EB2BD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23EE-6096-4DA0-8BE7-736DDD8A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93E2-D7DB-496D-96A2-C9B04CF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1316-92BD-4D4F-8365-FCC42C56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A291-C88C-4E38-99AD-ABF6E67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B49D0-DE9F-4634-A6C9-8632AB4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1012-1D4E-41B1-B525-EBDBD991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4F0A-B9E3-4033-9C37-B2824E39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BC8B-5F0D-4036-BFEF-EAB50AA1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AD8B-E8D4-4956-8D05-D6005BD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C86B-9015-4DE9-8F46-178F2B3B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1AE-3EA0-453C-BC68-4D13C651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7FAB-CF94-4447-83E4-D339FC0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451A-44C6-463A-BE0C-F90BD292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CD39E-03DF-49EF-A2E4-AA7556A8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841A-8F58-488D-A63F-7040DE69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B5B9-5DEE-4BE9-B934-219443E5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69A86-F144-4EA5-91A1-C085B25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FAB4-35D6-4A33-A6A0-E0536261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787A-9BF5-4AA2-98F6-FA480EF6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65031-9C14-4E54-9354-459B394E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CB8E-F673-405E-A49A-97CBEBCE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F89-98D5-4C09-B6D4-FB54846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F6F0-7673-4655-BA8C-D20F081C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036E-438B-4489-9E24-62FB6D40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60550-D481-4872-8041-CB6CD228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6D58A-69CD-469D-9E2E-D2A82612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76B9-37A4-4D3D-AF7F-4D678C58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AE96-80EC-409A-9F10-BE039AE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2AE5-03BB-4AF1-97B3-F1734BD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C307E-C514-405E-B187-72038845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2B7F6-DEFB-4C8E-8B61-24AFBDB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45C3-11FE-4BA3-8FE7-D7665097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A43-EE0B-4BC2-8CB3-2ED3D659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2107-D74C-4D5A-87AB-B6A3032C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6F57-EE86-4681-8402-DE87C1FF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D1A4-EE42-430A-B3B3-19F761D9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8C93-BE84-494D-891F-54E852FB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FBDA1-6310-44D1-B69D-EA51545E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9EF9-0145-40B3-A5A0-9E9C0B80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E630-1988-4561-A193-582C8B5A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47456-31FD-46B5-ACDE-6D87B67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FDA2-A883-4629-A644-6DB3921E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BC83-9E2D-4323-B78D-4F13D452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B95-806E-43DB-9849-443B5EF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2EC7-017F-40AC-AC32-992C87A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99E9-F35C-414B-BF04-52035D17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996B-3B7E-486A-959B-CC27FC87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D5FF9-8C9F-4391-9C20-B11BFEAC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D88B8-6C79-409F-A79C-E22BD8E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A1443-24ED-4D7C-9788-7D791D2A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009F-7965-4FBB-8D03-129714B6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C626-8E83-473E-8E7E-248C1C41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8DF18-59E0-4F2E-9980-4B394DCA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A37ED-F273-4DDC-A469-1942A8FD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4DD-FCEF-4801-A510-F839B45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384B-50C8-4A33-B14F-3D1679E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89AFB-D953-4306-8F60-89786FFB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01E46-27A2-4038-8BEF-A0CE703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B5B3-BA71-4FB7-A628-3349A477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0934-66E6-4652-B0CA-1E87731C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A5AB6-0E2B-4BEE-AFF5-4439D933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DC7E-27D0-44AA-B056-F2B4955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63A4-2148-47DE-BC0D-85E9A422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BF5E-ABAC-4ABE-A077-FD4A825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9D7BF-5513-4D1F-9DE2-524BF98B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7AB-FB73-4EC8-B836-D93C6E4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427AB-EB16-4AA9-AD35-145D1D9B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AD1D-A9E6-4C2C-8156-8B47706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70F7-40DE-4254-9244-7794C36E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EC3AF-9A80-4865-91A8-945BB0C0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8543E-8A67-4CB9-8372-818CB5E9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5DA9D-1B4A-4310-B8CB-25D7C0B4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310E7-56E1-4429-A985-79FDB08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9BD39-09F1-4756-B92B-A687C073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7ABBF-9336-4559-A816-0A69F1DE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E7DDE-1415-456E-9DA4-968D47BD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FD1C-4086-43EA-BFEE-B950FF3E50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2517-9FB7-442F-8621-BB2EA73F8B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ED3C-C2B2-4DCE-B302-13BE06C063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C06B-9501-4029-9DD6-D9AB9DB9734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3026-6023-4A0B-8706-A32136EA54C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06A2-9B27-4D74-BC4F-EE0D4D0783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358E-E651-45A7-95E5-E5AC6E23BD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150-3C90-42DC-AF21-D9F5F3DB88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A007-DA72-491D-B91F-355D384ECAA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39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7111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476000" y="465300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ЕДАГОГ-ПСИХОЛОГ УЧЕБНОГО ОТДЕ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КЫЗЫЛСКОГО П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МОЛЕНОВА А.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87280" y="302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2195640" y="1446120"/>
            <a:ext cx="5110200" cy="2171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3675240"/>
            <a:ext cx="797544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тверждения о том, что кризис уже прошел, не должны ввести вас в заблужд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асто подросток  может почувствовать облегчение после разговора о его трудностях, но вскоре может опять вернуться к тем же мыслям. Поэтому так </a:t>
            </a: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важно не оставлять его в одиночестве даже после успешного разговор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920" y="379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1"/>
          <a:stretch/>
        </p:blipFill>
        <p:spPr>
          <a:xfrm>
            <a:off x="2227320" y="1490760"/>
            <a:ext cx="4865760" cy="20667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3557520"/>
            <a:ext cx="8136000" cy="230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Поддерживайте его и будьте настойчивы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ростку в состоянии душевного кризиса нужны четкие утвердительные указ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сознание вашей компетентности, заинтересованности в его судьбе и готовности помочь дадут ему эмоциональную опор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293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41768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74d26"/>
                </a:solidFill>
                <a:latin typeface="Bookman Old Style"/>
              </a:rPr>
              <a:t>Убедите его в том, что он сделал верный шаг, приняв вашу помощ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2081160" y="3357720"/>
            <a:ext cx="5113440" cy="21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16000" y="323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1"/>
          <a:stretch/>
        </p:blipFill>
        <p:spPr>
          <a:xfrm>
            <a:off x="1979640" y="1449360"/>
            <a:ext cx="5151240" cy="2189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000" y="3927240"/>
            <a:ext cx="7848360" cy="2168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Оцените его внутренние резерв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подросток сохранил способность анализировать и воспринимать советы окружающих, ему легче вернуть душевные силы и стаби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0000" y="379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44640" y="1671120"/>
            <a:ext cx="7386480" cy="21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ледует принять во внимание и другие возможные источники помощи: друзей, родственников, врачей, к которым можно обратить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511344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352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tretch/>
        </p:blipFill>
        <p:spPr>
          <a:xfrm>
            <a:off x="2195640" y="1617840"/>
            <a:ext cx="5110200" cy="21715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0920" y="3922200"/>
            <a:ext cx="7777080" cy="217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Попытайтесь убедить подростка обратиться к специалистам (психолог, врач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противном случае обратитесь к ним сами, чтобы вместе разработать стратегию помощ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26920" y="1598760"/>
            <a:ext cx="756144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Bookman Old Style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</a:rPr>
              <a:t>БУДЕМ ВНИМАТЕЛЬН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</a:rPr>
              <a:t>ДРУГ К ДРУГУ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111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032000" cy="4322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4d26"/>
                </a:solidFill>
                <a:latin typeface="Bookman Old Style"/>
              </a:rPr>
              <a:t>Внимательно выслушайте подростка, которому трудно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состоянии душевного кризиса любому человеку  прежде всего необходим кто-нибудь, кто готов его выслуша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риложите все усилия, чтобы понять проблему, скрытую за словами этого челове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4738680" y="2492280"/>
            <a:ext cx="39625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71640" y="455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616560" cy="1536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0000" y="1699920"/>
            <a:ext cx="38527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Bookman Old Style"/>
              </a:rPr>
              <a:t>Оцените серьезность переживаний подрост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он или она уже имеет конкретный план суицида, то ситуация более острая, чем если планы этого ребенка были расплывчаты и неопределен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28520" y="40428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"/>
          <a:stretch/>
        </p:blipFill>
        <p:spPr>
          <a:xfrm>
            <a:off x="2211480" y="1521000"/>
            <a:ext cx="5110200" cy="21715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3922200"/>
            <a:ext cx="8110440" cy="217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74d26"/>
                </a:solidFill>
                <a:latin typeface="Bookman Old Style"/>
              </a:rPr>
              <a:t>Оцените глубину эмоционального кризис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Часто человек, недавно находившийся в состоянии депрессии, вдруг начинает бурную, неустанную деятельнос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Такое поведение также может служить основанием для тревог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1640" y="455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2" name="Picture 7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616200" cy="16556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4506840" cy="449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Bookman Old Style"/>
              </a:rPr>
              <a:t>Внимательно отнеситесь ко всем, даже самым незначительным обидам и жалобам. Не пренебрегайте ничем из сказанног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росток может и не давать волю чувствам, скрывая  свои проблемы, но в то же время находиться в состоянии глубокого расстройства депре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58920" y="302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195640" y="1446120"/>
            <a:ext cx="5110200" cy="2171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71640" y="367524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74d26"/>
                </a:solidFill>
                <a:latin typeface="Bookman Old Style"/>
              </a:rPr>
              <a:t>Не бойтесь прямо спросить, не думает ли он или она о каких-либо протестных действиях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Опыт показывает, что такой вопрос редко приносит вред. Часто подросток бывает рад возможности открыто высказать свои проблем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Вопросы и замечания,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которые помогут Вам завести разговор о кризисе и определить степень риска в данной ситуации: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84836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Похоже, у тебя что-то стряслос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Что тебя мучае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(Так можно завязать разговор о проблемах подростк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9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11344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920" y="4903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Вопросы и замечания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оторые помогут Вам завести разговор о кризисе и определить степень риска в данной ситуации:</a:t>
            </a: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0200" cy="21715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42560" y="3715920"/>
            <a:ext cx="7386840" cy="217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Bookman Old Style"/>
              </a:rPr>
              <a:t>Тебе в голову приходят плохие мысл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339840"/>
            <a:ext cx="7477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Вопросы и замечания,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которые помогут Вам завести разговор о кризисе и определить степень риска в данной ситуации: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30480" y="191628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Каким образом ты собираешься это сделать? (этот вопрос поможет определить степень риска: чем более подробно разработан план деструктивных действий, тем выше вероятность его осуществлен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1"/>
          <a:stretch/>
        </p:blipFill>
        <p:spPr>
          <a:xfrm>
            <a:off x="2195640" y="4005360"/>
            <a:ext cx="5113080" cy="217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20:43:47Z</dcterms:created>
  <dc:creator>Наталья</dc:creator>
  <dc:description/>
  <dc:language>en-US</dc:language>
  <cp:lastModifiedBy>Анастасия Смоленова</cp:lastModifiedBy>
  <dcterms:modified xsi:type="dcterms:W3CDTF">2017-01-17T07:46:47Z</dcterms:modified>
  <cp:revision>10</cp:revision>
  <dc:subject/>
  <dc:title>Как помочь подростку в кризисной ситуации</dc:title>
</cp:coreProperties>
</file>