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3185-37FA-4D8D-8759-ABF25271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6D0-EC81-4577-A135-30907719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F7E-D9FC-4E8F-B888-40E773F6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8409-06A2-44FC-A951-98957B9A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FD79-91FD-4E98-88CC-F5D707D08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1368-5D38-4461-AEC7-52DF1879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570D4-CFA1-45C6-98DE-98BB8EC5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46C7B-0C86-485A-ADD3-8F6DC4B9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7656-D367-43A2-962C-3012C2C8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9720-BD7D-4A72-A185-9F499802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4C3E-966C-49A8-B9CF-2D4CEC4E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2A7B-EC82-4FA8-AA51-F0B23A5C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1D4A-8B2E-4B89-8F20-C8C40099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B160-8E53-45B5-ACF8-12AEB6D4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F540-5878-4A14-8B1A-9960B488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3B4F-1F59-45AB-A832-733EA49B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F9E7-8895-46AC-BB5C-6A8EFC6BE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06BFD1-92FB-44C7-8E5B-DA50DAB6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78B8D-E75A-4FF9-A8A8-60E0FBC5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B7D79-2D9D-4170-AF22-9A6CA437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6FA7E-9233-438B-A905-649C4412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46EB1-534C-4B73-BFFF-87A33C88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A0B-291F-4E53-B977-1B9B4B2F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8EC5E-044B-4CCE-A299-DDD041B0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FB96D-DC80-46E6-AE29-85D83627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B8D3C-0F1D-4C8F-9B2A-B9B47E7A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688C8-6663-490F-9E29-9E46988F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822DA7-4EA5-4FE3-B4C3-AA0A6727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CC12C-06AB-4068-8F1C-CF090FD9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DCCD1-CFAA-4104-BE33-801E1253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D6ECF-4A7B-460B-8CD8-65529488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FBAFB-C520-4903-99AA-F1B7808B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047A2-F277-4ED7-8A89-BCD2C1AF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8F2-0E66-4AF0-AF11-BE6C27F1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4445B-D20F-4929-A7F2-B978993F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586A4-1A82-4BAF-9DB5-C501F9C5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793CA-EEDD-4936-B833-9A449DAD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8AB72-3432-4213-AF49-88A05EA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C7A4B-909E-4797-989D-5C46B773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D7DA0-B0EB-4368-9BA9-3C493A95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C3A53-38A7-4E2E-B337-815E6B5D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93733-CFF0-408B-BB31-36506CEBB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E1252-9B67-410D-83B9-F409E44F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1B3591-69D1-4710-B4F0-59F5FAE2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05C-A613-44F5-9B1E-2319F274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D1D10-1A68-45D4-A1DA-A2ECCA9F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7993C0-0D48-4A77-9432-C2CBA9A2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F79E3-A2C0-446B-9CA5-B0218663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92CC0-453C-4B09-8CDC-59B8BA72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C7BBC2-F26E-4CF8-BABE-14524DE3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D2C35-5022-46DB-8634-AE4A530A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54D4B-095D-4D10-9DFC-5244625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86438B-BCCB-4541-83F1-68E4BCFD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9D6784-50B3-424F-9533-E9D034D0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BA862F-9E84-430E-9521-46A7B6D87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82C-7E26-4C43-AABB-E1503CA8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4B044-5856-444A-B357-9781CFDA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C3530-E795-498F-8CDC-5B592754C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5EE07-F0D9-4E7B-B450-7DC859C4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49A146-EC47-42D1-A643-D27B9D1F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D8F2F2-96BF-4532-9526-B17D0F15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45DECB-B2E1-4E5E-A46B-C86637CD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15C22-3AA6-4381-82EC-F09E4B17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05E53F-AD5D-427F-BCDD-A2CF492B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62551-5C99-45B1-98D1-673E099B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0C2D7E-4698-42DC-A50F-4D6D963E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7557-24FB-48F0-8934-11022F2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4B2833-B5BA-42E7-A845-0A6C88A1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221F59-1D88-4F40-BEEA-1778EDB8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01FAF8-B63E-48E4-92C5-F7E0683D2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3CD781-C022-4BA1-8843-51FF33AF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831269-183D-489F-B0DD-575B9326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025E12-66B1-4637-91A4-7F2240BC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5665D-09CF-4C88-88DF-1ED5236A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BE860-3D7A-43E4-9B5D-C18DBA1F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724370-8E08-4E89-B24E-AEB90BF5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F14774-3009-4EF2-BD61-FAA0C46E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3F3A-1453-4292-ACDA-7184C894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321ED-8C3C-46E7-B282-80D1D36F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75185A-6D87-4BED-AD37-38A3903F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B637E-2642-4E40-8D1B-8CD81867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EFCD0F-3E6F-4A1E-A22F-8B3B1F3C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AB7B55-474C-45C8-8388-C7B3ABF9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A95D-7BC4-497E-9EF9-BBF3BAC7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A6FD-B450-4387-9D49-C289ECE9CEE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C404-48AB-489F-A11C-686AAABBC49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7CD1-6015-4610-B196-4F18D9BFEDF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EF97-6316-448C-9C1C-8A52012FE1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207E-D2A9-4B42-8523-AE3BCC121A3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FD1D-7E02-4876-93AD-0721CABC09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A3C9-4E90-4083-8776-0059137339D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99760" y="42876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КЛАССНЫЙ ЧАС 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642680" y="28576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Символы России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-76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99680" y="7858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…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яя эмблема или цвет нации , подобно гербу древнего рода, должны быть всегда и неизменно сохраняемы нетронутыми. В противном случаи сама эмблема теряет символическое и историческое своё значение, не приобретает популярности в народе и становится не более как официальным, казённым штепселе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Белинск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-148680"/>
            <a:ext cx="746748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Picture 2" descr="F:\символы РФ.jpg"/>
          <p:cNvPicPr/>
          <p:nvPr/>
        </p:nvPicPr>
        <p:blipFill>
          <a:blip r:embed="rId1"/>
          <a:stretch/>
        </p:blipFill>
        <p:spPr>
          <a:xfrm>
            <a:off x="1143000" y="714240"/>
            <a:ext cx="6500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ФЛАГ РОССИ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Picture 2" descr="F:\флаг.jpg"/>
          <p:cNvPicPr/>
          <p:nvPr/>
        </p:nvPicPr>
        <p:blipFill>
          <a:blip r:embed="rId1"/>
          <a:stretch/>
        </p:blipFill>
        <p:spPr>
          <a:xfrm>
            <a:off x="1428840" y="1643040"/>
            <a:ext cx="60912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400" y="7138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ФЛАГ РОССИЙСКОЙ ФЕДЕРАЦИИ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71320" y="221436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 ГД 8 декабря 2000 года. Подписан Президентом РФ 20 декабря 2000 год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РФ представляет собой прямоугольное полотнище , состоящее из трёх горизонтальных равновеликих полос: верхний – белого, средней – синего, нижнего – красного цветов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ГЕРБ РОССИИ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F:\герб.png"/>
          <p:cNvPicPr/>
          <p:nvPr/>
        </p:nvPicPr>
        <p:blipFill>
          <a:blip r:embed="rId1"/>
          <a:stretch/>
        </p:blipFill>
        <p:spPr>
          <a:xfrm>
            <a:off x="2209680" y="1662120"/>
            <a:ext cx="39625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ГЕРБ РОССИЙСКОЙ ФЕДЕРАЦИИ</a:t>
            </a:r>
            <a:br>
              <a:rPr sz="27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герб РФ представляет собой изображение золотого двухглавого орла, помещённого на красном геральдическом щите; над орлом – три исторические короны Петра Великого (над головами – две малые и над ними – одна большего размера) ; в лапах орла – скипетр и держава; на груди орла на красном щите – всадник, поражающий копьём дракон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инятия 20.12.2000 г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9680" y="-21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ГИМН РОССИ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2" descr="F:\гимн.jpg"/>
          <p:cNvPicPr/>
          <p:nvPr/>
        </p:nvPicPr>
        <p:blipFill>
          <a:blip r:embed="rId1"/>
          <a:stretch/>
        </p:blipFill>
        <p:spPr>
          <a:xfrm>
            <a:off x="785880" y="0"/>
            <a:ext cx="7358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19:34:28Z</dcterms:created>
  <dc:creator>User</dc:creator>
  <dc:description/>
  <dc:language>en-US</dc:language>
  <cp:lastModifiedBy>User</cp:lastModifiedBy>
  <dcterms:modified xsi:type="dcterms:W3CDTF">2011-12-14T20:36:30Z</dcterms:modified>
  <cp:revision>7</cp:revision>
  <dc:subject/>
  <dc:title>Классный час :</dc:title>
</cp:coreProperties>
</file>