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5D23-48ED-475D-99D2-EC8EEBB4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875D-805E-4CFB-8B2F-14FDFCCE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373B-92D4-468A-B9E9-1F98CB8D9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70F5-1927-4640-9BFE-57149B35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C6DE-6FA4-416D-9EBB-BCF1F05A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B5A0-137A-4226-9970-15419245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E1F6-23E8-462B-B097-08DB7C27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3C7C-4E3C-4895-A3DB-624F82C4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2553-51F4-4F97-B001-726A6822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C9C1-BC36-4D3F-AEDF-A660CA89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C0C0-DBC6-410A-A331-EB12A414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5285-5BFD-49CB-8136-57F45E96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5A73-AD7C-491E-BFD6-25A06A8D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CC01-69BB-47B1-8037-F62D1933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8A32-B280-411F-B06E-434AA1B5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3EDE-3352-47D8-9C7F-86401F271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0574-CA93-4693-878A-A951EE1B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007A8C-1F1E-4390-AE32-AFAC77CFE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1A29A9-B610-405F-A190-BECB0BC1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B9C790-AF6A-456B-B4D2-8471CE1F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6DD94F-2E46-4BC2-9A6D-785CEF98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1D5966-D545-4AC6-A77C-2169489E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BF1B-9BF9-434B-B862-89CFFC2D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80690C-50F8-4C90-8A80-93EF3736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85D82E-B236-4FA4-BB0B-0F63B72E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C82EBB-80CF-4D6D-9439-5CDBF32C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A01AED-D2D1-4ADA-8C8B-0B305EC0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3E04DC-801A-4AB2-98CE-482B8F17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79B2F2-2459-4591-8B76-773B73AE8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CF5766-6C2C-4C16-938D-976B16D2D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58A0D-6A90-4DA5-BC9D-821588FE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B7D63-4B2A-4505-B451-0D8F9DD9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CB4B0-023D-4390-8661-9B05E442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E8FF-CECA-461B-9593-1E397F33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E6E89-B6CC-4FEB-A83B-28706629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8211D-CA7F-4E8C-8CC5-7380ED82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8FDCC-3D0A-48F0-8C8B-AE1C61E5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FA621-8B05-4F10-9227-C1E7EC30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6AB7C-DE76-447F-A0C6-80878F09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E01F7-64D2-4548-A667-887D635C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8BBF0-D53E-4C34-9581-B3F821D4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29EED-F38F-4B49-875A-212B55B1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8D734-364A-4F4B-A27A-CE690B777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4DBF15-F14E-4C03-9DC8-17B9E63D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48AC-EDD8-4DB6-8C6D-EA3423FA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474274-1178-4486-ADDD-3D6F4BBF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481031-131B-4EDE-96D8-C2660FD4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98E980-2A22-42E8-8949-2806D19A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B108DF-B8A9-4668-95D7-DDA41B1A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EC5D47-5BFB-4B1C-94F9-6FB070F5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0D2B44-6BDF-4B83-A3CF-E3FAADFF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95F80C-5E96-426A-B03A-D1299315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2E3D43-D54C-47A3-8211-D637EC0B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92DE3E-2DA7-4C59-BB80-604EC636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15E59C-7401-4328-8E07-4DFCDA77A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1100-7266-439C-A46A-1B386D80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78370D-A879-4618-B1D5-0E973C7D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174052-91F1-40FE-8EF5-AFF098BC7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C0F265-0F87-430D-B62A-76800F0F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526CE4-13ED-45BA-8CCA-394C4C6B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740077-7D27-4CC8-B005-9CC73F8E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FC3B21-7E69-4D00-BF7A-85D8756C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5ED4C3-1B66-41ED-8C7B-3CEEC3FE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C77A45-DF5A-4A9A-A992-3357A1F7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258DCF-FF3B-4776-86E5-D0C89D66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1A6874-7821-442B-84EE-3DD45C4E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EB80-9277-46D1-A38E-8EA4D2C5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41959A-445F-4696-B9B9-06DAEF96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87BA6A-BAEE-4739-9DF3-5A25DBEE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06F425-5FE3-40F7-9B05-66942173A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844063-DCB2-4111-9B3A-D7477FC8E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E735F0-DBCF-44BF-A93C-8FBCA46B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4DC5D2-AFB1-42AA-AE70-78796947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4C8A94-4DAF-4710-AA19-1C20DE6B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11A5DD-18DB-4F7B-B934-073E2689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9BAED2-7C90-4B1C-B73E-AD917CDB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1613C5-32B1-4B1B-B71E-A416EBC2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0BC9-BFC2-484B-9B80-CFD369A6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F0877E-8550-4B51-8DB8-048E09EF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54AC77-B429-444E-ABF8-1A5B0A01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512143-87E2-4EF6-956D-0532976E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5201CA-ADF9-45B3-88C1-C22BB013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023E06-E163-451B-89F4-E5D38A9DD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8A34-50F2-4BA6-8993-A4868441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BA0F-0085-4E2C-BAE4-3DD11BFCFD9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838F-4012-46D8-B1DD-376F89F9697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0178-184B-4C07-AA54-019E6BD0C6F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F17F-6B98-4DA0-A56F-094BB065E90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5810-5AEB-4159-9410-5B5B9D7D560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E4C1-9886-4D5F-ADC2-8D7DDF20FB2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9FBE-1CA5-4D0D-84F2-8D208EC1926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99760" y="42876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КЛАССНЫЙ ЧАС 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642680" y="28576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Символы России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-76680"/>
            <a:ext cx="746748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99680" y="7858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…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няя эмблема или цвет нации , подобно гербу древнего рода, должны быть всегда и неизменно сохраняемы нетронутыми. В противном случаи сама эмблема теряет символическое и историческое своё значение, не приобретает популярности в народе и становится не более как официальным, казённым штепселем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Белински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-148680"/>
            <a:ext cx="746748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6" name="Picture 2" descr="F:\символы РФ.jpg"/>
          <p:cNvPicPr/>
          <p:nvPr/>
        </p:nvPicPr>
        <p:blipFill>
          <a:blip r:embed="rId1"/>
          <a:stretch/>
        </p:blipFill>
        <p:spPr>
          <a:xfrm>
            <a:off x="1143000" y="714240"/>
            <a:ext cx="6500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ФЛАГ РОССИИ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8" name="Picture 2" descr="F:\флаг.jpg"/>
          <p:cNvPicPr/>
          <p:nvPr/>
        </p:nvPicPr>
        <p:blipFill>
          <a:blip r:embed="rId1"/>
          <a:stretch/>
        </p:blipFill>
        <p:spPr>
          <a:xfrm>
            <a:off x="1428840" y="1643040"/>
            <a:ext cx="60912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8400" y="7138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ФЛАГ РОССИЙСКОЙ ФЕДЕРАЦИИ</a:t>
            </a:r>
            <a:br>
              <a:rPr sz="27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71320" y="2214360"/>
            <a:ext cx="746748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 ГД 8 декабря 2000 года. Подписан Президентом РФ 20 декабря 2000 год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флаг РФ представляет собой прямоугольное полотнище , состоящее из трёх горизонтальных равновеликих полос: верхний – белого, средней – синего, нижнего – красного цветов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ГЕРБ РОССИИ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Picture 2" descr="F:\герб.png"/>
          <p:cNvPicPr/>
          <p:nvPr/>
        </p:nvPicPr>
        <p:blipFill>
          <a:blip r:embed="rId1"/>
          <a:stretch/>
        </p:blipFill>
        <p:spPr>
          <a:xfrm>
            <a:off x="2209680" y="1662120"/>
            <a:ext cx="396252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ГЕРБ РОССИЙСКОЙ ФЕДЕРАЦИИ</a:t>
            </a:r>
            <a:br>
              <a:rPr sz="27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герб РФ представляет собой изображение золотого двухглавого орла, помещённого на красном геральдическом щите; над орлом – три исторические короны Петра Великого (над головами – две малые и над ними – одна большего размера) ; в лапах орла – скипетр и держава; на груди орла на красном щите – всадник, поражающий копьём дракон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принятия 20.12.2000 г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9680" y="-21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ГИМН РОССИИ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6" name="Picture 2" descr="F:\гимн.jpg"/>
          <p:cNvPicPr/>
          <p:nvPr/>
        </p:nvPicPr>
        <p:blipFill>
          <a:blip r:embed="rId1"/>
          <a:stretch/>
        </p:blipFill>
        <p:spPr>
          <a:xfrm>
            <a:off x="785880" y="0"/>
            <a:ext cx="7358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9:34:28Z</dcterms:created>
  <dc:creator>User</dc:creator>
  <dc:description/>
  <dc:language>en-US</dc:language>
  <cp:lastModifiedBy>User</cp:lastModifiedBy>
  <dcterms:modified xsi:type="dcterms:W3CDTF">2011-12-14T20:36:30Z</dcterms:modified>
  <cp:revision>7</cp:revision>
  <dc:subject/>
  <dc:title>Классный час :</dc:title>
</cp:coreProperties>
</file>