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8D2-3B27-4BE4-928A-42C9592A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385-EF6C-4106-B9AE-41957493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643-DFD7-432E-AA67-9A0A1AD2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E92-7B6B-40E4-946D-A9782CEF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1E5-73FC-4D46-8C06-F187FA89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7C1B-A747-46C9-A49A-31BB0A6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62B1-C8DF-478E-ABCF-001AFDB0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9BC-06F9-40DD-A7DD-87A2B70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A62-B271-437D-85E3-84C0469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5696-E687-44C9-AA75-7C93BDF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08FE-EF9F-46A7-B0ED-DD75DDAD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864-238A-4B01-B0C9-5238DAA6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2EBC-C036-4E77-9CD5-49BC9E2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853C-5425-4E9B-8E02-6082C2E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C348-6D0A-4B16-A1BB-A8A83CD3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520B-0DAD-4FAE-9BEE-171144A6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D606-83EC-4E50-A5BE-59165AC6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A22-F679-4A6C-A36D-5DEC47B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882-4651-4504-A478-133BF36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D1A-7EAA-4821-8D8E-7C920A1E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1FB-BFAB-4065-B8C2-6293EBA5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131-779A-401A-A881-ED41466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521-6800-495C-BA5E-4F389CD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6B5-E498-429C-BEBA-27D9B746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68FC-B695-490B-A2B2-F16DE1D50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589C-98F0-4C5E-AE45-C8E9F14D4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2b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1b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12b1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13b1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yasnayapolyana.ru/museum/manor/map/13b2.htm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47160" cy="10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сная Поляна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Усадьба Л.Н.Толстого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360" y="5950080"/>
            <a:ext cx="3672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р: Сидоренко Т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967280" cy="3756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Дом Л. Н. Толстог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81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Толстой поселился в этом доме (бывшем флигеле) в 1856. Сюда привез он в 1862 году свою молодую жену. Позже небольшого флигеля уже не хватало для растущей семьи, и Толстой расширил его, добавив несколько пристроек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В этом доме Толстой прожил более 50 лет. Все вещи, книги, картины здесь подлинные: они принадлежали Толстому, его домашним, а то и предкам писателя. В доме по-прежнему сохраняется обстановка 1910 года, последнего года жизни Толстого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Вокруг дома разбиты цветочные клумбы. Софья Андреевна очень любила цветы, сама ухаживала за ни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Дом Л.Н. Толстого"/>
          <p:cNvPicPr/>
          <p:nvPr/>
        </p:nvPicPr>
        <p:blipFill>
          <a:blip r:embed="rId1"/>
          <a:stretch/>
        </p:blipFill>
        <p:spPr>
          <a:xfrm>
            <a:off x="5148360" y="2133720"/>
            <a:ext cx="3368520" cy="338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Могила Л. Н. Толстог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5051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 последние годы жизни Толстой неоднократно высказывал просьбу похоронить его в лесу Старом Заказе, на краю оврага, на «месте зеленой палочки». Легенду о зеленой палочке Толстой услышал в детстве от своего любимого брата Николая. Когда Николаю было 12 лет, он объявил семье о великой тайне. Стоит раскрыть ее, и никто больше не умрет, не станет войн и болезней, и люди будут «муравейными братьями». Остается лишь найти зеленую палочку, зарытую на краю оврага. На ней тайна и записана. Дети Толстые играли в «муравейных братьев», усаживаясь под кресла, завешанные платками; сидя все вместе в тесноте, они чувствовали, что им хорошо вместе «под одной крышей», потому что они любят друг друга. И они мечтали о «муравейном братстве» для всех людей. Уже старым человеком Толстой напишет: «Очень, очень хорошо это было, и я благодарю бога, что мог играть в это. Мы называли это игрой, а между тем все на свете игра, кроме этого». К мысли о всеобщем счастье и любви Л. Н. Толстой возвращался и в художественном творчестве, и в философских трактатах, и в публицистических статья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Историю о зеленой палочке Толстой вспоминает и в первом варианте своего завещания: «Чтобы никаких обрядов не производили при закопании в землю моего тела; деревянный гроб, и кто захочет, свезет или снесет в лес Старый Заказ, напротив оврага, на место зеленой палочки».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Могила Л.Н. Толстого"/>
          <p:cNvPicPr/>
          <p:nvPr/>
        </p:nvPicPr>
        <p:blipFill>
          <a:blip r:embed="rId1"/>
          <a:stretch/>
        </p:blipFill>
        <p:spPr>
          <a:xfrm>
            <a:off x="5940360" y="1557360"/>
            <a:ext cx="2529000" cy="178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Могила Л.Н. Толстого"/>
          <p:cNvPicPr/>
          <p:nvPr/>
        </p:nvPicPr>
        <p:blipFill>
          <a:blip r:embed="rId2"/>
          <a:stretch/>
        </p:blipFill>
        <p:spPr>
          <a:xfrm>
            <a:off x="6012000" y="3573360"/>
            <a:ext cx="2457360" cy="238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юбимая скамейка Л. Н. Толст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1280" y="2421000"/>
            <a:ext cx="496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о просьбе Л. Н. Толстого в «Елочках» была сооружена деревянная скамейка. Это место известно как его любимое место размышлений в тишине и спокойствии молодого елового леса, место отдыха после долгих пеших прогулок по усадьбе и окрестнос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«Я всегда любуюсь на эти елочки, это мое любимое место. И по утрам это – моя прогулка. Иногда я сажусь здесь и пиш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Л. Н. Толстой – А. Б. Гольденвейзеру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Любимая скамейка Л. Н. Толстого"/>
          <p:cNvPicPr/>
          <p:nvPr/>
        </p:nvPicPr>
        <p:blipFill>
          <a:blip r:embed="rId1"/>
          <a:stretch/>
        </p:blipFill>
        <p:spPr>
          <a:xfrm>
            <a:off x="539640" y="2492280"/>
            <a:ext cx="2665440" cy="1812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Деревня Ясная Полян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619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ри князе Волконском, деде писателя, сельцо располагалось на оживленной Посольской дороге, и дома размещались по обеим ее сторонам. И сегодня неизменными остаются основные атрибуты деревни, дошедшие до нас со времен Льва Толстого: дорога, плавно поднимающаяся в гору и цепочка домов, растянувшаяся по обеим сторонам старого тракта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ополянские крестьяне, их судьбы и невыдуманные истории «живут» во многих толстовских произведениях: «Утро помещика», «Поликушка», «Идиллия», «Тихон и Маланья», «Свечка», «Ягоды», романы «Война и мир», «Анна Каренина», «Воскресение»… В них упоминаются фамилии крестьян, и поныне живущих здесь, - Копыловы, Морозовы, Резуновы, Зябревы, Козлов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 2001 г. в деревне Ясная Поляна был открыт детский сад </a:t>
            </a:r>
            <a:r>
              <a:rPr b="0" lang="ru-RU" sz="1400" spc="-1" strike="noStrike" u="sng">
                <a:solidFill>
                  <a:srgbClr val="663300"/>
                </a:solidFill>
                <a:uFillTx/>
                <a:latin typeface="Times New Roman"/>
              </a:rPr>
              <a:t>«Муравейное братство»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Деревня «Ясная Поляна»"/>
          <p:cNvPicPr/>
          <p:nvPr/>
        </p:nvPicPr>
        <p:blipFill>
          <a:blip r:embed="rId1"/>
          <a:stretch/>
        </p:blipFill>
        <p:spPr>
          <a:xfrm>
            <a:off x="5715000" y="2017800"/>
            <a:ext cx="2602080" cy="1847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Деревня «Ясная Поляна»"/>
          <p:cNvPicPr/>
          <p:nvPr/>
        </p:nvPicPr>
        <p:blipFill>
          <a:blip r:embed="rId2"/>
          <a:stretch/>
        </p:blipFill>
        <p:spPr>
          <a:xfrm>
            <a:off x="5715000" y="4444920"/>
            <a:ext cx="2602080" cy="1613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08360" y="404280"/>
            <a:ext cx="525456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ая Поляна ведет свое летосчисление с конца XVII столетия, с момента появления здесь ее первых владельцев - Карцевых. Усадьба пережила несколько этапов, прежде чем основательно изменила свой облик в ходе коренной реконструкции, предпринятой дедом Л. Н. Толстого князем Николаем Сергеевичем Волконским. Его можно считать строителем той яснополянской усадьбы, в которой позднее протекала жизнь Льва Николаевича Толстого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Дед писателя соединил старые черты планировки (регулярный парк «Клины», аллея «Прешпект») с новыми элементами композиции (архитектурный ансамбль, «Аглицкий» парк). «Все, что строил мой дед, - говорил Л. Н. Толстой, - было изящно и не пошло и твердо, прочно, капитально. У него было очень тонкое эстетическое чувство»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От Н. С. Волконского Ясная Поляна перешла к его единственной дочери, матери Л. Н. Толстого Марии Николаевне. Отец писателя, граф Николай Ильич Толстой, достроил здесь 32-комнатный ампирный дом, увеличил сад и хозяйственные служб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Леса Ясной Поляны: Абрамовская посадка, Чепыж, Старый Заказ – места прогулок и детских игр братьев Толстых. На краю оврага Старого Заказа, где, будучи детьми, они искали «зеленую палочку счастья», Л. Н. Толстой завещал похоронить себя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ая Поляна – уникальный мемориальный и природный заповедник. Здесь сохранены старые здания, окруженные живописными парками, садами, лесами. Здесь по-прежнему живут традиции семьи Толстых. Прогулка по Ясной Поляне перенесет вас в мир русских дворянских усадеб 19 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«Прешпект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73360"/>
            <a:ext cx="300528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ашни въезд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У входа в усадьбу располагаются две круглые кирпичные башни, простые и изящные. Они были выстроены дедом Толстого, князем Н. С. Волконским. Когда-то между башнями были укреплены железные ворота, но при Толстом их уже не было. Внутри башни полые, в них укрывались от непогоды сторожа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Налево от входа - небольшой домик, называемый «каменка». Здесь жил садовник. В 90-е годы в «каменке» была школа для крестьянских детей, в которой преподавали старшие дочери Толстого - Татьяна Львовна и Мария Львов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Times New Roman"/>
              </a:rPr>
              <a:t>Князь Андрей «велел оседлать себе лошадь и с перехода поехал верхом в отцовскую деревню, в которой он родился и провел свое детство… Князь Андрей подъехал к сторожке. У каменных ворот въезда никого не было, и дверь была отперт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i="1" lang="en-US" sz="1400" spc="-1" strike="noStrike">
                <a:solidFill>
                  <a:srgbClr val="663300"/>
                </a:solidFill>
                <a:latin typeface="Times New Roman"/>
              </a:rPr>
              <a:t>Л. Н. Толстой «Война и мир».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Башни въез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89000"/>
            <a:ext cx="3744720" cy="3160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«Прешпект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1600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«Прешпект» не раз упоминается в художественных произведениях Толстого, в том числе в романе «Война и мир»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 1903 г. супруга Льва Николаевича Софья Андреевна вместо старых берез посадила здесь ели. В 1965 г. ели вновь были заменены береза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«Необычайная красота весны нынешнего года в деревне разбудит мертвого… Утром опять игра света и теней от больших, густо одевшихся берез прешпекта по высокой уж, темно-зеленой траве, и незабудки, и глухая крапивка, и все - главное, маханье берез прешпекта такое же как было, когда я, 60 лет тому назад, в первый раз заметил и полюбил красоту эту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Л. Н. Толстой. Из письма С. А. Толстой, 1897.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330800" cy="34416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у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92000" y="1341360"/>
            <a:ext cx="56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о левую сторону от «Прешпекта» располагается Большой пруд. По обычаю половина этого пруда принадлежала помещику, а другая – крестьянам. В былые времена здесь ловили рыбу, катались на лодках, а зимой – на санках и коньках. По берегам пруда до сих пор сохранились старинные ракиты, растущие в усадьбе еще с начала XIX века, когда владельцем Ясной Поляны был князь Н. С. Волконский. Осталась на берегу пруда и баня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о другую сторону «Прешпекта», в овраге, при князе был разбит английский парк с каскадом из трех небольших прудов: Верхнего, Среднего и Нижнего. В 90-е годы на Среднем пруду была поставлена купальня. В разные годы она меняла свой вид: то ее сколачивали из досок, то делали из хвороста. В этом пруду купались дети Толстого, гости, а зимой здесь устраивали каток. Нижний пруд украшен живописными березовыми мостиками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ополянские пруды не раз упоминались Толстым в романе «Война и мир», в рассказах «Метель» и «Святочная ночь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«Проезжая мимо пруда, на котором всегда десятки баб, переговариваясь, били вальками и полоскали свое белье, князь Андрей заметил, что на пруде никого не было, и оторванный плотик, до половины залитый водой, боком плавал по середине пруда… У каменных ворот въезда никого не было, и дверь была отперта»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Л. Н. Толстой. «Война и мир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54120" cy="42037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Дом Волконског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32000" y="1773360"/>
            <a:ext cx="572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Дом Волконского - самое старое здание в усадьбе. Предполагается, что в нем некоторое время жил дед писателя князь Н. С. Волконский. При князе в центральной части дома располагались мастерские по изготовлению полотна, ковров, обработке кожи. При Толстом здесь жила прислуга, находились прачечная и «черная кухня». В восточном крыле Дома Волконского размещалась художественная мастерская дочери Толстого Татьяны Львовны.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Поликей, как человек незначительный и замаранный, да еще из другой деревни, не имел протекции ни через ключницу, ни через буфетчика, ни через приказчика или горничную, и угол у него был самый плохой, даром что он был сам-сём с женой и детьми. Углы еще покойным барином построены были так: в десятиаршинной каменной избе, в середине, стояла русская печь, кругом был колидор (как звали дворовые), а в каждом углу был отгороженный досками угол. (Места, значит, было немного, особенно в Поликеевом углу, крайнем к двери. Брачное ложе со стеганым одеялом и ситцевыми подушками, люлька с ребенком, столик на трех ножках, на котором стряпалось, мылось, клалось все домашнее и работал сам Поликей (он был коновал), кадушки, платья, куры, теленок и сами семеро наполняли весь угол и не могли бы пошевелиться, ежели бы общая печь не представляла своей четвертой части, на которой ложились и вещи, и люди, да ежели бы еще нельзя было выходить на крыльцо). Л. Н. Толстой. «Поликушка»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2095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2095560"/>
                <a:gridCol w="704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volkon2s" descr="Дом Волконского"/>
          <p:cNvPicPr/>
          <p:nvPr/>
        </p:nvPicPr>
        <p:blipFill>
          <a:blip r:embed="rId1"/>
          <a:stretch/>
        </p:blipFill>
        <p:spPr>
          <a:xfrm>
            <a:off x="1317600" y="203688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2095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2095560"/>
                <a:gridCol w="704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volkon3s" descr="Дом Волконского"/>
          <p:cNvPicPr/>
          <p:nvPr/>
        </p:nvPicPr>
        <p:blipFill>
          <a:blip r:embed="rId2"/>
          <a:stretch/>
        </p:blipFill>
        <p:spPr>
          <a:xfrm>
            <a:off x="1317600" y="4646520"/>
            <a:ext cx="1905120" cy="90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арк «Клины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27280" y="1413000"/>
            <a:ext cx="63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Старый липовый парк «Клины», примыкающий к дому Толстого, был разбит в классическом стиле, образцом для которого послужили французские регулярные парки. Название свое парк получил потому, что пересекающиеся в центре аллеи делят его на восемь треугольников - «клинов». Л. Н. Толстой, характеризуя планировку парка, называл его «квадрат» и «звезда». Между липами мать Толстого Мария Николаевна посадила яблони. По семейному преданию, в «Клинах» любил гулять под музыку своего небольшого оркестра из крепостных музыкантов дед писателя князь Н. С. Волконский. Скамьи для музыкантов располагались на круглой площадке в центре пар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В саду с высокими липовыми аллеями, сквозь которые чуть просвечивало солнце, было свежо и сыр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В семь часов утра на одной из липовых аллей, составлявших квадрат и звезду подле дома, стояло человек восемь людей в камзолах, чулках и башмаках и тупеях с скрипками, флейтами и нотами, и слышался осторожный говор и настраиванье инструментов. В стороне от аллеи, закрытый липами во внутренности квадрата, стоял, по крайней мере, столетний ясень, аршина два с половиной в диаметре. Вокруг ясеня были сделаны кругом скамейки для восьми человек музыкантов и пюпитры. Кругом было обсажено шиповником и сиренью, круглая площадка была высыпана пес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Проснулся, - прокричал мальчик-казачок, пробегая через аллею… Музыканты зашевелились, скрылись за аллею и разложили ноты и, слегка построивши, глядя на капельмейстера, ставшего перед ними, начали играть одну из симфоний Гейдена… Ровно в семь часов, еще не добили часы, князь вышел с крыльца в чулках и башмаках, в простом сереньком камзоле с звездой и в круглой шляпе и с костылем в руке… Князь прошел в аллеи и, заложив руки назад, стал ходить. Музыка играл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Л. Н. Толстой. Из черновиков «Войны и мира»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Парк «Клины«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2376720" cy="360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а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79640" y="1628280"/>
            <a:ext cx="4686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лодовые сады - украшение яснополянской усадьбы. Ее садово-парковый ансамбль создавался более 150 лет. В нач. 19 в. М. Н. Толстая (урожденная кн. Волконская) - мать Л. Н. Толстого - сделала подробную «Опись саду» того времени. В усадьбе было два регулярных сада - из восьми клинов каждый, где росли яблони, смородина, крыжовник, малина и земляника. В каждом из клинов были устроены клумбы с цветами. Яблонь в саду перечислено 849 штук 25 различных сортов. Плодовые деревья были посажены и в «Английском саду». В имении был свой питомник («школа»), где выращивались саженцы плодовых и лесных пород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Л. Н. Толстой увеличил площадь сада с 10 до 40 гектаров. В первый год после женитьбы он, по воспоминаниям жены, «насажал большой яблочный сад, говоря, что это для Сережи, который тогда родился» (Сережа – Сергей Львович, старший сын Толстых). Весной того же, 1863 года, Толстой дает распоряжение о посадке сада в Никольском-Вяземском и осенью посылает туда 850 саженцев (сад в имении Никольском-Вяземском посажен на площади 7,5 гектара). Сортовой сортимент насаждений очень разнообразе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Са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700280"/>
            <a:ext cx="2193840" cy="155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Сад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573360"/>
            <a:ext cx="2147760" cy="2664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95280" y="1268280"/>
            <a:ext cx="45356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«Когда уже становилось жарко… я часто ходил в огород или сад есть все те овощи и фрукты, которые поспевали. И это занятие доставляло мне одно из главных удовольствий. Заберешься, бывало, в яблочный сад, в самую середину высокой, заросшей, густой малины. Над головой – яркое горячее небо, кругом – бледно-зеленая колючая зелень кустов малины, перемешанная с сорною заростью. Темно – зеленая крапива с тонкой цветущей макушкой стройно тянется вверх; разлапистый репейник с неестественно лиловыми колючими цветками грубо растет выше малины и выше головы, и кое-где вместе с крапивою достает даже до развесистых бледно-зеленых ветвей старых яблонь, на которых наверху, в упор жаркому солнцу, зреют глянцевитые, как косточки, круглые еще сырые [от росы] ябло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Л. Н. Толстой. «Юность»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Сад"/>
          <p:cNvPicPr/>
          <p:nvPr/>
        </p:nvPicPr>
        <p:blipFill>
          <a:blip r:embed="rId1"/>
          <a:stretch/>
        </p:blipFill>
        <p:spPr>
          <a:xfrm>
            <a:off x="826920" y="981000"/>
            <a:ext cx="2665440" cy="2451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Сад"/>
          <p:cNvPicPr/>
          <p:nvPr/>
        </p:nvPicPr>
        <p:blipFill>
          <a:blip r:embed="rId2"/>
          <a:stretch/>
        </p:blipFill>
        <p:spPr>
          <a:xfrm>
            <a:off x="826920" y="4005360"/>
            <a:ext cx="2664000" cy="2050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42:05Z</dcterms:created>
  <dc:creator>Тихонов Юрий</dc:creator>
  <dc:description/>
  <dc:language>en-US</dc:language>
  <cp:lastModifiedBy>Тихонов Юрий</cp:lastModifiedBy>
  <dcterms:modified xsi:type="dcterms:W3CDTF">2007-06-20T15:57:41Z</dcterms:modified>
  <cp:revision>21</cp:revision>
  <dc:subject/>
  <dc:title>Ясная Поляна Усадьба Л.Н.Толстого </dc:title>
</cp:coreProperties>
</file>