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FE9-6324-44EF-BABD-B113E2119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1FB-F14D-4035-8954-B335565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8F8-C1DB-47B0-AC4D-6B9930E1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BF7-2DF8-44B6-8AB1-02FC1C0C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4658-8171-42A2-8BB7-7B82D6E8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0BF6-21A0-4B05-9C81-48DB49AD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452D-1E26-4021-86BF-D58436CF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9586-9E1B-4DE9-8EED-974B2C9D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08F5-93C6-4808-9DA2-7E8F34D3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4B49-2304-4F71-9741-F8C88E4B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F151-5A25-4280-A0FC-C3A6C8BC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869-A1B9-4CAC-B259-E0D0DD69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F4B9-89C8-458E-BA46-BF0F39FA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4EA-3171-424C-A260-EA3873B5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24D3-B8A1-4CF9-94D9-BEFFA693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242E-4B33-49F1-A8A5-AA660E83C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6474-F213-4767-9933-E3281BD2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487D-310F-4EF4-B66E-64B3427F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CDC-92C9-42A5-A034-6930E16A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412E-7B8A-48E0-AB2C-9785497E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1F93-3436-4F15-88DB-205F20B4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BD44-5513-4F61-9D6E-2B8B917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0EFC-5E72-4D4A-A9E0-42EA5064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CA5-4F95-4CA4-AA98-D979BFF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2B77-8B31-411D-AE2F-1AF1C9F3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DDF-64BD-4363-8230-0F2053805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2b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b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2b1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asnayapolyana.ru/museum/manor/map/13b1.htm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yasnayapolyana.ru/museum/manor/map/13b2.htm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0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691920"/>
            <a:ext cx="8147160" cy="10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Ясная Поляна</a:t>
            </a:r>
            <a:br>
              <a:rPr sz="4000"/>
            </a:b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Усадьба Л.Н.Толстого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360" y="5950080"/>
            <a:ext cx="36720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втор: Сидоренко Т.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967280" cy="3756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ом Л. Н. Толст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81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Толстой поселился в этом доме (бывшем флигеле) в 1856. Сюда привез он в 1862 году свою молодую жену. Позже небольшого флигеля уже не хватало для растущей семьи, и Толстой расширил его, добавив несколько пристроек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В этом доме Толстой прожил более 50 лет. Все вещи, книги, картины здесь подлинные: они принадлежали Толстому, его домашним, а то и предкам писателя. В доме по-прежнему сохраняется обстановка 1910 года, последнего года жизни Толстого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Вокруг дома разбиты цветочные клумбы. Софья Андреевна очень любила цветы, сама ухаживала за ни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Дом Л.Н. Толстого"/>
          <p:cNvPicPr/>
          <p:nvPr/>
        </p:nvPicPr>
        <p:blipFill>
          <a:blip r:embed="rId1"/>
          <a:stretch/>
        </p:blipFill>
        <p:spPr>
          <a:xfrm>
            <a:off x="5148360" y="2133720"/>
            <a:ext cx="3368520" cy="3384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Могила Л. Н. Толст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5051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последние годы жизни Толстой неоднократно высказывал просьбу похоронить его в лесу Старом Заказе, на краю оврага, на «месте зеленой палочки». Легенду о зеленой палочке Толстой услышал в детстве от своего любимого брата Николая. Когда Николаю было 12 лет, он объявил семье о великой тайне. Стоит раскрыть ее, и никто больше не умрет, не станет войн и болезней, и люди будут «муравейными братьями». Остается лишь найти зеленую палочку, зарытую на краю оврага. На ней тайна и записана. Дети Толстые играли в «муравейных братьев», усаживаясь под кресла, завешанные платками; сидя все вместе в тесноте, они чувствовали, что им хорошо вместе «под одной крышей», потому что они любят друг друга. И они мечтали о «муравейном братстве» для всех людей. Уже старым человеком Толстой напишет: «Очень, очень хорошо это было, и я благодарю бога, что мог играть в это. Мы называли это игрой, а между тем все на свете игра, кроме этого». К мысли о всеобщем счастье и любви Л. Н. Толстой возвращался и в художественном творчестве, и в философских трактатах, и в публицистических статьях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Историю о зеленой палочке Толстой вспоминает и в первом варианте своего завещания: «Чтобы никаких обрядов не производили при закопании в землю моего тела; деревянный гроб, и кто захочет, свезет или снесет в лес Старый Заказ, напротив оврага, на место зеленой палочки».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Могила Л.Н. Толстого"/>
          <p:cNvPicPr/>
          <p:nvPr/>
        </p:nvPicPr>
        <p:blipFill>
          <a:blip r:embed="rId1"/>
          <a:stretch/>
        </p:blipFill>
        <p:spPr>
          <a:xfrm>
            <a:off x="5940360" y="1557360"/>
            <a:ext cx="2529000" cy="1782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Могила Л.Н. Толстого"/>
          <p:cNvPicPr/>
          <p:nvPr/>
        </p:nvPicPr>
        <p:blipFill>
          <a:blip r:embed="rId2"/>
          <a:stretch/>
        </p:blipFill>
        <p:spPr>
          <a:xfrm>
            <a:off x="6012000" y="3573360"/>
            <a:ext cx="2457360" cy="238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26d18"/>
                </a:solidFill>
                <a:latin typeface="Times New Roman"/>
              </a:rPr>
              <a:t>Любимая скамейка Л. Н. Толстого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51280" y="2421000"/>
            <a:ext cx="4968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По просьбе Л. Н. Толстого в «Елочках» была сооружена деревянная скамейка. Это место известно как его любимое место размышлений в тишине и спокойствии молодого елового леса, место отдыха после долгих пеших прогулок по усадьбе и окрестностя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«Я всегда любуюсь на эти елочки, это мое любимое место. И по утрам это – моя прогулка. Иногда я сажусь здесь и пиш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Л. Н. Толстой – А. Б. Гольденвейзеру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Любимая скамейка Л. Н. Толстого"/>
          <p:cNvPicPr/>
          <p:nvPr/>
        </p:nvPicPr>
        <p:blipFill>
          <a:blip r:embed="rId1"/>
          <a:stretch/>
        </p:blipFill>
        <p:spPr>
          <a:xfrm>
            <a:off x="539640" y="2492280"/>
            <a:ext cx="2665440" cy="18129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еревня Ясная Полян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461952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ри князе Волконском, деде писателя, сельцо располагалось на оживленной Посольской дороге, и дома размещались по обеим ее сторонам. И сегодня неизменными остаются основные атрибуты деревни, дошедшие до нас со времен Льва Толстого: дорога, плавно поднимающаяся в гору и цепочка домов, растянувшаяся по обеим сторонам старого тракта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ополянские крестьяне, их судьбы и невыдуманные истории «живут» во многих толстовских произведениях: «Утро помещика», «Поликушка», «Идиллия», «Тихон и Маланья», «Свечка», «Ягоды», романы «Война и мир», «Анна Каренина», «Воскресение»… В них упоминаются фамилии крестьян, и поныне живущих здесь, - Копыловы, Морозовы, Резуновы, Зябревы, Козлов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2001 г. в деревне Ясная Поляна был открыт детский сад </a:t>
            </a:r>
            <a:r>
              <a:rPr b="0" lang="ru-RU" sz="1400" spc="-1" strike="noStrike" u="sng">
                <a:solidFill>
                  <a:srgbClr val="663300"/>
                </a:solidFill>
                <a:uFillTx/>
                <a:latin typeface="Times New Roman"/>
              </a:rPr>
              <a:t>«Муравейное братство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Деревня «Ясная Поляна»"/>
          <p:cNvPicPr/>
          <p:nvPr/>
        </p:nvPicPr>
        <p:blipFill>
          <a:blip r:embed="rId1"/>
          <a:stretch/>
        </p:blipFill>
        <p:spPr>
          <a:xfrm>
            <a:off x="5715000" y="2017800"/>
            <a:ext cx="2602080" cy="1847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Деревня «Ясная Поляна»"/>
          <p:cNvPicPr/>
          <p:nvPr/>
        </p:nvPicPr>
        <p:blipFill>
          <a:blip r:embed="rId2"/>
          <a:stretch/>
        </p:blipFill>
        <p:spPr>
          <a:xfrm>
            <a:off x="5715000" y="4444920"/>
            <a:ext cx="2602080" cy="1613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708360" y="404280"/>
            <a:ext cx="525456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ая Поляна ведет свое летосчисление с конца XVII столетия, с момента появления здесь ее первых владельцев - Карцевых. Усадьба пережила несколько этапов, прежде чем основательно изменила свой облик в ходе коренной реконструкции, предпринятой дедом Л. Н. Толстого князем Николаем Сергеевичем Волконским. Его можно считать строителем той яснополянской усадьбы, в которой позднее протекала жизнь Льва Николаевича Толстого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Дед писателя соединил старые черты планировки (регулярный парк «Клины», аллея «Прешпект») с новыми элементами композиции (архитектурный ансамбль, «Аглицкий» парк). «Все, что строил мой дед, - говорил Л. Н. Толстой, - было изящно и не пошло и твердо, прочно, капитально. У него было очень тонкое эстетическое чувство»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От Н. С. Волконского Ясная Поляна перешла к его единственной дочери, матери Л. Н. Толстого Марии Николаевне. Отец писателя, граф Николай Ильич Толстой, достроил здесь 32-комнатный ампирный дом, увеличил сад и хозяйственные службы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Леса Ясной Поляны: Абрамовская посадка, Чепыж, Старый Заказ – места прогулок и детских игр братьев Толстых. На краю оврага Старого Заказа, где, будучи детьми, они искали «зеленую палочку счастья», Л. Н. Толстой завещал похоронить себ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ая Поляна – уникальный мемориальный и природный заповедник. Здесь сохранены старые здания, окруженные живописными парками, садами, лесами. Здесь по-прежнему живут традиции семьи Толстых. Прогулка по Ясной Поляне перенесет вас в мир русских дворянских усадеб 19 в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«Прешпект»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773360"/>
            <a:ext cx="300528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Башни въезд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У входа в усадьбу располагаются две круглые кирпичные башни, простые и изящные. Они были выстроены дедом Толстого, князем Н. С. Волконским. Когда-то между башнями были укреплены железные ворота, но при Толстом их уже не было. Внутри башни полые, в них укрывались от непогоды сторожа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Налево от входа - небольшой домик, называемый «каменка». Здесь жил садовник. В 90-е годы в «каменке» была школа для крестьянских детей, в которой преподавали старшие дочери Толстого - Татьяна Львовна и Мария Львовн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Князь Андрей «велел оседлать себе лошадь и с перехода поехал верхом в отцовскую деревню, в которой он родился и провел свое детство… Князь Андрей подъехал к сторожке. У каменных ворот въезда никого не было, и дверь была отперт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i="1" lang="en-US" sz="1400" spc="-1" strike="noStrike">
                <a:solidFill>
                  <a:srgbClr val="663300"/>
                </a:solidFill>
                <a:latin typeface="Times New Roman"/>
              </a:rPr>
              <a:t>Л. Н. Толстой «Война и мир».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Башни въезд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1989000"/>
            <a:ext cx="3744720" cy="3160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 </a:t>
            </a: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«Прешпект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1600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«Прешпект» не раз упоминается в художественных произведениях Толстого, в том числе в романе «Война и мир»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В 1903 г. супруга Льва Николаевича Софья Андреевна вместо старых берез посадила здесь ели. В 1965 г. ели вновь были заменены березам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«Необычайная красота весны нынешнего года в деревне разбудит мертвого… Утром опять игра света и теней от больших, густо одевшихся берез прешпекта по высокой уж, темно-зеленой траве, и незабудки, и глухая крапивка, и все - главное, маханье берез прешпекта такое же как было, когда я, 60 лет тому назад, в первый раз заметил и полюбил красоту эту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Из письма С. А. Толстой, 1897.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330800" cy="34416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Пру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92000" y="1341360"/>
            <a:ext cx="56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о левую сторону от «Прешпекта» располагается Большой пруд. По обычаю половина этого пруда принадлежала помещику, а другая – крестьянам. В былые времена здесь ловили рыбу, катались на лодках, а зимой – на санках и коньках. По берегам пруда до сих пор сохранились старинные ракиты, растущие в усадьбе еще с начала XIX века, когда владельцем Ясной Поляны был князь Н. С. Волконский. Осталась на берегу пруда и баня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о другую сторону «Прешпекта», в овраге, при князе был разбит английский парк с каскадом из трех небольших прудов: Верхнего, Среднего и Нижнего. В 90-е годы на Среднем пруду была поставлена купальня. В разные годы она меняла свой вид: то ее сколачивали из досок, то делали из хвороста. В этом пруду купались дети Толстого, гости, а зимой здесь устраивали каток. Нижний пруд украшен живописными березовыми мостиками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Яснополянские пруды не раз упоминались Толстым в романе «Война и мир», в рассказах «Метель» и «Святочная ночь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«Проезжая мимо пруда, на котором всегда десятки баб, переговариваясь, били вальками и полоскали свое белье, князь Андрей заметил, что на пруде никого не было, и оторванный плотик, до половины залитый водой, боком плавал по середине пруда… У каменных ворот въезда никого не было, и дверь была отперта»…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 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«Война и мир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3354120" cy="42037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Дом Волконского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32000" y="1773360"/>
            <a:ext cx="572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Дом Волконского - самое старое здание в усадьбе. Предполагается, что в нем некоторое время жил дед писателя князь Н. С. Волконский. При князе в центральной части дома располагались мастерские по изготовлению полотна, ковров, обработке кожи. При Толстом здесь жила прислуга, находились прачечная и «черная кухня». В восточном крыле Дома Волконского размещалась художественная мастерская дочери Толстого Татьяны Львовны.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Поликей, как человек незначительный и замаранный, да еще из другой деревни, не имел протекции ни через ключницу, ни через буфетчика, ни через приказчика или горничную, и угол у него был самый плохой, даром что он был сам-сём с женой и детьми. Углы еще покойным барином построены были так: в десятиаршинной каменной избе, в середине, стояла русская печь, кругом был колидор (как звали дворовые), а в каждом углу был отгороженный досками угол. (Места, значит, было немного, особенно в Поликеевом углу, крайнем к двери. Брачное ложе со стеганым одеялом и ситцевыми подушками, люлька с ребенком, столик на трех ножках, на котором стряпалось, мылось, клалось все домашнее и работал сам Поликей (он был коновал), кадушки, платья, куры, теленок и сами семеро наполняли весь угол и не могли бы пошевелиться, ежели бы общая печь не представляла своей четвертой части, на которой ложились и вещи, и люди, да ежели бы еще нельзя было выходить на крыльцо). Л. Н. Толстой. «Поликушка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2095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2095560"/>
                <a:gridCol w="704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volkon2s" descr="Дом Волконского"/>
          <p:cNvPicPr/>
          <p:nvPr/>
        </p:nvPicPr>
        <p:blipFill>
          <a:blip r:embed="rId1"/>
          <a:stretch/>
        </p:blipFill>
        <p:spPr>
          <a:xfrm>
            <a:off x="1317600" y="203688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2095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517680"/>
        </p:xfrm>
        <a:graphic>
          <a:graphicData uri="http://schemas.openxmlformats.org/drawingml/2006/table">
            <a:tbl>
              <a:tblPr/>
              <a:tblGrid>
                <a:gridCol w="2095560"/>
                <a:gridCol w="7048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volkon3s" descr="Дом Волконского"/>
          <p:cNvPicPr/>
          <p:nvPr/>
        </p:nvPicPr>
        <p:blipFill>
          <a:blip r:embed="rId2"/>
          <a:stretch/>
        </p:blipFill>
        <p:spPr>
          <a:xfrm>
            <a:off x="1317600" y="4646520"/>
            <a:ext cx="1905120" cy="905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Парк «Клины»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627280" y="1413000"/>
            <a:ext cx="63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Старый липовый парк «Клины», примыкающий к дому Толстого, был разбит в классическом стиле, образцом для которого послужили французские регулярные парки. Название свое парк получил потому, что пересекающиеся в центре аллеи делят его на восемь треугольников - «клинов». Л. Н. Толстой, характеризуя планировку парка, называл его «квадрат» и «звезда». Между липами мать Толстого Мария Николаевна посадила яблони. По семейному преданию, в «Клинах» любил гулять под музыку своего небольшого оркестра из крепостных музыкантов дед писателя князь Н. С. Волконский. Скамьи для музыкантов располагались на круглой площадке в центре пар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В саду с высокими липовыми аллеями, сквозь которые чуть просвечивало солнце, было свежо и сыр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В семь часов утра на одной из липовых аллей, составлявших квадрат и звезду подле дома, стояло человек восемь людей в камзолах, чулках и башмаках и тупеях с скрипками, флейтами и нотами, и слышался осторожный говор и настраиванье инструментов. В стороне от аллеи, закрытый липами во внутренности квадрата, стоял, по крайней мере, столетний ясень, аршина два с половиной в диаметре. Вокруг ясеня были сделаны кругом скамейки для восьми человек музыкантов и пюпитры. Кругом было обсажено шиповником и сиренью, круглая площадка была высыпана песком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–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Проснулся, - прокричал мальчик-казачок, пробегая через аллею… Музыканты зашевелились, скрылись за аллею и разложили ноты и, слегка построивши, глядя на капельмейстера, ставшего перед ними, начали играть одну из симфоний Гейдена… Ровно в семь часов, еще не добили часы, князь вышел с крыльца в чулках и башмаках, в простом сереньком камзоле с звездой и в круглой шляпе и с костылем в руке… Князь прошел в аллеи и, заложив руки назад, стал ходить. Музыка играла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Times New Roman"/>
              </a:rPr>
              <a:t>Л. Н. Толстой. Из черновиков «Войны и мира»</a:t>
            </a: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Парк «Клины«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628640"/>
            <a:ext cx="2376720" cy="36007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Сад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79640" y="1628280"/>
            <a:ext cx="46861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Плодовые сады - украшение яснополянской усадьбы. Ее садово-парковый ансамбль создавался более 150 лет. В нач. 19 в. М. Н. Толстая (урожденная кн. Волконская) - мать Л. Н. Толстого - сделала подробную «Опись саду» того времени. В усадьбе было два регулярных сада - из восьми клинов каждый, где росли яблони, смородина, крыжовник, малина и земляника. В каждом из клинов были устроены клумбы с цветами. Яблонь в саду перечислено 849 штук 25 различных сортов. Плодовые деревья были посажены и в «Английском саду». В имении был свой питомник («школа»), где выращивались саженцы плодовых и лесных пород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663300"/>
                </a:solidFill>
                <a:latin typeface="Times New Roman"/>
              </a:rPr>
              <a:t>Л. Н. Толстой увеличил площадь сада с 10 до 40 гектаров. В первый год после женитьбы он, по воспоминаниям жены, «насажал большой яблочный сад, говоря, что это для Сережи, который тогда родился» (Сережа – Сергей Львович, старший сын Толстых). Весной того же, 1863 года, Толстой дает распоряжение о посадке сада в Никольском-Вяземском и осенью посылает туда 850 саженцев (сад в имении Никольском-Вяземском посажен на площади 7,5 гектара). Сортовой сортимент насаждений очень разнообразе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Сад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1700280"/>
            <a:ext cx="2193840" cy="1557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Сад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573360"/>
            <a:ext cx="2147760" cy="266400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95280" y="1268280"/>
            <a:ext cx="45356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«Когда уже становилось жарко… я часто ходил в огород или сад есть все те овощи и фрукты, которые поспевали. И это занятие доставляло мне одно из главных удовольствий. Заберешься, бывало, в яблочный сад, в самую середину высокой, заросшей, густой малины. Над головой – яркое горячее небо, кругом – бледно-зеленая колючая зелень кустов малины, перемешанная с сорною заростью. Темно – зеленая крапива с тонкой цветущей макушкой стройно тянется вверх; разлапистый репейник с неестественно лиловыми колючими цветками грубо растет выше малины и выше головы, и кое-где вместе с крапивою достает даже до развесистых бледно-зеленых ветвей старых яблонь, на которых наверху, в упор жаркому солнцу, зреют глянцевитые, как косточки, круглые еще сырые [от росы] яблок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Times New Roman"/>
              </a:rPr>
              <a:t>Л. Н. Толстой. «Юность»</a:t>
            </a:r>
            <a:r>
              <a:rPr b="0" lang="ru-RU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Сад"/>
          <p:cNvPicPr/>
          <p:nvPr/>
        </p:nvPicPr>
        <p:blipFill>
          <a:blip r:embed="rId1"/>
          <a:stretch/>
        </p:blipFill>
        <p:spPr>
          <a:xfrm>
            <a:off x="826920" y="981000"/>
            <a:ext cx="2665440" cy="24512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Сад"/>
          <p:cNvPicPr/>
          <p:nvPr/>
        </p:nvPicPr>
        <p:blipFill>
          <a:blip r:embed="rId2"/>
          <a:stretch/>
        </p:blipFill>
        <p:spPr>
          <a:xfrm>
            <a:off x="826920" y="4005360"/>
            <a:ext cx="2664000" cy="20509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0T07:42:05Z</dcterms:created>
  <dc:creator>Тихонов Юрий</dc:creator>
  <dc:description/>
  <dc:language>en-US</dc:language>
  <cp:lastModifiedBy>Тихонов Юрий</cp:lastModifiedBy>
  <dcterms:modified xsi:type="dcterms:W3CDTF">2007-06-20T15:57:41Z</dcterms:modified>
  <cp:revision>21</cp:revision>
  <dc:subject/>
  <dc:title>Ясная Поляна Усадьба Л.Н.Толстого </dc:title>
</cp:coreProperties>
</file>