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991-C745-4647-8989-4E3E142F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19D-D08B-4948-B385-DF1AD0A8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09E-735E-414D-9A5F-80479238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A0C-5053-470A-B412-662408BC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7AA-47A5-495C-8EF7-B8DB12A9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A60-0AE3-424F-BBC2-EF91BBFA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59E-8B7A-4723-B892-B0378903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7AA-64EE-44CB-ABB7-F49CEE7F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B0E-7C41-4940-9A40-3BA2129E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36A-4149-460B-9EEE-D11A108C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C96-DCE8-4D8A-9092-C2EF4225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359-4B49-4F0F-85F8-296FADC4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35A9-3682-45D3-81B4-D9D562FD9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504800" y="1133640"/>
            <a:ext cx="9144000" cy="3170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04440" y="369360"/>
            <a:ext cx="9225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5c19"/>
                </a:solidFill>
                <a:latin typeface="Calibri"/>
              </a:rPr>
              <a:t>Город маст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7480440" y="510372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4f1d"/>
                </a:solidFill>
                <a:latin typeface="Calibri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4f1d"/>
                </a:solidFill>
                <a:latin typeface="Calibri"/>
              </a:rPr>
              <a:t>Ястребилова Надежда Александ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4f1d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4f1d"/>
                </a:solidFill>
                <a:latin typeface="Calibri"/>
              </a:rPr>
              <a:t>МАОУ «СОШ № 3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4f1d"/>
                </a:solidFill>
                <a:latin typeface="Calibri"/>
              </a:rPr>
              <a:t>Г. Кемеро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1012680" y="365040"/>
            <a:ext cx="1062216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692280" y="365040"/>
            <a:ext cx="108075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684360" y="365040"/>
            <a:ext cx="11150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109602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517680" y="365040"/>
            <a:ext cx="10836000" cy="60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606600" y="365040"/>
            <a:ext cx="11021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625320" y="365040"/>
            <a:ext cx="10836360" cy="60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1092852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644400" y="365040"/>
            <a:ext cx="1091592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700200" y="365040"/>
            <a:ext cx="109947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754200" y="365040"/>
            <a:ext cx="106837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641520" y="365040"/>
            <a:ext cx="1114236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609480" y="365040"/>
            <a:ext cx="107442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552600" y="365040"/>
            <a:ext cx="110584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890640" y="1805040"/>
            <a:ext cx="10515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682560" y="177840"/>
            <a:ext cx="5046840" cy="6504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2"/>
          <a:stretch/>
        </p:blipFill>
        <p:spPr>
          <a:xfrm>
            <a:off x="6129360" y="157320"/>
            <a:ext cx="53308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277920" y="276120"/>
            <a:ext cx="3500280" cy="6232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2"/>
          <a:stretch/>
        </p:blipFill>
        <p:spPr>
          <a:xfrm>
            <a:off x="4129200" y="871560"/>
            <a:ext cx="78883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619200" y="365040"/>
            <a:ext cx="10953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723960" y="365040"/>
            <a:ext cx="107442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665280" y="365040"/>
            <a:ext cx="1086804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520560" y="365040"/>
            <a:ext cx="1116036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106524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04:16:40Z</dcterms:created>
  <dc:creator>kabinet105</dc:creator>
  <dc:description/>
  <dc:language>en-US</dc:language>
  <cp:lastModifiedBy>Надежда Ястребилова</cp:lastModifiedBy>
  <dcterms:modified xsi:type="dcterms:W3CDTF">2017-01-18T12:37:44Z</dcterms:modified>
  <cp:revision>5</cp:revision>
  <dc:subject/>
  <dc:title>Подставка для принадлежностей  «Крокодил»</dc:title>
</cp:coreProperties>
</file>