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AADD-CDED-44AE-920D-71B8A3B5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D84-1E3F-4B71-972F-CF32934E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117A-D43D-4864-BE17-6AEB15BD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654-02B1-400F-8AAF-5EDA4BDD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082C-FDA4-45C0-9370-28D8A81A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9D8-C66C-4BE5-B0EC-763D14D3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8000-7F55-4A34-A81C-0580D00A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58C7-F013-4F23-8147-BC0117DF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1CC5-389A-4500-B2F7-4094E779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607-3AD9-4562-B1FE-4DBAC507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5883-3ADE-4861-9AA8-8B815A89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C07A-5F90-42C0-BAD7-9310A5B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FF4E-4228-4111-AD9E-7A9D813983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504800" y="1133640"/>
            <a:ext cx="9144000" cy="3170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04440" y="369360"/>
            <a:ext cx="9225000" cy="5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55c19"/>
                </a:solidFill>
                <a:latin typeface="Calibri"/>
              </a:rPr>
              <a:t>Город маст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7480440" y="5103720"/>
            <a:ext cx="41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Ястребилова Надежда Александро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МАОУ «СОШ № 36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a4f1d"/>
                </a:solidFill>
                <a:latin typeface="Calibri"/>
              </a:rPr>
              <a:t>Г. Кемеро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012680" y="365040"/>
            <a:ext cx="1062216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692280" y="365040"/>
            <a:ext cx="1080756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tretch/>
        </p:blipFill>
        <p:spPr>
          <a:xfrm>
            <a:off x="684360" y="365040"/>
            <a:ext cx="11150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96020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tretch/>
        </p:blipFill>
        <p:spPr>
          <a:xfrm>
            <a:off x="517680" y="365040"/>
            <a:ext cx="1083600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606600" y="365040"/>
            <a:ext cx="110217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5" name="Объект 3" descr=""/>
          <p:cNvPicPr/>
          <p:nvPr/>
        </p:nvPicPr>
        <p:blipFill>
          <a:blip r:embed="rId1"/>
          <a:stretch/>
        </p:blipFill>
        <p:spPr>
          <a:xfrm>
            <a:off x="625320" y="365040"/>
            <a:ext cx="10836360" cy="60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92852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644400" y="365040"/>
            <a:ext cx="1091592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1" name="Объект 3" descr=""/>
          <p:cNvPicPr/>
          <p:nvPr/>
        </p:nvPicPr>
        <p:blipFill>
          <a:blip r:embed="rId1"/>
          <a:stretch/>
        </p:blipFill>
        <p:spPr>
          <a:xfrm>
            <a:off x="700200" y="365040"/>
            <a:ext cx="10994760" cy="61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754200" y="365040"/>
            <a:ext cx="10683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Объект 3" descr=""/>
          <p:cNvPicPr/>
          <p:nvPr/>
        </p:nvPicPr>
        <p:blipFill>
          <a:blip r:embed="rId1"/>
          <a:stretch/>
        </p:blipFill>
        <p:spPr>
          <a:xfrm>
            <a:off x="641520" y="365040"/>
            <a:ext cx="11142360" cy="62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609480" y="365040"/>
            <a:ext cx="107442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552600" y="365040"/>
            <a:ext cx="110584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890640" y="1805040"/>
            <a:ext cx="105156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682560" y="177840"/>
            <a:ext cx="5046840" cy="6504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4" descr=""/>
          <p:cNvPicPr/>
          <p:nvPr/>
        </p:nvPicPr>
        <p:blipFill>
          <a:blip r:embed="rId2"/>
          <a:stretch/>
        </p:blipFill>
        <p:spPr>
          <a:xfrm>
            <a:off x="6129360" y="157320"/>
            <a:ext cx="53308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Объект 3" descr=""/>
          <p:cNvPicPr/>
          <p:nvPr/>
        </p:nvPicPr>
        <p:blipFill>
          <a:blip r:embed="rId1"/>
          <a:stretch/>
        </p:blipFill>
        <p:spPr>
          <a:xfrm>
            <a:off x="277920" y="276120"/>
            <a:ext cx="3500280" cy="62326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4129200" y="871560"/>
            <a:ext cx="788832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619200" y="365040"/>
            <a:ext cx="109537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723960" y="365040"/>
            <a:ext cx="107442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665280" y="365040"/>
            <a:ext cx="1086804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520560" y="365040"/>
            <a:ext cx="1116036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838080" y="365040"/>
            <a:ext cx="106524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2T04:16:40Z</dcterms:created>
  <dc:creator>kabinet105</dc:creator>
  <dc:description/>
  <dc:language>en-US</dc:language>
  <cp:lastModifiedBy>Надежда Ястребилова</cp:lastModifiedBy>
  <dcterms:modified xsi:type="dcterms:W3CDTF">2017-01-18T12:37:44Z</dcterms:modified>
  <cp:revision>5</cp:revision>
  <dc:subject/>
  <dc:title>Подставка для принадлежностей  «Крокодил»</dc:title>
</cp:coreProperties>
</file>