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4B7E-C575-404E-BFD8-974B171E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7719-D565-49D5-ABDA-9D25BC16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0C5-724E-47C3-8BDF-E8C0C174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0A7-781B-4A54-B6D3-091859D78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3121-4B8D-47AE-9991-2136FB1D8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89A7-E71F-4D10-A4B0-4E70297C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BF12-BF9F-4C16-8438-6A48D573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2B92-1B19-4E26-BF4D-DE3940FC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45AC-A76D-482E-9675-7E4CCB36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F1CC-A5D9-4A61-8923-B2D0F9DE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2300-A549-4D5C-A49E-BF56876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0D56-7B41-416D-BD29-CAF9E669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2655-394D-4ADD-95B7-D9CF08F0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5829-F96B-4C18-9E1F-C10602F0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AF63-F2D3-4AB8-BCC7-F89AF979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971F3-A7B1-47A5-87DE-55CEE0FF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22DC-D2AE-423D-9CB0-75E11F05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59E7D-0A9A-40A3-A0D2-1EA70D81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F2892-A959-4EAE-8EAA-DC4EBAE85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C9C9A-4FAF-4071-84DA-D1DF15E3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0FCDA-7F3A-4F37-B960-4F276B52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C9C05-0165-4802-AB5D-3589D5F2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B55A-2C13-426E-8B8D-A4452B08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CBE8F-8A1C-4D76-9438-61B3B41E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D564F-B5A3-4141-B97F-E72E4FDE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CEA29-0260-4715-8D6C-EC3B08B8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2C813-C30E-4E1E-913F-7E909567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DC8C5-A706-47DF-B3AB-63FE935C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AB5A-F4CE-4328-8742-A7FA2E33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73823-867C-4484-AD13-6D9BD979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A8C37-7FFA-435E-895D-90BD0C2B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10D4A-6FA8-4124-B8C0-6B28E809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EB226-1E45-4517-912C-FF79C5FE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98B-88B9-40DF-8C33-1727CC57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F82BB-FA17-47E4-A86D-925DA763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E41CF-E4B4-4199-AC0E-B0B2A9A2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59F5F-9D70-45CB-8741-B68D3F7F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617B4-3633-436F-804A-7F465804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B279C-A03A-4053-94EC-976CD702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58674-3993-47F1-8809-A7645BBB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B7FCE-12D7-402E-90A7-065B7C72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8AA0E-C784-4DD4-AC43-2570556B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EF23A-BF49-41CF-8CD0-57F29AC7F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033B2-D36D-4029-AACB-FC0202E5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9E8-9881-4A1E-B2E1-C1448AAA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FC1F5-4D01-42A6-820A-1A90C763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67A4F-A33B-4E6D-BC0D-35A2301C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AF987-8F8A-4BD9-BA51-BC9D78C9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D2EB2-FA34-445D-BEEF-C19ED05C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BC7DE-98B3-4376-8ECE-AF7625D6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DACF9-683A-4270-BF9F-E978EA47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13724-2867-4D17-9BFD-0D8EC4E0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52D67-DF30-4A9C-891A-4C0F40BF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89891-A78B-4687-BA54-C6E93C44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C80DD-092D-4252-A092-9C91FF9A2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962-3EC4-4CB6-9FD6-EF810DA8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B9C6D-F116-4CA6-9A35-2DE5D466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B61E2-8AE5-4976-B288-0DDEA664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7FF29-DBB0-490F-B5C8-DFF86A5E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BF1E2-53F7-40F0-83C1-87CED0B2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C4F3A-F299-4D92-9699-1699A130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A69B6-9977-4A64-A2A1-1B61DBFB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2E325-110D-4DD7-B299-61EE2E69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AACC7-7BA0-424E-B616-16D4C8D4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1F7B3-AF2B-47A8-8663-0C4AA514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A1EDC-10A2-4750-A703-589D974F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8EE9-9578-414C-B6EB-2419EC39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89C27-EF66-4DCE-AD07-962A61BF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D844C-434D-4790-A067-5732B903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2BEF9-5B37-46A1-9415-F37BC791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70176-90C9-4698-8AFE-400B4D37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53DD8-6A22-4DFC-B333-015C1FFD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ABF36-E0FE-4B8A-BAA6-B769A675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07479-4DBE-4CE0-9045-79AFCEE0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25DDC-E562-49C8-BFFF-996BC3B3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7DE0A-CC5A-4301-9578-868005195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66D0B-84EF-4570-8E5D-9F299FC1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82BC-2962-4705-9168-BB7E4268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9EACB9-4586-4149-BCB8-5ED5E5EF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AD97D-2E6E-4DA5-8215-7C72F9CB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C15D7-6E6D-41ED-844A-744455BA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9A268-04C8-4832-B415-D8F6EB9A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96346-1D30-44C3-8781-E08BCA334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5A46-4A78-4872-90AE-D56304B0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9946-AC11-42E3-9CD2-EC633BA902C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4957-8C0E-4700-ACEC-724F303160E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05CC-8A4B-4968-822E-C711D9B2B84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8C1B-FDE1-416A-9C15-3C609154837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C973-E9C4-41A8-9EA7-8C42082E1B0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9AA7-8ADB-4FCF-AA47-25269481DBA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89C8-0941-49C1-A1DC-01A7BAA9B9B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5.xml"/><Relationship Id="rId3" Type="http://schemas.openxmlformats.org/officeDocument/2006/relationships/slide" Target="slide13.xml"/><Relationship Id="rId4" Type="http://schemas.openxmlformats.org/officeDocument/2006/relationships/slide" Target="slide5.xml"/><Relationship Id="rId5" Type="http://schemas.openxmlformats.org/officeDocument/2006/relationships/slide" Target="slide15.xml"/><Relationship Id="rId6" Type="http://schemas.openxmlformats.org/officeDocument/2006/relationships/slide" Target="slide46.xml"/><Relationship Id="rId7" Type="http://schemas.openxmlformats.org/officeDocument/2006/relationships/slide" Target="slide6.xml"/><Relationship Id="rId8" Type="http://schemas.openxmlformats.org/officeDocument/2006/relationships/slide" Target="slide29.xml"/><Relationship Id="rId9" Type="http://schemas.openxmlformats.org/officeDocument/2006/relationships/slide" Target="slide17.xml"/><Relationship Id="rId10" Type="http://schemas.openxmlformats.org/officeDocument/2006/relationships/slide" Target="slide31.xml"/><Relationship Id="rId11" Type="http://schemas.openxmlformats.org/officeDocument/2006/relationships/slide" Target="slide18.xml"/><Relationship Id="rId12" Type="http://schemas.openxmlformats.org/officeDocument/2006/relationships/slide" Target="slide39.xml"/><Relationship Id="rId13" Type="http://schemas.openxmlformats.org/officeDocument/2006/relationships/slide" Target="slide27.xml"/><Relationship Id="rId14" Type="http://schemas.openxmlformats.org/officeDocument/2006/relationships/slide" Target="slide38.xml"/><Relationship Id="rId15" Type="http://schemas.openxmlformats.org/officeDocument/2006/relationships/slide" Target="slide7.xml"/><Relationship Id="rId16" Type="http://schemas.openxmlformats.org/officeDocument/2006/relationships/slide" Target="slide47.xml"/><Relationship Id="rId17" Type="http://schemas.openxmlformats.org/officeDocument/2006/relationships/slide" Target="slide28.xml"/><Relationship Id="rId18" Type="http://schemas.openxmlformats.org/officeDocument/2006/relationships/slide" Target="slide14.xml"/><Relationship Id="rId19" Type="http://schemas.openxmlformats.org/officeDocument/2006/relationships/slide" Target="slide3.xml"/><Relationship Id="rId20" Type="http://schemas.openxmlformats.org/officeDocument/2006/relationships/slide" Target="slide41.xml"/><Relationship Id="rId21" Type="http://schemas.openxmlformats.org/officeDocument/2006/relationships/slide" Target="slide30.xml"/><Relationship Id="rId22" Type="http://schemas.openxmlformats.org/officeDocument/2006/relationships/slide" Target="slide16.xml"/><Relationship Id="rId23" Type="http://schemas.openxmlformats.org/officeDocument/2006/relationships/slide" Target="slide4.xml"/><Relationship Id="rId24" Type="http://schemas.openxmlformats.org/officeDocument/2006/relationships/slide" Target="slide26.xml"/><Relationship Id="rId25" Type="http://schemas.openxmlformats.org/officeDocument/2006/relationships/slide" Target="slide25.xml"/><Relationship Id="rId2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692280"/>
            <a:ext cx="740736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572314"/>
                </a:solidFill>
                <a:latin typeface="Corbel"/>
              </a:rPr>
              <a:t>Морской бой </a:t>
            </a:r>
            <a:br>
              <a:rPr sz="8000"/>
            </a:br>
            <a:r>
              <a:rPr b="0" lang="ru-RU" sz="8000" spc="-1" strike="noStrike">
                <a:solidFill>
                  <a:srgbClr val="572314"/>
                </a:solidFill>
                <a:latin typeface="Corbel"/>
              </a:rPr>
              <a:t>Смутное время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 звали первого патриарха Росси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84" name="Управляющая кнопка: домой 3"/>
          <p:cNvGrpSpPr/>
          <p:nvPr/>
        </p:nvGrpSpPr>
        <p:grpSpPr>
          <a:xfrm>
            <a:off x="7948440" y="5748480"/>
            <a:ext cx="1024200" cy="1023840"/>
            <a:chOff x="7948440" y="5748480"/>
            <a:chExt cx="1024200" cy="1023840"/>
          </a:xfrm>
        </p:grpSpPr>
        <p:pic>
          <p:nvPicPr>
            <p:cNvPr id="38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948440" y="5748480"/>
              <a:ext cx="102420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8028000" y="5805360"/>
              <a:ext cx="8650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то такой Иван Болотников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89" name="Управляющая кнопка: домой 3"/>
          <p:cNvGrpSpPr/>
          <p:nvPr/>
        </p:nvGrpSpPr>
        <p:grpSpPr>
          <a:xfrm>
            <a:off x="7736040" y="5535720"/>
            <a:ext cx="944280" cy="1023840"/>
            <a:chOff x="7736040" y="5535720"/>
            <a:chExt cx="944280" cy="1023840"/>
          </a:xfrm>
        </p:grpSpPr>
        <p:pic>
          <p:nvPicPr>
            <p:cNvPr id="39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535720"/>
              <a:ext cx="944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7812000" y="5589720"/>
              <a:ext cx="79236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означает понятие «Дети боярские»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4" name="Управляющая кнопка: домой 3"/>
          <p:cNvGrpSpPr/>
          <p:nvPr/>
        </p:nvGrpSpPr>
        <p:grpSpPr>
          <a:xfrm>
            <a:off x="7736040" y="5389560"/>
            <a:ext cx="1017360" cy="1096920"/>
            <a:chOff x="7736040" y="5389560"/>
            <a:chExt cx="1017360" cy="1096920"/>
          </a:xfrm>
        </p:grpSpPr>
        <p:pic>
          <p:nvPicPr>
            <p:cNvPr id="39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389560"/>
              <a:ext cx="10173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812000" y="5445000"/>
              <a:ext cx="8636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зовите первых русских святых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9" name="Управляющая кнопка: домой 3"/>
          <p:cNvGrpSpPr/>
          <p:nvPr/>
        </p:nvGrpSpPr>
        <p:grpSpPr>
          <a:xfrm>
            <a:off x="8021520" y="5675400"/>
            <a:ext cx="1025640" cy="1023840"/>
            <a:chOff x="8021520" y="5675400"/>
            <a:chExt cx="1025640" cy="1023840"/>
          </a:xfrm>
        </p:grpSpPr>
        <p:pic>
          <p:nvPicPr>
            <p:cNvPr id="40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21520" y="5675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8101080" y="5732640"/>
              <a:ext cx="8636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каком году шведские войска захватили Новгород и все русское побережье Финского залив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04" name="Управляющая кнопка: домой 3"/>
          <p:cNvGrpSpPr/>
          <p:nvPr/>
        </p:nvGrpSpPr>
        <p:grpSpPr>
          <a:xfrm>
            <a:off x="7948440" y="5462640"/>
            <a:ext cx="951120" cy="1023840"/>
            <a:chOff x="7948440" y="5462640"/>
            <a:chExt cx="951120" cy="1023840"/>
          </a:xfrm>
        </p:grpSpPr>
        <p:pic>
          <p:nvPicPr>
            <p:cNvPr id="40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948440" y="5462640"/>
              <a:ext cx="9511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8028000" y="5516640"/>
              <a:ext cx="7920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 звали первую жену Ивана Грозного, мать Ивана и Федор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09" name="Управляющая кнопка: домой 3"/>
          <p:cNvGrpSpPr/>
          <p:nvPr/>
        </p:nvGrpSpPr>
        <p:grpSpPr>
          <a:xfrm>
            <a:off x="7875720" y="5462640"/>
            <a:ext cx="950760" cy="1023840"/>
            <a:chOff x="7875720" y="5462640"/>
            <a:chExt cx="950760" cy="1023840"/>
          </a:xfrm>
        </p:grpSpPr>
        <p:pic>
          <p:nvPicPr>
            <p:cNvPr id="41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75720" y="5462640"/>
              <a:ext cx="95076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956720" y="5516640"/>
              <a:ext cx="7920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кажите на карте крепости, основанные при Борисе Годунов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14" name="Управляющая кнопка: домой 3"/>
          <p:cNvGrpSpPr/>
          <p:nvPr/>
        </p:nvGrpSpPr>
        <p:grpSpPr>
          <a:xfrm>
            <a:off x="8096400" y="5894280"/>
            <a:ext cx="876240" cy="878040"/>
            <a:chOff x="8096400" y="5894280"/>
            <a:chExt cx="876240" cy="878040"/>
          </a:xfrm>
        </p:grpSpPr>
        <p:pic>
          <p:nvPicPr>
            <p:cNvPr id="41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96400" y="5894280"/>
              <a:ext cx="8762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8172360" y="5950080"/>
              <a:ext cx="7207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каком году в России было введено патриаршество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19" name="Управляющая кнопка: домой 3"/>
          <p:cNvGrpSpPr/>
          <p:nvPr/>
        </p:nvGrpSpPr>
        <p:grpSpPr>
          <a:xfrm>
            <a:off x="7736040" y="5748480"/>
            <a:ext cx="1090440" cy="1023840"/>
            <a:chOff x="7736040" y="5748480"/>
            <a:chExt cx="1090440" cy="1023840"/>
          </a:xfrm>
        </p:grpSpPr>
        <p:pic>
          <p:nvPicPr>
            <p:cNvPr id="42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748480"/>
              <a:ext cx="10904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7812000" y="5805360"/>
              <a:ext cx="9367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зовите имя княгини, которая очень жестоко отомстила за смерть своего муж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24" name="Управляющая кнопка: домой 3"/>
          <p:cNvGrpSpPr/>
          <p:nvPr/>
        </p:nvGrpSpPr>
        <p:grpSpPr>
          <a:xfrm>
            <a:off x="7948440" y="5748480"/>
            <a:ext cx="951120" cy="950760"/>
            <a:chOff x="7948440" y="5748480"/>
            <a:chExt cx="951120" cy="950760"/>
          </a:xfrm>
        </p:grpSpPr>
        <p:pic>
          <p:nvPicPr>
            <p:cNvPr id="42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948440" y="5748480"/>
              <a:ext cx="9511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8028000" y="5805360"/>
              <a:ext cx="792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Годы русско-шведской войны во время правления Б.Годуно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29" name="Управляющая кнопка: домой 3"/>
          <p:cNvGrpSpPr/>
          <p:nvPr/>
        </p:nvGrpSpPr>
        <p:grpSpPr>
          <a:xfrm>
            <a:off x="7802640" y="5748480"/>
            <a:ext cx="950760" cy="950760"/>
            <a:chOff x="7802640" y="5748480"/>
            <a:chExt cx="950760" cy="950760"/>
          </a:xfrm>
        </p:grpSpPr>
        <p:pic>
          <p:nvPicPr>
            <p:cNvPr id="43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02640" y="5748480"/>
              <a:ext cx="9507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7885080" y="5805360"/>
              <a:ext cx="79056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1434960" y="1447920"/>
          <a:ext cx="7385040" cy="4937040"/>
        </p:xfrm>
        <a:graphic>
          <a:graphicData uri="http://schemas.openxmlformats.org/drawingml/2006/table">
            <a:tbl>
              <a:tblPr/>
              <a:tblGrid>
                <a:gridCol w="1230480"/>
                <a:gridCol w="1231920"/>
                <a:gridCol w="1230120"/>
                <a:gridCol w="1230480"/>
                <a:gridCol w="1231920"/>
                <a:gridCol w="1230120"/>
              </a:tblGrid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Б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В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Г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84aa33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4aa33"/>
                      </a:solidFill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84aa33"/>
                      </a:solidFill>
                    </a:lnR>
                    <a:lnT w="5760">
                      <a:solidFill>
                        <a:srgbClr val="84aa33"/>
                      </a:solidFill>
                    </a:lnT>
                    <a:lnB w="5760">
                      <a:solidFill>
                        <a:srgbClr val="84aa33"/>
                      </a:solidFill>
                    </a:lnB>
                    <a:solidFill>
                      <a:srgbClr val="edf1e8"/>
                    </a:solidFill>
                  </a:tcPr>
                </a:tc>
              </a:tr>
            </a:tbl>
          </a:graphicData>
        </a:graphic>
      </p:graphicFrame>
      <p:sp>
        <p:nvSpPr>
          <p:cNvPr id="322" name="Улыбающееся лицо 4">
            <a:hlinkClick r:id="rId1" action="ppaction://hlinksldjump"/>
          </p:cNvPr>
          <p:cNvSpPr/>
          <p:nvPr/>
        </p:nvSpPr>
        <p:spPr>
          <a:xfrm>
            <a:off x="2916360" y="2421000"/>
            <a:ext cx="7189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Улыбающееся лицо 5">
            <a:hlinkClick r:id="rId2" action="ppaction://hlinksldjump"/>
          </p:cNvPr>
          <p:cNvSpPr/>
          <p:nvPr/>
        </p:nvSpPr>
        <p:spPr>
          <a:xfrm>
            <a:off x="4140360" y="3213000"/>
            <a:ext cx="7189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Улыбающееся лицо 6">
            <a:hlinkClick r:id="rId3" action="ppaction://hlinksldjump"/>
          </p:cNvPr>
          <p:cNvSpPr/>
          <p:nvPr/>
        </p:nvSpPr>
        <p:spPr>
          <a:xfrm>
            <a:off x="2916360" y="3213000"/>
            <a:ext cx="7189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Улыбающееся лицо 7">
            <a:hlinkClick r:id="rId4" action="ppaction://hlinksldjump"/>
          </p:cNvPr>
          <p:cNvSpPr/>
          <p:nvPr/>
        </p:nvSpPr>
        <p:spPr>
          <a:xfrm>
            <a:off x="2916360" y="4005360"/>
            <a:ext cx="7189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Улыбающееся лицо 8">
            <a:hlinkClick r:id="rId5" action="ppaction://hlinksldjump"/>
          </p:cNvPr>
          <p:cNvSpPr/>
          <p:nvPr/>
        </p:nvSpPr>
        <p:spPr>
          <a:xfrm>
            <a:off x="4140360" y="4076640"/>
            <a:ext cx="7189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Улыбающееся лицо 9">
            <a:hlinkClick r:id="rId6" action="ppaction://hlinksldjump"/>
          </p:cNvPr>
          <p:cNvSpPr/>
          <p:nvPr/>
        </p:nvSpPr>
        <p:spPr>
          <a:xfrm>
            <a:off x="5364000" y="4005360"/>
            <a:ext cx="7207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Улыбающееся лицо 10">
            <a:hlinkClick r:id="rId7" action="ppaction://hlinksldjump"/>
          </p:cNvPr>
          <p:cNvSpPr/>
          <p:nvPr/>
        </p:nvSpPr>
        <p:spPr>
          <a:xfrm>
            <a:off x="5364000" y="4869000"/>
            <a:ext cx="7207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Улыбающееся лицо 11">
            <a:hlinkClick r:id="rId8" action="ppaction://hlinksldjump"/>
          </p:cNvPr>
          <p:cNvSpPr/>
          <p:nvPr/>
        </p:nvSpPr>
        <p:spPr>
          <a:xfrm>
            <a:off x="4140360" y="4869000"/>
            <a:ext cx="7189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Улыбающееся лицо 12">
            <a:hlinkClick r:id="rId9" action="ppaction://hlinksldjump"/>
          </p:cNvPr>
          <p:cNvSpPr/>
          <p:nvPr/>
        </p:nvSpPr>
        <p:spPr>
          <a:xfrm>
            <a:off x="2987640" y="4797360"/>
            <a:ext cx="7207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Улыбающееся лицо 13">
            <a:hlinkClick r:id="rId10" action="ppaction://hlinksldjump"/>
          </p:cNvPr>
          <p:cNvSpPr/>
          <p:nvPr/>
        </p:nvSpPr>
        <p:spPr>
          <a:xfrm>
            <a:off x="5364000" y="5661000"/>
            <a:ext cx="7207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Улыбающееся лицо 14">
            <a:hlinkClick r:id="rId11" action="ppaction://hlinksldjump"/>
          </p:cNvPr>
          <p:cNvSpPr/>
          <p:nvPr/>
        </p:nvSpPr>
        <p:spPr>
          <a:xfrm>
            <a:off x="4140360" y="5661000"/>
            <a:ext cx="7189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Улыбающееся лицо 15">
            <a:hlinkClick r:id="rId12" action="ppaction://hlinksldjump"/>
          </p:cNvPr>
          <p:cNvSpPr/>
          <p:nvPr/>
        </p:nvSpPr>
        <p:spPr>
          <a:xfrm>
            <a:off x="2987640" y="5661000"/>
            <a:ext cx="7207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Улыбающееся лицо 16">
            <a:hlinkClick r:id="rId13" action="ppaction://hlinksldjump"/>
          </p:cNvPr>
          <p:cNvSpPr/>
          <p:nvPr/>
        </p:nvSpPr>
        <p:spPr>
          <a:xfrm>
            <a:off x="5292720" y="3213000"/>
            <a:ext cx="71928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Улыбающееся лицо 17">
            <a:hlinkClick r:id="rId14" action="ppaction://hlinksldjump"/>
          </p:cNvPr>
          <p:cNvSpPr/>
          <p:nvPr/>
        </p:nvSpPr>
        <p:spPr>
          <a:xfrm>
            <a:off x="5292720" y="2421000"/>
            <a:ext cx="71928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Улыбающееся лицо 18">
            <a:hlinkClick r:id="rId15" action="ppaction://hlinksldjump"/>
          </p:cNvPr>
          <p:cNvSpPr/>
          <p:nvPr/>
        </p:nvSpPr>
        <p:spPr>
          <a:xfrm>
            <a:off x="6659640" y="5732640"/>
            <a:ext cx="7207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Улыбающееся лицо 19">
            <a:hlinkClick r:id="rId16" action="ppaction://hlinksldjump"/>
          </p:cNvPr>
          <p:cNvSpPr/>
          <p:nvPr/>
        </p:nvSpPr>
        <p:spPr>
          <a:xfrm>
            <a:off x="6659640" y="4869000"/>
            <a:ext cx="7207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Улыбающееся лицо 20">
            <a:hlinkClick r:id="rId17" action="ppaction://hlinksldjump"/>
          </p:cNvPr>
          <p:cNvSpPr/>
          <p:nvPr/>
        </p:nvSpPr>
        <p:spPr>
          <a:xfrm>
            <a:off x="6659640" y="4005360"/>
            <a:ext cx="7207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Улыбающееся лицо 21">
            <a:hlinkClick r:id="rId18" action="ppaction://hlinksldjump"/>
          </p:cNvPr>
          <p:cNvSpPr/>
          <p:nvPr/>
        </p:nvSpPr>
        <p:spPr>
          <a:xfrm>
            <a:off x="6588000" y="3213000"/>
            <a:ext cx="7207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Улыбающееся лицо 22">
            <a:hlinkClick r:id="rId19" action="ppaction://hlinksldjump"/>
          </p:cNvPr>
          <p:cNvSpPr/>
          <p:nvPr/>
        </p:nvSpPr>
        <p:spPr>
          <a:xfrm>
            <a:off x="6516720" y="2349360"/>
            <a:ext cx="719280" cy="57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Улыбающееся лицо 23">
            <a:hlinkClick r:id="rId20" action="ppaction://hlinksldjump"/>
          </p:cNvPr>
          <p:cNvSpPr/>
          <p:nvPr/>
        </p:nvSpPr>
        <p:spPr>
          <a:xfrm>
            <a:off x="7956720" y="5732640"/>
            <a:ext cx="7189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Улыбающееся лицо 24">
            <a:hlinkClick r:id="rId21" action="ppaction://hlinksldjump"/>
          </p:cNvPr>
          <p:cNvSpPr/>
          <p:nvPr/>
        </p:nvSpPr>
        <p:spPr>
          <a:xfrm>
            <a:off x="7885080" y="4869000"/>
            <a:ext cx="71928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Улыбающееся лицо 25">
            <a:hlinkClick r:id="rId22" action="ppaction://hlinksldjump"/>
          </p:cNvPr>
          <p:cNvSpPr/>
          <p:nvPr/>
        </p:nvSpPr>
        <p:spPr>
          <a:xfrm>
            <a:off x="7812000" y="4076640"/>
            <a:ext cx="7207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Улыбающееся лицо 26">
            <a:hlinkClick r:id="rId23" action="ppaction://hlinksldjump"/>
          </p:cNvPr>
          <p:cNvSpPr/>
          <p:nvPr/>
        </p:nvSpPr>
        <p:spPr>
          <a:xfrm>
            <a:off x="7812000" y="3284640"/>
            <a:ext cx="720720" cy="576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Улыбающееся лицо 27">
            <a:hlinkClick r:id="rId24" action="ppaction://hlinksldjump"/>
          </p:cNvPr>
          <p:cNvSpPr/>
          <p:nvPr/>
        </p:nvSpPr>
        <p:spPr>
          <a:xfrm>
            <a:off x="7885080" y="2349360"/>
            <a:ext cx="719280" cy="57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Улыбающееся лицо 28">
            <a:hlinkClick r:id="rId25" action="ppaction://hlinksldjump"/>
          </p:cNvPr>
          <p:cNvSpPr/>
          <p:nvPr/>
        </p:nvSpPr>
        <p:spPr>
          <a:xfrm>
            <a:off x="4140360" y="2421000"/>
            <a:ext cx="718920" cy="576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ой русский царь был последним из рода Рюриковиче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34" name="Управляющая кнопка: домой 3"/>
          <p:cNvGrpSpPr/>
          <p:nvPr/>
        </p:nvGrpSpPr>
        <p:grpSpPr>
          <a:xfrm>
            <a:off x="8021520" y="5535720"/>
            <a:ext cx="1025640" cy="1023840"/>
            <a:chOff x="8021520" y="5535720"/>
            <a:chExt cx="1025640" cy="1023840"/>
          </a:xfrm>
        </p:grpSpPr>
        <p:pic>
          <p:nvPicPr>
            <p:cNvPr id="43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21520" y="553572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8101080" y="55897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то написал икону «Троица»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39" name="Управляющая кнопка: домой 3"/>
          <p:cNvGrpSpPr/>
          <p:nvPr/>
        </p:nvGrpSpPr>
        <p:grpSpPr>
          <a:xfrm>
            <a:off x="8096400" y="5967360"/>
            <a:ext cx="876240" cy="878040"/>
            <a:chOff x="8096400" y="5967360"/>
            <a:chExt cx="876240" cy="878040"/>
          </a:xfrm>
        </p:grpSpPr>
        <p:pic>
          <p:nvPicPr>
            <p:cNvPr id="44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96400" y="5967360"/>
              <a:ext cx="8762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8172360" y="6021360"/>
              <a:ext cx="720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Кто такой «тушинский вор»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44" name="Управляющая кнопка: домой 3"/>
          <p:cNvGrpSpPr/>
          <p:nvPr/>
        </p:nvGrpSpPr>
        <p:grpSpPr>
          <a:xfrm>
            <a:off x="8163000" y="5748480"/>
            <a:ext cx="950760" cy="877680"/>
            <a:chOff x="8163000" y="5748480"/>
            <a:chExt cx="950760" cy="877680"/>
          </a:xfrm>
        </p:grpSpPr>
        <p:pic>
          <p:nvPicPr>
            <p:cNvPr id="44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163000" y="5748480"/>
              <a:ext cx="950760" cy="87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8244000" y="5805360"/>
              <a:ext cx="7920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Годы правления Б. Годунов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49" name="Управляющая кнопка: домой 3"/>
          <p:cNvGrpSpPr/>
          <p:nvPr/>
        </p:nvGrpSpPr>
        <p:grpSpPr>
          <a:xfrm>
            <a:off x="7875720" y="5389560"/>
            <a:ext cx="1023840" cy="1236600"/>
            <a:chOff x="7875720" y="5389560"/>
            <a:chExt cx="1023840" cy="1236600"/>
          </a:xfrm>
        </p:grpSpPr>
        <p:pic>
          <p:nvPicPr>
            <p:cNvPr id="45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75720" y="5389560"/>
              <a:ext cx="10238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"/>
            <p:cNvSpPr/>
            <p:nvPr/>
          </p:nvSpPr>
          <p:spPr>
            <a:xfrm>
              <a:off x="7956720" y="5445000"/>
              <a:ext cx="8632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2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означает слово </a:t>
            </a: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засек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54" name="Управляющая кнопка: домой 3"/>
          <p:cNvGrpSpPr/>
          <p:nvPr/>
        </p:nvGrpSpPr>
        <p:grpSpPr>
          <a:xfrm>
            <a:off x="7875720" y="5315040"/>
            <a:ext cx="950760" cy="1311120"/>
            <a:chOff x="7875720" y="5315040"/>
            <a:chExt cx="950760" cy="1311120"/>
          </a:xfrm>
        </p:grpSpPr>
        <p:pic>
          <p:nvPicPr>
            <p:cNvPr id="45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75720" y="5315040"/>
              <a:ext cx="9507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7956720" y="5373720"/>
              <a:ext cx="79200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ьте, к какому году относятся описываемые историком события</a:t>
            </a:r>
            <a:r>
              <a:rPr b="0" i="1" lang="ru-RU" sz="2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«Младший сын Грозного, царевич Дмитрий, погиб в Угличе в полдень 15 мая. Повести и сказания Смутного времени заполнены живописными подробностями его убийства. Но среди их авторов не было ни одного очевидца угличских событий. Следственные материалы свидетельствуют о непричастности Бориса к смерти ца­ревича. К моменту смерти царевича не исчезла полностью возможность рождения законного наследника в семье Федо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икто не мог точно предсказать, кому достанется трон. Из близких родственников царя наибольшими шансами обладал не Годунов, ими обладали Романовы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59" name="Управляющая кнопка: домой 3"/>
          <p:cNvGrpSpPr/>
          <p:nvPr/>
        </p:nvGrpSpPr>
        <p:grpSpPr>
          <a:xfrm>
            <a:off x="7662960" y="5462640"/>
            <a:ext cx="1090440" cy="1236600"/>
            <a:chOff x="7662960" y="5462640"/>
            <a:chExt cx="1090440" cy="1236600"/>
          </a:xfrm>
        </p:grpSpPr>
        <p:pic>
          <p:nvPicPr>
            <p:cNvPr id="46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662960" y="5462640"/>
              <a:ext cx="10904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7740720" y="5516640"/>
              <a:ext cx="93492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 именем какого царя связывают интенсивное городское строительство, введение патриаршества, облегчение положения посадских людей в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XVI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64" name="Управляющая кнопка: домой 3"/>
          <p:cNvGrpSpPr/>
          <p:nvPr/>
        </p:nvGrpSpPr>
        <p:grpSpPr>
          <a:xfrm>
            <a:off x="7875720" y="5462640"/>
            <a:ext cx="950760" cy="1096920"/>
            <a:chOff x="7875720" y="5462640"/>
            <a:chExt cx="950760" cy="1096920"/>
          </a:xfrm>
        </p:grpSpPr>
        <p:pic>
          <p:nvPicPr>
            <p:cNvPr id="46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75720" y="5462640"/>
              <a:ext cx="9507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7956720" y="5516640"/>
              <a:ext cx="79200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такое уни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69" name="Управляющая кнопка: домой 3"/>
          <p:cNvGrpSpPr/>
          <p:nvPr/>
        </p:nvGrpSpPr>
        <p:grpSpPr>
          <a:xfrm>
            <a:off x="7736040" y="5389560"/>
            <a:ext cx="944280" cy="1236600"/>
            <a:chOff x="7736040" y="5389560"/>
            <a:chExt cx="944280" cy="1236600"/>
          </a:xfrm>
        </p:grpSpPr>
        <p:pic>
          <p:nvPicPr>
            <p:cNvPr id="47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389560"/>
              <a:ext cx="9442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7812000" y="5445000"/>
              <a:ext cx="7923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такое ирригаци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74" name="Управляющая кнопка: домой 3"/>
          <p:cNvGrpSpPr/>
          <p:nvPr/>
        </p:nvGrpSpPr>
        <p:grpSpPr>
          <a:xfrm>
            <a:off x="7802640" y="5462640"/>
            <a:ext cx="1023840" cy="1236600"/>
            <a:chOff x="7802640" y="5462640"/>
            <a:chExt cx="1023840" cy="1236600"/>
          </a:xfrm>
        </p:grpSpPr>
        <p:pic>
          <p:nvPicPr>
            <p:cNvPr id="47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02640" y="5462640"/>
              <a:ext cx="102384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7885080" y="5516640"/>
              <a:ext cx="86364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становите соответствие между датами и событиями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а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581 г.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589 г.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597 г.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591 г.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) учреждение патриаршеств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2) «угличская драма»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3) введение «заповедных лет»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4) введение «урочных лет».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79" name="Управляющая кнопка: домой 3"/>
          <p:cNvGrpSpPr/>
          <p:nvPr/>
        </p:nvGrpSpPr>
        <p:grpSpPr>
          <a:xfrm>
            <a:off x="8096400" y="5821200"/>
            <a:ext cx="876240" cy="951120"/>
            <a:chOff x="8096400" y="5821200"/>
            <a:chExt cx="876240" cy="951120"/>
          </a:xfrm>
        </p:grpSpPr>
        <p:pic>
          <p:nvPicPr>
            <p:cNvPr id="48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96400" y="5821200"/>
              <a:ext cx="87624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8172360" y="5877000"/>
              <a:ext cx="7207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называют летописями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49" name="Управляющая кнопка: домой 3"/>
          <p:cNvGrpSpPr/>
          <p:nvPr/>
        </p:nvGrpSpPr>
        <p:grpSpPr>
          <a:xfrm>
            <a:off x="8163000" y="5675400"/>
            <a:ext cx="884160" cy="1096920"/>
            <a:chOff x="8163000" y="5675400"/>
            <a:chExt cx="884160" cy="1096920"/>
          </a:xfrm>
        </p:grpSpPr>
        <p:pic>
          <p:nvPicPr>
            <p:cNvPr id="35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163000" y="5675400"/>
              <a:ext cx="8841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8244000" y="5732640"/>
              <a:ext cx="7207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 сказалась гибель царевича Дмитрия в Угличе на судьбе Бориса Годунов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84" name="Управляющая кнопка: домой 3"/>
          <p:cNvGrpSpPr/>
          <p:nvPr/>
        </p:nvGrpSpPr>
        <p:grpSpPr>
          <a:xfrm>
            <a:off x="7736040" y="5389560"/>
            <a:ext cx="877680" cy="1096920"/>
            <a:chOff x="7736040" y="5389560"/>
            <a:chExt cx="877680" cy="1096920"/>
          </a:xfrm>
        </p:grpSpPr>
        <p:pic>
          <p:nvPicPr>
            <p:cNvPr id="48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389560"/>
              <a:ext cx="8776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"/>
            <p:cNvSpPr/>
            <p:nvPr/>
          </p:nvSpPr>
          <p:spPr>
            <a:xfrm>
              <a:off x="7812000" y="5445000"/>
              <a:ext cx="7207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 одном из деятелей Смутного времени в официальной ле­тописи говорилось: «Пришел из Кромы, из Путивля всему злу вор и завотчик и всех злых дел начальник». О ком идет речь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89" name="Управляющая кнопка: домой 3"/>
          <p:cNvGrpSpPr/>
          <p:nvPr/>
        </p:nvGrpSpPr>
        <p:grpSpPr>
          <a:xfrm>
            <a:off x="7662960" y="5608800"/>
            <a:ext cx="1090440" cy="1090440"/>
            <a:chOff x="7662960" y="5608800"/>
            <a:chExt cx="1090440" cy="1090440"/>
          </a:xfrm>
        </p:grpSpPr>
        <p:pic>
          <p:nvPicPr>
            <p:cNvPr id="49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662960" y="5608800"/>
              <a:ext cx="109044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7740720" y="5661000"/>
              <a:ext cx="93492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атриарх Гермоген писал о тех, кто обещал своим сторонни­кам «давати боярство, и воеводство, и окольничество, и дьячество... и жены их и вотчины, и поместья». Кто давал такие обещани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94" name="Управляющая кнопка: домой 3"/>
          <p:cNvGrpSpPr/>
          <p:nvPr/>
        </p:nvGrpSpPr>
        <p:grpSpPr>
          <a:xfrm>
            <a:off x="7875720" y="5462640"/>
            <a:ext cx="1023840" cy="1163520"/>
            <a:chOff x="7875720" y="5462640"/>
            <a:chExt cx="1023840" cy="1163520"/>
          </a:xfrm>
        </p:grpSpPr>
        <p:pic>
          <p:nvPicPr>
            <p:cNvPr id="49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75720" y="5462640"/>
              <a:ext cx="102384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7956720" y="5516640"/>
              <a:ext cx="863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На кого в борьбе с «тушинским вором» правительство В. Шуйского делало основную ставку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499" name="Управляющая кнопка: домой 3"/>
          <p:cNvGrpSpPr/>
          <p:nvPr/>
        </p:nvGrpSpPr>
        <p:grpSpPr>
          <a:xfrm>
            <a:off x="7802640" y="5675400"/>
            <a:ext cx="950760" cy="950760"/>
            <a:chOff x="7802640" y="5675400"/>
            <a:chExt cx="950760" cy="950760"/>
          </a:xfrm>
        </p:grpSpPr>
        <p:pic>
          <p:nvPicPr>
            <p:cNvPr id="50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02640" y="5675400"/>
              <a:ext cx="9507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7885080" y="5732640"/>
              <a:ext cx="79056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означает понятие «крестоцеловальная запись»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4" name="Управляющая кнопка: домой 3"/>
          <p:cNvGrpSpPr/>
          <p:nvPr/>
        </p:nvGrpSpPr>
        <p:grpSpPr>
          <a:xfrm>
            <a:off x="8021520" y="5748480"/>
            <a:ext cx="951120" cy="950760"/>
            <a:chOff x="8021520" y="5748480"/>
            <a:chExt cx="951120" cy="950760"/>
          </a:xfrm>
        </p:grpSpPr>
        <p:pic>
          <p:nvPicPr>
            <p:cNvPr id="50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21520" y="5748480"/>
              <a:ext cx="9511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8101080" y="5805360"/>
              <a:ext cx="792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. Расположите в хронологической последовательности собы­тия Смутного времени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а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царствование Б. Годунов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б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Семибоярщин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восстание под руководством И. Болотникова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г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освобождение Москвы от поляков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д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царствование Василия Шуйского;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е)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приглашение на российский престол королевича Владислава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9" name="Управляющая кнопка: домой 3"/>
          <p:cNvGrpSpPr/>
          <p:nvPr/>
        </p:nvGrpSpPr>
        <p:grpSpPr>
          <a:xfrm>
            <a:off x="7736040" y="5675400"/>
            <a:ext cx="1090440" cy="1096920"/>
            <a:chOff x="7736040" y="5675400"/>
            <a:chExt cx="1090440" cy="1096920"/>
          </a:xfrm>
        </p:grpSpPr>
        <p:pic>
          <p:nvPicPr>
            <p:cNvPr id="51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675400"/>
              <a:ext cx="10904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7812000" y="5732640"/>
              <a:ext cx="9367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му принадлежат эти слова в поэме К. Ф. Рылеева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ателя, мнили, во мне вы нашли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х нет и не будет на Русской земли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ней каждый отчизну с младенчества любит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 душу изменой свою не погубит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14" name="Управляющая кнопка: домой 3"/>
          <p:cNvGrpSpPr/>
          <p:nvPr/>
        </p:nvGrpSpPr>
        <p:grpSpPr>
          <a:xfrm>
            <a:off x="7516800" y="5389560"/>
            <a:ext cx="1236600" cy="1236600"/>
            <a:chOff x="7516800" y="5389560"/>
            <a:chExt cx="1236600" cy="1236600"/>
          </a:xfrm>
        </p:grpSpPr>
        <p:pic>
          <p:nvPicPr>
            <p:cNvPr id="51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16800" y="5389560"/>
              <a:ext cx="12366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596360" y="5445000"/>
              <a:ext cx="107928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3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на особа была женой двух людей, одинаково ложно носивших одно имя и под одинаковыми же именами вошедших в историю. Кто он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19" name="Управляющая кнопка: домой 3"/>
          <p:cNvGrpSpPr/>
          <p:nvPr/>
        </p:nvGrpSpPr>
        <p:grpSpPr>
          <a:xfrm>
            <a:off x="7948440" y="5821200"/>
            <a:ext cx="951120" cy="1024200"/>
            <a:chOff x="7948440" y="5821200"/>
            <a:chExt cx="951120" cy="1024200"/>
          </a:xfrm>
        </p:grpSpPr>
        <p:pic>
          <p:nvPicPr>
            <p:cNvPr id="52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948440" y="5821200"/>
              <a:ext cx="95112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/>
            <p:nvPr/>
          </p:nvSpPr>
          <p:spPr>
            <a:xfrm>
              <a:off x="8028000" y="5877000"/>
              <a:ext cx="7920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Определите и выпишите имена тех людей, о которых сказа­ны следующие слова: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«.. .Он принадлежал к числу тех злосчастных людей, которые и привлекали к себе, и отталкивали от себя, - привлекали видимы­ми качествами ума и таланта, отталкивали незримыми, но чуемыми недостатками сердца и совести. Он умел вызывать удивление и признательность, но никому не внушал доверия, его всегда подоз­ревали в двуличии и коварстве и считали на все способным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24" name="Управляющая кнопка: домой 3"/>
          <p:cNvGrpSpPr/>
          <p:nvPr/>
        </p:nvGrpSpPr>
        <p:grpSpPr>
          <a:xfrm>
            <a:off x="7875720" y="5675400"/>
            <a:ext cx="877680" cy="1096920"/>
            <a:chOff x="7875720" y="5675400"/>
            <a:chExt cx="877680" cy="1096920"/>
          </a:xfrm>
        </p:grpSpPr>
        <p:pic>
          <p:nvPicPr>
            <p:cNvPr id="52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75720" y="5675400"/>
              <a:ext cx="8776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7956720" y="5732640"/>
              <a:ext cx="71892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ком историк В. О. Ключевский писал: «...испечен в польской печке, а заквашен в Москве»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29" name="Управляющая кнопка: домой 3"/>
          <p:cNvGrpSpPr/>
          <p:nvPr/>
        </p:nvGrpSpPr>
        <p:grpSpPr>
          <a:xfrm>
            <a:off x="7736040" y="5389560"/>
            <a:ext cx="944280" cy="1170000"/>
            <a:chOff x="7736040" y="5389560"/>
            <a:chExt cx="944280" cy="1170000"/>
          </a:xfrm>
        </p:grpSpPr>
        <p:pic>
          <p:nvPicPr>
            <p:cNvPr id="53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389560"/>
              <a:ext cx="94428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>
              <a:off x="7812000" y="5445000"/>
              <a:ext cx="79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каком году был издан указ об «урочных летах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4" name="Управляющая кнопка: домой 3"/>
          <p:cNvGrpSpPr/>
          <p:nvPr/>
        </p:nvGrpSpPr>
        <p:grpSpPr>
          <a:xfrm>
            <a:off x="7736040" y="5748480"/>
            <a:ext cx="1163520" cy="950760"/>
            <a:chOff x="7736040" y="5748480"/>
            <a:chExt cx="1163520" cy="950760"/>
          </a:xfrm>
        </p:grpSpPr>
        <p:pic>
          <p:nvPicPr>
            <p:cNvPr id="35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748480"/>
              <a:ext cx="11635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7812000" y="580536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о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ком писал патриарх Гермоген, что тот обещал своим сторонникам «давати боярство и воеводство, и окольничество, и дья чество, и жены их, и вотчины, и поместья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34" name="Управляющая кнопка: домой 3"/>
          <p:cNvGrpSpPr/>
          <p:nvPr/>
        </p:nvGrpSpPr>
        <p:grpSpPr>
          <a:xfrm>
            <a:off x="7802640" y="5608800"/>
            <a:ext cx="877680" cy="950760"/>
            <a:chOff x="7802640" y="5608800"/>
            <a:chExt cx="877680" cy="950760"/>
          </a:xfrm>
        </p:grpSpPr>
        <p:pic>
          <p:nvPicPr>
            <p:cNvPr id="53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02640" y="5608800"/>
              <a:ext cx="87768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7885080" y="5661000"/>
              <a:ext cx="7192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  ком   из   русских   царей   Смутного   времени   историк В. О. Ключевский писал, что царь «превращался из государя холо­пов в правомерного царя подданных, правящего по законам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39" name="Управляющая кнопка: домой 3"/>
          <p:cNvGrpSpPr/>
          <p:nvPr/>
        </p:nvGrpSpPr>
        <p:grpSpPr>
          <a:xfrm>
            <a:off x="7370640" y="5608800"/>
            <a:ext cx="1024200" cy="1090440"/>
            <a:chOff x="7370640" y="5608800"/>
            <a:chExt cx="1024200" cy="1090440"/>
          </a:xfrm>
        </p:grpSpPr>
        <p:pic>
          <p:nvPicPr>
            <p:cNvPr id="54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370640" y="5608800"/>
              <a:ext cx="10242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"/>
            <p:cNvSpPr/>
            <p:nvPr/>
          </p:nvSpPr>
          <p:spPr>
            <a:xfrm>
              <a:off x="7451640" y="5661000"/>
              <a:ext cx="865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го признали царем келейно немногие сторонники из большого титулованного боярства, а на Красной площади имя его про­кричала преданная ему толпа москвичей, которых он поднял против самозванца и поляков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юди презрительно говорили, что царь был «выкликнут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44" name="Управляющая кнопка: домой 3"/>
          <p:cNvGrpSpPr/>
          <p:nvPr/>
        </p:nvGrpSpPr>
        <p:grpSpPr>
          <a:xfrm>
            <a:off x="7443720" y="5675400"/>
            <a:ext cx="1023840" cy="1096920"/>
            <a:chOff x="7443720" y="5675400"/>
            <a:chExt cx="1023840" cy="1096920"/>
          </a:xfrm>
        </p:grpSpPr>
        <p:pic>
          <p:nvPicPr>
            <p:cNvPr id="54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443720" y="5675400"/>
              <a:ext cx="102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7524720" y="5732640"/>
              <a:ext cx="86364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40 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...На престоле московских государей он был небывалым яв­лением... Богато одаренный, с бойким умом, легко разрешавший в Боярской думе самые трудные вопросы, с живым, даже пылким темпераментом, в опасные минуты доводившим его храбрость до удальства; податливый на увлечения, он был мастер говорить, об­наруживал и довольно разнообразные знания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Он совершенно изменил чопорный порядок жизни старых мос­ковских государей и их угнетательное отношение к людям, нару­шал заветные обычаи священной московской старины: не спал по­сле обеда, не ходил в баню, со всеми обращался просто, обходи­тельно, не по-царски...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49" name="Управляющая кнопка: домой 3"/>
          <p:cNvGrpSpPr/>
          <p:nvPr/>
        </p:nvGrpSpPr>
        <p:grpSpPr>
          <a:xfrm>
            <a:off x="8236080" y="6108840"/>
            <a:ext cx="877680" cy="736560"/>
            <a:chOff x="8236080" y="6108840"/>
            <a:chExt cx="877680" cy="736560"/>
          </a:xfrm>
        </p:grpSpPr>
        <p:pic>
          <p:nvPicPr>
            <p:cNvPr id="550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8236080" y="6108840"/>
              <a:ext cx="877680" cy="7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8317080" y="6165720"/>
              <a:ext cx="718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чему было собрано Первое ополчение? Охарактеризуйте его цели и расскажите о его состав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4" name="Управляющая кнопка: домой 3"/>
          <p:cNvGrpSpPr/>
          <p:nvPr/>
        </p:nvGrpSpPr>
        <p:grpSpPr>
          <a:xfrm>
            <a:off x="7875720" y="5608800"/>
            <a:ext cx="877680" cy="950760"/>
            <a:chOff x="7875720" y="5608800"/>
            <a:chExt cx="877680" cy="950760"/>
          </a:xfrm>
        </p:grpSpPr>
        <p:pic>
          <p:nvPicPr>
            <p:cNvPr id="555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875720" y="5608800"/>
              <a:ext cx="87768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7956720" y="5661000"/>
              <a:ext cx="7189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ичины Смут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9" name="Управляющая кнопка: домой 3"/>
          <p:cNvGrpSpPr/>
          <p:nvPr/>
        </p:nvGrpSpPr>
        <p:grpSpPr>
          <a:xfrm>
            <a:off x="7948440" y="5821200"/>
            <a:ext cx="804960" cy="951120"/>
            <a:chOff x="7948440" y="5821200"/>
            <a:chExt cx="804960" cy="951120"/>
          </a:xfrm>
        </p:grpSpPr>
        <p:pic>
          <p:nvPicPr>
            <p:cNvPr id="560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948440" y="5821200"/>
              <a:ext cx="80496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8028000" y="5877000"/>
              <a:ext cx="647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гда, почему и как началась польская интервенци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64" name="Управляющая кнопка: домой 3"/>
          <p:cNvGrpSpPr/>
          <p:nvPr/>
        </p:nvGrpSpPr>
        <p:grpSpPr>
          <a:xfrm>
            <a:off x="8163000" y="5748480"/>
            <a:ext cx="809640" cy="950760"/>
            <a:chOff x="8163000" y="5748480"/>
            <a:chExt cx="809640" cy="950760"/>
          </a:xfrm>
        </p:grpSpPr>
        <p:pic>
          <p:nvPicPr>
            <p:cNvPr id="565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8163000" y="5748480"/>
              <a:ext cx="80964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8244000" y="5805360"/>
              <a:ext cx="64908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чему Первое и Второе ополчения собирались не под Мо­сквой, не на юге, не на севере, а в Поволжь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69" name="Управляющая кнопка: домой 3"/>
          <p:cNvGrpSpPr/>
          <p:nvPr/>
        </p:nvGrpSpPr>
        <p:grpSpPr>
          <a:xfrm>
            <a:off x="7948440" y="5675400"/>
            <a:ext cx="878040" cy="1023840"/>
            <a:chOff x="7948440" y="5675400"/>
            <a:chExt cx="878040" cy="1023840"/>
          </a:xfrm>
        </p:grpSpPr>
        <p:pic>
          <p:nvPicPr>
            <p:cNvPr id="570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948440" y="5675400"/>
              <a:ext cx="8780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8028000" y="5732640"/>
              <a:ext cx="72072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июле 1608 г. он основал свой стан в 15 верстах от Москвы, в селе Тушине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Его значение особенно возросло с прибытием в Тушино Мари­ны с отцом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74" name="Управляющая кнопка: домой 3"/>
          <p:cNvGrpSpPr/>
          <p:nvPr/>
        </p:nvGrpSpPr>
        <p:grpSpPr>
          <a:xfrm>
            <a:off x="7875720" y="5535720"/>
            <a:ext cx="877680" cy="1090440"/>
            <a:chOff x="7875720" y="5535720"/>
            <a:chExt cx="877680" cy="1090440"/>
          </a:xfrm>
        </p:grpSpPr>
        <p:pic>
          <p:nvPicPr>
            <p:cNvPr id="575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875720" y="5535720"/>
              <a:ext cx="87768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"/>
            <p:cNvSpPr/>
            <p:nvPr/>
          </p:nvSpPr>
          <p:spPr>
            <a:xfrm>
              <a:off x="7956720" y="5589720"/>
              <a:ext cx="718920" cy="93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айте характеристику внутренней и внешней политики в царствование Федора Иоаннович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79" name="Управляющая кнопка: домой 3"/>
          <p:cNvGrpSpPr/>
          <p:nvPr/>
        </p:nvGrpSpPr>
        <p:grpSpPr>
          <a:xfrm>
            <a:off x="7875720" y="5675400"/>
            <a:ext cx="877680" cy="950760"/>
            <a:chOff x="7875720" y="5675400"/>
            <a:chExt cx="877680" cy="950760"/>
          </a:xfrm>
        </p:grpSpPr>
        <p:pic>
          <p:nvPicPr>
            <p:cNvPr id="580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875720" y="5675400"/>
              <a:ext cx="87768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7956720" y="5732640"/>
              <a:ext cx="718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то такой Василий Шуйский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59" name="Управляющая кнопка: домой 3"/>
          <p:cNvGrpSpPr/>
          <p:nvPr/>
        </p:nvGrpSpPr>
        <p:grpSpPr>
          <a:xfrm>
            <a:off x="7516800" y="5248440"/>
            <a:ext cx="1382760" cy="1311120"/>
            <a:chOff x="7516800" y="5248440"/>
            <a:chExt cx="1382760" cy="1311120"/>
          </a:xfrm>
        </p:grpSpPr>
        <p:pic>
          <p:nvPicPr>
            <p:cNvPr id="36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16800" y="5248440"/>
              <a:ext cx="13827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7596360" y="5300640"/>
              <a:ext cx="122364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равните деятельность Лжедмитрия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и Лжедмитрия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84" name="Управляющая кнопка: домой 3"/>
          <p:cNvGrpSpPr/>
          <p:nvPr/>
        </p:nvGrpSpPr>
        <p:grpSpPr>
          <a:xfrm>
            <a:off x="7875720" y="5675400"/>
            <a:ext cx="950760" cy="950760"/>
            <a:chOff x="7875720" y="5675400"/>
            <a:chExt cx="950760" cy="950760"/>
          </a:xfrm>
        </p:grpSpPr>
        <p:pic>
          <p:nvPicPr>
            <p:cNvPr id="585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875720" y="5675400"/>
              <a:ext cx="95076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7956720" y="5732640"/>
              <a:ext cx="792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5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434960" y="1125000"/>
            <a:ext cx="74995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имательно   прочитайте    стихотворение    поэта К. Д. Бальмонта «Время Бориса Годунова»: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лухие дни Бориса Годунова 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мгле Российской пасмурной страны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пы людей скиталися без крова, 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 ночам всходило две луны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солнца по утрам светило с неба,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вирепостью на дальней мир смотря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опль протяжный: «Хлеба! Хлеба! Хлеба!»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тьмы лесов стремился на царя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лицах иссохшие скелеты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пали жадно чахлую траву,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кот - озверены и неодеты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ны осуществились наяву: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ба, отяжелевшие от гнили,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ым давали смрадный адский хлеб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рту у мертвых сено находили,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ждый дом был сумрачный вертеп..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людей блуждали смерть и злоба,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ев комету, дрогнула земля.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эти дни Димитрий встал из гроба,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репьева свой дух переселя. 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каких событиях рассказывается в стихотворении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89" name="Управляющая кнопка: домой 3"/>
          <p:cNvGrpSpPr/>
          <p:nvPr/>
        </p:nvGrpSpPr>
        <p:grpSpPr>
          <a:xfrm>
            <a:off x="7736040" y="5608800"/>
            <a:ext cx="877680" cy="1017360"/>
            <a:chOff x="7736040" y="5608800"/>
            <a:chExt cx="877680" cy="1017360"/>
          </a:xfrm>
        </p:grpSpPr>
        <p:pic>
          <p:nvPicPr>
            <p:cNvPr id="590" name="Управляющая кнопка: домой 3" descr=""/>
            <p:cNvPicPr/>
            <p:nvPr/>
          </p:nvPicPr>
          <p:blipFill>
            <a:blip r:embed="rId1"/>
            <a:stretch/>
          </p:blipFill>
          <p:spPr>
            <a:xfrm>
              <a:off x="7736040" y="5608800"/>
              <a:ext cx="87768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7812000" y="5661000"/>
              <a:ext cx="7207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то обозначает слово «семибоярщина»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64" name="Управляющая кнопка: домой 3"/>
          <p:cNvGrpSpPr/>
          <p:nvPr/>
        </p:nvGrpSpPr>
        <p:grpSpPr>
          <a:xfrm>
            <a:off x="7662960" y="5462640"/>
            <a:ext cx="1017360" cy="1096920"/>
            <a:chOff x="7662960" y="5462640"/>
            <a:chExt cx="1017360" cy="1096920"/>
          </a:xfrm>
        </p:grpSpPr>
        <p:pic>
          <p:nvPicPr>
            <p:cNvPr id="36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662960" y="5462640"/>
              <a:ext cx="10173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7740720" y="5516640"/>
              <a:ext cx="8636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мя Лжедмитрия I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69" name="Управляющая кнопка: домой 3"/>
          <p:cNvGrpSpPr/>
          <p:nvPr/>
        </p:nvGrpSpPr>
        <p:grpSpPr>
          <a:xfrm>
            <a:off x="7516800" y="5389560"/>
            <a:ext cx="1163520" cy="1236600"/>
            <a:chOff x="7516800" y="5389560"/>
            <a:chExt cx="1163520" cy="1236600"/>
          </a:xfrm>
        </p:grpSpPr>
        <p:pic>
          <p:nvPicPr>
            <p:cNvPr id="37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516800" y="5389560"/>
              <a:ext cx="116352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596360" y="5445000"/>
              <a:ext cx="100800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ое село стало второй столицей Лжедмитрия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74" name="Управляющая кнопка: домой 3"/>
          <p:cNvGrpSpPr/>
          <p:nvPr/>
        </p:nvGrpSpPr>
        <p:grpSpPr>
          <a:xfrm>
            <a:off x="7875720" y="5608800"/>
            <a:ext cx="1023840" cy="1090440"/>
            <a:chOff x="7875720" y="5608800"/>
            <a:chExt cx="1023840" cy="1090440"/>
          </a:xfrm>
        </p:grpSpPr>
        <p:pic>
          <p:nvPicPr>
            <p:cNvPr id="375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75720" y="5608800"/>
              <a:ext cx="102384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956720" y="5661000"/>
              <a:ext cx="86328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10 балл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 В каком году появился первый самозванец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79" name="Управляющая кнопка: домой 3"/>
          <p:cNvGrpSpPr/>
          <p:nvPr/>
        </p:nvGrpSpPr>
        <p:grpSpPr>
          <a:xfrm>
            <a:off x="7736040" y="5821200"/>
            <a:ext cx="1163520" cy="951120"/>
            <a:chOff x="7736040" y="5821200"/>
            <a:chExt cx="1163520" cy="951120"/>
          </a:xfrm>
        </p:grpSpPr>
        <p:pic>
          <p:nvPicPr>
            <p:cNvPr id="380" name="Управляющая кнопка: домой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36040" y="5821200"/>
              <a:ext cx="1163520" cy="9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7812000" y="587700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0T06:34:23Z</dcterms:created>
  <dc:creator>admin</dc:creator>
  <dc:description/>
  <dc:language>en-US</dc:language>
  <cp:lastModifiedBy>admin</cp:lastModifiedBy>
  <dcterms:modified xsi:type="dcterms:W3CDTF">2016-09-20T08:59:50Z</dcterms:modified>
  <cp:revision>14</cp:revision>
  <dc:subject/>
  <dc:title>Морской бой  Смутное время</dc:title>
</cp:coreProperties>
</file>