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E88-0ED2-4DA7-A048-F42D65A6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B87-92B6-47C7-85EE-EB80228A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925-1369-4438-9AF0-02AD6B28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23B-F18A-4665-B3C7-561B3E5B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6BB4-D202-43BB-BC62-6239774A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E5A8-F929-44B8-B246-EE6F6054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3A1E-0397-41B4-AA00-0D94998B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E56C-A4EE-45CE-9A31-AB5D5D47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4DD6-9E43-47A7-ADB5-290FD9FB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DFF2-E04B-4B01-8344-A701BE9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733C-ED03-4AE0-AF25-45E4FE3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228-9B76-4759-8300-7067E2CC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1DB8-37F8-4AEC-B6D9-1DF46FC2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2714-F9F5-4C31-8737-962536E7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1CB8-7732-41C8-9C43-5763AF6C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3946-3CC3-46DB-BBCE-738DF0E1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1868-6858-4EB8-8F75-28A59BAB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2C0B-B32E-4E5B-84CF-3E502F5C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3B15-46BE-4516-9E2D-D657C10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B4AE-D922-418F-8889-3E74FA79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238D-19A3-455B-8BAC-5F34C05B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439F-5F67-40EB-A845-06A74C88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894-18EA-420E-A48B-6AF40BC4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328B-EBA3-44CC-A950-868B36E5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2B250-3AFA-4DCD-9A79-0F2F817A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B3B0-E77B-4D6E-8DF0-DF4052B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168E-5659-4196-95FE-D907DDDE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BD4D-681D-44E3-9E30-DAB43705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F4333-77E6-434C-9C07-E13C1B33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516F-7E19-4C4D-8E36-53782C62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6FB4-04F6-42BC-A522-205859DF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43B2-8D39-4C87-8A92-16036DFF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D286C-B7D2-4A17-A588-47BC8037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92D-5F78-4545-9A21-90660E2B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80DA-F757-4E53-81E4-08F437DA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44CD-D656-4DAB-87E9-819ED30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9998-A8B2-4114-B8E5-8B4636DB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A9FE-2FCA-448A-8AAB-C071BDEA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5337-FD37-431E-8C30-0E24B360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9A6F3-68E9-40A1-B1AF-066A7B46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0576B-3A21-4538-84F4-43ED3083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DC2E-26DE-4428-B87A-4BF4F85A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EF0C-1382-45D2-9D96-342461A8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71A5-BD0B-4590-AE59-CE6A276E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415-4663-489E-8686-1F8E728E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CC5CC-B63A-4C2C-BB15-EF0A210B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C2E9-1265-4CE8-9318-E6F6EEFB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F5CA-E814-4F5E-969D-1D2FA318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AB88-FBD9-461A-999A-64A585C2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280F9-61BE-4925-A22D-CE5657A1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48248-91DD-4608-A624-94B317F5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E0498-2A07-4C4F-BEFB-62418BB5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42BAC-9E9A-4121-BABB-2EED989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3F37F-3844-410E-B60B-710ED0A9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CD7E4-977B-47F6-B364-F7D3A406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ADB-7EB2-4BB9-8B4B-FCD3422D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270F-8AAE-47C5-8C32-7811DD1B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1043-A471-45FE-A0BB-68A96A65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87FA-AC67-4375-84D6-21C9FFA4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08A1-CC91-40E3-87A4-99BB1834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040BD-C754-4097-A5A7-27B756C7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11B0-92F5-4B45-89C7-713524F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2E80-8C17-4574-BB09-6744197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45D70-DF34-43C4-814D-55740FD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A5DA1-F77C-4A86-83E4-42FAFCC8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EC472-26E7-422C-97AC-515E46F7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4B2-8E30-4857-B0BA-4F2B636B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14848-6BA0-4C6A-BE8F-67BE1E3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0C906-B4C6-465E-8FC0-58F4D217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D33E6-C576-4F4F-BFE7-5380B820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377AD-CC32-4728-AD06-C89113E2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3810D-1D95-4229-9D83-08CEC48F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A11A9-6235-4A0F-AA6F-6EB89D95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0FDC1-27B4-49EE-98AC-144D1D44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CEDDD-7726-45C1-9ED4-846355E5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FA4A3-1DC8-47CF-AFAD-8845710C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A1C5-7788-45F4-BBA0-19FBBBB9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A8C-0A2F-4F93-8FD1-6A89E71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FEDD8-D948-4D63-ADDF-322A8E0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C965B-4824-4D73-BBFC-D0D9D455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A0941-5268-4B0D-B8BD-365EC4E6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F5EA0-DD4D-4194-9D3A-88F8570D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34803-EA9B-465D-9576-C707F17E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794-02E2-4CF7-8EC3-47B2696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79F9-9408-447C-AD18-17DD56A687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AB1B-2858-4C8B-BEF6-5E72F6C0D8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6553-0E3A-47A9-8A90-5BAECD32FF8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5F52-FF22-430F-975D-AB65DC37104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4E59-D928-4DE3-9051-38F6613A41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BF34-6E89-4019-A718-0F5EFC1F0EA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6A0C-EA0C-4469-AB20-4C7EFB02D49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5.xml"/><Relationship Id="rId3" Type="http://schemas.openxmlformats.org/officeDocument/2006/relationships/slide" Target="slide13.xml"/><Relationship Id="rId4" Type="http://schemas.openxmlformats.org/officeDocument/2006/relationships/slide" Target="slide5.xml"/><Relationship Id="rId5" Type="http://schemas.openxmlformats.org/officeDocument/2006/relationships/slide" Target="slide15.xml"/><Relationship Id="rId6" Type="http://schemas.openxmlformats.org/officeDocument/2006/relationships/slide" Target="slide46.xml"/><Relationship Id="rId7" Type="http://schemas.openxmlformats.org/officeDocument/2006/relationships/slide" Target="slide6.xml"/><Relationship Id="rId8" Type="http://schemas.openxmlformats.org/officeDocument/2006/relationships/slide" Target="slide29.xml"/><Relationship Id="rId9" Type="http://schemas.openxmlformats.org/officeDocument/2006/relationships/slide" Target="slide17.xml"/><Relationship Id="rId10" Type="http://schemas.openxmlformats.org/officeDocument/2006/relationships/slide" Target="slide31.xml"/><Relationship Id="rId11" Type="http://schemas.openxmlformats.org/officeDocument/2006/relationships/slide" Target="slide18.xml"/><Relationship Id="rId12" Type="http://schemas.openxmlformats.org/officeDocument/2006/relationships/slide" Target="slide39.xml"/><Relationship Id="rId13" Type="http://schemas.openxmlformats.org/officeDocument/2006/relationships/slide" Target="slide27.xml"/><Relationship Id="rId14" Type="http://schemas.openxmlformats.org/officeDocument/2006/relationships/slide" Target="slide38.xml"/><Relationship Id="rId15" Type="http://schemas.openxmlformats.org/officeDocument/2006/relationships/slide" Target="slide7.xml"/><Relationship Id="rId16" Type="http://schemas.openxmlformats.org/officeDocument/2006/relationships/slide" Target="slide47.xml"/><Relationship Id="rId17" Type="http://schemas.openxmlformats.org/officeDocument/2006/relationships/slide" Target="slide28.xml"/><Relationship Id="rId18" Type="http://schemas.openxmlformats.org/officeDocument/2006/relationships/slide" Target="slide14.xml"/><Relationship Id="rId19" Type="http://schemas.openxmlformats.org/officeDocument/2006/relationships/slide" Target="slide3.xml"/><Relationship Id="rId20" Type="http://schemas.openxmlformats.org/officeDocument/2006/relationships/slide" Target="slide41.xml"/><Relationship Id="rId21" Type="http://schemas.openxmlformats.org/officeDocument/2006/relationships/slide" Target="slide30.xml"/><Relationship Id="rId22" Type="http://schemas.openxmlformats.org/officeDocument/2006/relationships/slide" Target="slide16.xml"/><Relationship Id="rId23" Type="http://schemas.openxmlformats.org/officeDocument/2006/relationships/slide" Target="slide4.xml"/><Relationship Id="rId24" Type="http://schemas.openxmlformats.org/officeDocument/2006/relationships/slide" Target="slide26.xml"/><Relationship Id="rId25" Type="http://schemas.openxmlformats.org/officeDocument/2006/relationships/slide" Target="slide25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7407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2314"/>
                </a:solidFill>
                <a:latin typeface="Corbel"/>
              </a:rPr>
              <a:t>Морской бой </a:t>
            </a:r>
            <a:br>
              <a:rPr sz="8000"/>
            </a:br>
            <a:r>
              <a:rPr b="0" lang="ru-RU" sz="8000" spc="-1" strike="noStrike">
                <a:solidFill>
                  <a:srgbClr val="572314"/>
                </a:solidFill>
                <a:latin typeface="Corbel"/>
              </a:rPr>
              <a:t>Смутное время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звали первого патриарха Росс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84" name="Управляющая кнопка: домой 3"/>
          <p:cNvGrpSpPr/>
          <p:nvPr/>
        </p:nvGrpSpPr>
        <p:grpSpPr>
          <a:xfrm>
            <a:off x="7948440" y="5748480"/>
            <a:ext cx="1024200" cy="1023840"/>
            <a:chOff x="7948440" y="5748480"/>
            <a:chExt cx="1024200" cy="1023840"/>
          </a:xfrm>
        </p:grpSpPr>
        <p:pic>
          <p:nvPicPr>
            <p:cNvPr id="38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948440" y="5748480"/>
              <a:ext cx="1024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028000" y="5805360"/>
              <a:ext cx="8650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такой Иван Болотников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89" name="Управляющая кнопка: домой 3"/>
          <p:cNvGrpSpPr/>
          <p:nvPr/>
        </p:nvGrpSpPr>
        <p:grpSpPr>
          <a:xfrm>
            <a:off x="7736040" y="5535720"/>
            <a:ext cx="944280" cy="1023840"/>
            <a:chOff x="7736040" y="5535720"/>
            <a:chExt cx="944280" cy="1023840"/>
          </a:xfrm>
        </p:grpSpPr>
        <p:pic>
          <p:nvPicPr>
            <p:cNvPr id="39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535720"/>
              <a:ext cx="944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7812000" y="5589720"/>
              <a:ext cx="792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значает понятие «Дети боярские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4" name="Управляющая кнопка: домой 3"/>
          <p:cNvGrpSpPr/>
          <p:nvPr/>
        </p:nvGrpSpPr>
        <p:grpSpPr>
          <a:xfrm>
            <a:off x="7736040" y="5389560"/>
            <a:ext cx="1017360" cy="1096920"/>
            <a:chOff x="7736040" y="5389560"/>
            <a:chExt cx="1017360" cy="1096920"/>
          </a:xfrm>
        </p:grpSpPr>
        <p:pic>
          <p:nvPicPr>
            <p:cNvPr id="39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389560"/>
              <a:ext cx="1017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812000" y="5445000"/>
              <a:ext cx="8636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зовите первых русских святы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9" name="Управляющая кнопка: домой 3"/>
          <p:cNvGrpSpPr/>
          <p:nvPr/>
        </p:nvGrpSpPr>
        <p:grpSpPr>
          <a:xfrm>
            <a:off x="8021520" y="5675400"/>
            <a:ext cx="1025640" cy="1023840"/>
            <a:chOff x="8021520" y="5675400"/>
            <a:chExt cx="1025640" cy="1023840"/>
          </a:xfrm>
        </p:grpSpPr>
        <p:pic>
          <p:nvPicPr>
            <p:cNvPr id="40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21520" y="5675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101080" y="5732640"/>
              <a:ext cx="8636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году шведские войска захватили Новгород и все русское побережье Финского зали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4" name="Управляющая кнопка: домой 3"/>
          <p:cNvGrpSpPr/>
          <p:nvPr/>
        </p:nvGrpSpPr>
        <p:grpSpPr>
          <a:xfrm>
            <a:off x="7948440" y="5462640"/>
            <a:ext cx="951120" cy="1023840"/>
            <a:chOff x="7948440" y="5462640"/>
            <a:chExt cx="951120" cy="1023840"/>
          </a:xfrm>
        </p:grpSpPr>
        <p:pic>
          <p:nvPicPr>
            <p:cNvPr id="40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948440" y="5462640"/>
              <a:ext cx="9511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8028000" y="5516640"/>
              <a:ext cx="7920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звали первую жену Ивана Грозного, мать Ивана и Федор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9" name="Управляющая кнопка: домой 3"/>
          <p:cNvGrpSpPr/>
          <p:nvPr/>
        </p:nvGrpSpPr>
        <p:grpSpPr>
          <a:xfrm>
            <a:off x="7875720" y="5462640"/>
            <a:ext cx="950760" cy="1023840"/>
            <a:chOff x="7875720" y="5462640"/>
            <a:chExt cx="950760" cy="1023840"/>
          </a:xfrm>
        </p:grpSpPr>
        <p:pic>
          <p:nvPicPr>
            <p:cNvPr id="41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462640"/>
              <a:ext cx="950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956720" y="5516640"/>
              <a:ext cx="7920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кажите на карте крепости, основанные при Борисе Годунов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4" name="Управляющая кнопка: домой 3"/>
          <p:cNvGrpSpPr/>
          <p:nvPr/>
        </p:nvGrpSpPr>
        <p:grpSpPr>
          <a:xfrm>
            <a:off x="8096400" y="5894280"/>
            <a:ext cx="876240" cy="878040"/>
            <a:chOff x="8096400" y="5894280"/>
            <a:chExt cx="876240" cy="878040"/>
          </a:xfrm>
        </p:grpSpPr>
        <p:pic>
          <p:nvPicPr>
            <p:cNvPr id="41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96400" y="5894280"/>
              <a:ext cx="8762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8172360" y="5950080"/>
              <a:ext cx="7207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году в России было введено патриаршеств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9" name="Управляющая кнопка: домой 3"/>
          <p:cNvGrpSpPr/>
          <p:nvPr/>
        </p:nvGrpSpPr>
        <p:grpSpPr>
          <a:xfrm>
            <a:off x="7736040" y="5748480"/>
            <a:ext cx="1090440" cy="1023840"/>
            <a:chOff x="7736040" y="5748480"/>
            <a:chExt cx="1090440" cy="1023840"/>
          </a:xfrm>
        </p:grpSpPr>
        <p:pic>
          <p:nvPicPr>
            <p:cNvPr id="42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748480"/>
              <a:ext cx="10904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7812000" y="5805360"/>
              <a:ext cx="936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зовите имя княгини, которая очень жестоко отомстила за смерть своего муж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4" name="Управляющая кнопка: домой 3"/>
          <p:cNvGrpSpPr/>
          <p:nvPr/>
        </p:nvGrpSpPr>
        <p:grpSpPr>
          <a:xfrm>
            <a:off x="7948440" y="5748480"/>
            <a:ext cx="951120" cy="950760"/>
            <a:chOff x="7948440" y="5748480"/>
            <a:chExt cx="951120" cy="950760"/>
          </a:xfrm>
        </p:grpSpPr>
        <p:pic>
          <p:nvPicPr>
            <p:cNvPr id="42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948440" y="5748480"/>
              <a:ext cx="9511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8028000" y="5805360"/>
              <a:ext cx="792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Годы русско-шведской войны во время правления Б.Годуно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9" name="Управляющая кнопка: домой 3"/>
          <p:cNvGrpSpPr/>
          <p:nvPr/>
        </p:nvGrpSpPr>
        <p:grpSpPr>
          <a:xfrm>
            <a:off x="7802640" y="5748480"/>
            <a:ext cx="950760" cy="950760"/>
            <a:chOff x="7802640" y="5748480"/>
            <a:chExt cx="950760" cy="950760"/>
          </a:xfrm>
        </p:grpSpPr>
        <p:pic>
          <p:nvPicPr>
            <p:cNvPr id="43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02640" y="574848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7885080" y="5805360"/>
              <a:ext cx="790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434960" y="1447920"/>
          <a:ext cx="7385040" cy="4937040"/>
        </p:xfrm>
        <a:graphic>
          <a:graphicData uri="http://schemas.openxmlformats.org/drawingml/2006/table">
            <a:tbl>
              <a:tblPr/>
              <a:tblGrid>
                <a:gridCol w="1230480"/>
                <a:gridCol w="1231920"/>
                <a:gridCol w="1230120"/>
                <a:gridCol w="1230480"/>
                <a:gridCol w="1231920"/>
                <a:gridCol w="12301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</a:tbl>
          </a:graphicData>
        </a:graphic>
      </p:graphicFrame>
      <p:sp>
        <p:nvSpPr>
          <p:cNvPr id="322" name="Улыбающееся лицо 4">
            <a:hlinkClick r:id="rId1" action="ppaction://hlinksldjump"/>
          </p:cNvPr>
          <p:cNvSpPr/>
          <p:nvPr/>
        </p:nvSpPr>
        <p:spPr>
          <a:xfrm>
            <a:off x="2916360" y="2421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Улыбающееся лицо 5">
            <a:hlinkClick r:id="rId2" action="ppaction://hlinksldjump"/>
          </p:cNvPr>
          <p:cNvSpPr/>
          <p:nvPr/>
        </p:nvSpPr>
        <p:spPr>
          <a:xfrm>
            <a:off x="4140360" y="3213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Улыбающееся лицо 6">
            <a:hlinkClick r:id="rId3" action="ppaction://hlinksldjump"/>
          </p:cNvPr>
          <p:cNvSpPr/>
          <p:nvPr/>
        </p:nvSpPr>
        <p:spPr>
          <a:xfrm>
            <a:off x="2916360" y="3213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Улыбающееся лицо 7">
            <a:hlinkClick r:id="rId4" action="ppaction://hlinksldjump"/>
          </p:cNvPr>
          <p:cNvSpPr/>
          <p:nvPr/>
        </p:nvSpPr>
        <p:spPr>
          <a:xfrm>
            <a:off x="2916360" y="4005360"/>
            <a:ext cx="7189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лыбающееся лицо 8">
            <a:hlinkClick r:id="rId5" action="ppaction://hlinksldjump"/>
          </p:cNvPr>
          <p:cNvSpPr/>
          <p:nvPr/>
        </p:nvSpPr>
        <p:spPr>
          <a:xfrm>
            <a:off x="4140360" y="407664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Улыбающееся лицо 9">
            <a:hlinkClick r:id="rId6" action="ppaction://hlinksldjump"/>
          </p:cNvPr>
          <p:cNvSpPr/>
          <p:nvPr/>
        </p:nvSpPr>
        <p:spPr>
          <a:xfrm>
            <a:off x="5364000" y="400536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Улыбающееся лицо 10">
            <a:hlinkClick r:id="rId7" action="ppaction://hlinksldjump"/>
          </p:cNvPr>
          <p:cNvSpPr/>
          <p:nvPr/>
        </p:nvSpPr>
        <p:spPr>
          <a:xfrm>
            <a:off x="5364000" y="486900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Улыбающееся лицо 11">
            <a:hlinkClick r:id="rId8" action="ppaction://hlinksldjump"/>
          </p:cNvPr>
          <p:cNvSpPr/>
          <p:nvPr/>
        </p:nvSpPr>
        <p:spPr>
          <a:xfrm>
            <a:off x="4140360" y="4869000"/>
            <a:ext cx="7189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Улыбающееся лицо 12">
            <a:hlinkClick r:id="rId9" action="ppaction://hlinksldjump"/>
          </p:cNvPr>
          <p:cNvSpPr/>
          <p:nvPr/>
        </p:nvSpPr>
        <p:spPr>
          <a:xfrm>
            <a:off x="2987640" y="479736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Улыбающееся лицо 13">
            <a:hlinkClick r:id="rId10" action="ppaction://hlinksldjump"/>
          </p:cNvPr>
          <p:cNvSpPr/>
          <p:nvPr/>
        </p:nvSpPr>
        <p:spPr>
          <a:xfrm>
            <a:off x="5364000" y="566100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Улыбающееся лицо 14">
            <a:hlinkClick r:id="rId11" action="ppaction://hlinksldjump"/>
          </p:cNvPr>
          <p:cNvSpPr/>
          <p:nvPr/>
        </p:nvSpPr>
        <p:spPr>
          <a:xfrm>
            <a:off x="4140360" y="5661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Улыбающееся лицо 15">
            <a:hlinkClick r:id="rId12" action="ppaction://hlinksldjump"/>
          </p:cNvPr>
          <p:cNvSpPr/>
          <p:nvPr/>
        </p:nvSpPr>
        <p:spPr>
          <a:xfrm>
            <a:off x="2987640" y="566100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Улыбающееся лицо 16">
            <a:hlinkClick r:id="rId13" action="ppaction://hlinksldjump"/>
          </p:cNvPr>
          <p:cNvSpPr/>
          <p:nvPr/>
        </p:nvSpPr>
        <p:spPr>
          <a:xfrm>
            <a:off x="5292720" y="3213000"/>
            <a:ext cx="71928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Улыбающееся лицо 17">
            <a:hlinkClick r:id="rId14" action="ppaction://hlinksldjump"/>
          </p:cNvPr>
          <p:cNvSpPr/>
          <p:nvPr/>
        </p:nvSpPr>
        <p:spPr>
          <a:xfrm>
            <a:off x="5292720" y="2421000"/>
            <a:ext cx="71928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Улыбающееся лицо 18">
            <a:hlinkClick r:id="rId15" action="ppaction://hlinksldjump"/>
          </p:cNvPr>
          <p:cNvSpPr/>
          <p:nvPr/>
        </p:nvSpPr>
        <p:spPr>
          <a:xfrm>
            <a:off x="6659640" y="573264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Улыбающееся лицо 19">
            <a:hlinkClick r:id="rId16" action="ppaction://hlinksldjump"/>
          </p:cNvPr>
          <p:cNvSpPr/>
          <p:nvPr/>
        </p:nvSpPr>
        <p:spPr>
          <a:xfrm>
            <a:off x="6659640" y="486900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Улыбающееся лицо 20">
            <a:hlinkClick r:id="rId17" action="ppaction://hlinksldjump"/>
          </p:cNvPr>
          <p:cNvSpPr/>
          <p:nvPr/>
        </p:nvSpPr>
        <p:spPr>
          <a:xfrm>
            <a:off x="6659640" y="400536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Улыбающееся лицо 21">
            <a:hlinkClick r:id="rId18" action="ppaction://hlinksldjump"/>
          </p:cNvPr>
          <p:cNvSpPr/>
          <p:nvPr/>
        </p:nvSpPr>
        <p:spPr>
          <a:xfrm>
            <a:off x="6588000" y="321300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Улыбающееся лицо 22">
            <a:hlinkClick r:id="rId19" action="ppaction://hlinksldjump"/>
          </p:cNvPr>
          <p:cNvSpPr/>
          <p:nvPr/>
        </p:nvSpPr>
        <p:spPr>
          <a:xfrm>
            <a:off x="6516720" y="2349360"/>
            <a:ext cx="719280" cy="57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Улыбающееся лицо 23">
            <a:hlinkClick r:id="rId20" action="ppaction://hlinksldjump"/>
          </p:cNvPr>
          <p:cNvSpPr/>
          <p:nvPr/>
        </p:nvSpPr>
        <p:spPr>
          <a:xfrm>
            <a:off x="7956720" y="5732640"/>
            <a:ext cx="7189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Улыбающееся лицо 24">
            <a:hlinkClick r:id="rId21" action="ppaction://hlinksldjump"/>
          </p:cNvPr>
          <p:cNvSpPr/>
          <p:nvPr/>
        </p:nvSpPr>
        <p:spPr>
          <a:xfrm>
            <a:off x="7885080" y="4869000"/>
            <a:ext cx="71928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Улыбающееся лицо 25">
            <a:hlinkClick r:id="rId22" action="ppaction://hlinksldjump"/>
          </p:cNvPr>
          <p:cNvSpPr/>
          <p:nvPr/>
        </p:nvSpPr>
        <p:spPr>
          <a:xfrm>
            <a:off x="7812000" y="407664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Улыбающееся лицо 26">
            <a:hlinkClick r:id="rId23" action="ppaction://hlinksldjump"/>
          </p:cNvPr>
          <p:cNvSpPr/>
          <p:nvPr/>
        </p:nvSpPr>
        <p:spPr>
          <a:xfrm>
            <a:off x="7812000" y="328464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Улыбающееся лицо 27">
            <a:hlinkClick r:id="rId24" action="ppaction://hlinksldjump"/>
          </p:cNvPr>
          <p:cNvSpPr/>
          <p:nvPr/>
        </p:nvSpPr>
        <p:spPr>
          <a:xfrm>
            <a:off x="7885080" y="2349360"/>
            <a:ext cx="719280" cy="57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лыбающееся лицо 28">
            <a:hlinkClick r:id="rId25" action="ppaction://hlinksldjump"/>
          </p:cNvPr>
          <p:cNvSpPr/>
          <p:nvPr/>
        </p:nvSpPr>
        <p:spPr>
          <a:xfrm>
            <a:off x="4140360" y="2421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й русский царь был последним из рода Рюриковиче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34" name="Управляющая кнопка: домой 3"/>
          <p:cNvGrpSpPr/>
          <p:nvPr/>
        </p:nvGrpSpPr>
        <p:grpSpPr>
          <a:xfrm>
            <a:off x="8021520" y="5535720"/>
            <a:ext cx="1025640" cy="1023840"/>
            <a:chOff x="8021520" y="5535720"/>
            <a:chExt cx="1025640" cy="1023840"/>
          </a:xfrm>
        </p:grpSpPr>
        <p:pic>
          <p:nvPicPr>
            <p:cNvPr id="43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21520" y="553572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101080" y="55897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написал икону «Троица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39" name="Управляющая кнопка: домой 3"/>
          <p:cNvGrpSpPr/>
          <p:nvPr/>
        </p:nvGrpSpPr>
        <p:grpSpPr>
          <a:xfrm>
            <a:off x="8096400" y="5967360"/>
            <a:ext cx="876240" cy="878040"/>
            <a:chOff x="8096400" y="5967360"/>
            <a:chExt cx="876240" cy="878040"/>
          </a:xfrm>
        </p:grpSpPr>
        <p:pic>
          <p:nvPicPr>
            <p:cNvPr id="44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96400" y="5967360"/>
              <a:ext cx="8762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172360" y="6021360"/>
              <a:ext cx="720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Кто такой «тушинский вор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44" name="Управляющая кнопка: домой 3"/>
          <p:cNvGrpSpPr/>
          <p:nvPr/>
        </p:nvGrpSpPr>
        <p:grpSpPr>
          <a:xfrm>
            <a:off x="8163000" y="5748480"/>
            <a:ext cx="950760" cy="877680"/>
            <a:chOff x="8163000" y="5748480"/>
            <a:chExt cx="950760" cy="877680"/>
          </a:xfrm>
        </p:grpSpPr>
        <p:pic>
          <p:nvPicPr>
            <p:cNvPr id="44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163000" y="5748480"/>
              <a:ext cx="9507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8244000" y="5805360"/>
              <a:ext cx="79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ды правления Б. Годуно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49" name="Управляющая кнопка: домой 3"/>
          <p:cNvGrpSpPr/>
          <p:nvPr/>
        </p:nvGrpSpPr>
        <p:grpSpPr>
          <a:xfrm>
            <a:off x="7875720" y="5389560"/>
            <a:ext cx="1023840" cy="1236600"/>
            <a:chOff x="7875720" y="5389560"/>
            <a:chExt cx="1023840" cy="1236600"/>
          </a:xfrm>
        </p:grpSpPr>
        <p:pic>
          <p:nvPicPr>
            <p:cNvPr id="45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389560"/>
              <a:ext cx="10238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956720" y="5445000"/>
              <a:ext cx="8632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значает слово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асек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54" name="Управляющая кнопка: домой 3"/>
          <p:cNvGrpSpPr/>
          <p:nvPr/>
        </p:nvGrpSpPr>
        <p:grpSpPr>
          <a:xfrm>
            <a:off x="7875720" y="5315040"/>
            <a:ext cx="950760" cy="1311120"/>
            <a:chOff x="7875720" y="5315040"/>
            <a:chExt cx="950760" cy="1311120"/>
          </a:xfrm>
        </p:grpSpPr>
        <p:pic>
          <p:nvPicPr>
            <p:cNvPr id="45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315040"/>
              <a:ext cx="9507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956720" y="5373720"/>
              <a:ext cx="79200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ьте, к какому году относятся описываемые историком события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«Младший сын Грозного, царевич Дмитрий, погиб в Угличе в полдень 15 мая. Повести и сказания Смутного времени заполнены живописными подробностями его убийства. Но среди их авторов не было ни одного очевидца угличских событий. Следственные материалы свидетельствуют о непричастности Бориса к смерти ца­ревича. К моменту смерти царевича не исчезла полностью возможность рождения законного наследника в семье Фед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икто не мог точно предсказать, кому достанется трон. Из близких родственников царя наибольшими шансами обладал не Годунов, ими обладали Романов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59" name="Управляющая кнопка: домой 3"/>
          <p:cNvGrpSpPr/>
          <p:nvPr/>
        </p:nvGrpSpPr>
        <p:grpSpPr>
          <a:xfrm>
            <a:off x="7662960" y="5462640"/>
            <a:ext cx="1090440" cy="1236600"/>
            <a:chOff x="7662960" y="5462640"/>
            <a:chExt cx="1090440" cy="1236600"/>
          </a:xfrm>
        </p:grpSpPr>
        <p:pic>
          <p:nvPicPr>
            <p:cNvPr id="46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662960" y="5462640"/>
              <a:ext cx="10904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740720" y="5516640"/>
              <a:ext cx="9349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именем какого царя связывают интенсивное городское строительство, введение патриаршества, облегчение положения посадских людей в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V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4" name="Управляющая кнопка: домой 3"/>
          <p:cNvGrpSpPr/>
          <p:nvPr/>
        </p:nvGrpSpPr>
        <p:grpSpPr>
          <a:xfrm>
            <a:off x="7875720" y="5462640"/>
            <a:ext cx="950760" cy="1096920"/>
            <a:chOff x="7875720" y="5462640"/>
            <a:chExt cx="950760" cy="1096920"/>
          </a:xfrm>
        </p:grpSpPr>
        <p:pic>
          <p:nvPicPr>
            <p:cNvPr id="46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462640"/>
              <a:ext cx="950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956720" y="5516640"/>
              <a:ext cx="79200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такое ун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9" name="Управляющая кнопка: домой 3"/>
          <p:cNvGrpSpPr/>
          <p:nvPr/>
        </p:nvGrpSpPr>
        <p:grpSpPr>
          <a:xfrm>
            <a:off x="7736040" y="5389560"/>
            <a:ext cx="944280" cy="1236600"/>
            <a:chOff x="7736040" y="5389560"/>
            <a:chExt cx="944280" cy="1236600"/>
          </a:xfrm>
        </p:grpSpPr>
        <p:pic>
          <p:nvPicPr>
            <p:cNvPr id="47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389560"/>
              <a:ext cx="9442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7812000" y="5445000"/>
              <a:ext cx="792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такое ирригац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4" name="Управляющая кнопка: домой 3"/>
          <p:cNvGrpSpPr/>
          <p:nvPr/>
        </p:nvGrpSpPr>
        <p:grpSpPr>
          <a:xfrm>
            <a:off x="7802640" y="5462640"/>
            <a:ext cx="1023840" cy="1236600"/>
            <a:chOff x="7802640" y="5462640"/>
            <a:chExt cx="1023840" cy="1236600"/>
          </a:xfrm>
        </p:grpSpPr>
        <p:pic>
          <p:nvPicPr>
            <p:cNvPr id="47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02640" y="5462640"/>
              <a:ext cx="10238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885080" y="5516640"/>
              <a:ext cx="863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становите соответствие между датами и событиями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а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581 г.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589 г.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597 г.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591 г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) учреждение патриаршеств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) «угличская драма»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) введение «заповедных лет»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) введение «урочных лет»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9" name="Управляющая кнопка: домой 3"/>
          <p:cNvGrpSpPr/>
          <p:nvPr/>
        </p:nvGrpSpPr>
        <p:grpSpPr>
          <a:xfrm>
            <a:off x="8096400" y="5821200"/>
            <a:ext cx="876240" cy="951120"/>
            <a:chOff x="8096400" y="5821200"/>
            <a:chExt cx="876240" cy="951120"/>
          </a:xfrm>
        </p:grpSpPr>
        <p:pic>
          <p:nvPicPr>
            <p:cNvPr id="48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96400" y="5821200"/>
              <a:ext cx="876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8172360" y="5877000"/>
              <a:ext cx="7207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называют летописям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49" name="Управляющая кнопка: домой 3"/>
          <p:cNvGrpSpPr/>
          <p:nvPr/>
        </p:nvGrpSpPr>
        <p:grpSpPr>
          <a:xfrm>
            <a:off x="8163000" y="5675400"/>
            <a:ext cx="884160" cy="1096920"/>
            <a:chOff x="8163000" y="5675400"/>
            <a:chExt cx="884160" cy="1096920"/>
          </a:xfrm>
        </p:grpSpPr>
        <p:pic>
          <p:nvPicPr>
            <p:cNvPr id="35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163000" y="5675400"/>
              <a:ext cx="884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8244000" y="5732640"/>
              <a:ext cx="7207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сказалась гибель царевича Дмитрия в Угличе на судьбе Бориса Годуно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84" name="Управляющая кнопка: домой 3"/>
          <p:cNvGrpSpPr/>
          <p:nvPr/>
        </p:nvGrpSpPr>
        <p:grpSpPr>
          <a:xfrm>
            <a:off x="7736040" y="5389560"/>
            <a:ext cx="877680" cy="1096920"/>
            <a:chOff x="7736040" y="5389560"/>
            <a:chExt cx="877680" cy="1096920"/>
          </a:xfrm>
        </p:grpSpPr>
        <p:pic>
          <p:nvPicPr>
            <p:cNvPr id="48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389560"/>
              <a:ext cx="8776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7812000" y="5445000"/>
              <a:ext cx="720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 одном из деятелей Смутного времени в официальной ле­тописи говорилось: «Пришел из Кромы, из Путивля всему злу вор и завотчик и всех злых дел начальник». О ком идет реч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89" name="Управляющая кнопка: домой 3"/>
          <p:cNvGrpSpPr/>
          <p:nvPr/>
        </p:nvGrpSpPr>
        <p:grpSpPr>
          <a:xfrm>
            <a:off x="7662960" y="5608800"/>
            <a:ext cx="1090440" cy="1090440"/>
            <a:chOff x="7662960" y="5608800"/>
            <a:chExt cx="1090440" cy="1090440"/>
          </a:xfrm>
        </p:grpSpPr>
        <p:pic>
          <p:nvPicPr>
            <p:cNvPr id="49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662960" y="5608800"/>
              <a:ext cx="10904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740720" y="5661000"/>
              <a:ext cx="9349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триарх Гермоген писал о тех, кто обещал своим сторонни­кам «давати боярство, и воеводство, и окольничество, и дьячество... и жены их и вотчины, и поместья». Кто давал такие обещан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94" name="Управляющая кнопка: домой 3"/>
          <p:cNvGrpSpPr/>
          <p:nvPr/>
        </p:nvGrpSpPr>
        <p:grpSpPr>
          <a:xfrm>
            <a:off x="7875720" y="5462640"/>
            <a:ext cx="1023840" cy="1163520"/>
            <a:chOff x="7875720" y="5462640"/>
            <a:chExt cx="1023840" cy="1163520"/>
          </a:xfrm>
        </p:grpSpPr>
        <p:pic>
          <p:nvPicPr>
            <p:cNvPr id="49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462640"/>
              <a:ext cx="102384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956720" y="5516640"/>
              <a:ext cx="863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На кого в борьбе с «тушинским вором» правительство В. Шуйского делало основную ставк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99" name="Управляющая кнопка: домой 3"/>
          <p:cNvGrpSpPr/>
          <p:nvPr/>
        </p:nvGrpSpPr>
        <p:grpSpPr>
          <a:xfrm>
            <a:off x="7802640" y="5675400"/>
            <a:ext cx="950760" cy="950760"/>
            <a:chOff x="7802640" y="5675400"/>
            <a:chExt cx="950760" cy="950760"/>
          </a:xfrm>
        </p:grpSpPr>
        <p:pic>
          <p:nvPicPr>
            <p:cNvPr id="50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02640" y="567540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7885080" y="5732640"/>
              <a:ext cx="790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значает понятие «крестоцеловальная запись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4" name="Управляющая кнопка: домой 3"/>
          <p:cNvGrpSpPr/>
          <p:nvPr/>
        </p:nvGrpSpPr>
        <p:grpSpPr>
          <a:xfrm>
            <a:off x="8021520" y="5748480"/>
            <a:ext cx="951120" cy="950760"/>
            <a:chOff x="8021520" y="5748480"/>
            <a:chExt cx="951120" cy="950760"/>
          </a:xfrm>
        </p:grpSpPr>
        <p:pic>
          <p:nvPicPr>
            <p:cNvPr id="50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21520" y="5748480"/>
              <a:ext cx="9511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8101080" y="5805360"/>
              <a:ext cx="792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 Расположите в хронологической последовательности собы­тия Смутного времени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а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царствование Б. Годунов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емибоярщин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сстание под руководством И. Болотников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свобождение Москвы от поля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царствование Василия Шуйского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е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глашение на российский престол королевича Владисла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9" name="Управляющая кнопка: домой 3"/>
          <p:cNvGrpSpPr/>
          <p:nvPr/>
        </p:nvGrpSpPr>
        <p:grpSpPr>
          <a:xfrm>
            <a:off x="7736040" y="5675400"/>
            <a:ext cx="1090440" cy="1096920"/>
            <a:chOff x="7736040" y="5675400"/>
            <a:chExt cx="1090440" cy="1096920"/>
          </a:xfrm>
        </p:grpSpPr>
        <p:pic>
          <p:nvPicPr>
            <p:cNvPr id="51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675400"/>
              <a:ext cx="10904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812000" y="5732640"/>
              <a:ext cx="9367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му принадлежат эти слова в поэме К. Ф. Рылеев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ателя, мнили, во мне вы нашли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х нет и не будет на Русской земли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ей каждый отчизну с младенчества люби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душу изменой свою не погубит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14" name="Управляющая кнопка: домой 3"/>
          <p:cNvGrpSpPr/>
          <p:nvPr/>
        </p:nvGrpSpPr>
        <p:grpSpPr>
          <a:xfrm>
            <a:off x="7516800" y="5389560"/>
            <a:ext cx="1236600" cy="1236600"/>
            <a:chOff x="7516800" y="5389560"/>
            <a:chExt cx="1236600" cy="1236600"/>
          </a:xfrm>
        </p:grpSpPr>
        <p:pic>
          <p:nvPicPr>
            <p:cNvPr id="51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16800" y="5389560"/>
              <a:ext cx="1236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596360" y="5445000"/>
              <a:ext cx="10792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 особа была женой двух людей, одинаково ложно носивших одно имя и под одинаковыми же именами вошедших в историю. Кто он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19" name="Управляющая кнопка: домой 3"/>
          <p:cNvGrpSpPr/>
          <p:nvPr/>
        </p:nvGrpSpPr>
        <p:grpSpPr>
          <a:xfrm>
            <a:off x="7948440" y="5821200"/>
            <a:ext cx="951120" cy="1024200"/>
            <a:chOff x="7948440" y="5821200"/>
            <a:chExt cx="951120" cy="1024200"/>
          </a:xfrm>
        </p:grpSpPr>
        <p:pic>
          <p:nvPicPr>
            <p:cNvPr id="52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948440" y="5821200"/>
              <a:ext cx="9511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8028000" y="5877000"/>
              <a:ext cx="7920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пределите и выпишите имена тех людей, о которых сказа­ны следующие слова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«.. .Он принадлежал к числу тех злосчастных людей, которые и привлекали к себе, и отталкивали от себя, - привлекали видимы­ми качествами ума и таланта, отталкивали незримыми, но чуемыми недостатками сердца и совести. Он умел вызывать удивление и признательность, но никому не внушал доверия, его всегда подоз­ревали в двуличии и коварстве и считали на все способны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24" name="Управляющая кнопка: домой 3"/>
          <p:cNvGrpSpPr/>
          <p:nvPr/>
        </p:nvGrpSpPr>
        <p:grpSpPr>
          <a:xfrm>
            <a:off x="7875720" y="5675400"/>
            <a:ext cx="877680" cy="1096920"/>
            <a:chOff x="7875720" y="5675400"/>
            <a:chExt cx="877680" cy="1096920"/>
          </a:xfrm>
        </p:grpSpPr>
        <p:pic>
          <p:nvPicPr>
            <p:cNvPr id="52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675400"/>
              <a:ext cx="8776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956720" y="5732640"/>
              <a:ext cx="7189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ком историк В. О. Ключевский писал: «...испечен в польской печке, а заквашен в Москве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29" name="Управляющая кнопка: домой 3"/>
          <p:cNvGrpSpPr/>
          <p:nvPr/>
        </p:nvGrpSpPr>
        <p:grpSpPr>
          <a:xfrm>
            <a:off x="7736040" y="5389560"/>
            <a:ext cx="944280" cy="1170000"/>
            <a:chOff x="7736040" y="5389560"/>
            <a:chExt cx="944280" cy="1170000"/>
          </a:xfrm>
        </p:grpSpPr>
        <p:pic>
          <p:nvPicPr>
            <p:cNvPr id="53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389560"/>
              <a:ext cx="944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7812000" y="5445000"/>
              <a:ext cx="79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году был издан указ об «урочных летах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4" name="Управляющая кнопка: домой 3"/>
          <p:cNvGrpSpPr/>
          <p:nvPr/>
        </p:nvGrpSpPr>
        <p:grpSpPr>
          <a:xfrm>
            <a:off x="7736040" y="5748480"/>
            <a:ext cx="1163520" cy="950760"/>
            <a:chOff x="7736040" y="5748480"/>
            <a:chExt cx="1163520" cy="950760"/>
          </a:xfrm>
        </p:grpSpPr>
        <p:pic>
          <p:nvPicPr>
            <p:cNvPr id="35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748480"/>
              <a:ext cx="11635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812000" y="580536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о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ком писал патриарх Гермоген, что тот обещал своим сторонникам «давати боярство и воеводство, и окольничество, и дья чество, и жены их, и вотчины, и поместья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34" name="Управляющая кнопка: домой 3"/>
          <p:cNvGrpSpPr/>
          <p:nvPr/>
        </p:nvGrpSpPr>
        <p:grpSpPr>
          <a:xfrm>
            <a:off x="7802640" y="5608800"/>
            <a:ext cx="877680" cy="950760"/>
            <a:chOff x="7802640" y="5608800"/>
            <a:chExt cx="877680" cy="950760"/>
          </a:xfrm>
        </p:grpSpPr>
        <p:pic>
          <p:nvPicPr>
            <p:cNvPr id="53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02640" y="5608800"/>
              <a:ext cx="8776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7885080" y="5661000"/>
              <a:ext cx="7192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  ком   из   русских   царей   Смутного   времени   историк В. О. Ключевский писал, что царь «превращался из государя холо­пов в правомерного царя подданных, правящего по законам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39" name="Управляющая кнопка: домой 3"/>
          <p:cNvGrpSpPr/>
          <p:nvPr/>
        </p:nvGrpSpPr>
        <p:grpSpPr>
          <a:xfrm>
            <a:off x="7370640" y="5608800"/>
            <a:ext cx="1024200" cy="1090440"/>
            <a:chOff x="7370640" y="5608800"/>
            <a:chExt cx="1024200" cy="1090440"/>
          </a:xfrm>
        </p:grpSpPr>
        <p:pic>
          <p:nvPicPr>
            <p:cNvPr id="54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70640" y="5608800"/>
              <a:ext cx="10242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451640" y="5661000"/>
              <a:ext cx="865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го признали царем келейно немногие сторонники из большого титулованного боярства, а на Красной площади имя его про­кричала преданная ему толпа москвичей, которых он поднял против самозванца и поляков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юди презрительно говорили, что царь был «выкликнут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44" name="Управляющая кнопка: домой 3"/>
          <p:cNvGrpSpPr/>
          <p:nvPr/>
        </p:nvGrpSpPr>
        <p:grpSpPr>
          <a:xfrm>
            <a:off x="7443720" y="5675400"/>
            <a:ext cx="1023840" cy="1096920"/>
            <a:chOff x="7443720" y="5675400"/>
            <a:chExt cx="1023840" cy="1096920"/>
          </a:xfrm>
        </p:grpSpPr>
        <p:pic>
          <p:nvPicPr>
            <p:cNvPr id="54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443720" y="5675400"/>
              <a:ext cx="102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524720" y="5732640"/>
              <a:ext cx="8636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...На престоле московских государей он был небывалым яв­лением... Богато одаренный, с бойким умом, легко разрешавший в Боярской думе самые трудные вопросы, с живым, даже пылким темпераментом, в опасные минуты доводившим его храбрость до удальства; податливый на увлечения, он был мастер говорить, об­наруживал и довольно разнообразные знания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н совершенно изменил чопорный порядок жизни старых мос­ковских государей и их угнетательное отношение к людям, нару­шал заветные обычаи священной московской старины: не спал по­сле обеда, не ходил в баню, со всеми обращался просто, обходи­тельно, не по-царски..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49" name="Управляющая кнопка: домой 3"/>
          <p:cNvGrpSpPr/>
          <p:nvPr/>
        </p:nvGrpSpPr>
        <p:grpSpPr>
          <a:xfrm>
            <a:off x="8236080" y="6108840"/>
            <a:ext cx="877680" cy="736560"/>
            <a:chOff x="8236080" y="6108840"/>
            <a:chExt cx="877680" cy="736560"/>
          </a:xfrm>
        </p:grpSpPr>
        <p:pic>
          <p:nvPicPr>
            <p:cNvPr id="55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8236080" y="6108840"/>
              <a:ext cx="8776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8317080" y="6165720"/>
              <a:ext cx="718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ему было собрано Первое ополчение? Охарактеризуйте его цели и расскажите о его состав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4" name="Управляющая кнопка: домой 3"/>
          <p:cNvGrpSpPr/>
          <p:nvPr/>
        </p:nvGrpSpPr>
        <p:grpSpPr>
          <a:xfrm>
            <a:off x="7875720" y="5608800"/>
            <a:ext cx="877680" cy="950760"/>
            <a:chOff x="7875720" y="5608800"/>
            <a:chExt cx="877680" cy="950760"/>
          </a:xfrm>
        </p:grpSpPr>
        <p:pic>
          <p:nvPicPr>
            <p:cNvPr id="555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875720" y="5608800"/>
              <a:ext cx="8776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7956720" y="5661000"/>
              <a:ext cx="718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чины Сму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9" name="Управляющая кнопка: домой 3"/>
          <p:cNvGrpSpPr/>
          <p:nvPr/>
        </p:nvGrpSpPr>
        <p:grpSpPr>
          <a:xfrm>
            <a:off x="7948440" y="5821200"/>
            <a:ext cx="804960" cy="951120"/>
            <a:chOff x="7948440" y="5821200"/>
            <a:chExt cx="804960" cy="951120"/>
          </a:xfrm>
        </p:grpSpPr>
        <p:pic>
          <p:nvPicPr>
            <p:cNvPr id="56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948440" y="5821200"/>
              <a:ext cx="80496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028000" y="5877000"/>
              <a:ext cx="647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гда, почему и как началась польская интервенц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64" name="Управляющая кнопка: домой 3"/>
          <p:cNvGrpSpPr/>
          <p:nvPr/>
        </p:nvGrpSpPr>
        <p:grpSpPr>
          <a:xfrm>
            <a:off x="8163000" y="5748480"/>
            <a:ext cx="809640" cy="950760"/>
            <a:chOff x="8163000" y="5748480"/>
            <a:chExt cx="809640" cy="950760"/>
          </a:xfrm>
        </p:grpSpPr>
        <p:pic>
          <p:nvPicPr>
            <p:cNvPr id="565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8163000" y="5748480"/>
              <a:ext cx="8096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8244000" y="5805360"/>
              <a:ext cx="649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ему Первое и Второе ополчения собирались не под Мо­сквой, не на юге, не на севере, а в Поволжь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69" name="Управляющая кнопка: домой 3"/>
          <p:cNvGrpSpPr/>
          <p:nvPr/>
        </p:nvGrpSpPr>
        <p:grpSpPr>
          <a:xfrm>
            <a:off x="7948440" y="5675400"/>
            <a:ext cx="878040" cy="1023840"/>
            <a:chOff x="7948440" y="5675400"/>
            <a:chExt cx="878040" cy="1023840"/>
          </a:xfrm>
        </p:grpSpPr>
        <p:pic>
          <p:nvPicPr>
            <p:cNvPr id="57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948440" y="5675400"/>
              <a:ext cx="8780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8028000" y="5732640"/>
              <a:ext cx="72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июле 1608 г. он основал свой стан в 15 верстах от Москвы, в селе Тушине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го значение особенно возросло с прибытием в Тушино Мари­ны с отцом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74" name="Управляющая кнопка: домой 3"/>
          <p:cNvGrpSpPr/>
          <p:nvPr/>
        </p:nvGrpSpPr>
        <p:grpSpPr>
          <a:xfrm>
            <a:off x="7875720" y="5535720"/>
            <a:ext cx="877680" cy="1090440"/>
            <a:chOff x="7875720" y="5535720"/>
            <a:chExt cx="877680" cy="1090440"/>
          </a:xfrm>
        </p:grpSpPr>
        <p:pic>
          <p:nvPicPr>
            <p:cNvPr id="575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875720" y="5535720"/>
              <a:ext cx="87768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7956720" y="5589720"/>
              <a:ext cx="7189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айте характеристику внутренней и внешней политики в царствование Федора Иоаннович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79" name="Управляющая кнопка: домой 3"/>
          <p:cNvGrpSpPr/>
          <p:nvPr/>
        </p:nvGrpSpPr>
        <p:grpSpPr>
          <a:xfrm>
            <a:off x="7875720" y="5675400"/>
            <a:ext cx="877680" cy="950760"/>
            <a:chOff x="7875720" y="5675400"/>
            <a:chExt cx="877680" cy="950760"/>
          </a:xfrm>
        </p:grpSpPr>
        <p:pic>
          <p:nvPicPr>
            <p:cNvPr id="58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875720" y="5675400"/>
              <a:ext cx="8776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956720" y="5732640"/>
              <a:ext cx="718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такой Василий Шуйски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9" name="Управляющая кнопка: домой 3"/>
          <p:cNvGrpSpPr/>
          <p:nvPr/>
        </p:nvGrpSpPr>
        <p:grpSpPr>
          <a:xfrm>
            <a:off x="7516800" y="5248440"/>
            <a:ext cx="1382760" cy="1311120"/>
            <a:chOff x="7516800" y="5248440"/>
            <a:chExt cx="1382760" cy="1311120"/>
          </a:xfrm>
        </p:grpSpPr>
        <p:pic>
          <p:nvPicPr>
            <p:cNvPr id="36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16800" y="5248440"/>
              <a:ext cx="13827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596360" y="5300640"/>
              <a:ext cx="122364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равните деятельность Лжедмитри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и Лжедмитри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84" name="Управляющая кнопка: домой 3"/>
          <p:cNvGrpSpPr/>
          <p:nvPr/>
        </p:nvGrpSpPr>
        <p:grpSpPr>
          <a:xfrm>
            <a:off x="7875720" y="5675400"/>
            <a:ext cx="950760" cy="950760"/>
            <a:chOff x="7875720" y="5675400"/>
            <a:chExt cx="950760" cy="950760"/>
          </a:xfrm>
        </p:grpSpPr>
        <p:pic>
          <p:nvPicPr>
            <p:cNvPr id="585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875720" y="567540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7956720" y="5732640"/>
              <a:ext cx="792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125000"/>
            <a:ext cx="74995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  прочитайте    стихотворение    поэта К. Д. Бальмонта «Время Бориса Годунова»: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лухие дни Бориса Годунова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мгле Российской пасмурной страны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пы людей скиталися без крова,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ночам всходило две луны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солнца по утрам светило с неба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вирепостью на дальней мир смотря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пль протяжный: «Хлеба! Хлеба! Хлеба!»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ьмы лесов стремился на царя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ах иссохшие скелеты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пали жадно чахлую траву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т - озверены и неодеты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ны осуществились наяву: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ба, отяжелевшие от гнили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ым давали смрадный адский хлеб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рту у мертвых сено находили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ждый дом был сумрачный вертеп..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людей блуждали смерть и злоба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ев комету, дрогнула земля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эти дни Димитрий встал из гроба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репьева свой дух переселя.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каких событиях рассказывается в стихотворении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89" name="Управляющая кнопка: домой 3"/>
          <p:cNvGrpSpPr/>
          <p:nvPr/>
        </p:nvGrpSpPr>
        <p:grpSpPr>
          <a:xfrm>
            <a:off x="7736040" y="5608800"/>
            <a:ext cx="877680" cy="1017360"/>
            <a:chOff x="7736040" y="5608800"/>
            <a:chExt cx="877680" cy="1017360"/>
          </a:xfrm>
        </p:grpSpPr>
        <p:pic>
          <p:nvPicPr>
            <p:cNvPr id="59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736040" y="5608800"/>
              <a:ext cx="87768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7812000" y="5661000"/>
              <a:ext cx="720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бозначает слово «семибоярщина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4" name="Управляющая кнопка: домой 3"/>
          <p:cNvGrpSpPr/>
          <p:nvPr/>
        </p:nvGrpSpPr>
        <p:grpSpPr>
          <a:xfrm>
            <a:off x="7662960" y="5462640"/>
            <a:ext cx="1017360" cy="1096920"/>
            <a:chOff x="7662960" y="5462640"/>
            <a:chExt cx="1017360" cy="1096920"/>
          </a:xfrm>
        </p:grpSpPr>
        <p:pic>
          <p:nvPicPr>
            <p:cNvPr id="36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662960" y="5462640"/>
              <a:ext cx="1017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7740720" y="5516640"/>
              <a:ext cx="8636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мя Лжедмитрия I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9" name="Управляющая кнопка: домой 3"/>
          <p:cNvGrpSpPr/>
          <p:nvPr/>
        </p:nvGrpSpPr>
        <p:grpSpPr>
          <a:xfrm>
            <a:off x="7516800" y="5389560"/>
            <a:ext cx="1163520" cy="1236600"/>
            <a:chOff x="7516800" y="5389560"/>
            <a:chExt cx="1163520" cy="1236600"/>
          </a:xfrm>
        </p:grpSpPr>
        <p:pic>
          <p:nvPicPr>
            <p:cNvPr id="37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16800" y="5389560"/>
              <a:ext cx="11635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596360" y="5445000"/>
              <a:ext cx="100800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е село стало второй столицей Лжедмитри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4" name="Управляющая кнопка: домой 3"/>
          <p:cNvGrpSpPr/>
          <p:nvPr/>
        </p:nvGrpSpPr>
        <p:grpSpPr>
          <a:xfrm>
            <a:off x="7875720" y="5608800"/>
            <a:ext cx="1023840" cy="1090440"/>
            <a:chOff x="7875720" y="5608800"/>
            <a:chExt cx="1023840" cy="1090440"/>
          </a:xfrm>
        </p:grpSpPr>
        <p:pic>
          <p:nvPicPr>
            <p:cNvPr id="37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608800"/>
              <a:ext cx="10238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956720" y="5661000"/>
              <a:ext cx="8632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В каком году появился первый самозванец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9" name="Управляющая кнопка: домой 3"/>
          <p:cNvGrpSpPr/>
          <p:nvPr/>
        </p:nvGrpSpPr>
        <p:grpSpPr>
          <a:xfrm>
            <a:off x="7736040" y="5821200"/>
            <a:ext cx="1163520" cy="951120"/>
            <a:chOff x="7736040" y="5821200"/>
            <a:chExt cx="1163520" cy="951120"/>
          </a:xfrm>
        </p:grpSpPr>
        <p:pic>
          <p:nvPicPr>
            <p:cNvPr id="38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821200"/>
              <a:ext cx="116352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812000" y="587700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6:34:23Z</dcterms:created>
  <dc:creator>admin</dc:creator>
  <dc:description/>
  <dc:language>en-US</dc:language>
  <cp:lastModifiedBy>admin</cp:lastModifiedBy>
  <dcterms:modified xsi:type="dcterms:W3CDTF">2016-09-20T08:59:50Z</dcterms:modified>
  <cp:revision>14</cp:revision>
  <dc:subject/>
  <dc:title>Морской бой  Смутное время</dc:title>
</cp:coreProperties>
</file>