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BFE-8799-4C9E-969F-77969938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F8C-5F69-4E92-9B4B-98977FB2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BA1-263F-4E90-84EB-C9D8BF92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A89-73E9-4D18-BACC-F353BB89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51B7-699C-42D6-A155-C1E8690D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C607-F6DE-4C09-A6AA-E0ACF7F9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2E33-2C78-4D78-B320-D9AE8B46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36BD-72F9-43F2-83D8-9E76991D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65C3-003A-431A-8602-EF6BCB7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CF82-C23A-44F1-9E2A-6FE9AE59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4B2D-FED0-40A1-83EA-58B98532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AF1-184D-457C-8061-8F566625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6A0B-C9E4-4911-9667-7544F437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2811-6729-4838-8C3E-A146CAA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2A4-6DCD-4E21-A264-7C973EC5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26D2-25EC-44F6-AB6D-C5DBCAF8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0364-1E0A-4E81-A527-988E0720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A4C-A984-40F7-A7A8-B9C67422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0D6-3B7B-4965-BE6A-9C43D12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425-DA13-49C1-B176-9EA4D9BB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A70-F057-4BE9-B54B-B249862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013-D002-4152-8D96-153A761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E4B-7B3D-4C8B-BBC6-A890C05D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095-C304-4E12-9F8F-7CD5E2F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Рустам\AppData\Local\Microsoft\Windows\Temporary Internet Files\Content.IE5\8KMBAFVE\MP900439212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t-Metropo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2CA7-4998-455E-9AD8-2647FB516262}" type="slidenum"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Рустам\AppData\Local\Microsoft\Windows\Temporary Internet Files\Content.IE5\8KMBAFVE\MP900439212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Рустам\AppData\Local\Microsoft\Windows\Temporary Internet Files\Content.IE5\3LS0K0KD\MP900439231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t-Metropo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F76-18A9-4461-BDE6-FB37D98A3CB5}" type="slidenum"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3280" y="691920"/>
            <a:ext cx="414036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Московское государств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в конце</a:t>
            </a:r>
            <a:r>
              <a:rPr b="0" lang="en-US" sz="4400" spc="-1" strike="noStrike">
                <a:solidFill>
                  <a:srgbClr val="000000"/>
                </a:solidFill>
                <a:latin typeface="Art-Metropol"/>
              </a:rPr>
              <a:t> XV</a:t>
            </a: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- начале </a:t>
            </a:r>
            <a:r>
              <a:rPr b="0" lang="en-US" sz="4400" spc="-1" strike="noStrike">
                <a:solidFill>
                  <a:srgbClr val="000000"/>
                </a:solidFill>
                <a:latin typeface="Art-Metropol"/>
              </a:rPr>
              <a:t>XVI</a:t>
            </a: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64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59280" y="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505 году правление Ивана закончилось. В последние десятилетия государь всея Руси становился все более грозным. Как пишут летописцы, робкие женщины падали в обморок от его гневных взглядов, просители боялись подходить к трону, бояре на пирах без разрешения ни слова не смели шепнуть, ни тронуться с места, а когда старый князь от вина и усталости впадал за столом в дремоту, все часами сидели в молчании. Знатных бояр и церковных иерархов Ива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 лишить чинов и, как последних холопов, высечь на тор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ages.mreadz.com/305/304591/149.png"/>
          <p:cNvPicPr/>
          <p:nvPr/>
        </p:nvPicPr>
        <p:blipFill>
          <a:blip r:embed="rId1"/>
          <a:stretch/>
        </p:blipFill>
        <p:spPr>
          <a:xfrm>
            <a:off x="0" y="1700280"/>
            <a:ext cx="3162240" cy="4286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-360" y="404640"/>
            <a:ext cx="3924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что дало княж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а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с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storytournik.ru/wp-content/uploads/2015/10/smert-ivana-iii-god-3.jpg"/>
          <p:cNvPicPr/>
          <p:nvPr/>
        </p:nvPicPr>
        <p:blipFill>
          <a:blip r:embed="rId1"/>
          <a:stretch/>
        </p:blipFill>
        <p:spPr>
          <a:xfrm>
            <a:off x="3924360" y="1125360"/>
            <a:ext cx="4833720" cy="5732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жеская вл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.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е пре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нстьянс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ryazan.gks.ru/wps/wcm/connect/rosstat_ts/ryazan/resources/1df18b00403718ecb470f70fa8517bb1/%D0%BF%D0%BB%D0%B0%D0%BD.png"/>
          <p:cNvPicPr/>
          <p:nvPr/>
        </p:nvPicPr>
        <p:blipFill>
          <a:blip r:embed="rId1"/>
          <a:stretch/>
        </p:blipFill>
        <p:spPr>
          <a:xfrm>
            <a:off x="0" y="0"/>
            <a:ext cx="5691240" cy="302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68360" y="404640"/>
          <a:ext cx="2038320" cy="3456000"/>
        </p:xfrm>
        <a:graphic>
          <a:graphicData uri="http://schemas.openxmlformats.org/drawingml/2006/table">
            <a:tbl>
              <a:tblPr/>
              <a:tblGrid>
                <a:gridCol w="2038320"/>
              </a:tblGrid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т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ы власти, церемо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56000" y="404640"/>
          <a:ext cx="6048360" cy="331164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ликий княз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ь всея Ру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держав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 – двуглавый ор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петр и держ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на – шапка Монома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 целования государевой р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2" descr="http://900igr.net/datai/mkhk/Eksponaty-oruzhejnoj-palaty/0022-032-Zal-gosudarstvennykh-regalij.jpg"/>
          <p:cNvPicPr/>
          <p:nvPr/>
        </p:nvPicPr>
        <p:blipFill>
          <a:blip r:embed="rId1"/>
          <a:stretch/>
        </p:blipFill>
        <p:spPr>
          <a:xfrm>
            <a:off x="0" y="3933720"/>
            <a:ext cx="2800440" cy="267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stihi.ru/pics/2013/11/30/3934.gif"/>
          <p:cNvPicPr/>
          <p:nvPr/>
        </p:nvPicPr>
        <p:blipFill>
          <a:blip r:embed="rId2"/>
          <a:stretch/>
        </p:blipFill>
        <p:spPr>
          <a:xfrm>
            <a:off x="6875640" y="3716280"/>
            <a:ext cx="2038320" cy="285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i.ucrazy.ru/files/i/2011.12.17/1324139367_coat_arms_of_moscow_xv.gif"/>
          <p:cNvPicPr/>
          <p:nvPr/>
        </p:nvPicPr>
        <p:blipFill>
          <a:blip r:embed="rId3"/>
          <a:stretch/>
        </p:blipFill>
        <p:spPr>
          <a:xfrm>
            <a:off x="3348000" y="3619440"/>
            <a:ext cx="2914560" cy="3238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3"/>
          <p:cNvSpPr/>
          <p:nvPr/>
        </p:nvSpPr>
        <p:spPr>
          <a:xfrm>
            <a:off x="2700360" y="0"/>
            <a:ext cx="352728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ь всея Ру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1042920" y="620640"/>
            <a:ext cx="727416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ет законы, ведет переговоры, война и мир, чеканит монету, возглавляет важные по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трелка вниз 8"/>
          <p:cNvSpPr/>
          <p:nvPr/>
        </p:nvSpPr>
        <p:spPr>
          <a:xfrm>
            <a:off x="1116000" y="1268280"/>
            <a:ext cx="287280" cy="936720"/>
          </a:xfrm>
          <a:prstGeom prst="downArrow">
            <a:avLst>
              <a:gd name="adj1" fmla="val 50000"/>
              <a:gd name="adj2" fmla="val 501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трелка вниз 9"/>
          <p:cNvSpPr/>
          <p:nvPr/>
        </p:nvSpPr>
        <p:spPr>
          <a:xfrm>
            <a:off x="3995640" y="1268280"/>
            <a:ext cx="289080" cy="936720"/>
          </a:xfrm>
          <a:prstGeom prst="downArrow">
            <a:avLst>
              <a:gd name="adj1" fmla="val 50000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трелка вниз 10"/>
          <p:cNvSpPr/>
          <p:nvPr/>
        </p:nvSpPr>
        <p:spPr>
          <a:xfrm>
            <a:off x="7236000" y="1268280"/>
            <a:ext cx="288720" cy="93672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0" y="2205000"/>
            <a:ext cx="241128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оярская д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12"/>
          <p:cNvSpPr/>
          <p:nvPr/>
        </p:nvSpPr>
        <p:spPr>
          <a:xfrm>
            <a:off x="2987640" y="2205000"/>
            <a:ext cx="241128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вор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13"/>
          <p:cNvSpPr/>
          <p:nvPr/>
        </p:nvSpPr>
        <p:spPr>
          <a:xfrm>
            <a:off x="6227640" y="2205000"/>
            <a:ext cx="241164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з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14"/>
          <p:cNvSpPr/>
          <p:nvPr/>
        </p:nvSpPr>
        <p:spPr>
          <a:xfrm>
            <a:off x="0" y="2924280"/>
            <a:ext cx="2700360" cy="223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старинные боярские роды: 10-12 бояр, 5-6 окольнич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15"/>
          <p:cNvSpPr/>
          <p:nvPr/>
        </p:nvSpPr>
        <p:spPr>
          <a:xfrm>
            <a:off x="2987640" y="2924280"/>
            <a:ext cx="2700360" cy="324144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241440"/>
              <a:gd name="textAreaBottom" fmla="*/ 3109680 h 3241440"/>
            </a:gdLst>
            <a:ahLst/>
            <a:rect l="textAreaLeft" t="textAreaTop" r="textAreaRight" b="textAreaBottom"/>
            <a:pathLst>
              <a:path w="21600" h="25927">
                <a:moveTo>
                  <a:pt x="3600" y="0"/>
                </a:moveTo>
                <a:arcTo wR="3600" hR="3600" stAng="16200000" swAng="-5400000"/>
                <a:lnTo>
                  <a:pt x="0" y="22327"/>
                </a:lnTo>
                <a:arcTo wR="3600" hR="3600" stAng="10800000" swAng="-5400000"/>
                <a:lnTo>
                  <a:pt x="18000" y="259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ает землями великого княз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т земельные сп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т с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16"/>
          <p:cNvSpPr/>
          <p:nvPr/>
        </p:nvSpPr>
        <p:spPr>
          <a:xfrm>
            <a:off x="6084720" y="2924280"/>
            <a:ext cx="3059280" cy="3673440"/>
          </a:xfrm>
          <a:custGeom>
            <a:avLst/>
            <a:gdLst>
              <a:gd name="textAreaLeft" fmla="*/ 149040 w 3059280"/>
              <a:gd name="textAreaRight" fmla="*/ 2910240 w 3059280"/>
              <a:gd name="textAreaTop" fmla="*/ 149040 h 3673440"/>
              <a:gd name="textAreaBottom" fmla="*/ 3524400 h 3673440"/>
            </a:gdLst>
            <a:ahLst/>
            <a:rect l="textAreaLeft" t="textAreaTop" r="textAreaRight" b="textAreaBottom"/>
            <a:pathLst>
              <a:path w="21600" h="25936">
                <a:moveTo>
                  <a:pt x="3600" y="0"/>
                </a:moveTo>
                <a:arcTo wR="3600" hR="3600" stAng="16200000" swAng="-5400000"/>
                <a:lnTo>
                  <a:pt x="0" y="22336"/>
                </a:lnTo>
                <a:arcTo wR="3600" hR="3600" stAng="10800000" swAng="-5400000"/>
                <a:lnTo>
                  <a:pt x="18000" y="25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 и таможенные пошл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ся гос.печать, гос.архи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внешне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3"/>
          <p:cNvSpPr/>
          <p:nvPr/>
        </p:nvSpPr>
        <p:spPr>
          <a:xfrm>
            <a:off x="611280" y="620640"/>
            <a:ext cx="388944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1908000" y="3645000"/>
            <a:ext cx="388800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ти и ст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1187280" y="1989000"/>
            <a:ext cx="388944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ез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6"/>
          <p:cNvSpPr/>
          <p:nvPr/>
        </p:nvSpPr>
        <p:spPr>
          <a:xfrm>
            <a:off x="3492360" y="1700280"/>
            <a:ext cx="35892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вниз 7"/>
          <p:cNvSpPr/>
          <p:nvPr/>
        </p:nvSpPr>
        <p:spPr>
          <a:xfrm>
            <a:off x="4211640" y="3068640"/>
            <a:ext cx="360360" cy="57636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8"/>
          <p:cNvSpPr/>
          <p:nvPr/>
        </p:nvSpPr>
        <p:spPr>
          <a:xfrm>
            <a:off x="5256360" y="1989000"/>
            <a:ext cx="388764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стник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оги, исполнение законов, суд и рас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8"/>
          <p:cNvSpPr/>
          <p:nvPr/>
        </p:nvSpPr>
        <p:spPr>
          <a:xfrm>
            <a:off x="468360" y="620640"/>
            <a:ext cx="2303280" cy="50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мление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9"/>
          <p:cNvSpPr/>
          <p:nvPr/>
        </p:nvSpPr>
        <p:spPr>
          <a:xfrm>
            <a:off x="0" y="1341360"/>
            <a:ext cx="50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одержания должностных лиц за счет местного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s://ru.wiki2.org/wikipedia/commons/thumb/7/7d/%D0%A2%D1%80%D1%83%D1%82%D0%BE%D0%B2%D1%81%D0%BA%D0%B8%D0%B9._%D1%81%D0%B1%D0%BE%D1%80_%D0%BD%D0%B5%D0%B4%D0%BE%D0%B8%D0%BC%D0%BE%D0%BA_%D0%BD%D0%B0_%D1%81%D0%B5%D0%BB%D0%B5.jpg/im344-%D0%A2%D1%80%D1%83%D1%82%D0%BE%D0%B2%D1%81%D0%BA%D0%B8%D0%B9._%D1%81%D0%B1%D0%BE%D1%80_%D0%BD%D0%B5%D0%B4%D0%BE%D0%B8%D0%BC%D0%BE%D0%BA_%D0%BD%D0%B0_%D1%81%D0%B5%D0%BB%D0%B5.jpg"/>
          <p:cNvPicPr/>
          <p:nvPr/>
        </p:nvPicPr>
        <p:blipFill>
          <a:blip r:embed="rId1"/>
          <a:stretch/>
        </p:blipFill>
        <p:spPr>
          <a:xfrm>
            <a:off x="5183280" y="0"/>
            <a:ext cx="3960720" cy="288936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10"/>
          <p:cNvSpPr/>
          <p:nvPr/>
        </p:nvSpPr>
        <p:spPr>
          <a:xfrm>
            <a:off x="324000" y="2997360"/>
            <a:ext cx="2447640" cy="50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ничест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11"/>
          <p:cNvSpPr/>
          <p:nvPr/>
        </p:nvSpPr>
        <p:spPr>
          <a:xfrm>
            <a:off x="250920" y="3573360"/>
            <a:ext cx="5184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должностей в зависимости от знатности 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http://img3.proshkolu.ru/content/media/pic/std/1000000/863000/862288-96bcddc54dd654a9.jpg"/>
          <p:cNvPicPr/>
          <p:nvPr/>
        </p:nvPicPr>
        <p:blipFill>
          <a:blip r:embed="rId2"/>
          <a:stretch/>
        </p:blipFill>
        <p:spPr>
          <a:xfrm>
            <a:off x="5048280" y="3914640"/>
            <a:ext cx="4095720" cy="2943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3"/>
          <p:cNvSpPr/>
          <p:nvPr/>
        </p:nvSpPr>
        <p:spPr>
          <a:xfrm>
            <a:off x="468360" y="62064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7 год – Судебник Ива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вод законов единого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antiquebooks.ru/pic/logo_pic/4/93426_2.jpg"/>
          <p:cNvPicPr/>
          <p:nvPr/>
        </p:nvPicPr>
        <p:blipFill>
          <a:blip r:embed="rId1"/>
          <a:stretch/>
        </p:blipFill>
        <p:spPr>
          <a:xfrm>
            <a:off x="250920" y="1773360"/>
            <a:ext cx="3686040" cy="428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russianamericansarts.us/uploads/0b/cf/0bcf07f7a889ade1b1efe0b022cfa48c/4-1-.jpg"/>
          <p:cNvPicPr/>
          <p:nvPr/>
        </p:nvPicPr>
        <p:blipFill>
          <a:blip r:embed="rId2"/>
          <a:stretch/>
        </p:blipFill>
        <p:spPr>
          <a:xfrm>
            <a:off x="3905280" y="3371760"/>
            <a:ext cx="5238720" cy="3486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Поместье:</a:t>
            </a: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267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е земельное 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ремя несения военной служ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продать, подарить, завещ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нязь мог отобр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storage1.tvidi.ru/MyWorld/Users/2/1/0/2269541_130136380558172673377_Medium.jpg"/>
          <p:cNvPicPr/>
          <p:nvPr/>
        </p:nvPicPr>
        <p:blipFill>
          <a:blip r:embed="rId1"/>
          <a:stretch/>
        </p:blipFill>
        <p:spPr>
          <a:xfrm>
            <a:off x="529272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0" y="3573360"/>
            <a:ext cx="50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Землей влад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0" y="4221000"/>
            <a:ext cx="5292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ики – помест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ре – вотч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и монасты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кругленный прямоугольник 3"/>
          <p:cNvSpPr/>
          <p:nvPr/>
        </p:nvSpPr>
        <p:spPr>
          <a:xfrm>
            <a:off x="2700360" y="0"/>
            <a:ext cx="388764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стья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0" y="1557360"/>
            <a:ext cx="2916360" cy="79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сош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трелка вниз 6"/>
          <p:cNvSpPr/>
          <p:nvPr/>
        </p:nvSpPr>
        <p:spPr>
          <a:xfrm>
            <a:off x="2556000" y="981000"/>
            <a:ext cx="287280" cy="5032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трелка вниз 7"/>
          <p:cNvSpPr/>
          <p:nvPr/>
        </p:nvSpPr>
        <p:spPr>
          <a:xfrm>
            <a:off x="4067280" y="1052640"/>
            <a:ext cx="360360" cy="576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9"/>
          <p:cNvSpPr/>
          <p:nvPr/>
        </p:nvSpPr>
        <p:spPr>
          <a:xfrm>
            <a:off x="3059280" y="1628640"/>
            <a:ext cx="291600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ц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10"/>
          <p:cNvSpPr/>
          <p:nvPr/>
        </p:nvSpPr>
        <p:spPr>
          <a:xfrm>
            <a:off x="6084720" y="1628640"/>
            <a:ext cx="29149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ь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11"/>
          <p:cNvSpPr/>
          <p:nvPr/>
        </p:nvSpPr>
        <p:spPr>
          <a:xfrm>
            <a:off x="5940360" y="4508640"/>
            <a:ext cx="2916360" cy="79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трелка вниз 12"/>
          <p:cNvSpPr/>
          <p:nvPr/>
        </p:nvSpPr>
        <p:spPr>
          <a:xfrm>
            <a:off x="5796000" y="1125360"/>
            <a:ext cx="360360" cy="338328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трелка вниз 13"/>
          <p:cNvSpPr/>
          <p:nvPr/>
        </p:nvSpPr>
        <p:spPr>
          <a:xfrm>
            <a:off x="6300720" y="1125360"/>
            <a:ext cx="358920" cy="57492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14"/>
          <p:cNvSpPr/>
          <p:nvPr/>
        </p:nvSpPr>
        <p:spPr>
          <a:xfrm>
            <a:off x="0" y="2565360"/>
            <a:ext cx="2916360" cy="129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во-бо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кругленный прямоугольник 15"/>
          <p:cNvSpPr/>
          <p:nvPr/>
        </p:nvSpPr>
        <p:spPr>
          <a:xfrm>
            <a:off x="2987640" y="2637000"/>
            <a:ext cx="2916360" cy="158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 великого кня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16"/>
          <p:cNvSpPr/>
          <p:nvPr/>
        </p:nvSpPr>
        <p:spPr>
          <a:xfrm>
            <a:off x="6084720" y="2708280"/>
            <a:ext cx="2914920" cy="129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местьях и вотчи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17"/>
          <p:cNvSpPr/>
          <p:nvPr/>
        </p:nvSpPr>
        <p:spPr>
          <a:xfrm>
            <a:off x="6012000" y="5516640"/>
            <a:ext cx="2916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ьные люд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topreferat.znate.ru/pars_docs/refs/44/43024/43024-8_10.jpg"/>
          <p:cNvPicPr/>
          <p:nvPr/>
        </p:nvPicPr>
        <p:blipFill>
          <a:blip r:embed="rId1"/>
          <a:stretch/>
        </p:blipFill>
        <p:spPr>
          <a:xfrm>
            <a:off x="0" y="4346640"/>
            <a:ext cx="4284720" cy="2511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3:27:01Z</dcterms:created>
  <dc:creator>Рустам Бегалиев</dc:creator>
  <dc:description/>
  <dc:language>en-US</dc:language>
  <cp:lastModifiedBy>Люда</cp:lastModifiedBy>
  <dcterms:modified xsi:type="dcterms:W3CDTF">2016-04-14T18:32:22Z</dcterms:modified>
  <cp:revision>9</cp:revision>
  <dc:subject/>
  <dc:title>Презентация PowerPoint</dc:title>
</cp:coreProperties>
</file>