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BFDC-47CB-4310-822C-FBB9DBEE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DC0-3E7F-4CE8-9128-0CDCE5B6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230F-9022-4330-B4DB-73BAB8E2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30C-1FA6-431A-B460-EDBE71A6B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C523-409D-4C31-B8B9-E0854820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6304-9221-405D-8A9E-773E8FF7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89CC-64F8-4859-8225-C08A201C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AF2A-C544-424E-93D1-CEA78343E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EE70-4012-42B7-8991-AE44833A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AF7C-6BF4-4CA8-86E7-8EE2244C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8958-0687-48E2-92D3-38E35150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2CE0-3F1F-4651-B9CD-5E48C4E1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70BC-F746-4883-A47E-9BEB52A7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F79C-6A00-494D-A8A8-A1F853EB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37B1-76E4-43FF-B8F8-240A7859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2256-304B-4594-9677-985278C9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6A2E-871D-4B0B-B179-D6730C14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EFE-8403-4D2B-9E61-38FD5F82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E280-922A-42B5-BA1C-AE401FCF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69C-EC4C-4A94-9144-EF2C086E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BDCC-9DF0-4E7E-A2AE-C0A33352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C71-F18F-4D5B-84D2-70CFAF66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03A-2989-497F-BC9B-2BA7532F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DEB1-E8B5-49B1-B1E3-B55F84E1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836D-5664-4892-A0DE-B09B414A49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DEED-6374-422C-B28A-D3B903C78E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port-express.ru/olympics/reviews/923221/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champions.name/olympiade2020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605a"/>
                </a:solidFill>
                <a:latin typeface="Arial"/>
              </a:rPr>
              <a:t>Олимпиада 2020 в Токио</a:t>
            </a:r>
            <a:br>
              <a:rPr sz="4000"/>
            </a:b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рных Лилия 9 «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Об олимпийском скалолазаии известно пока очень мало. Фото REUTERS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ФИН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Президент Федерации серфинга России и одновременно один из сильнейших серферов страны Сергей Расшиваев настроен не слишком оптимистично. На вопрос, какие шансы имеют российские спортсмены отобраться на Олимпиаду в Токио, Расшиваев отрезал: практически никаких. По его мнению, спортсмены будут отбираться на Олимпийские игры на ежегодных международных соревнованиях ISA World Surfing Games. Россия участвует в этом турнире третий год, но ни в женском, ни в мужском индивидуальных зачетах никто из наших соотечественников в первую двадцатку никогда не входил. Наивысшее достижение россиян – 17-е место в командном зачете. При этом в соревнованиях ISA, признанных МОК, участвуют далеко не все сильнейшие серферы планеты. Если этот вид спорта войдет в олимпийскую программу, конкуренция обостри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Серфинг - очень зрелищный, но для него нужно особые климатические условия. Фото REUTERS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АТЭ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Предполагается, что в Токио в каратэ будут разыграны 8 комплектов медалей – 4 мужских и 4 женских. Первая пара – в дисциплине каратэ ката, и три пары – в трех весовых категориях в дисциплине каратэ кумите. Общее же количество участников, которые смогут принять участие в Играх в этом виде спорта, – 80 человек. О шансах российских каратистов попасть в это число рассказал президент Федерации каратэ России Сергей Соколовск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С каратэ болельщикам разобраться будет проще, чем с бейсболом. Фото REUTERS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ЕЙТБОРДИН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меет самые туманные перспективы из предложенных оргкомитетом Токио-2020 видов. Вопрос о его включении в программу Олимпийских игр впервые был поднят еще в 2007 году. Но и по сей день не существует признанной МОК международной федерации скейтбординга. International Skateboarding Federation и World Skateboard Federation конкурируют друг с другом, и, возможно, МОК пойдет на то, что просто присоединит скейтбординг к какой-то из существующих федераций, как в свое время произошло со сноубордом. Желание взять скейтбординг под свое крыло уже изъявила Международная федерация роллер-спор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Скейтборд, безусловно, привлечет молодую аудиторию к Олимпиаде. Это уже доказал сноуборд. Фото REUTERS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ЙСБОЛ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Это единственный из предложенных оргкомитетом Токио-2020 видов спорта, который ранее уже входил в олимпийскую программу. В последний раз бейсбол был представлен на Олимпиаде в Пекине в 2008 году. Но в 2020-м время может повернуться вспять, ведь интерес к этому виду спорта в Японии колоссальный. В стране сильная бейсбольная команда, развитая инфраструктура, готовые стадионы. Всего в Олимпиаде смогут принять участие 6 мужских команд по бейсболу и 6 женских команд по софтбол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Кажется, европейцам скоро нужно будет разучивать правила бейсбола. А фаворит и главный претендент на медаль уже известен сейчас. Фото REUTERS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Источник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1c177"/>
                </a:solidFill>
                <a:uFillTx/>
                <a:latin typeface="Arial"/>
                <a:hlinkClick r:id="rId2"/>
              </a:rPr>
              <a:t>http://www.sport-express.ru/olympics/reviews/923221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c1c177"/>
                </a:solidFill>
                <a:uFillTx/>
                <a:latin typeface="Arial"/>
                <a:hlinkClick r:id="rId4"/>
              </a:rPr>
              <a:t>http://champions.name/olympiade2020/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2 летние Олимпийские игры пройдут в Японии - Токио. Церемония открытия 24 июля 2020 года. Церемония закрытия - 9 августа 2020 год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лимпийские игры пройдут с 25 августа по 6 сентября. Всего на спортивные мероприятия Игр будет продано более 7,5 миллиона билетов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фициальные заявки на проведения Игр были поданы до 1 сентября 2011 года. 23 мая 2012 года МОК объявил, что официальными кандидатами остаются Мадрид, Стамбул и Токио. 7 сентября 2013 года в Буэнос-Айресе МОК объявил столицу Олимпиады на своей 125-й сессии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ние Олимпийские игры-2020 в Токио обойдутся Японии почти в 15 млрд долларов, то есть в шесть раз больше, чем предполагал первоначальный бюджет. Организаторы Олимпиады-2020 выбрали архитектурную концепцию стадиона, где будут проходить основные события Игр в Токио. Победителем проводившегося повторно конкурса стал проект японского архитектора Кенго Кума. Проект стадиона, который будет выполнен из дерева и стали, отсылает к архитектуре японских храмов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Символы олимпиады 2020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Новые дисциплины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КАЛОЛАЗА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В случае вхождения в программу Игр в Токио будет разыграно два комплекта медалей – мужской и женский. В какой из дисциплин будут проходить соревнования – боулдеринг, скорость или трудность, – пока не известно. Не исключено, что старты организуют в формате многоборья. Из всей пятерки потенциальных олимпийских "новобранцев" скалолазание является наиболее перспективным видом для Росс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5T21:31:11Z</dcterms:created>
  <dc:creator>USer</dc:creator>
  <dc:description/>
  <dc:language>en-US</dc:language>
  <cp:lastModifiedBy>USer</cp:lastModifiedBy>
  <dcterms:modified xsi:type="dcterms:W3CDTF">2016-12-26T05:32:36Z</dcterms:modified>
  <cp:revision>3</cp:revision>
  <dc:subject/>
  <dc:title>Олимпиада 2020 в Токио </dc:title>
</cp:coreProperties>
</file>