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277-CAA9-43B8-A01A-A55950E5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497-95E1-4DAB-B405-89C49F14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0E4-98DF-4425-B10F-EBEFB035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F7A-E629-4ECA-802C-7A2C4A81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182B-AC20-4AB8-9654-3AD280C6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08DB-D25B-43E9-BBB5-625B4862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96D5-EC79-4922-821D-81F84A96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0FDF-41BD-43EC-8613-EC1C589F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B0E3-489B-4FD4-8551-D4FD7FE9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8A0E-940F-476C-83A2-E0BB29D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2A0E-3412-4A0B-8A05-32D597A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47E-BD21-4F95-A9B3-D8FCE03E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7CA3-D793-4C61-908C-1EB90407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F63C-49D9-447B-9F3E-D5F941C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6DD4-A822-43B0-9890-91F08E0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2EF-28DD-46F7-AFFB-F2015588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AF3F-F4B7-42AD-A978-361E5D58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B20-3E76-444E-B070-753D526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319-90D3-4769-8B39-6C38F64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A98-4C70-4E93-8498-5D84E9D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0DF-2F79-45A4-9F68-365B6D2C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8CF-7E94-4A25-B3C8-AFACD5BE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999-3BB5-4AD4-9892-6A25370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730-D2BE-4890-8E1F-356E75BA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912F-8275-46F9-AAEE-7A8E698138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AE3B-6191-4EE8-A6BD-3BAAF9AD4D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port-express.ru/olympics/reviews/923221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hampions.name/olympiade2020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605a"/>
                </a:solidFill>
                <a:latin typeface="Arial"/>
              </a:rPr>
              <a:t>Олимпиада 2020 в Токио</a:t>
            </a:r>
            <a:br>
              <a:rPr sz="4000"/>
            </a:b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ых Лилия 9 «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Об олимпийском скалолазаии известно пока очень мало. Фото REUTER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ФИН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зидент Федерации серфинга России и одновременно один из сильнейших серферов страны Сергей Расшиваев настроен не слишком оптимистично. На вопрос, какие шансы имеют российские спортсмены отобраться на Олимпиаду в Токио, Расшиваев отрезал: практически никаких. По его мнению, спортсмены будут отбираться на Олимпийские игры на ежегодных международных соревнованиях ISA World Surfing Games. Россия участвует в этом турнире третий год, но ни в женском, ни в мужском индивидуальных зачетах никто из наших соотечественников в первую двадцатку никогда не входил. Наивысшее достижение россиян – 17-е место в командном зачете. При этом в соревнованиях ISA, признанных МОК, участвуют далеко не все сильнейшие серферы планеты. Если этот вид спорта войдет в олимпийскую программу, конкуренция обост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Серфинг - очень зрелищный, но для него нужно особые климатические условия. Фото REUTERS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АТЭ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редполагается, что в Токио в каратэ будут разыграны 8 комплектов медалей – 4 мужских и 4 женских. Первая пара – в дисциплине каратэ ката, и три пары – в трех весовых категориях в дисциплине каратэ кумите. Общее же количество участников, которые смогут принять участие в Играх в этом виде спорта, – 80 человек. О шансах российских каратистов попасть в это число рассказал президент Федерации каратэ России Сергей Соколов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С каратэ болельщикам разобраться будет проще, чем с бейсболом. Фото REUTERS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ЕЙТБОРДИН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меет самые туманные перспективы из предложенных оргкомитетом Токио-2020 видов. Вопрос о его включении в программу Олимпийских игр впервые был поднят еще в 2007 году. Но и по сей день не существует признанной МОК международной федерации скейтбординга. International Skateboarding Federation и World Skateboard Federation конкурируют друг с другом, и, возможно, МОК пойдет на то, что просто присоединит скейтбординг к какой-то из существующих федераций, как в свое время произошло со сноубордом. Желание взять скейтбординг под свое крыло уже изъявила Международная федерация роллер-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Скейтборд, безусловно, привлечет молодую аудиторию к Олимпиаде. Это уже доказал сноуборд. Фото REUTERS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ЙСБО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Это единственный из предложенных оргкомитетом Токио-2020 видов спорта, который ранее уже входил в олимпийскую программу. В последний раз бейсбол был представлен на Олимпиаде в Пекине в 2008 году. Но в 2020-м время может повернуться вспять, ведь интерес к этому виду спорта в Японии колоссальный. В стране сильная бейсбольная команда, развитая инфраструктура, готовые стадионы. Всего в Олимпиаде смогут принять участие 6 мужских команд по бейсболу и 6 женских команд по софтб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Кажется, европейцам скоро нужно будет разучивать правила бейсбола. А фаворит и главный претендент на медаль уже известен сейчас. Фото REUTER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Источник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http://www.sport-express.ru/olympics/reviews/923221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1c177"/>
                </a:solidFill>
                <a:uFillTx/>
                <a:latin typeface="Arial"/>
                <a:hlinkClick r:id="rId4"/>
              </a:rPr>
              <a:t>http://champions.name/olympiade2020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летние Олимпийские игры пройдут в Японии - Токио. Церемония открытия 24 июля 2020 года. Церемония закрытия - 9 августа 2020 г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импийские игры пройдут с 25 августа по 6 сентября. Всего на спортивные мероприятия Игр будет продано более 7,5 миллиона биле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ициальные заявки на проведения Игр были поданы до 1 сентября 2011 года. 23 мая 2012 года МОК объявил, что официальными кандидатами остаются Мадрид, Стамбул и Токио. 7 сентября 2013 года в Буэнос-Айресе МОК объявил столицу Олимпиады на своей 125-й сесси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ие Олимпийские игры-2020 в Токио обойдутся Японии почти в 15 млрд долларов, то есть в шесть раз больше, чем предполагал первоначальный бюджет. Организаторы Олимпиады-2020 выбрали архитектурную концепцию стадиона, где будут проходить основные события Игр в Токио. Победителем проводившегося повторно конкурса стал проект японского архитектора Кенго Кума. Проект стадиона, который будет выполнен из дерева и стали, отсылает к архитектуре японских храмов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Символы олимпиады 2020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Новые дисциплины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ЛОЛАЗ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 случае вхождения в программу Игр в Токио будет разыграно два комплекта медалей – мужской и женский. В какой из дисциплин будут проходить соревнования – боулдеринг, скорость или трудность, – пока не известно. Не исключено, что старты организуют в формате многоборья. Из всей пятерки потенциальных олимпийских "новобранцев" скалолазание является наиболее перспективным видом для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5T21:31:11Z</dcterms:created>
  <dc:creator>USer</dc:creator>
  <dc:description/>
  <dc:language>en-US</dc:language>
  <cp:lastModifiedBy>USer</cp:lastModifiedBy>
  <dcterms:modified xsi:type="dcterms:W3CDTF">2016-12-26T05:32:36Z</dcterms:modified>
  <cp:revision>3</cp:revision>
  <dc:subject/>
  <dc:title>Олимпиада 2020 в Токио </dc:title>
</cp:coreProperties>
</file>