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.02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017-AFC8-4BDC-8869-2B2ED4BAC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C014-6E2A-4FFA-8830-4BC663024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Дата 4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.02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E6B-9488-40B2-BA7D-5D35DFA7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D92-E86A-4F00-8D57-DF80C21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DD497-4E06-419F-95BB-598DCDD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E0D70-E1FF-4336-86E3-22A13733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93C49-09B6-4851-AD5F-35FD6116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8A2EC4-5020-4417-9A9A-C2FF4D1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A250C8-822F-4BA5-ADD8-679D35E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81450-08A8-4EFD-9D71-FB86147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EF7BA-A6BE-4BF3-90EC-0A84E4C3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BAD7DE-AC0F-4332-95A9-7360CA9A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36BEB-6084-47E1-8C6F-38784057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EB6-2659-423A-B6EE-497922A0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56B-6C7E-404C-8BD4-8DF15F1D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6BD6-3E8F-40EA-895B-6F942AEB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A710-9A19-4BEE-9695-E1C9A9F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3D7-4452-49A1-B62C-246EC45A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FCE8-BA00-4A74-A635-46C4BF0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591F-C1C5-4CB3-8F08-AE0C6491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D7F5-970D-4BE9-975B-057B9EAF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698C-213B-48C5-BEF9-D444326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AF9-AA8E-413E-9EC1-15483336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ED3F-C157-430D-ADED-741F43A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C1CD-1A6C-47A7-9DE8-0F72EDD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C066-87E7-4B7C-831D-349B579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9C6-88A6-409A-B24A-F88C19B7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B3E4-C452-4BAD-9620-BECEE81A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7003-11E8-43BD-B2E4-92DCE13E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8154-756D-46ED-865F-4E8AD986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2F6E-F73B-4A95-8178-D2C7C2A3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D777-0A23-439D-A65B-1D1C6504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4E94-AB36-4C84-BFF6-5B58B19B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1F0-E497-4810-8E4A-61C455A5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15FD-2097-4991-A9AF-552084C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59B4-26C4-4808-B769-DAB95A7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0752-9FD1-4230-A4B3-1BAA482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9DC8-C2FD-4976-95B5-1135C93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0513-111F-45F5-B720-6B508D3F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501A-C0C4-4F2C-BA32-E5639472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BB34-3BE9-4147-8EF2-B39BD2A7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104F-184A-4865-B37A-8D11F32A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2FAB-F41D-487D-B195-5DC3DBF1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DF2F2-CA61-4381-B65C-FDA08175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F7E-C774-4E14-B245-10258D5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63546-0721-4603-ACE0-3B2C5E64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B55FD-CDBD-46DF-9D82-385D7E3C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8686-B025-46B4-A521-789276A9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AEA90-AA07-4F06-A16E-6E8EA69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AE68-80F5-4922-9F49-2903F0A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6959-81F7-4B24-873C-312EA13E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EE6A-9562-42D4-A074-A5832BC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1B64-1AB5-4B5F-92D3-43216F37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AB2E-18F4-4C9B-94E0-8E527D0F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E889A-61BC-47C8-B9DB-739B9B2E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1F2-1DD3-455D-BB5E-46253E34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AD324-AF8D-4577-983A-422ED883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6486D-5C62-49E8-9A15-E5802D76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9A40-2A3E-46AD-8279-E7F661B6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EE65-0849-40C3-ACD7-FA9BA36D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84CCF-D7C3-4868-B017-67BFBEEA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17C11-1824-4328-B9E5-BB479FB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E75A-C452-44B9-AD06-F75D91ED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A94A3-7941-4700-A85E-D14C8B3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00B1-C0DA-4044-BDB5-35B7A9A6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C465-8321-4E14-AF37-3FF33815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79B-D85C-442A-9807-FFE35F7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3D19-5345-4FE7-9BCE-62348F08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4C01F-FFA2-4EA0-9F28-B54BFE94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4D0EA-2200-4AC9-A538-C30DE7D4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520EF-4A27-41B1-91A7-F19605F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4065-77FF-4D91-B41B-51E60E3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0F907-4397-4121-8727-3A07D85D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7EB7-E16E-48FC-A6E0-5D1D1F68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27AE2-BA60-41D5-8201-EB11416C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EF761-02E8-44C9-B2A2-E31834C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F29E-71DC-47BD-8887-A09EBC5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03A-A221-49CA-84FC-3713A73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80ED-37F9-46BC-9F9C-947328B8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DE7A3-BEE7-4BAB-8298-F9E89CFE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C2E1-558B-445E-B59E-FE9849CB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FAD44-70F4-4353-B9CF-24B82362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F9BA-6D1F-4D5C-9343-0A1B56F1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F865-B527-4D01-BF29-1C6EFD3B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DF402-962D-427F-9A58-D820F20E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0AEA-EF4F-4958-A1C6-0AF9C224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832BF-1AE2-46C2-A7E8-FFA77291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D888-553C-4522-A40A-480400E3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91B-A23E-4280-992C-27C2BBC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3F9B6-4FFF-4894-B383-1691A958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A7284-7D04-4403-9C0E-5BE6C85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7A28-F73A-4315-BD65-C6F0629C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34374-A981-40CB-981C-772A8D53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3FC4-C3DB-4775-8A2E-89E46C50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B5C66-6428-482D-B795-290A71B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9652D-28AA-4218-A444-DC9BBA9E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36734-BFD6-45B9-97D1-7ECF74B3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CC05-2366-4695-85C4-C7DA831F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28AF-078B-42C2-B09B-3E8807B5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0A8-928F-440A-B39F-5BF6131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E723B-2441-4571-987E-F5821F0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9FBCE-5DD7-4C2D-80F7-B9F97B3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0E9B7-3D80-4D58-A141-86A8D7C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80B67-47B0-4763-A924-5D3F3976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D0982-0E55-4408-ACD6-60DBB8FB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688C-3479-4319-8060-48EC842A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BECA9-BA31-4101-9A4D-F8AB14F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741EC-C40D-4421-93F9-E82B18DB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1B4248-C73A-4F15-B41F-D18B7F93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245A3-94EE-40EB-8AF5-EAD74EB8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3CDF-4564-47DA-8CAB-FA12299B07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6DFA-A72C-423D-A20B-9F411C7A31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B32E-B852-4829-A19C-42B29AB05D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FF87-0714-4344-B08F-26570B5A4F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3BE6-6FFA-4C5D-B1C8-DD8C53A7CF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E73-1514-4CA2-838D-F68761BA64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70FB-F909-409E-8CDA-4D0A51183A4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871-A33E-4310-BF58-D208046D6B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5479-A741-46D1-8C06-22A455F3D6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6840" y="333360"/>
            <a:ext cx="84358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7a8f"/>
                </a:solidFill>
                <a:latin typeface="Cambria"/>
                <a:ea typeface="Cambria Math"/>
              </a:rPr>
              <a:t>Обеспечение профессионализма и высокой квалификации кадров как условие достижения качества образован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Важным фактором, благоприятно влияющим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на качество образования, является состояние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кадрового потенциала на всех уровнях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                           </a:t>
            </a: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(Федеральная целевая программа развития образования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179280" y="1481040"/>
          <a:ext cx="8785440" cy="53085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5766"/>
                          </a:solidFill>
                          <a:latin typeface="Cambria Math"/>
                          <a:ea typeface="Cambria Math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5766"/>
                          </a:solidFill>
                          <a:latin typeface="Cambria Math"/>
                          <a:ea typeface="Cambria Math"/>
                        </a:rPr>
                        <a:t>ВЫС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Стабильные положительные результаты  освоения обучающимися образовательных программ по итогам мониторин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Достижение обучающимися положительной динамики результатов освоения образовательных программ по итогам мониторин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Развитие у обучающихся способностей к научной, творческой, физкультурно-спортив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а также их участие в олимпиадах, конкурсах, фестивалях, соревнован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Личный вклад в повышение качества образования, совершенствования методов обучения и воспитания, транслирования опыта практических результатов своей профессиональной деятельности, активного участие в работе методических объеди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Продуктивное использование новых образовательных технолог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Экспериментальная и инновацион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2" descr=""/>
          <p:cNvPicPr/>
          <p:nvPr/>
        </p:nvPicPr>
        <p:blipFill>
          <a:blip r:embed="rId1"/>
          <a:stretch/>
        </p:blipFill>
        <p:spPr>
          <a:xfrm>
            <a:off x="237960" y="-85680"/>
            <a:ext cx="8637840" cy="15732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1"/>
          <p:cNvSpPr/>
          <p:nvPr/>
        </p:nvSpPr>
        <p:spPr>
          <a:xfrm>
            <a:off x="1476360" y="1265400"/>
            <a:ext cx="6408720" cy="3967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ambria Math"/>
                <a:ea typeface="Cambria Math"/>
              </a:rPr>
              <a:t>ВЫВОД ПО РЕЗУЛЬТАТАМ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3495600" y="4214880"/>
            <a:ext cx="2735280" cy="58248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При отсутствии перв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235080" y="2205000"/>
            <a:ext cx="260820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СООТВЕТСТВУЕ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высше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235080" y="4354560"/>
            <a:ext cx="2608200" cy="17143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установить высшую квалификационную катег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657240" y="1940040"/>
            <a:ext cx="532908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txBody>
          <a:bodyPr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НЕ СООТВЕТСТВУЕТ высшей  категор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Объект 10"/>
          <p:cNvSpPr/>
          <p:nvPr/>
        </p:nvSpPr>
        <p:spPr>
          <a:xfrm>
            <a:off x="3567240" y="3203640"/>
            <a:ext cx="532908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отказать в установлении высше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бъект 10"/>
          <p:cNvSpPr/>
          <p:nvPr/>
        </p:nvSpPr>
        <p:spPr>
          <a:xfrm>
            <a:off x="6588000" y="4214880"/>
            <a:ext cx="2449800" cy="58248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marL="85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При наличии перв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бъект 10"/>
          <p:cNvSpPr/>
          <p:nvPr/>
        </p:nvSpPr>
        <p:spPr>
          <a:xfrm>
            <a:off x="6804000" y="5084640"/>
            <a:ext cx="223056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99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Сохраняется первая категория до истечения срока е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4"/>
          <p:cNvSpPr/>
          <p:nvPr/>
        </p:nvSpPr>
        <p:spPr>
          <a:xfrm>
            <a:off x="3059280" y="5084640"/>
            <a:ext cx="162072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С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5"/>
          <p:cNvSpPr/>
          <p:nvPr/>
        </p:nvSpPr>
        <p:spPr>
          <a:xfrm>
            <a:off x="4862520" y="5084640"/>
            <a:ext cx="160956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первую катег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низ 9"/>
          <p:cNvSpPr/>
          <p:nvPr/>
        </p:nvSpPr>
        <p:spPr>
          <a:xfrm flipH="1">
            <a:off x="1735920" y="1662120"/>
            <a:ext cx="314280" cy="520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трелка вниз 16"/>
          <p:cNvSpPr/>
          <p:nvPr/>
        </p:nvSpPr>
        <p:spPr>
          <a:xfrm flipH="1">
            <a:off x="5782680" y="2779560"/>
            <a:ext cx="169560" cy="405000"/>
          </a:xfrm>
          <a:prstGeom prst="downArrow">
            <a:avLst>
              <a:gd name="adj1" fmla="val 50000"/>
              <a:gd name="adj2" fmla="val 5011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трелка вниз 17"/>
          <p:cNvSpPr/>
          <p:nvPr/>
        </p:nvSpPr>
        <p:spPr>
          <a:xfrm flipH="1">
            <a:off x="5867280" y="1725480"/>
            <a:ext cx="217440" cy="196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трелка вниз 18"/>
          <p:cNvSpPr/>
          <p:nvPr/>
        </p:nvSpPr>
        <p:spPr>
          <a:xfrm flipH="1">
            <a:off x="1718640" y="3789360"/>
            <a:ext cx="331560" cy="49860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трелка вниз 19"/>
          <p:cNvSpPr/>
          <p:nvPr/>
        </p:nvSpPr>
        <p:spPr>
          <a:xfrm flipH="1">
            <a:off x="3784680" y="4824360"/>
            <a:ext cx="210960" cy="2602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трелка вниз 20"/>
          <p:cNvSpPr/>
          <p:nvPr/>
        </p:nvSpPr>
        <p:spPr>
          <a:xfrm flipH="1">
            <a:off x="7642080" y="4024440"/>
            <a:ext cx="169920" cy="19044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низ 21"/>
          <p:cNvSpPr/>
          <p:nvPr/>
        </p:nvSpPr>
        <p:spPr>
          <a:xfrm flipH="1">
            <a:off x="4692600" y="4049640"/>
            <a:ext cx="169920" cy="13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трелка вниз 22"/>
          <p:cNvSpPr/>
          <p:nvPr/>
        </p:nvSpPr>
        <p:spPr>
          <a:xfrm flipH="1">
            <a:off x="5477760" y="4835520"/>
            <a:ext cx="189000" cy="249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трелка вниз 23"/>
          <p:cNvSpPr/>
          <p:nvPr/>
        </p:nvSpPr>
        <p:spPr>
          <a:xfrm flipH="1">
            <a:off x="7642080" y="4835520"/>
            <a:ext cx="169920" cy="2491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2" descr=""/>
          <p:cNvPicPr/>
          <p:nvPr/>
        </p:nvPicPr>
        <p:blipFill>
          <a:blip r:embed="rId1"/>
          <a:stretch/>
        </p:blipFill>
        <p:spPr>
          <a:xfrm>
            <a:off x="55440" y="-15228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1"/>
          <p:cNvSpPr/>
          <p:nvPr/>
        </p:nvSpPr>
        <p:spPr>
          <a:xfrm>
            <a:off x="1476360" y="1265400"/>
            <a:ext cx="6408720" cy="3967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ambria Math"/>
                <a:ea typeface="Cambria Math"/>
              </a:rPr>
              <a:t>ВЫВОД ПО РЕЗУЛЬТАТАМ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5"/>
          <p:cNvSpPr/>
          <p:nvPr/>
        </p:nvSpPr>
        <p:spPr>
          <a:xfrm>
            <a:off x="243000" y="2384280"/>
            <a:ext cx="260820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СООТВЕТСТВУЕ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перв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6"/>
          <p:cNvSpPr/>
          <p:nvPr/>
        </p:nvSpPr>
        <p:spPr>
          <a:xfrm>
            <a:off x="243000" y="4594320"/>
            <a:ext cx="2608200" cy="17143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установить первую квалификационную катег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635280" y="2227320"/>
            <a:ext cx="532944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txBody>
          <a:bodyPr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НЕ СООТВЕТСТВУЕТ первой  категор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Объект 10"/>
          <p:cNvSpPr/>
          <p:nvPr/>
        </p:nvSpPr>
        <p:spPr>
          <a:xfrm>
            <a:off x="3635280" y="3375000"/>
            <a:ext cx="5329440" cy="792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отказать в установлении перв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4035600" y="4807080"/>
            <a:ext cx="162072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С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5"/>
          <p:cNvSpPr/>
          <p:nvPr/>
        </p:nvSpPr>
        <p:spPr>
          <a:xfrm>
            <a:off x="6300720" y="4822920"/>
            <a:ext cx="266400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первую категорию не ранее чем через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трелка вниз 3"/>
          <p:cNvSpPr/>
          <p:nvPr/>
        </p:nvSpPr>
        <p:spPr>
          <a:xfrm flipH="1">
            <a:off x="1728000" y="1712880"/>
            <a:ext cx="466920" cy="6714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трелка вниз 12"/>
          <p:cNvSpPr/>
          <p:nvPr/>
        </p:nvSpPr>
        <p:spPr>
          <a:xfrm>
            <a:off x="1728720" y="3968640"/>
            <a:ext cx="466920" cy="5479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низ 16"/>
          <p:cNvSpPr/>
          <p:nvPr/>
        </p:nvSpPr>
        <p:spPr>
          <a:xfrm>
            <a:off x="4821120" y="4216320"/>
            <a:ext cx="422280" cy="5605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Стрелка вниз 17"/>
          <p:cNvSpPr/>
          <p:nvPr/>
        </p:nvSpPr>
        <p:spPr>
          <a:xfrm>
            <a:off x="5688000" y="3049560"/>
            <a:ext cx="39672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низ 18"/>
          <p:cNvSpPr/>
          <p:nvPr/>
        </p:nvSpPr>
        <p:spPr>
          <a:xfrm>
            <a:off x="5641920" y="1712880"/>
            <a:ext cx="442800" cy="4921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низ 19"/>
          <p:cNvSpPr/>
          <p:nvPr/>
        </p:nvSpPr>
        <p:spPr>
          <a:xfrm>
            <a:off x="7631280" y="4218120"/>
            <a:ext cx="422280" cy="5619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24000" y="14810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329"/>
                </a:solidFill>
                <a:latin typeface="Cambria"/>
                <a:ea typeface="Cambria Math"/>
              </a:rPr>
              <a:t>это комплект документов, представляющий совокупность сертифицированных или несертифицированных индивидуальных достижений педагога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329"/>
                </a:solidFill>
                <a:latin typeface="Cambria"/>
                <a:ea typeface="Cambria Math"/>
              </a:rPr>
              <a:t>может быть представлено в аттестационную комиссию в бумажном или электронном формат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Заголовок 2" descr=""/>
          <p:cNvPicPr/>
          <p:nvPr/>
        </p:nvPicPr>
        <p:blipFill>
          <a:blip r:embed="rId1"/>
          <a:stretch/>
        </p:blipFill>
        <p:spPr>
          <a:xfrm>
            <a:off x="457200" y="-60480"/>
            <a:ext cx="8229600" cy="1114560"/>
          </a:xfrm>
          <a:prstGeom prst="rect">
            <a:avLst/>
          </a:prstGeom>
          <a:ln w="0">
            <a:noFill/>
          </a:ln>
        </p:spPr>
      </p:pic>
      <p:sp>
        <p:nvSpPr>
          <p:cNvPr id="491" name="Скругленный прямоугольник 1"/>
          <p:cNvSpPr/>
          <p:nvPr/>
        </p:nvSpPr>
        <p:spPr>
          <a:xfrm>
            <a:off x="468360" y="765000"/>
            <a:ext cx="3887640" cy="27352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Cambria"/>
                <a:ea typeface="Cambria Math"/>
              </a:rPr>
              <a:t>Профессиональный стат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766"/>
                </a:solidFill>
                <a:latin typeface="Cambria"/>
                <a:ea typeface="Cambria Math"/>
              </a:rPr>
              <a:t>(общие сведения о педагогическом работни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кругленный прямоугольник 4"/>
          <p:cNvSpPr/>
          <p:nvPr/>
        </p:nvSpPr>
        <p:spPr>
          <a:xfrm>
            <a:off x="468360" y="3860640"/>
            <a:ext cx="3887640" cy="27370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Результаты научно-методической деятельности </a:t>
            </a:r>
            <a:r>
              <a:rPr b="1" lang="ru-RU" sz="1800" spc="-1" strike="noStrike">
                <a:solidFill>
                  <a:srgbClr val="105766"/>
                </a:solidFill>
                <a:latin typeface="Cambria"/>
                <a:ea typeface="Cambria Math"/>
              </a:rPr>
              <a:t>(материалы, свидетельствующие о личном вкладе  педагога в развитие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5"/>
          <p:cNvSpPr/>
          <p:nvPr/>
        </p:nvSpPr>
        <p:spPr>
          <a:xfrm>
            <a:off x="4932360" y="3789360"/>
            <a:ext cx="3887640" cy="27352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4 Профессиональные достижения педагогического рабо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766"/>
                </a:solidFill>
                <a:latin typeface="Cambria"/>
                <a:ea typeface="Cambria Math"/>
              </a:rPr>
              <a:t>(свидетельства личного вклада педагога в развитие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кругленный прямоугольник 6"/>
          <p:cNvSpPr/>
          <p:nvPr/>
        </p:nvSpPr>
        <p:spPr>
          <a:xfrm>
            <a:off x="4932360" y="765000"/>
            <a:ext cx="3887640" cy="27352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Результаты профессиональной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766"/>
                </a:solidFill>
                <a:latin typeface="Cambria"/>
                <a:ea typeface="Cambria Math"/>
              </a:rPr>
              <a:t>(материалы, демонстрирующие  динамику результатов педагогической деятельн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1000" indent="-429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демонстрация системы или отдельных компонентов педагогической деятельности, которые стабильно дают положительные результаты и обладают новизной с точки зрения направления профессиональной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Заголовок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8785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481040"/>
            <a:ext cx="84358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В рамках аттестации интернет-ресурс выступает в качестве формы представления личного вклада педагогического работника в развитие образования и может существовать в следующих форматах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   </a:t>
            </a: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- персональный сайт педагог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   </a:t>
            </a: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- персональная страница педагога на сайте образовательной организации, в которой осуществляется его профессиональная деятель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вершенствовать комплекс условий (информационных, организационных, содержательных, мотивационных) для аттестации педагогических работников в соответствии с новым порядком аттестации педагогических работник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истематизировать деятельность, позволяющую отслеживать  профессиональный рост, продуктивность, качественные приращения результатов практической деятельности педагогов в межаттестационный период через различные формы, в том числе через портфоли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сем педагогическим работникам начать работу по созданию  портфолио учителя в соответствии с новыми требованиями аттестац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етодическим объединениям провести школьную экспертизу  портфолио педагог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ссматривать методическую самообразовательную работу учителя как систему, направленную на достижение конечных результат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править методическую работу школы на стимулирование педагога к эффективной профессиональной деятельности, как механизму совершенствования квалификац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Заголовок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7a8f"/>
                </a:solidFill>
                <a:latin typeface="Cambria"/>
              </a:rPr>
              <a:t>Создание в образовательном учреждении благоприятных организационно-методических условий для подготовки педагогических работников к аттестационным процедурам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1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Подвести рефлексию первых итогов аттестации педагогических работников в новом формат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Проанализировать опыт работы педагогических работников, прошедших аттестацию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Выработать методические рекомендации по подготовке педагогических работников к квалификационным испытания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Выстраивание  индивидуальной траектории профессионального роста  педагог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Приобщение учителей к самоанализу и самодиагностик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82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Утвержден Приказом Министерства образования и науки РФ от 7 апреля 2014 года № 2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Аттестация педагогических работников проводитс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 </a:t>
            </a:r>
            <a:r>
              <a:rPr b="0" lang="ru-RU" sz="2700" spc="-1" strike="noStrike" u="sng">
                <a:solidFill>
                  <a:srgbClr val="105766"/>
                </a:solidFill>
                <a:uFillTx/>
                <a:latin typeface="Cambria"/>
                <a:ea typeface="Cambria Math"/>
              </a:rPr>
              <a:t>в целях подтверждения соответствия педагогических работников занимаемым ими должностям</a:t>
            </a: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 на основе оценки их профессиональной деятельно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 </a:t>
            </a: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по желанию педагогических работников </a:t>
            </a:r>
            <a:r>
              <a:rPr b="0" lang="ru-RU" sz="2700" spc="-1" strike="noStrike" u="sng">
                <a:solidFill>
                  <a:srgbClr val="105766"/>
                </a:solidFill>
                <a:uFillTx/>
                <a:latin typeface="Cambria"/>
                <a:ea typeface="Cambria Math"/>
              </a:rPr>
              <a:t>в целях установления квалификационной категории (первой или высшей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560" y="98064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62329"/>
                </a:solidFill>
                <a:latin typeface="Cambria Math"/>
                <a:ea typeface="Cambria Math"/>
              </a:rPr>
              <a:t>Проводиться </a:t>
            </a: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один раз в 5 л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62329"/>
                </a:solidFill>
                <a:latin typeface="Cambria Math"/>
                <a:ea typeface="Cambria Math"/>
              </a:rPr>
              <a:t>Руководитель ОУ вносит в аттестационную комиссию </a:t>
            </a: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представление</a:t>
            </a:r>
            <a:r>
              <a:rPr b="1" lang="ru-RU" sz="2700" spc="-1" strike="noStrike">
                <a:solidFill>
                  <a:srgbClr val="062329"/>
                </a:solidFill>
                <a:latin typeface="Cambria Math"/>
                <a:ea typeface="Cambria Math"/>
              </a:rPr>
              <a:t>, в котором содержатся свед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фамилия, имя, отчеств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наименование должнос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дата заключения трудового догово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уровень образования и квалификац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информация о дополнительном профессиональном образован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результаты предыдущих аттеста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мотивированная всестороння и объективная оценка профессиональных качеств, результатов профессиональной деятельност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Не предусмотрено сохранение  результатов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                      </a:t>
            </a: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аттестации на СЗД по новому месту рабо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36360" y="219240"/>
            <a:ext cx="92232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2" descr=""/>
          <p:cNvPicPr/>
          <p:nvPr/>
        </p:nvPicPr>
        <p:blipFill>
          <a:blip r:embed="rId1"/>
          <a:stretch/>
        </p:blipFill>
        <p:spPr>
          <a:xfrm>
            <a:off x="-30240" y="-139680"/>
            <a:ext cx="8925120" cy="12492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1"/>
          <p:cNvSpPr/>
          <p:nvPr/>
        </p:nvSpPr>
        <p:spPr>
          <a:xfrm>
            <a:off x="1619280" y="870120"/>
            <a:ext cx="612144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"/>
          <p:cNvSpPr/>
          <p:nvPr/>
        </p:nvSpPr>
        <p:spPr>
          <a:xfrm>
            <a:off x="5219640" y="2637000"/>
            <a:ext cx="368928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НЕ СООТВЕТСТВУЕТ ЗАНИМАЕМОЙ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395280" y="2637000"/>
            <a:ext cx="367200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СООТВЕТСТВУЕТ ЗАНИМАЕМОЙ ДОЛ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6"/>
          <p:cNvSpPr/>
          <p:nvPr/>
        </p:nvSpPr>
        <p:spPr>
          <a:xfrm>
            <a:off x="4064040" y="4248000"/>
            <a:ext cx="4895640" cy="21607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Трудовой договор может быть расторгнут (п.3 ч. 1 ст.81 Т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вольнение допускается, если невозможен перевод работника с его письменного согласия на другую  имеющуюся у работодателя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(ч.3 ст. 81 Т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трелка вниз 3"/>
          <p:cNvSpPr/>
          <p:nvPr/>
        </p:nvSpPr>
        <p:spPr>
          <a:xfrm>
            <a:off x="2050920" y="1662120"/>
            <a:ext cx="792360" cy="898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трелка вниз 8"/>
          <p:cNvSpPr/>
          <p:nvPr/>
        </p:nvSpPr>
        <p:spPr>
          <a:xfrm>
            <a:off x="6734160" y="3432240"/>
            <a:ext cx="684360" cy="792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6684840" y="1662120"/>
            <a:ext cx="757440" cy="8985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8901360" cy="9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250920" y="981000"/>
          <a:ext cx="8785080" cy="5680080"/>
        </p:xfrm>
        <a:graphic>
          <a:graphicData uri="http://schemas.openxmlformats.org/drawingml/2006/table">
            <a:tbl>
              <a:tblPr/>
              <a:tblGrid>
                <a:gridCol w="2736720"/>
                <a:gridCol w="1944720"/>
                <a:gridCol w="4103640"/>
              </a:tblGrid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7a8f"/>
                          </a:solidFill>
                          <a:latin typeface="Cambria"/>
                        </a:rPr>
                        <a:t>Аттестацию</a:t>
                      </a:r>
                      <a:r>
                        <a:rPr b="1" lang="ru-RU" sz="2000" spc="-1" strike="noStrike">
                          <a:solidFill>
                            <a:srgbClr val="227a8f"/>
                          </a:solidFill>
                          <a:latin typeface="Arial"/>
                        </a:rPr>
                        <a:t>  на СЗД не проход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7a8f"/>
                          </a:solidFill>
                          <a:latin typeface="Cambria"/>
                        </a:rPr>
                        <a:t>Сроки аттестации на ПС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имеющие</a:t>
                      </a:r>
                      <a:r>
                        <a:rPr b="0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квалификационные катег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когда действие квалификационной категории закончилось, подается представление – 30 дней - аттес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со стажем работы </a:t>
                      </a:r>
                      <a:r>
                        <a:rPr b="1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менее 2 лет в данной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аттестация через 2 года после приема на работу, независимо от стаж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женщины, находящиеся в </a:t>
                      </a:r>
                      <a:r>
                        <a:rPr b="1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отпуске по уходу за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аттестация через 2 года после вы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отсутствующие более 4 месяцев в связи с болезн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аттестация через год после вы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Стрелка вправо 2"/>
          <p:cNvSpPr/>
          <p:nvPr/>
        </p:nvSpPr>
        <p:spPr>
          <a:xfrm>
            <a:off x="3203640" y="2021040"/>
            <a:ext cx="1439640" cy="576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трелка вправо 6"/>
          <p:cNvSpPr/>
          <p:nvPr/>
        </p:nvSpPr>
        <p:spPr>
          <a:xfrm>
            <a:off x="3203640" y="3645000"/>
            <a:ext cx="1439640" cy="576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право 7"/>
          <p:cNvSpPr/>
          <p:nvPr/>
        </p:nvSpPr>
        <p:spPr>
          <a:xfrm>
            <a:off x="3247920" y="4797360"/>
            <a:ext cx="1440000" cy="57636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8"/>
          <p:cNvSpPr/>
          <p:nvPr/>
        </p:nvSpPr>
        <p:spPr>
          <a:xfrm>
            <a:off x="3247920" y="5830920"/>
            <a:ext cx="1440000" cy="57636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станавливается сроком на 5 л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водится на основании заявления, которое подается не менее чем за 3 месяца до истечения срока действия имеющейся квалификационной  категор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явление на высшую категорию можно подать только при наличии первой категор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явление на высшую категорию можно подать не ранее чем через 2 года после установления первой квалификационной категор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Квалификационная категория сохраняется при переходе на работу в другую школ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4810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mbria Math"/>
                <a:ea typeface="Cambria Math"/>
              </a:rPr>
              <a:t>Приказ Министерства образования Нижегородской области от 20.10.2014 № 23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Cambria"/>
                <a:ea typeface="Cambria Math"/>
              </a:rPr>
              <a:t>ФОРМЫ квалификационных испытаний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Cambria"/>
                <a:ea typeface="Cambria Math"/>
              </a:rPr>
              <a:t>1. Портфолио педагогического работник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Cambria"/>
                <a:ea typeface="Cambria Math"/>
              </a:rPr>
              <a:t>2. Компьютерная презентация практических достижений профессиональной деятельности или интернет-ресурс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42:46Z</dcterms:created>
  <dc:creator>Карасева</dc:creator>
  <dc:description/>
  <dc:language>en-US</dc:language>
  <cp:lastModifiedBy>Admin</cp:lastModifiedBy>
  <cp:lastPrinted>2015-03-02T06:24:29Z</cp:lastPrinted>
  <dcterms:modified xsi:type="dcterms:W3CDTF">2017-01-18T17:12:54Z</dcterms:modified>
  <cp:revision>1674</cp:revision>
  <dc:subject/>
  <dc:title>Слайд 1</dc:title>
</cp:coreProperties>
</file>