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.02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8B5D-FCAB-4BB6-BA46-F60CE4DE22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46D2-3051-4919-A40C-72B1290D19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Дата 4"/>
          <p:cNvSpPr/>
          <p:nvPr/>
        </p:nvSpPr>
        <p:spPr>
          <a:xfrm>
            <a:off x="518004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7.02.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E069-7411-42F4-B4E7-A391618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AF7-F496-4034-8077-046B45D3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32BE60-F8AE-4413-B758-DEF55309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53E3E-A4B3-428E-AFD8-D096C8CA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B0544E-E9AE-4FE7-A920-3708C2D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897885-A28D-44EC-8FF8-C7201BC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98C9B2-6E52-4E75-A05A-D8CE9208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9FFB20-CF20-418E-8DBD-5A5CDEB3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99DF47-F92C-432B-B030-0943D4E0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B2F8F-8EAB-4F32-BE90-A78AB01B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CC79C-64C0-4CC2-AC20-DA706C472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104-B0B9-4552-82A5-C9782B75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87B-3657-40E0-BDB6-078626DF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D63E-0CEB-4147-A37A-C560AEBE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DD39-3280-46A6-A14A-C0AC9ADC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1051-8D82-4F69-8233-DB9EA53C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8118-1197-4808-B20C-9B0A7DE8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0603-5A25-4C41-BDBD-40C804B3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F977-5D6D-4AAD-BD6D-78513841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F36E5-A4F0-4FC9-8E7A-6310A71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1F9-2C54-4AB1-8AE3-9EB917AC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50E5-A03F-4064-93BB-7D58A6BE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77D-05C5-41D4-8BDA-7D264001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9B39-6FB7-423D-924E-97AA90C3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BB0F-C861-4E06-B909-85F685B2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8BEA5-36CB-434E-B3E4-47827E528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F328-FCF4-4882-8CEB-9E02FD30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D546-B860-4358-B5BE-3A2537F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9F28-5549-475F-B59F-808A192C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EB27F-C0BA-4B03-8904-B65AEF11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64AC4-256A-4470-BF25-CC180647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234-0BB0-4C21-A7CC-79902C6F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2F489-A1D0-483D-9A7E-9F5A7404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9ADC-FFF5-4570-92FA-DB773368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CD909-050B-47BC-9917-652B7D0B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36924-E8ED-4F7F-977C-BBBC17D2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FDDCD-B08D-4227-BCD5-7184C090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96010-3730-4DDC-90BF-0A71695A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4F5EF-A455-49AC-8A6B-727432BF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E703D-7618-4E88-A406-31BE71E3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FDD8-7B4E-4D4D-A1DA-570B0DFE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0B84-2D02-4710-8D64-EEF4F3FCC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E48-8086-42ED-855B-E6569120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2BD9E-5E0D-4F06-86D8-50406C0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EF58C-D691-47DE-AAD5-350A92D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4427-1097-47C8-ABF0-0B0B7A39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EF9C1-A1C2-4061-914B-CAB259EF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0BAF-0BA1-4BA8-BF8A-4E60B676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AD1F-D1E8-482F-AD0D-9085B3B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A29C9-053C-4DCE-B314-FEAC48E3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088C7-EC05-4B8D-A3D7-9B807DF5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7174-B16E-42D1-B9C5-BE4F4CC6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F5EC9-BC81-4FAD-9EA0-AB99B598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D0A-9A6E-4BB2-BE4D-A9B86F8F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99222-077C-4D7D-A1B8-04E5DDDC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2534-7C4C-4E1F-B7DF-62F4A66A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74CA6-D68D-4C9E-B9D6-0D730B5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1FB6-A211-46B4-BEE8-32B2D21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D1D84-8151-4296-BCAF-1D80FA246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C1BFE-A016-475A-BABB-3BECCED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10971-1667-4E5E-A543-9CEF10BD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F672-8EF5-4313-B6B0-6DD162BD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86E94-69D6-4F27-871F-EE319A8A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A1859-9CD1-4031-93EA-9400C255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8CD-0E64-4590-A7F1-467C1F73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3BF4-D7A1-4ADF-9317-17D2DEB1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8C283-5ABA-48F2-8812-639A2FE0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98A6-3A55-48E8-B66E-B5ED86F7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FB2FC-183D-4708-A181-750014B8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F1EE-F67B-4EDA-AFC8-06480E88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EDDC5-40D2-40DF-88FD-2DF598BF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36CB-AF3C-4053-83E2-EAE2ABD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9439C-7D7D-4D22-B0C7-9A9FA5C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26D58-1A33-4A40-9249-EF13F2C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9E24-9F9F-4CEC-B0A9-3A2B696B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C07-C70F-47B6-8A74-C07EC8EC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DC0D-132A-48AA-90F6-92A1A632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61C8-0C64-4DB2-9C9F-4CC11C28E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08B63-1B27-4665-85B0-3C6481DD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3F3A5-3532-4494-B16A-08B0B0F3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91DCD-70F2-45AE-9BC2-5B4DFDD5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5FF4D-660F-430D-8A77-6EE386F6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B8307-AE35-4103-8FCE-E533A6DC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E2717-DD3C-4297-B201-ED6D3AD8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202E4-C2A0-4B66-9541-E2B628D8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483CF-F822-4638-ACF4-89820BE9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887-AA84-4A3E-B5BB-32525F0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6BAB-2E17-4A3C-8F81-7C5EDF6E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FC239-A786-411C-A2F5-CA5D847C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590F-F1A2-44FE-9490-E6ECDA8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8DEEE-15EA-433B-80C6-23BDE019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91588-B1EE-445E-A3A9-5A18D7CF5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5EEF3-C65D-4DB0-B699-676172BE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400EF-6162-4628-84EF-858A34A4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A4EE5-37FD-4262-A33E-680CFD69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E342C-9428-4AF3-BE73-FC08423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F723E-740F-42F9-A42B-5979E57E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02A-59C5-4DE5-A10C-B61D3815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B265-4245-43D8-A05C-F1099DA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DA6D3-CB1E-471C-999A-1467505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887DF-EE40-477D-8255-682CBC26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A4B9E-AD2E-405D-9E23-26381D4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ECF3-6F57-4F57-BC9E-FA60DFA3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515A8-E50D-4D6A-9123-92328E01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D0FD6-DA31-46FA-BA25-12DE264A4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CF30FC-AF5A-4B29-B778-448A64D6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66AF05-BD2E-48A1-8341-7D4466DE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767975-C5D9-4398-AB7F-D78D7B19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1BE1-CD13-416C-B392-4165245D7B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4240-645F-4A24-8118-0D975093374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197-2B32-4639-80F3-AD0E0D5FDB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052-D38B-4A06-84C2-14BE2BEA550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2A3F-90C6-4136-8CDE-44C8799A69A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280-CE47-401A-B576-31928BC05C8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7F69-3736-4D26-A3BF-B031B3BF06B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48F-DCFB-4E1F-A952-667AEB8B334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FF63-1F14-4D7B-8DD7-BD43D8E5CD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6840" y="333360"/>
            <a:ext cx="84358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7a8f"/>
                </a:solidFill>
                <a:latin typeface="Cambria"/>
                <a:ea typeface="Cambria Math"/>
              </a:rPr>
              <a:t>Обеспечение профессионализма и высокой квалификации кадров как условие достижения качества образования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Важным фактором, благоприятно влияющим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на качество образования, является состояние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кадрового потенциала на всех уровнях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                           </a:t>
            </a:r>
            <a:r>
              <a:rPr b="1" i="1" lang="ru-RU" sz="1800" spc="-1" strike="noStrike">
                <a:solidFill>
                  <a:srgbClr val="a3171e"/>
                </a:solidFill>
                <a:latin typeface="Cambria"/>
                <a:ea typeface="Cambria Math"/>
              </a:rPr>
              <a:t>(Федеральная целевая программа развития образования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"/>
          <p:cNvGraphicFramePr/>
          <p:nvPr/>
        </p:nvGraphicFramePr>
        <p:xfrm>
          <a:off x="179280" y="1481040"/>
          <a:ext cx="8785440" cy="53085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5766"/>
                          </a:solidFill>
                          <a:latin typeface="Cambria Math"/>
                          <a:ea typeface="Cambria Math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05766"/>
                          </a:solidFill>
                          <a:latin typeface="Cambria Math"/>
                          <a:ea typeface="Cambria Math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Стабильные положительные результаты  освоения обучающимися образовательных программ по итогам мониторин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Достижение обучающимися положительной динамики результатов освоения образовательных программ по итогам мониторинг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Развитие у обучающихся способностей к научной, творческой, физкультурно-спортив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а также их участие в олимпиадах, конкурсах, фестивалях, соревнованиях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Личный вклад в повышение качества образования, совершенствования методов обучения и воспитания, транслирования опыта практических результатов своей профессиональной деятельности, активного участие в работе методических объедин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Продуктивное использование новых образовательных технолог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62329"/>
                          </a:solidFill>
                          <a:latin typeface="Cambria"/>
                          <a:ea typeface="Cambria Math"/>
                        </a:rPr>
                        <a:t>Экспериментальная и инновацион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2" descr=""/>
          <p:cNvPicPr/>
          <p:nvPr/>
        </p:nvPicPr>
        <p:blipFill>
          <a:blip r:embed="rId1"/>
          <a:stretch/>
        </p:blipFill>
        <p:spPr>
          <a:xfrm>
            <a:off x="237960" y="-85680"/>
            <a:ext cx="8637840" cy="157320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"/>
          <p:cNvSpPr/>
          <p:nvPr/>
        </p:nvSpPr>
        <p:spPr>
          <a:xfrm>
            <a:off x="1476360" y="1265400"/>
            <a:ext cx="6408720" cy="396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ВОД 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4"/>
          <p:cNvSpPr/>
          <p:nvPr/>
        </p:nvSpPr>
        <p:spPr>
          <a:xfrm>
            <a:off x="3495600" y="4214880"/>
            <a:ext cx="2735280" cy="58248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ри отсутствии первой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5"/>
          <p:cNvSpPr/>
          <p:nvPr/>
        </p:nvSpPr>
        <p:spPr>
          <a:xfrm>
            <a:off x="235080" y="2205000"/>
            <a:ext cx="26082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СООТВЕТСТВУ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сше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6"/>
          <p:cNvSpPr/>
          <p:nvPr/>
        </p:nvSpPr>
        <p:spPr>
          <a:xfrm>
            <a:off x="235080" y="4354560"/>
            <a:ext cx="2608200" cy="17143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установить высшую квалификационн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657240" y="1940040"/>
            <a:ext cx="53290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txBody>
          <a:bodyPr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высшей  категор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Объект 10"/>
          <p:cNvSpPr/>
          <p:nvPr/>
        </p:nvSpPr>
        <p:spPr>
          <a:xfrm>
            <a:off x="3567240" y="3203640"/>
            <a:ext cx="53290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отказать в установлении высше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Объект 10"/>
          <p:cNvSpPr/>
          <p:nvPr/>
        </p:nvSpPr>
        <p:spPr>
          <a:xfrm>
            <a:off x="6588000" y="4214880"/>
            <a:ext cx="2449800" cy="58248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marL="8532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ри наличии перв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Объект 10"/>
          <p:cNvSpPr/>
          <p:nvPr/>
        </p:nvSpPr>
        <p:spPr>
          <a:xfrm>
            <a:off x="6804000" y="5084640"/>
            <a:ext cx="223056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marL="99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Сохраняется первая категория до истечения срока е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4"/>
          <p:cNvSpPr/>
          <p:nvPr/>
        </p:nvSpPr>
        <p:spPr>
          <a:xfrm>
            <a:off x="3059280" y="5084640"/>
            <a:ext cx="162072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С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5"/>
          <p:cNvSpPr/>
          <p:nvPr/>
        </p:nvSpPr>
        <p:spPr>
          <a:xfrm>
            <a:off x="4862520" y="5084640"/>
            <a:ext cx="160956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перв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низ 9"/>
          <p:cNvSpPr/>
          <p:nvPr/>
        </p:nvSpPr>
        <p:spPr>
          <a:xfrm flipH="1">
            <a:off x="1735920" y="1662120"/>
            <a:ext cx="314280" cy="520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трелка вниз 16"/>
          <p:cNvSpPr/>
          <p:nvPr/>
        </p:nvSpPr>
        <p:spPr>
          <a:xfrm flipH="1">
            <a:off x="5782680" y="2779560"/>
            <a:ext cx="169560" cy="405000"/>
          </a:xfrm>
          <a:prstGeom prst="downArrow">
            <a:avLst>
              <a:gd name="adj1" fmla="val 50000"/>
              <a:gd name="adj2" fmla="val 50115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трелка вниз 17"/>
          <p:cNvSpPr/>
          <p:nvPr/>
        </p:nvSpPr>
        <p:spPr>
          <a:xfrm flipH="1">
            <a:off x="5867280" y="1725480"/>
            <a:ext cx="217440" cy="1969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Стрелка вниз 18"/>
          <p:cNvSpPr/>
          <p:nvPr/>
        </p:nvSpPr>
        <p:spPr>
          <a:xfrm flipH="1">
            <a:off x="1718640" y="3789360"/>
            <a:ext cx="331560" cy="49860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Стрелка вниз 19"/>
          <p:cNvSpPr/>
          <p:nvPr/>
        </p:nvSpPr>
        <p:spPr>
          <a:xfrm flipH="1">
            <a:off x="3784680" y="4824360"/>
            <a:ext cx="210960" cy="2602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Стрелка вниз 20"/>
          <p:cNvSpPr/>
          <p:nvPr/>
        </p:nvSpPr>
        <p:spPr>
          <a:xfrm flipH="1">
            <a:off x="7642080" y="4024440"/>
            <a:ext cx="169920" cy="19044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Стрелка вниз 21"/>
          <p:cNvSpPr/>
          <p:nvPr/>
        </p:nvSpPr>
        <p:spPr>
          <a:xfrm flipH="1">
            <a:off x="4692600" y="4049640"/>
            <a:ext cx="169920" cy="13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трелка вниз 22"/>
          <p:cNvSpPr/>
          <p:nvPr/>
        </p:nvSpPr>
        <p:spPr>
          <a:xfrm flipH="1">
            <a:off x="5477760" y="4835520"/>
            <a:ext cx="189000" cy="249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трелка вниз 23"/>
          <p:cNvSpPr/>
          <p:nvPr/>
        </p:nvSpPr>
        <p:spPr>
          <a:xfrm flipH="1">
            <a:off x="7642080" y="4835520"/>
            <a:ext cx="169920" cy="249120"/>
          </a:xfrm>
          <a:prstGeom prst="downArrow">
            <a:avLst>
              <a:gd name="adj1" fmla="val 50000"/>
              <a:gd name="adj2" fmla="val 49963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Заголовок 2" descr=""/>
          <p:cNvPicPr/>
          <p:nvPr/>
        </p:nvPicPr>
        <p:blipFill>
          <a:blip r:embed="rId1"/>
          <a:stretch/>
        </p:blipFill>
        <p:spPr>
          <a:xfrm>
            <a:off x="55440" y="-152280"/>
            <a:ext cx="9144000" cy="174924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1"/>
          <p:cNvSpPr/>
          <p:nvPr/>
        </p:nvSpPr>
        <p:spPr>
          <a:xfrm>
            <a:off x="1476360" y="1265400"/>
            <a:ext cx="6408720" cy="396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ВЫВОД ПО РЕЗУЛЬТАТАМ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5"/>
          <p:cNvSpPr/>
          <p:nvPr/>
        </p:nvSpPr>
        <p:spPr>
          <a:xfrm>
            <a:off x="243000" y="2384280"/>
            <a:ext cx="26082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СООТВЕТСТВУЕ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перв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6"/>
          <p:cNvSpPr/>
          <p:nvPr/>
        </p:nvSpPr>
        <p:spPr>
          <a:xfrm>
            <a:off x="243000" y="4594320"/>
            <a:ext cx="2608200" cy="17143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установить первую квалификационную категор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635280" y="2227320"/>
            <a:ext cx="532944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txBody>
          <a:bodyPr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ровень квалификаци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первой  категор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Объект 10"/>
          <p:cNvSpPr/>
          <p:nvPr/>
        </p:nvSpPr>
        <p:spPr>
          <a:xfrm>
            <a:off x="3635280" y="3375000"/>
            <a:ext cx="5329440" cy="792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: отказать в установлении первой катег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4"/>
          <p:cNvSpPr/>
          <p:nvPr/>
        </p:nvSpPr>
        <p:spPr>
          <a:xfrm>
            <a:off x="4035600" y="4807080"/>
            <a:ext cx="162072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СЗ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5"/>
          <p:cNvSpPr/>
          <p:nvPr/>
        </p:nvSpPr>
        <p:spPr>
          <a:xfrm>
            <a:off x="6300720" y="4822920"/>
            <a:ext cx="2664000" cy="158436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Аттестация на первую категорию не ранее чем через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трелка вниз 3"/>
          <p:cNvSpPr/>
          <p:nvPr/>
        </p:nvSpPr>
        <p:spPr>
          <a:xfrm flipH="1">
            <a:off x="1728000" y="1712880"/>
            <a:ext cx="466920" cy="671400"/>
          </a:xfrm>
          <a:prstGeom prst="downArrow">
            <a:avLst>
              <a:gd name="adj1" fmla="val 50000"/>
              <a:gd name="adj2" fmla="val 49968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Стрелка вниз 12"/>
          <p:cNvSpPr/>
          <p:nvPr/>
        </p:nvSpPr>
        <p:spPr>
          <a:xfrm>
            <a:off x="1728720" y="3968640"/>
            <a:ext cx="466920" cy="54792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Стрелка вниз 16"/>
          <p:cNvSpPr/>
          <p:nvPr/>
        </p:nvSpPr>
        <p:spPr>
          <a:xfrm>
            <a:off x="4821120" y="4216320"/>
            <a:ext cx="422280" cy="5605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Стрелка вниз 17"/>
          <p:cNvSpPr/>
          <p:nvPr/>
        </p:nvSpPr>
        <p:spPr>
          <a:xfrm>
            <a:off x="5688000" y="3049560"/>
            <a:ext cx="396720" cy="254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Стрелка вниз 18"/>
          <p:cNvSpPr/>
          <p:nvPr/>
        </p:nvSpPr>
        <p:spPr>
          <a:xfrm>
            <a:off x="5641920" y="1712880"/>
            <a:ext cx="442800" cy="4921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трелка вниз 19"/>
          <p:cNvSpPr/>
          <p:nvPr/>
        </p:nvSpPr>
        <p:spPr>
          <a:xfrm>
            <a:off x="7631280" y="4218120"/>
            <a:ext cx="422280" cy="56196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24000" y="1481040"/>
            <a:ext cx="849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329"/>
                </a:solidFill>
                <a:latin typeface="Cambria"/>
                <a:ea typeface="Cambria Math"/>
              </a:rPr>
              <a:t>это комплект документов, представляющий совокупность сертифицированных или несертифицированных индивидуальных достижений педагога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62329"/>
                </a:solidFill>
                <a:latin typeface="Cambria"/>
                <a:ea typeface="Cambria Math"/>
              </a:rPr>
              <a:t>может быть представлено в аттестационную комиссию в бумажном или электронном формате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24720" indent="-2271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24000" y="836280"/>
            <a:ext cx="8496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Заголовок 2" descr=""/>
          <p:cNvPicPr/>
          <p:nvPr/>
        </p:nvPicPr>
        <p:blipFill>
          <a:blip r:embed="rId1"/>
          <a:stretch/>
        </p:blipFill>
        <p:spPr>
          <a:xfrm>
            <a:off x="457200" y="-60480"/>
            <a:ext cx="8229600" cy="1114560"/>
          </a:xfrm>
          <a:prstGeom prst="rect">
            <a:avLst/>
          </a:prstGeom>
          <a:ln w="0">
            <a:noFill/>
          </a:ln>
        </p:spPr>
      </p:pic>
      <p:sp>
        <p:nvSpPr>
          <p:cNvPr id="491" name="Скругленный прямоугольник 1"/>
          <p:cNvSpPr/>
          <p:nvPr/>
        </p:nvSpPr>
        <p:spPr>
          <a:xfrm>
            <a:off x="468360" y="76500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05766"/>
                </a:solidFill>
                <a:latin typeface="Cambria"/>
                <a:ea typeface="Cambria Math"/>
              </a:rPr>
              <a:t>Профессиональный стату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общие сведения о педагогическом работник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4"/>
          <p:cNvSpPr/>
          <p:nvPr/>
        </p:nvSpPr>
        <p:spPr>
          <a:xfrm>
            <a:off x="468360" y="3860640"/>
            <a:ext cx="3887640" cy="27370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Результаты научно-методической деятельности </a:t>
            </a: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материалы, свидетельствующие о личном вкладе  педагога в развитие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5"/>
          <p:cNvSpPr/>
          <p:nvPr/>
        </p:nvSpPr>
        <p:spPr>
          <a:xfrm>
            <a:off x="4932360" y="378936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4 Профессиональные достижения педагогического работ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5766"/>
                </a:solidFill>
                <a:latin typeface="Cambria"/>
                <a:ea typeface="Cambria Math"/>
              </a:rPr>
              <a:t>(свидетельства личного вклада педагога в развитие образов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Скругленный прямоугольник 6"/>
          <p:cNvSpPr/>
          <p:nvPr/>
        </p:nvSpPr>
        <p:spPr>
          <a:xfrm>
            <a:off x="4932360" y="765000"/>
            <a:ext cx="3887640" cy="2735280"/>
          </a:xfrm>
          <a:prstGeom prst="roundRect">
            <a:avLst>
              <a:gd name="adj" fmla="val 1666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БЛОК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766"/>
                </a:solidFill>
                <a:latin typeface="Cambria"/>
                <a:ea typeface="Cambria Math"/>
              </a:rPr>
              <a:t>Результаты профессиональной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766"/>
                </a:solidFill>
                <a:latin typeface="Cambria"/>
                <a:ea typeface="Cambria Math"/>
              </a:rPr>
              <a:t>(материалы, демонстрирующие  динамику результатов педагогической деятельно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220464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31000" indent="-4294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mbria"/>
              </a:rPr>
              <a:t>демонстрация системы или отдельных компонентов педагогической деятельности, которые стабильно дают положительные результаты и обладают новизной с точки зрения направления профессиональной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Заголовок 2" descr=""/>
          <p:cNvPicPr/>
          <p:nvPr/>
        </p:nvPicPr>
        <p:blipFill>
          <a:blip r:embed="rId1"/>
          <a:stretch/>
        </p:blipFill>
        <p:spPr>
          <a:xfrm>
            <a:off x="109440" y="274680"/>
            <a:ext cx="87854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6840" y="1481040"/>
            <a:ext cx="843588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В рамках аттестации интернет-ресурс выступает в качестве формы представления личного вклада педагогического работника в развитие образования и может существовать в следующих форматах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   </a:t>
            </a: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- персональный сайт педагог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   </a:t>
            </a:r>
            <a:r>
              <a:rPr b="1" i="1" lang="ru-RU" sz="2700" spc="-1" strike="noStrike">
                <a:solidFill>
                  <a:srgbClr val="062329"/>
                </a:solidFill>
                <a:latin typeface="Cambria"/>
              </a:rPr>
              <a:t>- персональная страница педагога на сайте образовательной организации, в которой осуществляется его профессиональная деятельность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овершенствовать комплекс условий (информационных, организационных, содержательных, мотивационных) для аттестации педагогических работников в соответствии с новым порядком аттестации педагогических работник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Систематизировать деятельность, позволяющую отслеживать  профессиональный рост, продуктивность, качественные приращения результатов практической деятельности педагогов в межаттестационный период через различные формы, в том числе через портфоли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Всем педагогическим работникам начать работу по созданию  портфолио учителя в соответствии с новыми требованиями аттест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Методическим объединениям провести школьную экспертизу  портфолио педагог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Рассматривать методическую самообразовательную работу учителя как систему, направленную на достижение конечных результатов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Направить методическую работу школы на стимулирование педагога к эффективной профессиональной деятельности, как механизму совершенствования квалификац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Заголовок 2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7a8f"/>
                </a:solidFill>
                <a:latin typeface="Cambria"/>
              </a:rPr>
              <a:t>Создание в образовательном учреждении благоприятных организационно-методических условий для подготовки педагогических работников к аттестационным процедурам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6616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одвести рефлексию первых итогов аттестации педагогических работников в новом формат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роанализировать опыт работы педагогических работников, прошедших аттестацию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Выработать методические рекомендации по подготовке педагогических работников к квалификационным испытаниям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Выстраивание  индивидуальной траектории профессионального роста  педагогов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5766"/>
                </a:solidFill>
                <a:latin typeface="Cambria"/>
              </a:rPr>
              <a:t>Приобщение учителей к самоанализу и самодиагностик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462960" indent="-462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5820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9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03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Утвержден Приказом Министерства образования и науки РФ от 7 апреля 2014 года № 27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Аттестация педагогических работников проводитс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</a:t>
            </a:r>
            <a:r>
              <a:rPr b="0" lang="ru-RU" sz="2700" spc="-1" strike="noStrike" u="sng">
                <a:solidFill>
                  <a:srgbClr val="105766"/>
                </a:solidFill>
                <a:uFillTx/>
                <a:latin typeface="Cambria"/>
                <a:ea typeface="Cambria Math"/>
              </a:rPr>
              <a:t>в целях подтверждения соответствия педагогических работников занимаемым ими должностям</a:t>
            </a: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на основе оценки их профессиональной деятельности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36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 </a:t>
            </a:r>
            <a:r>
              <a:rPr b="0" lang="ru-RU" sz="2700" spc="-1" strike="noStrike">
                <a:solidFill>
                  <a:srgbClr val="105766"/>
                </a:solidFill>
                <a:latin typeface="Cambria"/>
                <a:ea typeface="Cambria Math"/>
              </a:rPr>
              <a:t>по желанию педагогических работников </a:t>
            </a:r>
            <a:r>
              <a:rPr b="0" lang="ru-RU" sz="2700" spc="-1" strike="noStrike" u="sng">
                <a:solidFill>
                  <a:srgbClr val="105766"/>
                </a:solidFill>
                <a:uFillTx/>
                <a:latin typeface="Cambria"/>
                <a:ea typeface="Cambria Math"/>
              </a:rPr>
              <a:t>в целях установления квалификационной категории (первой или высшей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250560" y="98064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Проводиться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один раз в 5 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Руководитель ОУ вносит в аттестационную комиссию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представление</a:t>
            </a:r>
            <a:r>
              <a:rPr b="1" lang="ru-RU" sz="2700" spc="-1" strike="noStrike">
                <a:solidFill>
                  <a:srgbClr val="062329"/>
                </a:solidFill>
                <a:latin typeface="Cambria Math"/>
                <a:ea typeface="Cambria Math"/>
              </a:rPr>
              <a:t>, в котором содержатся свед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фамилия, имя, отчеств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наименование должност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дата заключения трудового догов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уровень образования и квалификац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информация о дополнительном профессиональном образовани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 результаты предыдущих аттеста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62329"/>
                </a:solidFill>
                <a:latin typeface="Cambria Math"/>
                <a:ea typeface="Cambria Math"/>
              </a:rPr>
              <a:t>-мотивированная всестороння и объективная оценка профессиональных качеств, результатов профессиональной деятельности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Не предусмотрено сохранение  результатов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                      </a:t>
            </a:r>
            <a:r>
              <a:rPr b="1" lang="ru-RU" sz="2700" spc="-1" strike="noStrike">
                <a:solidFill>
                  <a:srgbClr val="a3171e"/>
                </a:solidFill>
                <a:latin typeface="Cambria Math"/>
                <a:ea typeface="Cambria Math"/>
              </a:rPr>
              <a:t>аттестации на СЗД по новому месту работ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36360" y="219240"/>
            <a:ext cx="92232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Заголовок 2" descr=""/>
          <p:cNvPicPr/>
          <p:nvPr/>
        </p:nvPicPr>
        <p:blipFill>
          <a:blip r:embed="rId1"/>
          <a:stretch/>
        </p:blipFill>
        <p:spPr>
          <a:xfrm>
            <a:off x="-30240" y="-139680"/>
            <a:ext cx="8925120" cy="12492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1"/>
          <p:cNvSpPr/>
          <p:nvPr/>
        </p:nvSpPr>
        <p:spPr>
          <a:xfrm>
            <a:off x="1619280" y="870120"/>
            <a:ext cx="612144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5160"/>
                </a:solidFill>
                <a:latin typeface="Cambria Math"/>
                <a:ea typeface="Cambria Math"/>
              </a:rPr>
              <a:t>РЕШЕНИЕ АТТЕСТАЦИОННОЙ КОМИ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"/>
          <p:cNvSpPr/>
          <p:nvPr/>
        </p:nvSpPr>
        <p:spPr>
          <a:xfrm>
            <a:off x="5219640" y="2637000"/>
            <a:ext cx="368928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НЕ СООТВЕТСТВУЕТ ЗАНИМАЕМОЙ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5"/>
          <p:cNvSpPr/>
          <p:nvPr/>
        </p:nvSpPr>
        <p:spPr>
          <a:xfrm>
            <a:off x="395280" y="2637000"/>
            <a:ext cx="3672000" cy="79200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СООТВЕТСТВУЕТ ЗАНИМАЕМОЙ ДОЛЖ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6"/>
          <p:cNvSpPr/>
          <p:nvPr/>
        </p:nvSpPr>
        <p:spPr>
          <a:xfrm>
            <a:off x="4064040" y="4248000"/>
            <a:ext cx="4895640" cy="2160720"/>
          </a:xfrm>
          <a:prstGeom prst="rect">
            <a:avLst/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Трудовой договор может быть расторгнут (п.3 ч. 1 ст.81 Т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Увольнение допускается, если невозможен перевод работника с его письменного согласия на другую  имеющуюся у работодателя работ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Cambria Math"/>
                <a:ea typeface="Cambria Math"/>
              </a:rPr>
              <a:t>(ч.3 ст. 81 ТК РФ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трелка вниз 3"/>
          <p:cNvSpPr/>
          <p:nvPr/>
        </p:nvSpPr>
        <p:spPr>
          <a:xfrm>
            <a:off x="2050920" y="1662120"/>
            <a:ext cx="792360" cy="898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трелка вниз 8"/>
          <p:cNvSpPr/>
          <p:nvPr/>
        </p:nvSpPr>
        <p:spPr>
          <a:xfrm>
            <a:off x="6734160" y="3432240"/>
            <a:ext cx="684360" cy="79200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Стрелка вниз 9"/>
          <p:cNvSpPr/>
          <p:nvPr/>
        </p:nvSpPr>
        <p:spPr>
          <a:xfrm>
            <a:off x="6684840" y="1662120"/>
            <a:ext cx="757440" cy="89856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78d6ea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2" descr=""/>
          <p:cNvPicPr/>
          <p:nvPr/>
        </p:nvPicPr>
        <p:blipFill>
          <a:blip r:embed="rId1"/>
          <a:stretch/>
        </p:blipFill>
        <p:spPr>
          <a:xfrm>
            <a:off x="-6480" y="244440"/>
            <a:ext cx="8901360" cy="91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2" name=""/>
          <p:cNvGraphicFramePr/>
          <p:nvPr/>
        </p:nvGraphicFramePr>
        <p:xfrm>
          <a:off x="250920" y="981000"/>
          <a:ext cx="8785080" cy="5680080"/>
        </p:xfrm>
        <a:graphic>
          <a:graphicData uri="http://schemas.openxmlformats.org/drawingml/2006/table">
            <a:tbl>
              <a:tblPr/>
              <a:tblGrid>
                <a:gridCol w="2736720"/>
                <a:gridCol w="1944720"/>
                <a:gridCol w="4103640"/>
              </a:tblGrid>
              <a:tr h="74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Cambria"/>
                        </a:rPr>
                        <a:t>Аттестацию</a:t>
                      </a: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Arial"/>
                        </a:rPr>
                        <a:t>  на СЗД не проходя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227a8f"/>
                          </a:solidFill>
                          <a:latin typeface="Cambria"/>
                        </a:rPr>
                        <a:t>Сроки аттестации на ПС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имеющие</a:t>
                      </a:r>
                      <a:r>
                        <a:rPr b="0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квалификационные категор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когда действие квалификационной категории закончилось, подается представление – 30 дней - аттес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со стажем работы </a:t>
                      </a: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менее 2 лет в данной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2 года после приема на работу, независимо от стажа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женщины, находящиеся в </a:t>
                      </a:r>
                      <a:r>
                        <a:rPr b="1" lang="ru-RU" sz="1800" spc="-1" strike="noStrike">
                          <a:solidFill>
                            <a:srgbClr val="a3171e"/>
                          </a:solidFill>
                          <a:latin typeface="Cambria"/>
                        </a:rPr>
                        <a:t>отпуске по уходу за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2 года после вы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отсутствующие более 4 месяцев в связи с болезн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65160"/>
                          </a:solidFill>
                          <a:latin typeface="Cambria"/>
                        </a:rPr>
                        <a:t>аттестация через год после вы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3" name="Стрелка вправо 2"/>
          <p:cNvSpPr/>
          <p:nvPr/>
        </p:nvSpPr>
        <p:spPr>
          <a:xfrm>
            <a:off x="3203640" y="2021040"/>
            <a:ext cx="1439640" cy="576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трелка вправо 6"/>
          <p:cNvSpPr/>
          <p:nvPr/>
        </p:nvSpPr>
        <p:spPr>
          <a:xfrm>
            <a:off x="3203640" y="3645000"/>
            <a:ext cx="1439640" cy="57600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трелка вправо 7"/>
          <p:cNvSpPr/>
          <p:nvPr/>
        </p:nvSpPr>
        <p:spPr>
          <a:xfrm>
            <a:off x="3247920" y="4797360"/>
            <a:ext cx="1440000" cy="576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трелка вправо 8"/>
          <p:cNvSpPr/>
          <p:nvPr/>
        </p:nvSpPr>
        <p:spPr>
          <a:xfrm>
            <a:off x="3247920" y="5830920"/>
            <a:ext cx="1440000" cy="57636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Устанавливается сроком на 5 лет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Проводится на основании заявления, которое подается не менее чем за 3 месяца до истечения срока действия имеющейся квалификационной 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явление на высшую категорию можно подать только при наличии первой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Заявление на высшую категорию можно подать не ранее чем через 2 года после установления первой квалификационной категори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mbria Math"/>
                <a:ea typeface="Cambria Math"/>
              </a:rPr>
              <a:t>Квалификационная категория сохраняется при переходе на работу в другую школ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 txBox="1"/>
          <p:nvPr/>
        </p:nvSpPr>
        <p:spPr>
          <a:xfrm>
            <a:off x="457200" y="14810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993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mbria Math"/>
                <a:ea typeface="Cambria Math"/>
              </a:rPr>
              <a:t>Приказ Министерства образования Нижегородской области от 20.10.2014 № 230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ФОРМЫ квалификационных испытаний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1. Портфолио педагогического работник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7a8f"/>
                </a:solidFill>
                <a:latin typeface="Cambria"/>
                <a:ea typeface="Cambria Math"/>
              </a:rPr>
              <a:t>2. Компьютерная презентация практических достижений профессиональной деятельности или интернет-ресурса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9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42:46Z</dcterms:created>
  <dc:creator>Карасева</dc:creator>
  <dc:description/>
  <dc:language>en-US</dc:language>
  <cp:lastModifiedBy>Admin</cp:lastModifiedBy>
  <cp:lastPrinted>2015-03-02T06:24:29Z</cp:lastPrinted>
  <dcterms:modified xsi:type="dcterms:W3CDTF">2017-01-18T17:12:54Z</dcterms:modified>
  <cp:revision>1674</cp:revision>
  <dc:subject/>
  <dc:title>Слайд 1</dc:title>
</cp:coreProperties>
</file>