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45B-B8E8-4176-88D6-F76CA6B8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7D2-5C7A-4A28-9FEC-0EF99269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883-9212-4DC3-BC92-A4524B1D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A71-8123-473E-9E61-47A8B88A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0EF-7C15-42BE-9394-C97C215B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964-B976-424F-9F8C-EF34F05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B2F2-8BAF-4053-BAF7-D5B18C64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36F1-26AD-4297-A931-CBE5D3D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E8F6-5571-4678-822E-F9B0EFF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648E-435F-41F6-B773-AE33684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314-6753-43FE-B732-E59EB89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E13-5559-4849-BCF4-0354D4C8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25D-5F1A-4251-ACC5-80689490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8878-EE7C-4769-BD17-1855184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B98-C3E0-4AF9-AD46-791BFE7E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BF85-44C6-467A-8A38-E6182D30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544-06B6-48D0-957E-93ECE31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D5B2-82A6-470C-838D-DB3D6C8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2875-98E7-431D-BA90-3F84EEEE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0607-3A81-43BB-A166-2AA8B82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1A6-288C-4D3B-ABB6-8E6029AC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2A50-060C-4B3C-B1F1-DDBB91D4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4C2-0CCA-48B3-B171-C9EEDBC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55E3-F73E-4658-8B42-60AF2306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7D816-C937-46F2-A810-85D9804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7154-CE5F-44C6-B2FC-1206C65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C2CD-F6AF-4C2F-A03B-2855269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2296-55EF-46BB-87F4-F0B65B95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4F5D-DEC1-4CDB-BAF1-AF94A04A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E0F9-584D-421E-B483-E38B3070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A2425-1230-473D-ABD0-E9DB0EAF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1157-358C-4B45-9FAA-B966A504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D411-F8FC-4357-B0FB-FF345CEA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8FF-A871-44D4-8FA5-06A9440B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4F4D5-CF66-449A-BC1C-2C7111E1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369E-434E-4FD6-B5BA-5D21E7B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E1FD-641F-4B4F-BB57-101FF588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ECF4-FC38-4B25-800D-132B7A9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18AB-08C9-41EB-8D7C-3A169E5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F7D1-71C6-46AE-8615-C69C919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14450-1527-4C5B-B2F6-F2A128A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1C2C-9377-4BAB-B51C-0EAA2B93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C573-845A-4B30-A334-86F8492D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91253-F1AE-4FFC-BDBB-1117A2F7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F7B-7B97-4C79-B0E4-3FFD37C3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58D0-8F17-42F2-891B-2FFC936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7A52-45AD-479B-BA84-ADB82EEC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DEB5-A74F-4F4D-BA44-593C9C5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D4C3-97CB-4F5B-A1B3-20051E4E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981A-C948-44E1-A231-2FD7D5B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276A-706C-4F0D-8EA8-85DC8849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D610-2232-4DE8-8DD4-85930C3F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137B-46CA-45CF-A21C-2A5F308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3421-262C-4ED1-B96F-407EEBA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4DE8-7710-47B7-B4D5-3849C1C9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332-2D35-4545-8B23-A6A8C36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BA1A8-3EA4-40AD-9507-1ECF1BED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1E2F-5CB1-4F7A-BFEE-125359B8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FC18-6406-4A9D-BC7F-D4911A0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F1D67-B04B-4387-B13A-5DED6BA2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0306-E758-4B25-96DE-7EF8E485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0D9BC-1D3F-4CDB-9D80-DC27CC4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7BE6-75DD-4A9A-BABB-0224C3C0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125B-90E5-4B19-8E13-4ABA221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8C87-37E3-4024-B886-860FED2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2660-550F-418C-AEC4-5F2EB52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51A-1F67-4C05-9426-051FE06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D993-19D1-4B22-B359-1DF3410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C40D-E254-4384-A2E6-A4F6BE46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401E1-165A-4228-B77E-4C6644F1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F1EC-8934-4122-A87F-A1DBE557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8415-44EB-41E2-BB66-796487A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4B8DB-4C2C-4E00-9C45-C553A58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9F3D-CCF0-4E4A-9232-E70269E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672A2-F084-4B97-AFF0-8B67560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03E5-03C9-43B4-90B4-C8C391E2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CEF41-E5E2-44E4-AAC3-32B8E56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CFB-0903-48DE-BFB7-D49BA96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7AC6-41C9-42AA-81C3-C85618C9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F5AF-D782-4E5D-B687-37DA99B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A25F2-5468-4A11-8B36-6770226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7C184-3402-4045-BDCF-E4DCAE05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7320-E3C4-4907-BC08-8A58B555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39D-5697-4D76-B9B6-EA4894A1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DFD1-C7D5-47E9-8207-3407A6F9E74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90D-685E-4583-A778-52CFA47A303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5E9-C162-4174-8801-127C1CFA97F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445-AADE-483F-9A5F-3EF3A1DA0FB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26D-4942-4E02-9E0D-EBB77D7BE1A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0BF5-3311-46AE-8B49-0111F78AB4B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F79-7A86-44BA-B56A-12373A50BDE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92000" y="1197000"/>
            <a:ext cx="7219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654c"/>
                </a:solidFill>
                <a:latin typeface="Arial"/>
              </a:rPr>
              <a:t>Муниципальное бюджетное общеобразовательное</a:t>
            </a:r>
            <a:r>
              <a:rPr b="0" lang="en-US" sz="1600" spc="-1" strike="noStrike">
                <a:solidFill>
                  <a:srgbClr val="c0654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654c"/>
                </a:solidFill>
                <a:latin typeface="Arial"/>
              </a:rPr>
              <a:t>учреждение «Ново-Снопковская основная общеобразовательная школа»</a:t>
            </a:r>
            <a:br>
              <a:rPr sz="1600"/>
            </a:br>
            <a:br>
              <a:rPr sz="1600"/>
            </a:b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c0654c"/>
                </a:solidFill>
                <a:latin typeface="Arial"/>
              </a:rPr>
              <a:t>Тема:</a:t>
            </a:r>
            <a:r>
              <a:rPr b="1" lang="ru-RU" sz="2500" spc="-1" strike="noStrike">
                <a:solidFill>
                  <a:srgbClr val="c0654c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c0654c"/>
                </a:solidFill>
                <a:latin typeface="Arial Black"/>
              </a:rPr>
              <a:t>Особенности перевода названий англоязычных фильмов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276880" y="2852280"/>
            <a:ext cx="3657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Выполнила: Бокарёва Анн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6  класс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Руководитель: Ольшанская Нина Александровна,</a:t>
            </a:r>
            <a:br>
              <a:rPr sz="1400"/>
            </a:b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учитель английского язык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Скругленный прямоугольник 7">
            <a:hlinkClick r:id="rId1"/>
          </p:cNvPr>
          <p:cNvSpPr/>
          <p:nvPr/>
        </p:nvSpPr>
        <p:spPr>
          <a:xfrm>
            <a:off x="3898800" y="6477120"/>
            <a:ext cx="8892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37558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4" descr="1261378051_photos0-800x600.jpg"/>
          <p:cNvPicPr/>
          <p:nvPr/>
        </p:nvPicPr>
        <p:blipFill>
          <a:blip r:embed="rId1"/>
          <a:stretch/>
        </p:blipFill>
        <p:spPr>
          <a:xfrm>
            <a:off x="1047600" y="142920"/>
            <a:ext cx="8096400" cy="65721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1692360" y="1341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d46c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85188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a7a8"/>
                </a:solidFill>
                <a:latin typeface="Arial Black"/>
              </a:rPr>
              <a:t>Стратегии, используемые при переводе названий англоязычных фильмов</a:t>
            </a:r>
            <a:br>
              <a:rPr sz="40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03280" y="3068280"/>
            <a:ext cx="561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Кальк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Транслитерация и транскрип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трансформа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4587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654c"/>
                </a:solidFill>
                <a:latin typeface="Arial Black"/>
              </a:rPr>
              <a:t>1. Калькировани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376360" cy="1809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089080" cy="3240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3"/>
          <a:stretch/>
        </p:blipFill>
        <p:spPr>
          <a:xfrm>
            <a:off x="1476360" y="1413000"/>
            <a:ext cx="2087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654c"/>
                </a:solidFill>
                <a:latin typeface="Arial Black"/>
              </a:rPr>
              <a:t>2. Транслитерация и транскрип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141640" cy="244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3564000" y="1403280"/>
            <a:ext cx="2376360" cy="2835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23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654c"/>
                </a:solidFill>
                <a:latin typeface="Corbel"/>
              </a:rPr>
              <a:t>3. Трансформ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4788000" y="950760"/>
            <a:ext cx="1944720" cy="181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2"/>
          <a:stretch/>
        </p:blipFill>
        <p:spPr>
          <a:xfrm>
            <a:off x="4581360" y="281304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6797520" y="1440"/>
            <a:ext cx="2052720" cy="2335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4"/>
          <a:stretch/>
        </p:blipFill>
        <p:spPr>
          <a:xfrm>
            <a:off x="6804000" y="2523960"/>
            <a:ext cx="2016000" cy="227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5"/>
          <a:stretch/>
        </p:blipFill>
        <p:spPr>
          <a:xfrm>
            <a:off x="1258920" y="1257480"/>
            <a:ext cx="3798720" cy="1695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6"/>
          <a:stretch/>
        </p:blipFill>
        <p:spPr>
          <a:xfrm>
            <a:off x="1028880" y="2760840"/>
            <a:ext cx="208728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00080" y="0"/>
          <a:ext cx="8001000" cy="4645080"/>
        </p:xfrm>
        <a:graphic>
          <a:graphicData uri="http://schemas.openxmlformats.org/drawingml/2006/table">
            <a:tbl>
              <a:tblPr/>
              <a:tblGrid>
                <a:gridCol w="1785960"/>
                <a:gridCol w="2143080"/>
                <a:gridCol w="1928880"/>
                <a:gridCol w="2143080"/>
              </a:tblGrid>
              <a:tr h="1000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Название фильма в оригина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Дословный перевод; примерные варианты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Официальный вариант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Метод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No Escape</a:t>
                      </a: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» 201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Нет эвакуации»; «Безвыходное положе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Выхода н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Кальк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30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Hotel Transylvania 2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1. «Отель Трансильвания»; 2. «Гостиница Трансильвания»; 3. «Отель/ гостиница в Трансильвани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Монстры на каникулах-2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Трансформация + 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Into the Wood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1. «В лесу»; 2. «В лес»; 3. «Внутри лес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Чем дальше в лес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Калькирование + Трансформация- Допол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6100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7736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Диаграмма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5940360" cy="55594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1285920" y="5286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654c"/>
                </a:solidFill>
                <a:latin typeface="Arial"/>
              </a:rPr>
              <a:t>Наиболее употребляемый тип перевода - транс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45:55Z</dcterms:created>
  <dc:creator>SvetLana</dc:creator>
  <dc:description/>
  <dc:language>en-US</dc:language>
  <cp:lastModifiedBy>СтартМастер</cp:lastModifiedBy>
  <dcterms:modified xsi:type="dcterms:W3CDTF">2016-01-13T20:16:35Z</dcterms:modified>
  <cp:revision>98</cp:revision>
  <dc:subject/>
  <dc:title>Автор: Менщикова Светлана МОУ «Лицей № 12» 10А класс Научный руководитель: Матвеева Елена Викторовна учитель английского языка МОУ «Лицей № 12»</dc:title>
</cp:coreProperties>
</file>