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519-CD68-4519-96CA-EF252A62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0894-A539-4E12-BBD1-5F195EA3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7512-4D39-4113-BFA7-51A4E300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AD0-76FB-41B2-A007-5B594F4A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D5E9-7D54-47DC-A9DD-B2A4EA323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C65D-A62D-4307-842F-C2A4FFA2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B8FB-A948-4FCB-9E75-D504838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9299-36F3-4FEB-81B9-1FEDEA99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1D42-9FBB-4AED-91F3-1113F3A4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6A82-95C8-47D4-8C1A-5F46B265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54DFA-251D-4D2C-AEE7-CD89D67A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8FE1-BF7E-4767-956B-3FE5E492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B732-8BE1-4443-8041-92462A5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04D2-8AF5-4652-8D62-FF4540D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7E14-A22B-4C6F-9E38-68B5FF8D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1E56-0348-4785-B271-367636C8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3006-9072-4648-8544-4AECF9A9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23B4-6583-4D28-920B-92264A3B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CB80-5103-4B34-918C-27CB1EB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140C-FBFD-4A01-9D54-60560EC6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58EB-5453-45FC-83E2-929836D6A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89E1C-FAF5-4977-B167-E516B935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96D4-53BC-4322-99BD-E61F2DAC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04C80-8227-4608-AB4F-923D8CD8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980CF-DB24-4056-8DDF-0B8C963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802B-97FF-4139-9E2F-05512559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027F-1E9E-44CE-A362-8364E46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101A-CC03-4E45-A463-6C087EE3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C83F-04AB-4900-81EB-363441BD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9F3D8-F846-47EB-BB62-65F276BB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8C235-8FB7-4849-B041-AA43EF83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FA07F-7CBC-4162-9A79-D855F659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66BD-549E-4CA4-85C3-14023F7C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334-2B21-41CE-BED6-C39A082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2AAFE-CCC6-4715-BF91-76E911B9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A53D0-36D4-46C5-922E-6ADB0CB47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4A439-CCEA-4DBC-A980-B8B6032A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CF8F-FA76-4093-810A-82E8C3A1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C513-6C0F-4DE8-BDDC-5FC991A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035F-DBC2-44AC-A997-F51C1F6A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9667-5D80-4C7E-AAF9-A9A54E50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D94F1-DF9E-4698-BD51-0DC406C1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FA55-AC28-4D0C-992B-880F5857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1657B-4FE5-4C3A-9B2B-30D7265B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351-696F-423A-8DF1-A28CBA39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34A39-665F-4FAB-8830-787EC085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4DB02-DEDE-4298-89C4-EBDA7B0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CE111-1025-4F4F-B7D7-BC900BB0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E2A85-2F8F-492F-AD40-D98C655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853E-1228-4526-A33B-491DE733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FDBC-FD89-4C23-870A-0706BE6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A8DCA-5138-42A3-9AD1-B31A10ED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15461-492C-41A5-8DFA-C5087DFE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4C38-58D7-4F1D-B64E-081F0113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CAE65-C687-47ED-B1EF-BB278960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E0A-DDAF-43DA-8BCD-DB101B9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7F05C-2AAA-4773-9961-65D77696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AD83F-B72A-49E7-8D49-A31EB2BD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369AC-30E4-4463-9328-817A18A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A70D6-073E-4EA1-A135-2310F25F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28086-8458-4DDF-AB04-BBDBC593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A86DA-EF85-4BC4-A3DE-B595FA68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788D-8CE2-4377-9754-3490F40A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F42B7-D178-4652-A9F1-BD6E87B8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94A72-00BB-44C3-AC20-5A7A2B21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47ED-656A-40BD-87B3-A63C481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1D0-5839-4BCA-8CB1-777E817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4F98B-FBB1-4E9A-965A-79F2C4E4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3AA7-0DCF-4CBD-9895-F813D677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40615-30E4-435F-91C0-3167DED9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F4E52-0A86-4D3F-8E50-44540E764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28968-450E-40D9-8269-EAACE6DA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969D7-4CBB-4E3D-837C-3D942E44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0DB1E-0C32-4288-84C2-8E1094DA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C981D-A1E4-4B02-A29A-AC957424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9AC97-780E-4117-86FF-1D232440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477AB-8C84-47E0-8867-E6D167BB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807-0B7B-4524-8D5A-CE2FA3C4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C9CFF-8DA7-4DDB-BC0D-89987147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701FC-0894-4058-9B07-5BE96D22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357B8-9967-4A4E-8B9F-ED050083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9BFB7-4788-4E2D-8C79-0BCE5FC9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90CC-FE39-4FB6-9715-CA7D68A8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028-E304-4100-A8D5-4EF4A607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7CEE1-1A75-4E7E-8487-F47F91C0D5C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46EA-B460-451C-8E77-CFE0B764D45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66E7-2919-4771-A648-3783931F116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532-2B8A-4708-9F10-B4BD193EF5CE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EC69-AB8B-401A-89C7-333D1223C93A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980A-08B9-446B-85E1-6A413603E24B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6672-8129-4462-BD13-31B44DD2DE38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92000" y="1197000"/>
            <a:ext cx="721980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654c"/>
                </a:solidFill>
                <a:latin typeface="Arial"/>
              </a:rPr>
              <a:t>Муниципальное бюджетное общеобразовательное</a:t>
            </a:r>
            <a:r>
              <a:rPr b="0" lang="en-US" sz="1600" spc="-1" strike="noStrike">
                <a:solidFill>
                  <a:srgbClr val="c0654c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0654c"/>
                </a:solidFill>
                <a:latin typeface="Arial"/>
              </a:rPr>
              <a:t>учреждение «Ново-Снопковская основная общеобразовательная школа»</a:t>
            </a:r>
            <a:br>
              <a:rPr sz="1600"/>
            </a:br>
            <a:br>
              <a:rPr sz="1600"/>
            </a:b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c0654c"/>
                </a:solidFill>
                <a:latin typeface="Arial"/>
              </a:rPr>
              <a:t>Тема:</a:t>
            </a:r>
            <a:r>
              <a:rPr b="1" lang="ru-RU" sz="2500" spc="-1" strike="noStrike">
                <a:solidFill>
                  <a:srgbClr val="c0654c"/>
                </a:solidFill>
                <a:latin typeface="Arial"/>
              </a:rPr>
              <a:t> </a:t>
            </a:r>
            <a:r>
              <a:rPr b="1" lang="ru-RU" sz="2500" spc="-1" strike="noStrike">
                <a:solidFill>
                  <a:srgbClr val="c0654c"/>
                </a:solidFill>
                <a:latin typeface="Arial Black"/>
              </a:rPr>
              <a:t>Особенности перевода названий англоязычных фильмов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276880" y="2852280"/>
            <a:ext cx="365760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Выполнила: Бокарёва Анна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6  класс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Руководитель: Ольшанская Нина Александровна,</a:t>
            </a:r>
            <a:br>
              <a:rPr sz="1400"/>
            </a:br>
            <a:r>
              <a:rPr b="0" lang="ru-RU" sz="1400" spc="-1" strike="noStrike">
                <a:solidFill>
                  <a:srgbClr val="c0654c"/>
                </a:solidFill>
                <a:latin typeface="Arial"/>
              </a:rPr>
              <a:t>учитель английского языка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Скругленный прямоугольник 7">
            <a:hlinkClick r:id="rId1"/>
          </p:cNvPr>
          <p:cNvSpPr/>
          <p:nvPr/>
        </p:nvSpPr>
        <p:spPr>
          <a:xfrm>
            <a:off x="3898800" y="6477120"/>
            <a:ext cx="8892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"/>
          <p:cNvPicPr/>
          <p:nvPr/>
        </p:nvPicPr>
        <p:blipFill>
          <a:blip r:embed="rId2"/>
          <a:stretch/>
        </p:blipFill>
        <p:spPr>
          <a:xfrm>
            <a:off x="1692360" y="2852640"/>
            <a:ext cx="375588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Рисунок 4" descr="1261378051_photos0-800x600.jpg"/>
          <p:cNvPicPr/>
          <p:nvPr/>
        </p:nvPicPr>
        <p:blipFill>
          <a:blip r:embed="rId1"/>
          <a:stretch/>
        </p:blipFill>
        <p:spPr>
          <a:xfrm>
            <a:off x="1047600" y="142920"/>
            <a:ext cx="8096400" cy="65721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"/>
          <p:cNvSpPr/>
          <p:nvPr/>
        </p:nvSpPr>
        <p:spPr>
          <a:xfrm>
            <a:off x="1692360" y="134136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d46c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685188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a7a8"/>
                </a:solidFill>
                <a:latin typeface="Arial Black"/>
              </a:rPr>
              <a:t>Стратегии, используемые при переводе названий англоязычных фильмов</a:t>
            </a:r>
            <a:br>
              <a:rPr sz="40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03280" y="3068280"/>
            <a:ext cx="561672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Калькирова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Транслитерация и транскрип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898c3"/>
                </a:solidFill>
                <a:latin typeface="Corbel"/>
              </a:rPr>
              <a:t>трансформа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1"/>
          <a:stretch/>
        </p:blipFill>
        <p:spPr>
          <a:xfrm>
            <a:off x="3203640" y="907920"/>
            <a:ext cx="4587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654c"/>
                </a:solidFill>
                <a:latin typeface="Arial Black"/>
              </a:rPr>
              <a:t>1. Калькирование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2376360" cy="1809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6443640" y="1341360"/>
            <a:ext cx="2089080" cy="32400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"/>
          <p:cNvPicPr/>
          <p:nvPr/>
        </p:nvPicPr>
        <p:blipFill>
          <a:blip r:embed="rId3"/>
          <a:stretch/>
        </p:blipFill>
        <p:spPr>
          <a:xfrm>
            <a:off x="1476360" y="1413000"/>
            <a:ext cx="208764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654c"/>
                </a:solidFill>
                <a:latin typeface="Arial Black"/>
              </a:rPr>
              <a:t>2. Транслитерация и транскрип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141640" cy="2448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3564000" y="1403280"/>
            <a:ext cx="2376360" cy="2835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23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0654c"/>
                </a:solidFill>
                <a:latin typeface="Corbel"/>
              </a:rPr>
              <a:t>3. Трансформац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tretch/>
        </p:blipFill>
        <p:spPr>
          <a:xfrm>
            <a:off x="4788000" y="950760"/>
            <a:ext cx="1944720" cy="1810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"/>
          <p:cNvPicPr/>
          <p:nvPr/>
        </p:nvPicPr>
        <p:blipFill>
          <a:blip r:embed="rId2"/>
          <a:stretch/>
        </p:blipFill>
        <p:spPr>
          <a:xfrm>
            <a:off x="4581360" y="2813040"/>
            <a:ext cx="2133720" cy="2087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3"/>
          <a:stretch/>
        </p:blipFill>
        <p:spPr>
          <a:xfrm>
            <a:off x="6797520" y="1440"/>
            <a:ext cx="2052720" cy="23353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4"/>
          <a:stretch/>
        </p:blipFill>
        <p:spPr>
          <a:xfrm>
            <a:off x="6804000" y="2523960"/>
            <a:ext cx="2016000" cy="227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"/>
          <p:cNvPicPr/>
          <p:nvPr/>
        </p:nvPicPr>
        <p:blipFill>
          <a:blip r:embed="rId5"/>
          <a:stretch/>
        </p:blipFill>
        <p:spPr>
          <a:xfrm>
            <a:off x="1258920" y="1257480"/>
            <a:ext cx="3798720" cy="16952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9" descr=""/>
          <p:cNvPicPr/>
          <p:nvPr/>
        </p:nvPicPr>
        <p:blipFill>
          <a:blip r:embed="rId6"/>
          <a:stretch/>
        </p:blipFill>
        <p:spPr>
          <a:xfrm>
            <a:off x="1028880" y="2760840"/>
            <a:ext cx="2087280" cy="21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000080" y="0"/>
          <a:ext cx="8001000" cy="4645080"/>
        </p:xfrm>
        <a:graphic>
          <a:graphicData uri="http://schemas.openxmlformats.org/drawingml/2006/table">
            <a:tbl>
              <a:tblPr/>
              <a:tblGrid>
                <a:gridCol w="1785960"/>
                <a:gridCol w="2143080"/>
                <a:gridCol w="1928880"/>
                <a:gridCol w="2143080"/>
              </a:tblGrid>
              <a:tr h="10000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Название фильма в оригина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Дословный перевод; примерные варианты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Официальный вариант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Метод перев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«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No Escape</a:t>
                      </a: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Calibri"/>
                          <a:ea typeface="Times New Roman"/>
                        </a:rPr>
                        <a:t>» 201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Нет эвакуации»; «Безвыходное положени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Выхода не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Кальк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30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Hotel Transylvania 2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1. «Отель Трансильвания»; 2. «Гостиница Трансильвания»; 3. «Отель/ гостиница в Трансильвании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Монстры на каникулах-2»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Трансформация + зам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en-US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Into the Woods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1. «В лесу»; 2. «В лес»; 3. «Внутри лес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«Чем дальше в лес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0654c"/>
                          </a:solidFill>
                          <a:latin typeface="Times New Roman"/>
                          <a:ea typeface="Times New Roman"/>
                        </a:rPr>
                        <a:t>Калькирование + Трансформация- Допол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6100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24000" y="1125360"/>
            <a:ext cx="577368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Диаграмма 2" descr=""/>
          <p:cNvPicPr/>
          <p:nvPr/>
        </p:nvPicPr>
        <p:blipFill>
          <a:blip r:embed="rId1"/>
          <a:stretch/>
        </p:blipFill>
        <p:spPr>
          <a:xfrm>
            <a:off x="1643040" y="142920"/>
            <a:ext cx="5940360" cy="5559480"/>
          </a:xfrm>
          <a:prstGeom prst="rect">
            <a:avLst/>
          </a:prstGeom>
          <a:ln w="0">
            <a:noFill/>
          </a:ln>
        </p:spPr>
      </p:pic>
      <p:sp>
        <p:nvSpPr>
          <p:cNvPr id="344" name="TextBox 3"/>
          <p:cNvSpPr/>
          <p:nvPr/>
        </p:nvSpPr>
        <p:spPr>
          <a:xfrm>
            <a:off x="1285920" y="5286240"/>
            <a:ext cx="728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654c"/>
                </a:solidFill>
                <a:latin typeface="Arial"/>
              </a:rPr>
              <a:t>Наиболее употребляемый тип перевода - транс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4:45:55Z</dcterms:created>
  <dc:creator>SvetLana</dc:creator>
  <dc:description/>
  <dc:language>en-US</dc:language>
  <cp:lastModifiedBy>СтартМастер</cp:lastModifiedBy>
  <dcterms:modified xsi:type="dcterms:W3CDTF">2016-01-13T20:16:35Z</dcterms:modified>
  <cp:revision>98</cp:revision>
  <dc:subject/>
  <dc:title>Автор: Менщикова Светлана МОУ «Лицей № 12» 10А класс Научный руководитель: Матвеева Елена Викторовна учитель английского языка МОУ «Лицей № 12»</dc:title>
</cp:coreProperties>
</file>