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597-1C5F-4C89-AF1A-8DF6E8E2FF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EFB-1756-4CDA-A59A-3F6379EE528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1E6A-E1D7-486F-A3D3-96CE9068D40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BB2C-EA7A-49FF-BEA1-9F44B70900E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5A95-352A-485D-A120-FAB52DDF5908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E2803-037D-40EC-8736-634A2FD0AFF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A125-6D2A-4CB1-91FD-B98466C3F62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F56B-BBCC-43DA-8A6F-CE29B7B8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642D-3037-47A3-9385-E1C7B0C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3319-6F88-4AE9-8F26-4B078D41C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CF8-EFDB-4098-B5B0-0770210B5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13D2-6410-42EB-8ADA-0B627488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5FD6-E01A-4930-8FB7-D01F3072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3DEC-01A7-4E53-BA6E-FBBFD1EA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863A5-DAF4-4FD5-AAFC-DAA8FF49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99BC-6184-4539-A2EB-1D1E2644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1CC21-911C-4CE0-9067-5A76038F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732C-C141-4C7E-B346-FBC5FEF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313C-4985-46E0-9D70-4AE23D88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ADAF-7094-42FD-8448-2125DCE1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5AE5B-2D88-4FAF-8966-DC864CC5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823A-0A5B-47AA-B881-DB846424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3B3F-050D-4435-9BE3-E5998380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CBD3-F687-49D0-8AD2-BB5BE5F79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41ACE4-62C6-4747-91AF-F8219053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2BE5E9-EBAA-413D-B167-277A504A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2CD7F-1B00-4763-8165-B006B9BA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85A81F-8BC6-4A42-BB4C-69DDAB95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65972-4CD1-4202-899A-D9151C15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29D8-08B2-4712-AF9C-29E3D69A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43184-0548-42D4-B14E-7B5CFD9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65279F-3A81-4228-8AB8-E38316A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4122BA-9801-4158-A01B-91154B1D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362DB-98CF-40D6-9A5D-546BA242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60403E-7A88-4B7E-8F8E-77EDB712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D2315F-A917-49E2-A9F7-CB30E463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0F9BB0-04B4-4485-9FA9-1F03F4F1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9C90-0FA9-4EBB-BBBE-5B85F624E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33F4-3A62-4DAA-9FD2-1A5E948C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3E98-D31D-4584-BD4C-5BB45E2A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E1C-F0CE-4084-8AEB-EF70C447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27C55-D9CA-470E-A7BD-5B6A8C29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1B164-D6CA-4263-9294-2D0CFD09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5B31-7BB8-4565-B622-92DA468F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4F3D-6B68-4644-96DA-4965B913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D61C-1DF2-469A-A7C4-82CEED4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3F5C4-3EBF-4CAB-9DEB-7F6707B0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F45F0-8B01-488F-92DE-0B88C2CA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3C369-8D3C-4F7F-9BEC-49554165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A8A4E-2039-43C7-9966-DBBDAD23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891B3-D798-4CC7-A416-CC99ED02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0D3-78A2-4EA6-93A6-CFBA0C5D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41CC62-C980-4CE1-A464-E4FAF7F0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0FA972-DC69-48E6-B04D-15566C03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8C921A-587B-42CE-9997-0F0F0CCE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DAA6A3-D1D8-45B0-8120-319335BF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A1977-CE4E-49D1-A62B-402415A2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5DE99-93FA-4D51-AF69-464C142D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E70F11-6C0C-456C-9055-A93079BE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6EB548-953C-4192-BEDD-29DBD603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BC380B-76E9-4808-B963-A60B3715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CBFEB-7C7E-4D0F-A325-D826EC49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05C9-8029-4497-8982-72643F15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36CD97-3364-41EF-B6E5-091CBAE9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59D296-E347-405E-B6C0-64C5D03C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52E59B-EB51-4141-A292-A551C9CB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2A7A0-2392-4D8D-B878-76A8A2F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3C9B9-2AF3-4D8F-B4BC-417F1E7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C5245A-A49F-45F0-9CAC-A8F82EDF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BF68A-A860-45F0-A198-8C38420E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7650C7-1060-4294-BD68-C5E9BC8C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3D77D3-4AB9-4012-B35E-E6F19316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E90C40-26FF-4D58-86E6-AF4D4530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B08-52A1-4354-9607-A25A329D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02557-C3DF-4DC8-AE1D-1C9B830D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B58F19-289A-4102-B844-BBA8C33E6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52032-4F2F-49E3-B7F5-FF407043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3611C-3D20-49F0-8795-8764CF62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66111-2104-4E60-834D-18E3946B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E7CC2B-D603-48CC-8A6A-A43861F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A8DA07-A050-4BD3-BA39-0EE76BBD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91AE50-C63A-4DD0-AB5A-3F8D580E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5AE44-A917-4034-9ACB-52EB944B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C58004-F319-4B12-ABC8-6659E564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307-2D78-4825-B9FC-8F31133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FED692-50C4-4018-9F16-16161A3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CABE30-04CA-43BD-8BB2-7B829D6E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64189-20E3-42C0-82B1-06AF5C57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62507-A3F9-487D-B9B2-DD27C94AF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378EE1-38C3-40A5-A230-546DBCE6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D16-C100-4650-B4FA-9DA4D790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ECD6-4035-4DE9-9556-A7B2EB6788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CFC5-4EDE-4DC9-A018-A07BE3FE8DB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997D-C4BA-4A35-BD70-FC215B2E7A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ec7d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ed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edce1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8eef1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ec7d0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8eef1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ec7d0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ec7d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dec9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7dec9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3D91-9EC4-47A5-9001-B10DE4081AA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E06-D719-4C97-9728-5B46730ABAC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B661-A1E4-4DA3-8F22-58FF573CB7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e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ec7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f271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307f9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aec7d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ed8aa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7769-0F2D-4306-8787-2815FA24D1D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51920" y="533160"/>
            <a:ext cx="85726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редняя общеобразовательная школа №1 «Образовательный центр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п.г.т. Стройкерамик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м.р. Волжски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амарской области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Школьная научно-практическая конференция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Секция «Русский язык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Тема: «Как нужно писать сочинение на ЕГЭ по русскому языку»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Автор: Настюкова Анастасия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учащаяся 11 Б класс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Научный руководитель: Заливе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Оксана Алексее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Organization Chart 3"/>
          <p:cNvGrpSpPr/>
          <p:nvPr/>
        </p:nvGrpSpPr>
        <p:grpSpPr>
          <a:xfrm>
            <a:off x="228600" y="1521000"/>
            <a:ext cx="8762760" cy="4764240"/>
            <a:chOff x="228600" y="1521000"/>
            <a:chExt cx="8762760" cy="4764240"/>
          </a:xfrm>
        </p:grpSpPr>
        <p:cxnSp>
          <p:nvCxnSpPr>
            <p:cNvPr id="374" name="_s56324"/>
            <p:cNvCxnSpPr>
              <a:stCxn id="375" idx="0"/>
              <a:endCxn id="376" idx="2"/>
            </p:cNvCxnSpPr>
            <p:nvPr/>
          </p:nvCxnSpPr>
          <p:spPr>
            <a:xfrm flipV="1" rot="16200000">
              <a:off x="5625720" y="2299320"/>
              <a:ext cx="839160" cy="3039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7" name="_s56325"/>
            <p:cNvCxnSpPr>
              <a:stCxn id="378" idx="0"/>
              <a:endCxn id="376" idx="2"/>
            </p:cNvCxnSpPr>
            <p:nvPr/>
          </p:nvCxnSpPr>
          <p:spPr>
            <a:xfrm flipH="1" flipV="1" rot="5400000">
              <a:off x="4105080" y="3812040"/>
              <a:ext cx="840600" cy="1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79" name="_s56326"/>
            <p:cNvCxnSpPr>
              <a:stCxn id="380" idx="0"/>
              <a:endCxn id="376" idx="2"/>
            </p:cNvCxnSpPr>
            <p:nvPr/>
          </p:nvCxnSpPr>
          <p:spPr>
            <a:xfrm flipH="1" flipV="1" rot="5400000">
              <a:off x="2623320" y="2330640"/>
              <a:ext cx="840600" cy="2963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76" name="_s56327"/>
            <p:cNvSpPr/>
            <p:nvPr/>
          </p:nvSpPr>
          <p:spPr>
            <a:xfrm>
              <a:off x="3124440" y="1521000"/>
              <a:ext cx="2803320" cy="1872000"/>
            </a:xfrm>
            <a:prstGeom prst="roundRect">
              <a:avLst>
                <a:gd name="adj" fmla="val 16667"/>
              </a:avLst>
            </a:prstGeom>
            <a:solidFill>
              <a:srgbClr val="bae1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сновные 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способы</a:t>
              </a:r>
              <a:endParaRPr b="0" lang="en-US" sz="3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_s56328"/>
            <p:cNvSpPr/>
            <p:nvPr/>
          </p:nvSpPr>
          <p:spPr>
            <a:xfrm>
              <a:off x="228600" y="4233240"/>
              <a:ext cx="2666520" cy="1979280"/>
            </a:xfrm>
            <a:prstGeom prst="roundRect">
              <a:avLst>
                <a:gd name="adj" fmla="val 16667"/>
              </a:avLst>
            </a:prstGeom>
            <a:solidFill>
              <a:srgbClr val="b6df8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формулироват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воими словами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_s56329"/>
            <p:cNvSpPr/>
            <p:nvPr/>
          </p:nvSpPr>
          <p:spPr>
            <a:xfrm>
              <a:off x="3183840" y="4233240"/>
              <a:ext cx="2682720" cy="1979280"/>
            </a:xfrm>
            <a:prstGeom prst="roundRect">
              <a:avLst>
                <a:gd name="adj" fmla="val 16667"/>
              </a:avLst>
            </a:prstGeom>
            <a:solidFill>
              <a:srgbClr val="b8e0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оцитироват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_s56330"/>
            <p:cNvSpPr/>
            <p:nvPr/>
          </p:nvSpPr>
          <p:spPr>
            <a:xfrm>
              <a:off x="6138720" y="4233240"/>
              <a:ext cx="2852640" cy="2052000"/>
            </a:xfrm>
            <a:prstGeom prst="roundRect">
              <a:avLst>
                <a:gd name="adj" fmla="val 16667"/>
              </a:avLst>
            </a:prstGeom>
            <a:solidFill>
              <a:srgbClr val="bee39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формулировать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 виде вопрос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47216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ambria"/>
                <a:ea typeface="Times New Roman"/>
              </a:rPr>
              <a:t>КАК СФОРМУЛИРОВАТЬ ПРОБЛЕМУ?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ambria"/>
                <a:ea typeface="Times New Roman"/>
              </a:rPr>
              <a:t>КАКИЕ БЫВАЮТ ПРОБЛЕМЫ?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pic>
        <p:nvPicPr>
          <p:cNvPr id="383" name="Схема 3" descr=""/>
          <p:cNvPicPr/>
          <p:nvPr/>
        </p:nvPicPr>
        <p:blipFill>
          <a:blip r:embed="rId1"/>
          <a:stretch/>
        </p:blipFill>
        <p:spPr>
          <a:xfrm>
            <a:off x="328680" y="1596960"/>
            <a:ext cx="879624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Times New Roman"/>
              </a:rPr>
              <a:t>КОММЕНТАРИЙ МОЖЕТ БЫТЬ: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Текстуальным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 т.е  объясняем проблему, следуя за автором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. Концепционным, т.е., опираясь на понимание проблемы, размышляем над поставленным вопросом, пытаясь объяснить, почему автор из множества проблем выбрал именно эту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В комментарии не должно быть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1) пересказа исходного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2) рассуждения по поводу всех проблем текст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3) общих рассуждений о текс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-360" y="205704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текстах официально-делового, научного и публицистического стиле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105520" y="198072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дея текста и позиция автора, как правило, выража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прямо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380880" y="3886200"/>
            <a:ext cx="32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 текстах художественн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художественно-публицистическог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ил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11"/>
          <p:cNvSpPr/>
          <p:nvPr/>
        </p:nvSpPr>
        <p:spPr>
          <a:xfrm>
            <a:off x="5257800" y="42670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дея текста и позиция автора, как правило,      выражаются косвенно( в подтекст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" name="AutoShape 12"/>
          <p:cNvGrpSpPr/>
          <p:nvPr/>
        </p:nvGrpSpPr>
        <p:grpSpPr>
          <a:xfrm>
            <a:off x="3938760" y="944640"/>
            <a:ext cx="5668920" cy="3535200"/>
            <a:chOff x="3938760" y="944640"/>
            <a:chExt cx="5668920" cy="3535200"/>
          </a:xfrm>
        </p:grpSpPr>
        <p:pic>
          <p:nvPicPr>
            <p:cNvPr id="391" name="AutoShape 12" descr=""/>
            <p:cNvPicPr/>
            <p:nvPr/>
          </p:nvPicPr>
          <p:blipFill>
            <a:blip r:embed="rId1"/>
            <a:stretch/>
          </p:blipFill>
          <p:spPr>
            <a:xfrm>
              <a:off x="3938760" y="944640"/>
              <a:ext cx="5668920" cy="35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084560" y="2637000"/>
              <a:ext cx="9702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AutoShape 12"/>
          <p:cNvGrpSpPr/>
          <p:nvPr/>
        </p:nvGrpSpPr>
        <p:grpSpPr>
          <a:xfrm>
            <a:off x="3865680" y="3151080"/>
            <a:ext cx="5668920" cy="3548160"/>
            <a:chOff x="3865680" y="3151080"/>
            <a:chExt cx="5668920" cy="3548160"/>
          </a:xfrm>
        </p:grpSpPr>
        <p:pic>
          <p:nvPicPr>
            <p:cNvPr id="394" name="AutoShape 12" descr=""/>
            <p:cNvPicPr/>
            <p:nvPr/>
          </p:nvPicPr>
          <p:blipFill>
            <a:blip r:embed="rId2"/>
            <a:stretch/>
          </p:blipFill>
          <p:spPr>
            <a:xfrm>
              <a:off x="3865680" y="3151080"/>
              <a:ext cx="5668920" cy="35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4008600" y="4846680"/>
              <a:ext cx="9698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Rectangle 2"/>
          <p:cNvSpPr/>
          <p:nvPr/>
        </p:nvSpPr>
        <p:spPr>
          <a:xfrm>
            <a:off x="990720" y="685800"/>
            <a:ext cx="7472160" cy="11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4f271c"/>
                </a:solidFill>
                <a:latin typeface="Cambria"/>
                <a:ea typeface="Times New Roman"/>
              </a:rPr>
              <a:t>ПОЗИЦИЯ АВТОРА</a:t>
            </a:r>
            <a:endParaRPr b="0" lang="en-US" sz="5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ambria"/>
              </a:rPr>
              <a:t>ЗАКЛЮЧЕНИЕ.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Должно быть органично связано с текстом, с его проблематикой, с предыдущим изложение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Должно завершить сочинение, еще раз обратив внимание эксперта на самое главно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олжно быть логическим завершением рассуждений по поводу проблем, поставленных автор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Может отражать личное отношение к теме текста, его героям, проблем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Может представлять собой развернутую или логически завершенную мысль, высказанную во вступлен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Объект 7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1452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Объект 3" descr=""/>
          <p:cNvPicPr/>
          <p:nvPr/>
        </p:nvPicPr>
        <p:blipFill>
          <a:blip r:embed="rId1"/>
          <a:stretch/>
        </p:blipFill>
        <p:spPr>
          <a:xfrm>
            <a:off x="1447920" y="380880"/>
            <a:ext cx="59734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Объект 5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7070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Объект 5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0883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Объект 5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662940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3"/>
          <p:cNvSpPr/>
          <p:nvPr/>
        </p:nvSpPr>
        <p:spPr>
          <a:xfrm>
            <a:off x="1143000" y="838080"/>
            <a:ext cx="75438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 к сочинению-  рассуждению по исходному тексту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асть С,  ЕГЭ)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Объект 3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7010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761760" y="8380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Спасибо за внимание 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entury Schoolbook"/>
              </a:rPr>
              <a:t>ЦЕЛЬ 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Цель проекта заключается в определении основных путей при написании школьного сочинения как показателя творческого развития ученик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entury Schoolbook"/>
              </a:rPr>
              <a:t>ЗАДАЧИ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)  систематизировать свой опыт написания сочинений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)  провести эксперимент в своём классе и построить диаграммы, чтобы отследить динамику написания сочинения поэтапно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)  подвести итог проделанной работы и сделать вывод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4)  оказать практическую помощь в написании сочине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798480" y="609480"/>
            <a:ext cx="788832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расная мысль теряет всю свою ценность, если она дурно выражена.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ьтер</a:t>
            </a:r>
            <a:r>
              <a:rPr b="1" lang="ru-RU" sz="3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Содержимое 3" descr=""/>
          <p:cNvPicPr/>
          <p:nvPr/>
        </p:nvPicPr>
        <p:blipFill>
          <a:blip r:embed="rId1"/>
          <a:stretch/>
        </p:blipFill>
        <p:spPr>
          <a:xfrm>
            <a:off x="457200" y="1609560"/>
            <a:ext cx="7242120" cy="4846680"/>
          </a:xfrm>
          <a:prstGeom prst="rect">
            <a:avLst/>
          </a:prstGeom>
          <a:ln w="0">
            <a:noFill/>
          </a:ln>
        </p:spPr>
      </p:pic>
      <p:pic>
        <p:nvPicPr>
          <p:cNvPr id="366" name="Схема 4" descr=""/>
          <p:cNvPicPr/>
          <p:nvPr/>
        </p:nvPicPr>
        <p:blipFill>
          <a:blip r:embed="rId2"/>
          <a:stretch/>
        </p:blipFill>
        <p:spPr>
          <a:xfrm>
            <a:off x="1066680" y="298440"/>
            <a:ext cx="7089840" cy="5803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271c"/>
                </a:solidFill>
                <a:latin typeface="Cambria"/>
              </a:rPr>
              <a:t>ПЛАН  СОЧИНЕНИЯ-РАССУЖДЕНИЯ</a:t>
            </a:r>
            <a:endParaRPr b="0" lang="en-US" sz="32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762120" y="2017440"/>
            <a:ext cx="819288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  Вступлени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Формулировка проблемы  исходного текст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Комментарий к проблем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Определение авторской позици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 Изложение собственной позиции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)    первый  аргумент,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   второй  аргумент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 Заключе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f271c"/>
                </a:solidFill>
                <a:latin typeface="Cambria"/>
              </a:rPr>
              <a:t>ВСТУПЛЕНИЕ МОЖЕТ БЫТЬ НАПИСАНО В ФОРМЕ:</a:t>
            </a:r>
            <a:endParaRPr b="0" lang="en-US" sz="3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017800"/>
            <a:ext cx="7696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. Лирического размыш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Ряда риторических вопросов, созвучных теме     (идее, проблеме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Диалога с воображаемым собеседник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Ряда назывных предложений, создающих образную картину, возникающую по ассоциациям в связи с проблематикой текст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Может начинаться с цитаты, пословицы, поговор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Может начинаться с ключевого слова текста и д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71760" y="456840"/>
            <a:ext cx="757224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271c"/>
                </a:solidFill>
                <a:latin typeface="Cambria"/>
                <a:ea typeface="Times New Roman"/>
              </a:rPr>
              <a:t>ЧТО ТАКОЕ ПРОБЛЕМА ТЕКСТА?</a:t>
            </a:r>
            <a:endParaRPr b="0" lang="en-US" sz="4000" spc="-1" strike="noStrike">
              <a:solidFill>
                <a:srgbClr val="4f271c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57224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Проблема текста – это вопрос, над которым размышляет автор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Этот вопрос может не иметь однозначного ответа.  Например,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 чем смысл жизни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Что такое красота?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Проблемой может быть некоторое противоречие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конфликт между какими-либо группами людей, их взглядами на жизнь (проблема «отцов» и «детей») и т.д.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999</dc:creator>
  <dc:description/>
  <dc:language>en-US</dc:language>
  <cp:lastModifiedBy>Aнастасия</cp:lastModifiedBy>
  <dcterms:modified xsi:type="dcterms:W3CDTF">2016-01-21T19:35:21Z</dcterms:modified>
  <cp:revision>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