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A986-7A0E-448F-BFF6-D43761CAAC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56F6-DAD9-40A7-B8B3-A5F354FBD13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4D44-691D-4926-880D-0CF4AA6BFCA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13EA-5040-4A47-B7DA-DB9B5F83CB0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C7FA-1DE9-4927-8B0E-48DF801A4D1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5EB3-4096-4785-B079-00B01A47153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CC7E-7F04-4AE5-9C7D-9C2A00EB8B9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4580-87AD-4056-AD11-5C80BE68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3BE8-7F38-4540-B881-F050FDF7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FE98-702B-46AA-9D2E-1AF658BF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8816-68A3-4B13-BBAB-153F10267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5FC0-0650-4398-841E-766DDC85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994E-55BA-4F2B-A367-6D1985BE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0639-ACD7-4906-BDDB-95FFC3EA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9830-B75B-40C4-A070-B9782261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2CAD-37CC-47CC-914F-E8C85C79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32F7-5CD8-4C76-BAF7-311AC1EA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B222-957A-4AF8-A12A-A86778DA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5FA6-A3D7-4883-9F4A-7598E5E4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B9E8-0963-40E9-8A0E-88C3BA24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FE87-FC34-4A32-8C06-DD423702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8B13-0429-4C17-BD79-DB315350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7ED2-B574-4374-A0A3-59B930E8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9CC0-060F-476F-A8E6-440056D1E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879220-1324-425F-A1DF-0A691D8F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0E4DFD-5C78-4D3B-BA13-EE2E8981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F380A0-5CA5-4C71-8D03-BC0DC79B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AD852F-9C7B-4764-83A9-2018EBCD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8C2E39-35F8-4BD2-AB5E-52FB796C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9685-4173-4B1B-9ECE-66E23318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39C2A1-4B70-4E15-A7B8-2B664451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EC46C6-E6F9-4EB3-8098-EE04E1D2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5698E5-B940-4B02-AF99-51E42D6C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F092FC-9FE8-4E19-A66C-72AF5F74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84E261-8BD0-4B08-BB0F-B1903E15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296E08-415C-4A2F-B4DC-77F02E0A1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C72D3C-9143-4530-B42A-F64B215E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2AE83-2AD3-4904-942B-F7FE6B19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DA9A3-740E-48FD-BB89-E166E1E6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AB4C5-8103-45D5-AE4E-E4BFD1A2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432E-3CCF-4BA5-BF63-27E75B9F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CB46F-EB6B-4CD0-A472-0DBF425E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13849-A36D-4B2D-BBD6-AC56AEC4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FD951-D4DD-43D0-BB9A-30700CB8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1EE4E-ED0D-413B-986A-9355B9B0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C4D71-F479-484B-85BF-61F0714C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06906-DF61-4C3F-B1FC-8DC28F86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74C29-6952-47A7-9076-C464BA6B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8B69F-C99A-4924-A767-A4985DB77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B7D40-2255-486F-9250-16EC1A70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001E10-9DA7-437F-9D26-2C4D3503A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D52F-73A6-4B64-AFE7-F8099222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86D853-2B0B-4596-AF69-8F76EB29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13F07F-1E92-4670-82B8-4361A44D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CD2085-31B4-4615-B7B5-CBB96048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D0FE89-FF75-49CB-80F2-C60CDC5D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E717A6-55CE-4922-88F1-20B43D84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E51582-E1C8-44D7-AA89-EFE69C0A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2F42F8-A103-4207-83D9-AE9FB6B0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286079-64C2-4B89-BA7C-76D3793C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F87F2B-008B-470E-843F-09BC0D29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DE863A-4840-49BB-8982-ADA2DDA95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B619-78C4-47B7-8611-0AEA537C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49A29C-9CE0-4B1F-9A22-BE4997AF3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1562A7-A4E2-448B-AA2E-BDEAB56C9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A8F225-7A1C-47CC-A14F-A92DC7FC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C3AE45-4D4D-4C93-94D7-DEE77C97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9AD982-710D-4F34-853B-4B9289B1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DA9D0C-86E0-426C-8C0A-4BF7B1F9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9B79FF-2F8F-4470-8265-D73B2AC9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897343-423C-4D6B-BCB6-B9150084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ADA335-5CC3-4D97-88CC-062ABFE5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BA579D-9F3B-4B91-B13B-1B54427E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6834-1A86-4306-B484-78109F3C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FC1E45-FB7C-4890-86BC-9B0480ED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919151-627C-4B4C-A652-99E1EC83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AD4C20-305A-4FC0-B1D3-C2D79A08B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C3C05C-4DF4-4706-9C6B-29F9E67C8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60ADE9-078C-40B5-811C-B180F7C4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BA453E-E13A-42BA-A1D4-6576CD69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52EEC0-A57B-44F8-837C-5639F620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3CDFA5-BEB7-4D3A-8E47-48FFA154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931957-B601-4C80-BB9C-E58FFC15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C926FF-F90B-4D9D-A969-5A7D6141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0454-FCC6-4A2C-BF03-F325FFC6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3E9EF2-5DA7-40E8-AA72-7A0237E6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9C2BFA-BE6F-45A1-B4BC-D318B9E2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CB2391-B93B-4CBA-93FD-A08A4C6A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08088C-F65E-458B-B11C-D927B9674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E24459-B101-4F2D-AFFC-F0240467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9D4C-9C07-4E45-97E0-99F11B14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449D-5DE1-40DD-89A8-809FEA8EB4D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E0E3-C84C-4C7B-AFFF-A892B6C1208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3E66-5441-43B5-9726-1C104C50D6A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dec9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7dec9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BD24-9FCF-433C-8AD8-790A82AF29F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2686-84BD-4555-AA6C-4A7CAA18A92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8E90-8949-4571-8318-3CDD3770BE9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2B36-80CE-4C0B-87C5-CE8E4426A83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51920" y="533160"/>
            <a:ext cx="85726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Государственное бюджетное общеобразовательное учреждение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Средняя общеобразовательная школа №1 «Образовательный центр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п.г.т. Стройкерамик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м.р. Волжский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Самарской област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Школьная научно-практическая конференц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Секция «Русский язык»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Тема: «Как нужно писать сочинение на ЕГЭ по русскому языку»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Автор: Настюкова Анастасия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учащаяся 11 Б класс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Научный руководитель: Заливен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Оксана Алексеевн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Organization Chart 3"/>
          <p:cNvGrpSpPr/>
          <p:nvPr/>
        </p:nvGrpSpPr>
        <p:grpSpPr>
          <a:xfrm>
            <a:off x="228600" y="1521000"/>
            <a:ext cx="8762760" cy="4764240"/>
            <a:chOff x="228600" y="1521000"/>
            <a:chExt cx="8762760" cy="4764240"/>
          </a:xfrm>
        </p:grpSpPr>
        <p:cxnSp>
          <p:nvCxnSpPr>
            <p:cNvPr id="374" name="_s56324"/>
            <p:cNvCxnSpPr>
              <a:stCxn id="375" idx="0"/>
              <a:endCxn id="376" idx="2"/>
            </p:cNvCxnSpPr>
            <p:nvPr/>
          </p:nvCxnSpPr>
          <p:spPr>
            <a:xfrm flipV="1" rot="16200000">
              <a:off x="5625720" y="2299320"/>
              <a:ext cx="839160" cy="3039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77" name="_s56325"/>
            <p:cNvCxnSpPr>
              <a:stCxn id="378" idx="0"/>
              <a:endCxn id="376" idx="2"/>
            </p:cNvCxnSpPr>
            <p:nvPr/>
          </p:nvCxnSpPr>
          <p:spPr>
            <a:xfrm flipH="1" flipV="1" rot="5400000">
              <a:off x="4105080" y="3812040"/>
              <a:ext cx="840600" cy="1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79" name="_s56326"/>
            <p:cNvCxnSpPr>
              <a:stCxn id="380" idx="0"/>
              <a:endCxn id="376" idx="2"/>
            </p:cNvCxnSpPr>
            <p:nvPr/>
          </p:nvCxnSpPr>
          <p:spPr>
            <a:xfrm flipH="1" flipV="1" rot="5400000">
              <a:off x="2623320" y="2330640"/>
              <a:ext cx="840600" cy="2963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76" name="_s56327"/>
            <p:cNvSpPr/>
            <p:nvPr/>
          </p:nvSpPr>
          <p:spPr>
            <a:xfrm>
              <a:off x="3124440" y="1521000"/>
              <a:ext cx="2803320" cy="1872000"/>
            </a:xfrm>
            <a:prstGeom prst="roundRect">
              <a:avLst>
                <a:gd name="adj" fmla="val 16667"/>
              </a:avLst>
            </a:prstGeom>
            <a:solidFill>
              <a:srgbClr val="bae18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Arial"/>
                </a:rPr>
                <a:t>Основные </a:t>
              </a:r>
              <a:endParaRPr b="0" lang="en-US" sz="3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Arial"/>
                </a:rPr>
                <a:t>способы</a:t>
              </a:r>
              <a:endParaRPr b="0" lang="en-US" sz="3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_s56328"/>
            <p:cNvSpPr/>
            <p:nvPr/>
          </p:nvSpPr>
          <p:spPr>
            <a:xfrm>
              <a:off x="228600" y="4233240"/>
              <a:ext cx="2666520" cy="1979280"/>
            </a:xfrm>
            <a:prstGeom prst="roundRect">
              <a:avLst>
                <a:gd name="adj" fmla="val 16667"/>
              </a:avLst>
            </a:prstGeom>
            <a:solidFill>
              <a:srgbClr val="b6df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формулировать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воими словами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_s56329"/>
            <p:cNvSpPr/>
            <p:nvPr/>
          </p:nvSpPr>
          <p:spPr>
            <a:xfrm>
              <a:off x="3183840" y="4233240"/>
              <a:ext cx="2682720" cy="1979280"/>
            </a:xfrm>
            <a:prstGeom prst="roundRect">
              <a:avLst>
                <a:gd name="adj" fmla="val 16667"/>
              </a:avLst>
            </a:prstGeom>
            <a:solidFill>
              <a:srgbClr val="b8e0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оцитировать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_s56330"/>
            <p:cNvSpPr/>
            <p:nvPr/>
          </p:nvSpPr>
          <p:spPr>
            <a:xfrm>
              <a:off x="6138720" y="4233240"/>
              <a:ext cx="2852640" cy="2052000"/>
            </a:xfrm>
            <a:prstGeom prst="roundRect">
              <a:avLst>
                <a:gd name="adj" fmla="val 16667"/>
              </a:avLst>
            </a:prstGeom>
            <a:solidFill>
              <a:srgbClr val="bee3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формулировать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 виде вопрос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47216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271c"/>
                </a:solidFill>
                <a:latin typeface="Cambria"/>
                <a:ea typeface="Times New Roman"/>
              </a:rPr>
              <a:t>КАК СФОРМУЛИРОВАТЬ ПРОБЛЕМУ?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f271c"/>
                </a:solidFill>
                <a:latin typeface="Cambria"/>
                <a:ea typeface="Times New Roman"/>
              </a:rPr>
              <a:t>КАКИЕ БЫВАЮТ ПРОБЛЕМЫ?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pic>
        <p:nvPicPr>
          <p:cNvPr id="383" name="Схема 3" descr=""/>
          <p:cNvPicPr/>
          <p:nvPr/>
        </p:nvPicPr>
        <p:blipFill>
          <a:blip r:embed="rId1"/>
          <a:stretch/>
        </p:blipFill>
        <p:spPr>
          <a:xfrm>
            <a:off x="328680" y="1596960"/>
            <a:ext cx="879624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f271c"/>
                </a:solidFill>
                <a:latin typeface="Times New Roman"/>
              </a:rPr>
              <a:t>КОММЕНТАРИЙ МОЖЕТ БЫТЬ: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Текстуальным</a:t>
            </a: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т.е  объясняем проблему, следуя за автором текст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2. Концепционным, т.е., опираясь на понимание проблемы, размышляем над поставленным вопросом, пытаясь объяснить, почему автор из множества проблем выбрал именно эт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В комментарии не должно быть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1) пересказа исходного текст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2) рассуждения по поводу всех проблем текст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3) общих рассуждений о текст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-360" y="205704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текстах официально-делового, научного и публицистического стил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105520" y="1980720"/>
            <a:ext cx="40384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дея текста и позиция автора, как правило, выражаю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прямо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Rectangle 9"/>
          <p:cNvSpPr/>
          <p:nvPr/>
        </p:nvSpPr>
        <p:spPr>
          <a:xfrm>
            <a:off x="380880" y="3886200"/>
            <a:ext cx="325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 текстах художественног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художественно-публицистическог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ил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Rectangle 11"/>
          <p:cNvSpPr/>
          <p:nvPr/>
        </p:nvSpPr>
        <p:spPr>
          <a:xfrm>
            <a:off x="5257800" y="42670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дея текста и позиция автора, как правило,      выражаются косвенно( в подтексте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0" name="AutoShape 12"/>
          <p:cNvGrpSpPr/>
          <p:nvPr/>
        </p:nvGrpSpPr>
        <p:grpSpPr>
          <a:xfrm>
            <a:off x="3938760" y="944640"/>
            <a:ext cx="5668920" cy="3535200"/>
            <a:chOff x="3938760" y="944640"/>
            <a:chExt cx="5668920" cy="3535200"/>
          </a:xfrm>
        </p:grpSpPr>
        <p:pic>
          <p:nvPicPr>
            <p:cNvPr id="391" name="AutoShape 12" descr=""/>
            <p:cNvPicPr/>
            <p:nvPr/>
          </p:nvPicPr>
          <p:blipFill>
            <a:blip r:embed="rId1"/>
            <a:stretch/>
          </p:blipFill>
          <p:spPr>
            <a:xfrm>
              <a:off x="3938760" y="944640"/>
              <a:ext cx="5668920" cy="35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4084560" y="2637000"/>
              <a:ext cx="970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3" name="AutoShape 12"/>
          <p:cNvGrpSpPr/>
          <p:nvPr/>
        </p:nvGrpSpPr>
        <p:grpSpPr>
          <a:xfrm>
            <a:off x="3865680" y="3151080"/>
            <a:ext cx="5668920" cy="3548160"/>
            <a:chOff x="3865680" y="3151080"/>
            <a:chExt cx="5668920" cy="3548160"/>
          </a:xfrm>
        </p:grpSpPr>
        <p:pic>
          <p:nvPicPr>
            <p:cNvPr id="394" name="AutoShape 12" descr=""/>
            <p:cNvPicPr/>
            <p:nvPr/>
          </p:nvPicPr>
          <p:blipFill>
            <a:blip r:embed="rId2"/>
            <a:stretch/>
          </p:blipFill>
          <p:spPr>
            <a:xfrm>
              <a:off x="3865680" y="3151080"/>
              <a:ext cx="5668920" cy="35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4008600" y="4846680"/>
              <a:ext cx="9698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6" name="Rectangle 2"/>
          <p:cNvSpPr/>
          <p:nvPr/>
        </p:nvSpPr>
        <p:spPr>
          <a:xfrm>
            <a:off x="990720" y="685800"/>
            <a:ext cx="747216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4f271c"/>
                </a:solidFill>
                <a:latin typeface="Cambria"/>
                <a:ea typeface="Times New Roman"/>
              </a:rPr>
              <a:t>ПОЗИЦИЯ АВТОРА</a:t>
            </a:r>
            <a:endParaRPr b="0" lang="en-US" sz="5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f271c"/>
                </a:solidFill>
                <a:latin typeface="Cambria"/>
              </a:rPr>
              <a:t>ЗАКЛЮЧЕНИЕ.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Должно быть органично связано с текстом, с его проблематикой, с предыдущим изложение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Должно завершить сочинение, еще раз обратив внимание эксперта на самое главно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Должно быть логическим завершением рассуждений по поводу проблем, поставленных авторо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Может отражать личное отношение к теме текста, его героям, проблем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Может представлять собой развернутую или логически завершенную мысль, высказанную во вступлен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Объект 7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1452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Объект 3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59734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Объект 5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70708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Объект 5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60883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Объект 5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66294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рямоугольник 3"/>
          <p:cNvSpPr/>
          <p:nvPr/>
        </p:nvSpPr>
        <p:spPr>
          <a:xfrm>
            <a:off x="1143000" y="838080"/>
            <a:ext cx="75438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 к сочинению-  рассуждению по исходному тексту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асть С,  ЕГЭ)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Объект 3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670104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761760" y="8380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Спасибо за внимание </a:t>
            </a:r>
            <a:r>
              <a:rPr b="0" lang="ru-RU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f271c"/>
                </a:solidFill>
                <a:latin typeface="Century Schoolbook"/>
              </a:rPr>
              <a:t>ЦЕЛЬ 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Цель проекта заключается в определении основных путей при написании школьного сочинения как показателя творческого развития учен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f271c"/>
                </a:solidFill>
                <a:latin typeface="Century Schoolbook"/>
              </a:rPr>
              <a:t>ЗАДАЧИ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)  систематизировать свой опыт написания сочинений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)  провести эксперимент в своём классе и построить диаграммы, чтобы отследить динамику написания сочинения поэтапно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)  подвести итог проделанной работы и сделать вывод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)  оказать практическую помощь в написании сочинен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798480" y="609480"/>
            <a:ext cx="7888320" cy="552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расная мысль теряет всю свою ценность, если она дурно выражена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ьтер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9560"/>
            <a:ext cx="7242120" cy="4846680"/>
          </a:xfrm>
          <a:prstGeom prst="rect">
            <a:avLst/>
          </a:prstGeom>
          <a:ln w="0">
            <a:noFill/>
          </a:ln>
        </p:spPr>
      </p:pic>
      <p:pic>
        <p:nvPicPr>
          <p:cNvPr id="366" name="Схема 4" descr=""/>
          <p:cNvPicPr/>
          <p:nvPr/>
        </p:nvPicPr>
        <p:blipFill>
          <a:blip r:embed="rId2"/>
          <a:stretch/>
        </p:blipFill>
        <p:spPr>
          <a:xfrm>
            <a:off x="1066680" y="298440"/>
            <a:ext cx="7089840" cy="5803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271c"/>
                </a:solidFill>
                <a:latin typeface="Cambria"/>
              </a:rPr>
              <a:t>ПЛАН  СОЧИНЕНИЯ-РАССУЖДЕНИЯ</a:t>
            </a:r>
            <a:endParaRPr b="0" lang="en-US" sz="32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762120" y="2017440"/>
            <a:ext cx="819288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   Вступлени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 Формулировка проблемы  исходного текст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Комментарий к проблеме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Определение авторской позици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  Изложение собственной позиции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    первый  аргумент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   второй  аргумент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 Заключение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f271c"/>
                </a:solidFill>
                <a:latin typeface="Cambria"/>
              </a:rPr>
              <a:t>ВСТУПЛЕНИЕ МОЖЕТ БЫТЬ НАПИСАНО В ФОРМЕ: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09120" y="2017800"/>
            <a:ext cx="76964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Лирического размышл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Ряда риторических вопросов, созвучных теме     (идее, проблеме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Диалога с воображаемым собеседнико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Ряда назывных предложений, создающих образную картину, возникающую по ассоциациям в связи с проблематикой текст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Может начинаться с цитаты, пословицы, поговор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Может начинаться с ключевого слова текста и д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71760" y="456840"/>
            <a:ext cx="757224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271c"/>
                </a:solidFill>
                <a:latin typeface="Cambria"/>
                <a:ea typeface="Times New Roman"/>
              </a:rPr>
              <a:t>ЧТО ТАКОЕ ПРОБЛЕМА ТЕКСТА?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757224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Проблема текста – это вопрос, над которым размышляет автор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Этот вопрос может не иметь однозначного ответа.  Например,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В чем смысл жизни?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Что такое красота?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Проблемой может быть некоторое противоречие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конфликт между какими-либо группами людей, их взглядами на жизнь (проблема «отцов» и «детей») и т.д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999</dc:creator>
  <dc:description/>
  <dc:language>en-US</dc:language>
  <cp:lastModifiedBy>Aнастасия</cp:lastModifiedBy>
  <dcterms:modified xsi:type="dcterms:W3CDTF">2016-01-21T19:35:21Z</dcterms:modified>
  <cp:revision>8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