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2AB-AD69-43E2-B726-54695091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C694-A16A-4574-BD4E-E9847EF7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1C13B-B92C-41C5-9733-9047D676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8EA94-CA8B-4204-97FE-4ADB56D7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6F111B-D5F6-4ED2-A8DE-FBBDD5F7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4571E-AFC2-439B-89FC-4748360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113D7-6233-475E-BC33-3FAE9683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6C5E1-84A9-4561-BD07-7BFC991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9C7A9-1068-4A7C-AC19-E163FC2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2715E-B086-49DF-A925-3072BAAF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CA289-CDC3-4041-96E8-EEDE2115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F12-1269-4E3E-9D49-1BA54E30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1D4E-40DB-4CCF-ADCF-7D4B29863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4447-ABB5-4AAB-B1FD-4511D986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0FB0-DB6A-4FE7-916A-CEE7988F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4F7A-E334-434F-899C-8AE02BBB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3C77-659D-4DCF-BDEC-6201DE3C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3176-BAFF-46AD-BBED-A2F7CE06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2DD-99E8-4D22-8B8D-88461DF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9043-7506-4B97-A649-823128A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F6C7-F06A-4768-A770-CD4B5864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E326-0107-4186-9F84-A385B575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A145-8057-4B0F-B6BC-88D3B669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FFD0-6DA4-42BF-AB75-A935D49E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C915-3FE9-41AF-87B3-68451119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CF5C-45D1-4083-B5D8-60AFD39B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965A4-23FF-427F-A460-C90EECBC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9AC9-C10F-417C-9177-F1C157EA3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68E1-819C-4E53-B62D-6D7C8733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A839-78A8-4F46-A6BD-6FB73264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7CD5-84A9-4187-A0B2-21803A22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6A4-D4B0-4AC7-BE69-912D2D1D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304B7-C826-46B1-95F5-0B8BFCD3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9B824-22DA-4FBC-A595-E677152C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5CB9B-2DAF-408D-B7C5-800A7FD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3281-77E2-434D-A9E4-1DC0A5B7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9B633-ED8C-45D7-A788-15481433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D0C7-4D6F-4FF6-B027-78CC0C38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0A3E2-C2B2-4C2B-AA8D-EEBC91C4D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6E9F5-4F54-4D7A-8054-AB0B2BE17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A79DD-4B14-4869-AFEB-B25497F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1F12B-E4B2-455F-B2FF-6D9F10F9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877-19DE-4EE2-9097-1180B4C2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12232-C715-4566-92B0-2371D928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11DDA-EAFF-410A-AEFB-E11AE66C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FA99-2C8A-4420-82D4-5B6F2D93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F964-4496-4751-8B95-6C0A524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EB6F-5CE7-4619-90F5-D20B141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0CFED-6D89-4244-A1BA-5CCF2215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C0230-FCA2-46B8-83BA-B64EE3D4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2039E-108A-40CB-8E40-D1CF8FEF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2CC65-6BED-4BDF-937B-45E9A43F8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01ED6-68BE-44D0-AD62-749CB2444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450-830E-45DA-B036-A1D613B6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1AB5C-6676-4195-86F0-505FB651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014B2-60EC-47CB-A242-2FF15665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CC234-8BF6-49A1-A546-A540EBE1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301E-257A-4BB1-9AD9-C87EA1E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D8D05-383F-4DB0-A35C-E67E47D7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078C-7EFB-48D3-8E1A-EB8A10EE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F8234-84A9-4013-B346-0CD02B1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93EFF-95B5-471F-AA84-A2D10957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81D4-9E94-4DB3-9B5C-2980AA5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9B22-57BA-431A-A746-C2066E09D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260-4F33-406D-8775-D609BF2E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546DF-4421-438B-A34D-7DA20465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9B5D3-AF11-4B9D-BEB1-1F2390FF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01118-96A5-427D-960A-C5FB0C6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D07C3-5E49-4969-8823-9CBD42C3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5F653-4135-4A64-8F49-A7A97BE27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2EDD-0C58-4AC4-8CB2-6EE694D6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C198-0199-4296-89FE-D830BF0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4184E-0F6E-477F-A757-75A7A3E5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DE0D2-EBFA-47BB-988F-6E64DC93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FD7A5-B63B-4EB1-8F17-DB405AE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6F19-07A3-4F97-906F-E284DFD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C588B-9E3F-4D3E-8EBB-FB8537A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60978-FFA0-484E-8980-EBEF07D5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1A41F-EB04-4F8A-8719-1AC87298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380BD-4DAF-429C-BD53-26BE0B40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E8D8-AA25-463C-A21B-8B85F0F1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B83AC-B50F-4AEB-9155-F7C5030B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D125D-B6E1-4C1F-8677-3F26BB2B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6F0A9-CEFC-4939-BE1C-3A88A322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EEFE-B0D0-4036-8070-DA6633BA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321F9-8A5B-45A4-9B9A-3FA3968A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39E2-9F07-442A-B8D5-DFFB801D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464D-E0D0-4331-A36A-D6AD90A8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44922-DEF4-4F71-ACDE-229D19D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AEDB1-0D76-488A-9FB1-45B834BC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BF499-F8C6-4A8D-BE6E-60498C21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EC84C-93D1-4B73-BB1E-CAAF76DF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EBCF95-91B2-4B18-838C-DD355249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E6268-0EF7-4D5B-BFA8-FE9F4F6C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98AD1-DD90-488E-B8F4-0C01D313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84FE8-30AB-482D-8528-27FB732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B3C92-5BB7-49D1-B6CF-6A901E21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26A-18EA-4FC8-96EA-DB8974FD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BEEF6-729F-4AA2-BF0C-8D270A54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1C55B-7EA3-48F0-9161-E73D2A3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E3B70-18C8-4C14-BFFE-965E30C4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11402-65D6-4146-9426-23757C29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93DC4-4957-45EB-8CD1-72059A62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EA907-95C9-469A-BA78-2EF13373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D7152F-1B8E-4631-B232-7331E029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B2D28A-26B1-4D45-B73B-0FDED4BF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2170B-D5B9-4C9F-AC70-092BB98C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129B2-2727-457E-B8B0-9237F10C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BBC7-C6CC-4EE3-875A-4398972A79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177-A10B-4C55-A47D-56F5A6B5004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5B7F-50CA-4909-A8B4-B1C07E83D3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E991-72B2-4363-9827-31A71CF0C7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76C6-7806-4B3C-8190-CA093D15A73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EA0C-2D6F-4F4C-82E1-4799AF00655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7673-EC37-4D3A-A0B3-9189970A9BF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D3FB-E883-4DDB-98A3-B63E75671F6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5E1-7C2D-403E-9112-28A9959EAE2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2600" y="189000"/>
            <a:ext cx="8845560" cy="13586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94920" y="1628280"/>
            <a:ext cx="858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Труд становится великим воспитателем, когда он входит в жизнь наших воспитанников, даёт радость дружбы и товарищества, развивает пытливость и любознательность, рождает новую красоту в окружающем мире, пробуждает первое гражданское чувство- чувство созидателя материальных благ, без которых невозможна жизнь человека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В.А.Сухомлински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07880" y="5376960"/>
            <a:ext cx="8510760" cy="77472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61440" y="623520"/>
            <a:ext cx="4714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Как известно, интерес к труду, необходимые трудовые навыки и личностные качества закладываются в детств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Задача педагогов- не пропустить этот момент, ведь дошкольный возраст- ответственная и благодатная пора, когда ребёнок с радостью открывает для себя удивительный мир окружающей действитель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076360" y="609120"/>
            <a:ext cx="3838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Picture 5" descr="C:\Users\Maximum\Desktop\центр\P1130607.JPG"/>
          <p:cNvPicPr/>
          <p:nvPr/>
        </p:nvPicPr>
        <p:blipFill>
          <a:blip r:embed="rId2"/>
          <a:stretch/>
        </p:blipFill>
        <p:spPr>
          <a:xfrm>
            <a:off x="5076720" y="620640"/>
            <a:ext cx="38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360360" y="5211720"/>
            <a:ext cx="8558280" cy="146376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53290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Franklin Gothic Book"/>
              </a:rPr>
              <a:t>С начала учебного года дети выполняют поручения по уходу за растениями  уголка природы. Предварительно следует провести беседу о комнатных растениях,  которые там находятся, о приёмах ухода за ними, об условиях, необходимых для их роста и развития, познакомить с оборудованием для ухода за растениями и в уголке природ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Содержимое 4" descr="DSC00709.JPG"/>
          <p:cNvPicPr/>
          <p:nvPr/>
        </p:nvPicPr>
        <p:blipFill>
          <a:blip r:embed="rId2"/>
          <a:stretch/>
        </p:blipFill>
        <p:spPr>
          <a:xfrm>
            <a:off x="5500800" y="1500120"/>
            <a:ext cx="34146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401760" y="5394240"/>
            <a:ext cx="8516880" cy="77472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511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У детей </a:t>
            </a:r>
            <a:r>
              <a:rPr b="1" lang="ru-RU" sz="1900" spc="-1" strike="noStrike">
                <a:solidFill>
                  <a:srgbClr val="c00000"/>
                </a:solidFill>
                <a:latin typeface="Arial"/>
              </a:rPr>
              <a:t>дошкольного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 возраста можно воспитать потребность систематически выполнять посильные трудовые обязанности и умение трудиться сообща. В первое время воспитатель помогает детям распределить обязанности в совместном труде, разъясняет им правила, на которых строятся отношения в коллективе: прежде чем начать работу, договорись с товарищами; если у кого-то что-то  не получается, помоги; если тебе трудно выполнить работу, попроси помощи; не мешай товарищам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C:\Users\Maximum\Desktop\центр\P1130621.JPG"/>
          <p:cNvPicPr/>
          <p:nvPr/>
        </p:nvPicPr>
        <p:blipFill>
          <a:blip r:embed="rId2"/>
          <a:stretch/>
        </p:blipFill>
        <p:spPr>
          <a:xfrm>
            <a:off x="5364000" y="620640"/>
            <a:ext cx="38149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34800" y="4950000"/>
            <a:ext cx="8528040" cy="148716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525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В руководстве трудом детей необходим индивидуальный подход. Ребёнка, который  ещё слабо владеет нужными навыками, следует чаще упражнять в трудовых действиях: неуверенного поддержать, убедить, что неудача временная, и если постараться, то всё получится; робких- чаще ставить в такие условия, когда они сами будут находить выход из создавшегося положения, проявлять самостоятельнос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C:\Users\Maximum\Desktop\центр\P1130617.JPG"/>
          <p:cNvPicPr/>
          <p:nvPr/>
        </p:nvPicPr>
        <p:blipFill>
          <a:blip r:embed="rId2"/>
          <a:stretch/>
        </p:blipFill>
        <p:spPr>
          <a:xfrm>
            <a:off x="5673600" y="620640"/>
            <a:ext cx="3492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Заголовок 1" descr=""/>
          <p:cNvPicPr/>
          <p:nvPr/>
        </p:nvPicPr>
        <p:blipFill>
          <a:blip r:embed="rId1"/>
          <a:stretch/>
        </p:blipFill>
        <p:spPr>
          <a:xfrm>
            <a:off x="390600" y="5486400"/>
            <a:ext cx="8528040" cy="101124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51865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Franklin Gothic Book"/>
              </a:rPr>
              <a:t>С весны можно привлекать детей к труду на огороде. Необходимо заранее приготовить  с детьми всё оборудование, необходимое для работы, семена, рассаду (выращенную в «зимнем огороде»).  Вместе с детьми землю на огороде необходимо перекопать, взрыхлить маленькими граблями. Перед посевом воспитатель кладёт посередине грядки (вдоль неё) белый шнур , с целью соблюдения нужного расстояния между семенами, рассадой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4" descr="C:\Users\Maximum\Desktop\центр\P1130611 - копия.JPG"/>
          <p:cNvPicPr/>
          <p:nvPr/>
        </p:nvPicPr>
        <p:blipFill>
          <a:blip r:embed="rId2"/>
          <a:stretch/>
        </p:blipFill>
        <p:spPr>
          <a:xfrm>
            <a:off x="5618160" y="981000"/>
            <a:ext cx="3457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4:49:58Z</dcterms:created>
  <dc:creator>1</dc:creator>
  <dc:description/>
  <dc:language>en-US</dc:language>
  <cp:lastModifiedBy>Maximum</cp:lastModifiedBy>
  <dcterms:modified xsi:type="dcterms:W3CDTF">2017-01-18T17:45:14Z</dcterms:modified>
  <cp:revision>53</cp:revision>
  <dc:subject/>
  <dc:title>Труд в уголке природы, в природе, на огороде, на участке.</dc:title>
</cp:coreProperties>
</file>