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3EB-C83A-40D9-B826-F884D5C7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6D0-D981-4996-9B46-466513F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1B395-36EB-458F-A338-C6C5E0F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33EC4-2544-4529-AFD4-CBBAD30F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C857-68D5-402D-8E0B-C62E7E7F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9418F-D943-4A08-A296-B41BED1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BB632-5548-474E-8996-7B991A1C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A6B9D-7E09-44BC-89A8-6CE724A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83A73-7E91-4695-886F-1F3EB1C6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798BE-B3D4-4EFF-9249-3D1DEF7E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6152-3C75-4D7E-9803-2DEAEFE5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E54-54C0-4337-8A28-C46E0234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EDD-59F4-44E9-8776-A8AB4007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238B-F41C-445F-B53D-DCCDF08C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744-146A-4F9A-B97B-014AFFF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0737-502E-4CA2-92E0-88D5663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A5A6-EDAC-48BF-91A6-C41AF55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C13A-0C04-4A83-8952-2D01C1E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F1B4-52FD-4F15-8DA2-88ED1516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D5F-9B11-4AD5-982B-828A69F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DB6-01E3-46A0-8D99-10CC256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9F66-F736-4305-BBD1-541104E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DD14-F720-4EE4-AC2F-9357CCE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85FB-F37A-4ABD-AE53-D2817C0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0BD9-513E-440B-917A-6A6CB366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F542-5C65-4FC4-9096-3F8B752A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2384-02AA-48CF-8BDD-ED1A2B56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CD01-5EE4-46D3-913E-F5188C0C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A890-F586-422A-B72A-E2A6FF5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7280-0D0A-47D3-BB78-F0FE0F57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8D1B-B4D5-4576-A58D-11760D5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A1A-DCA8-42EE-AF8D-34B48ED6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E5C8-0DF6-41E9-B46F-08E4E840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A8C8-7832-41D3-8FA3-9471B06F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50CE-ED73-4D40-A43E-BBE9DD6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2C05-0A5B-435B-9EE7-AD1E7D5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6F89-0194-4491-93AA-C39982E2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C0DF9-DCD8-46E8-8468-F1F433DB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CFEB-0D52-41A3-BE1F-FBD62AC3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9BF36-A0AC-4583-A0C3-DECDDB6D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37FF-EDF8-4A0F-8A8A-0E78D8E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E995-05DF-4C38-A224-872EF5F8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F9E-A54F-40D2-98DD-B36CEA42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0A64-9A1A-4DF9-9EFF-93B4CB14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9C90-D110-43CC-B70A-E98C611F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D531-E748-416A-B5DB-EBE4167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FE30-0670-496C-929F-BBF69AC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90E1-4F54-4F3F-BE06-6BCD68D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2D50-DA45-40EC-AC22-CB7731B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861E-AFDD-4EAF-816A-BB50F06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FDB1-C8DF-47AD-A3F2-ECEFDF89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3F9A7-66AC-49DB-872F-1BDC5A3D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ED32-8661-4FC7-93A2-FED8FCB1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E5A-5303-46C3-8AB0-95EBC18B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68FDA-60C6-4462-90BD-4D812A8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6593F-20D4-4727-8B06-E32AA2EF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673D-F95C-4A1A-99FC-D7F1D3B1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23DC6-3261-4BC9-855A-A792ED4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045C0-70E2-43E3-9DFE-B5BB505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AF13-A51B-4DC8-AD24-5EE3807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9F580-6543-421F-BDE0-66A5CED9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85125-4004-4F1C-B912-7D9ABAD2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AA2B7-23B4-4B47-92E1-25FECBE4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DE32-2710-43C0-9C45-EAAFF5B2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1B8-A7AE-4D93-A24C-65696010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2375-6F99-4508-9C84-A0D75AFF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DF3E-711B-4EF0-B301-B5425A4D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D5079-EE44-4692-AE44-B1EFDC5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726A-23D0-47DA-8EA9-EB18412E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17C2-CA06-49CD-8FE3-888489F7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9ED1-E717-453F-B1FB-4C7BC454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1330-C7DF-4029-A7AA-7F21C5D5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E254-4ADD-4370-AC71-5919F3BE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4BAF-0D98-4A66-AD54-56A9EBA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3F80-16F9-4D22-AF8F-5E9F80C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47C-DB09-4EEB-9BC6-01B808F5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6A17D-EAE1-453A-9C20-10A1ED5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C27F-76BB-40D9-AAB3-F5BAEE53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FFCD-D0F4-49B5-B194-D7D07A68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9ADE-6627-4EAB-96CB-9CF479F0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DDB8-1461-43BD-BDD4-BC6135B8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4B93-E3E1-4611-B6A8-19984F19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97F8-B158-4C74-844F-B2DB2BD8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BE93-B850-4C0A-95A0-32C091E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C99F3-9A91-4663-9AA6-255F38D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BA276-6F01-411B-8F81-4852821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E36-4544-4687-AA29-0E92ED8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B46AD-2851-4986-A31D-74469F47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F0AD7-9525-4471-BF14-C3DC741E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4C39-A9C7-4BFE-BBCE-7188818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B7C67-229C-443C-BAEA-40C86024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EDFB9-8C69-4B08-BB89-E38DEEF9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6B1D5-1526-49D2-A1D3-7C794DB0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4351A-264B-4834-BBC2-7A89C93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5847B-0FFD-40C4-82CD-F889186F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4FF61-E445-4DB2-A294-462D5D9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1A3C7-3B83-447A-B8A2-1E6980A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650-95AF-4FA0-B29A-78BE891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614E-0EBF-4C23-A455-1CDF0FCC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22CF-2621-459A-8079-0575236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650F-7F42-4E24-97B0-4E923F6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F3556-728B-41AD-8B3D-FA94331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26C5-B392-4C66-A241-D5DAF7B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5CA9-9533-464C-861F-BF7C03F8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5212-6F8A-4DD4-94F8-10B469B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C9048-F632-4451-9D30-023AABC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56481-9480-4FAD-83AE-D61C4C8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0F9A8-D820-4035-B573-E6EA0A69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4A47-E0E3-4B84-93CF-D77911C372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7C0A-1517-403A-9F8F-C964EC8400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0DA-AAF1-4FA7-A498-FFFFF78A4D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B4E-4BBE-4100-8DED-36E41EAAC9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51B-842A-4913-9491-C77F3CD554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B100-501F-4D08-9017-77453F9A5F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07B8-DAF1-4511-ADA7-D1FA239F84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C2E-AEE6-43B4-9268-C0DDF33226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981A-330E-4053-81CB-263338410F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2600" y="189000"/>
            <a:ext cx="8845560" cy="1358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94920" y="1628280"/>
            <a:ext cx="858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Труд становится великим воспитателем, когда он входит в жизнь наших воспитанников, даёт радость дружбы и товарищества, развивает пытливость и любознательность, рождает новую красоту в окружающем мире, пробуждает первое гражданское чувство- чувство созидателя материальных благ, без которых невозможна жизнь чело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В.А.Сухомлинск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07880" y="5376960"/>
            <a:ext cx="8510760" cy="774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61440" y="623520"/>
            <a:ext cx="4714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Как известно, интерес к труду, необходимые трудовые навыки и личностные качества закладываются в детств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Задача педагогов- не пропустить этот момент, ведь дошкольный возраст- ответственная и благодатная пора, когда ребёнок с радостью открывает для себя удивительный мир окружающей действитель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076360" y="609120"/>
            <a:ext cx="38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5" descr="C:\Users\Maximum\Desktop\центр\P1130607.JPG"/>
          <p:cNvPicPr/>
          <p:nvPr/>
        </p:nvPicPr>
        <p:blipFill>
          <a:blip r:embed="rId2"/>
          <a:stretch/>
        </p:blipFill>
        <p:spPr>
          <a:xfrm>
            <a:off x="5076720" y="620640"/>
            <a:ext cx="38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60360" y="5211720"/>
            <a:ext cx="8558280" cy="14637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53290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 начала учебного года дети выполняют поручения по уходу за растениями  уголка природы. Предварительно следует провести беседу о комнатных растениях,  которые там находятся, о приёмах ухода за ними, об условиях, необходимых для их роста и развития, познакомить с оборудованием для ухода за растениями и в уголке природ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Содержимое 4" descr="DSC00709.JPG"/>
          <p:cNvPicPr/>
          <p:nvPr/>
        </p:nvPicPr>
        <p:blipFill>
          <a:blip r:embed="rId2"/>
          <a:stretch/>
        </p:blipFill>
        <p:spPr>
          <a:xfrm>
            <a:off x="5500800" y="150012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01760" y="5394240"/>
            <a:ext cx="8516880" cy="774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511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У детей </a:t>
            </a:r>
            <a:r>
              <a:rPr b="1" lang="ru-RU" sz="1900" spc="-1" strike="noStrike">
                <a:solidFill>
                  <a:srgbClr val="c00000"/>
                </a:solidFill>
                <a:latin typeface="Arial"/>
              </a:rPr>
              <a:t>дошкольного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 возраста можно воспитать потребность систематически выполнять посильные трудовые обязанности и умение трудиться сообща. В первое время воспитатель помогает детям распределить обязанности в совместном труде, разъясняет им правила, на которых строятся отношения в коллективе: прежде чем начать работу, договорись с товарищами; если у кого-то что-то  не получается, помоги; если тебе трудно выполнить работу, попроси помощи; не мешай товарища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C:\Users\Maximum\Desktop\центр\P1130621.JPG"/>
          <p:cNvPicPr/>
          <p:nvPr/>
        </p:nvPicPr>
        <p:blipFill>
          <a:blip r:embed="rId2"/>
          <a:stretch/>
        </p:blipFill>
        <p:spPr>
          <a:xfrm>
            <a:off x="5364000" y="620640"/>
            <a:ext cx="3814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34800" y="4950000"/>
            <a:ext cx="8528040" cy="1487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525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В руководстве трудом детей необходим индивидуальный подход. Ребёнка, который  ещё слабо владеет нужными навыками, следует чаще упражнять в трудовых действиях: неуверенного поддержать, убедить, что неудача временная, и если постараться, то всё получится; робких- чаще ставить в такие условия, когда они сами будут находить выход из создавшегося положения, проявлять самостоятельнос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C:\Users\Maximum\Desktop\центр\P1130617.JPG"/>
          <p:cNvPicPr/>
          <p:nvPr/>
        </p:nvPicPr>
        <p:blipFill>
          <a:blip r:embed="rId2"/>
          <a:stretch/>
        </p:blipFill>
        <p:spPr>
          <a:xfrm>
            <a:off x="5673600" y="620640"/>
            <a:ext cx="34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90600" y="5486400"/>
            <a:ext cx="8528040" cy="1011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51865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С весны можно привлекать детей к труду на огороде. Необходимо заранее приготовить  с детьми всё оборудование, необходимое для работы, семена, рассаду (выращенную в «зимнем огороде»).  Вместе с детьми землю на огороде необходимо перекопать, взрыхлить маленькими граблями. Перед посевом воспитатель кладёт посередине грядки (вдоль неё) белый шнур , с целью соблюдения нужного расстояния между семенами, рассадо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4" descr="C:\Users\Maximum\Desktop\центр\P1130611 - копия.JPG"/>
          <p:cNvPicPr/>
          <p:nvPr/>
        </p:nvPicPr>
        <p:blipFill>
          <a:blip r:embed="rId2"/>
          <a:stretch/>
        </p:blipFill>
        <p:spPr>
          <a:xfrm>
            <a:off x="5618160" y="981000"/>
            <a:ext cx="345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49:58Z</dcterms:created>
  <dc:creator>1</dc:creator>
  <dc:description/>
  <dc:language>en-US</dc:language>
  <cp:lastModifiedBy>Maximum</cp:lastModifiedBy>
  <dcterms:modified xsi:type="dcterms:W3CDTF">2017-01-18T17:45:14Z</dcterms:modified>
  <cp:revision>53</cp:revision>
  <dc:subject/>
  <dc:title>Труд в уголке природы, в природе, на огороде, на участке.</dc:title>
</cp:coreProperties>
</file>