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EE3-FD84-40AB-8742-E5E7CE5D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6E3-3145-4872-93A6-5ABFFEBC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307-F84F-4CCA-9D09-9B9FE556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6FC-4388-489C-BF72-34862604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CBF-8E60-464E-9F62-28523C5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607B-3B62-47FF-8654-D7BD61E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6A6-8EC2-4919-BF01-528FC73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C80-1320-44EE-9B77-DFA371A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7580-FDE6-4E22-807C-12BDF68D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BF6B-EC9A-44F1-880F-39187489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F0E-D629-493A-9425-30ACDC2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B0B-E2BB-40F6-8D7D-DADF743E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E14D-3646-4FD8-A3D9-BBCC2A7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496-4DB8-4212-8C3F-FD4B6D8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8711-B758-4223-957D-BAD15F4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D2DC-F15D-460A-801A-E1ECB6C8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7D3-D078-4199-84EF-48A54B0B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8BD-1EA3-44A2-9368-EECAFAE7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AE6-1BBA-4868-97B9-3FC9E97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D65-2DC1-4ADA-A7CA-0C9C4378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2FA-D394-46BF-B2F2-56BDBE2B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479-B1D9-40A6-841D-92972794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865-579B-437F-A0E8-436EB5A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6FB-D560-4564-88A6-1874680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B041-4D27-4A6D-8218-935CF96B0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8A84-A405-4817-AB5B-7A354CA18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47640" y="189000"/>
            <a:ext cx="5896080" cy="45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ждество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истово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268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 же произошло рождество Христово       ( день  рождения    Спасителя),     столь удивительное событие , ставш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всех людей великим праздник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2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932000" y="404640"/>
            <a:ext cx="359892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хангел Божий                                                                                                                                  явился к  Деве Марии        с благой                              вестью, что она ро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ына - Спасителя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38005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197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ближалось время рож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от царя той страны пришё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каз произвести перепись вс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дей. Каждый житель стра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жен был записаться в своё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ном  городе. Иосиф и Де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рия происходили из рода Цар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ида и поэтому им нужно бы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дти, записать свои имена, в г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аря Давида-Вифлее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55640" y="549360"/>
            <a:ext cx="43419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же они туда прибыли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казалось, что людей приш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много, и  все дом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стиницы заняты. Пришло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ститься им за горо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ещере, куда обычно пастух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оняют свой скот от непог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есь-то ночью Дева Мари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ла Спасителя мира, Госп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исуса Хри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74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003280" y="475920"/>
            <a:ext cx="3837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ми поклониться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жественному младенц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шли пастухи, которым 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ждении Спасителя возвес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гел, окружё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быкновенным све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170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859280" y="259920"/>
            <a:ext cx="38275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ме пастухов на покло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вшемуся Спасите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ходили восточные  мудре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удрецы поклонились  спасител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инесли Ему в дар золот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адан и смир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140000" y="-360"/>
            <a:ext cx="44132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тех прошло  2000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каждый год мы вспомин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ждество Христово, праздну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го, радуемся ем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честь Рождества Хри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ди стали устраи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ждественские ёлки, да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г другу подарки 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нечно, особенно торже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здновать его в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3116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9:35:12Z</dcterms:created>
  <dc:creator>user</dc:creator>
  <dc:description/>
  <dc:language>en-US</dc:language>
  <cp:lastModifiedBy>user</cp:lastModifiedBy>
  <dcterms:modified xsi:type="dcterms:W3CDTF">2012-12-15T17:06:57Z</dcterms:modified>
  <cp:revision>5</cp:revision>
  <dc:subject/>
  <dc:title>Слайд 1</dc:title>
</cp:coreProperties>
</file>