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1F4-0981-42AB-9D38-8BE3EF18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05D-79FA-4CD3-BF0C-AB144396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F11-06B3-4F33-BED4-7024A7C0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440-B986-4064-B4FF-126961C6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1D54-0CE0-4934-A181-C208E64B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AE31-813C-4F88-AC29-1BB631EC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937F-3801-45A3-9E26-A329AA59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BC81-EF57-45BC-AC18-37732E31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6E24-E99A-4D15-9679-267C733E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9FD1-341B-40C9-9761-C9FE24FC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9715-63DE-404D-B485-9C92F1E2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A3E-5D8B-4181-AFE1-E9415A4B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07A5-2A15-4E2D-8F8A-4E83968C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DC6C-0F09-4062-BBD8-E1CDE51C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31A8-BCB4-42D5-82CF-2224C7C2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F67E-B19C-4F38-BAE1-CCFE62D7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A9A6-4419-4AFF-8FE8-3186190C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1A0-58D0-464F-968C-5649140D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231-A61E-4F88-8726-CAA6A410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F61-C7AE-465B-AFB0-F8568AE8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BD8-3BE6-4F67-9715-D92142A8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615-229D-43C1-A455-6951F50A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151-1878-46CB-A325-59ACDA23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3BF-0EC3-496D-A6E3-7E45143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6AEB-1D43-4280-B383-34A412160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39A8-6C1E-4A5D-A3F9-14392F676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547640" y="189000"/>
            <a:ext cx="5896080" cy="45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ждество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ристово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00360" y="333360"/>
            <a:ext cx="42685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же произошло рождество Христово       ( день  рождения    Спасителя),     столь удивительное событие , ставш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всех людей великим празднико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52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932000" y="404640"/>
            <a:ext cx="359892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хангел Божий                                                                                                                                  явился к  Деве Марии        с благой                              вестью, что она род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ына - Спасителя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38005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00360" y="333360"/>
            <a:ext cx="41972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ближалось время рожд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от царя той страны пришё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каз произвести перепись все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юдей. Каждый житель стра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жен был записаться в своё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ном  городе. Иосиф и Де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рия происходили из рода Цар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ида и поэтому им нужно был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дти, записать свои имена, в го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аря Давида-Вифлее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355640" y="549360"/>
            <a:ext cx="434196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же они туда прибыли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казалось, что людей пришл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чень много, и  все дом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стиницы заняты. Пришлос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еститься им за горо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ещере, куда обычно пастух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оняют свой скот от непог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десь-то ночью Дева Мария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ла Спасителя мира, Госп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исуса Хри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74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003280" y="475920"/>
            <a:ext cx="3837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ыми поклониться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жественному младенц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шли пастухи, которым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ждении Спасителя возвест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нгел, окружё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обыкновенным све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170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859280" y="259920"/>
            <a:ext cx="38275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оме пастухов на поклон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вшемуся Спасите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ходили восточные  мудре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удрецы поклонились  спасител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принесли Ему в дар золот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адан и смир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140000" y="-360"/>
            <a:ext cx="44132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тех прошло  2000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каждый год мы вспомина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ждество Христово, праздну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го, радуемся е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честь Рождества Хрис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юди стали устраи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ждественские ёлки, дар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руг другу подарки 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ечно, особенно торжествен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здновать его в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3116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9:35:12Z</dcterms:created>
  <dc:creator>user</dc:creator>
  <dc:description/>
  <dc:language>en-US</dc:language>
  <cp:lastModifiedBy>user</cp:lastModifiedBy>
  <dcterms:modified xsi:type="dcterms:W3CDTF">2012-12-15T17:06:57Z</dcterms:modified>
  <cp:revision>5</cp:revision>
  <dc:subject/>
  <dc:title>Слайд 1</dc:title>
</cp:coreProperties>
</file>