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80A-198C-42EC-BF8D-10AFC6EB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4030-8863-4E22-A21D-DD26B5E4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FE2-6623-4532-BC83-E7E1B330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6BF5-E5FD-4A6F-BF14-41DE4F69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14A-2079-4252-BDCE-81424BAD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B3F-4AC6-42A1-BD94-4483F388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C36-2C85-4982-830F-ED42BFCA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3E9-B299-4369-8FA6-AD9379AE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8811-4198-48A7-99AB-AEAB946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523-A60B-4B4D-BFEA-F46EA69E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5A9-4A3B-4535-BE34-8EB97F64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1DB8-1C7D-49A4-8CF0-3AE5C42B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809F-8D0B-4851-A1A5-A64D3D5879F8}" type="slidenum">
              <a:rPr b="0" lang="ru-RU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cc6600"/>
                </a:solidFill>
                <a:latin typeface="Times New Roman"/>
              </a:rPr>
              <a:t>«Мой любимый предмет - Математика»</a:t>
            </a:r>
            <a:endParaRPr b="0" i="1" lang="en-US" sz="5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2143080" y="4714920"/>
            <a:ext cx="535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Ученик 6-Г класса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МБОУ СОШ № 3 им. атамана М.И. Платова г. Новочеркасска 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Михеев Сергей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«Математику уже затем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учить надо, что она ум в порядок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приводит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                                    М.В.Ломоносов</a:t>
            </a:r>
            <a:r>
              <a:rPr b="0" i="1" lang="ru-RU" sz="2000" spc="-1" strike="noStrike">
                <a:solidFill>
                  <a:srgbClr val="795241"/>
                </a:solidFill>
                <a:latin typeface="Times New Roman"/>
              </a:rPr>
              <a:t>  </a:t>
            </a: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72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6600"/>
                </a:solidFill>
                <a:latin typeface="Times New Roman"/>
              </a:rPr>
              <a:t>Головоломки и математические задачи</a:t>
            </a:r>
            <a:endParaRPr b="0" i="1" lang="en-US" sz="4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img1.jpg"/>
          <p:cNvPicPr/>
          <p:nvPr/>
        </p:nvPicPr>
        <p:blipFill>
          <a:blip r:embed="rId1"/>
          <a:srcRect l="19141" t="30864" r="11565" b="30864"/>
          <a:stretch/>
        </p:blipFill>
        <p:spPr>
          <a:xfrm>
            <a:off x="785880" y="571680"/>
            <a:ext cx="6222960" cy="25714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img3.jpg"/>
          <p:cNvPicPr/>
          <p:nvPr/>
        </p:nvPicPr>
        <p:blipFill>
          <a:blip r:embed="rId2"/>
          <a:srcRect l="18750" t="31168" r="10938" b="32243"/>
          <a:stretch/>
        </p:blipFill>
        <p:spPr>
          <a:xfrm>
            <a:off x="785880" y="3429000"/>
            <a:ext cx="6143400" cy="2392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7643880" y="607212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Разность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Минус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img5.jpg"/>
          <p:cNvPicPr/>
          <p:nvPr/>
        </p:nvPicPr>
        <p:blipFill>
          <a:blip r:embed="rId1"/>
          <a:srcRect l="18137" t="32312" r="10527" b="28914"/>
          <a:stretch/>
        </p:blipFill>
        <p:spPr>
          <a:xfrm>
            <a:off x="928800" y="357120"/>
            <a:ext cx="5786280" cy="23544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rebus_1.png"/>
          <p:cNvPicPr/>
          <p:nvPr/>
        </p:nvPicPr>
        <p:blipFill>
          <a:blip r:embed="rId2"/>
          <a:stretch/>
        </p:blipFill>
        <p:spPr>
          <a:xfrm>
            <a:off x="785880" y="3143160"/>
            <a:ext cx="6143400" cy="2397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7715160" y="607212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Число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Ромб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img2.jpg"/>
          <p:cNvPicPr/>
          <p:nvPr/>
        </p:nvPicPr>
        <p:blipFill>
          <a:blip r:embed="rId1"/>
          <a:srcRect l="914" t="7319" r="51637" b="4875"/>
          <a:stretch/>
        </p:blipFill>
        <p:spPr>
          <a:xfrm>
            <a:off x="1643040" y="357120"/>
            <a:ext cx="4551480" cy="557208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7572240" y="6072120"/>
            <a:ext cx="100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Вершина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Луч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4.jpg"/>
          <p:cNvPicPr/>
          <p:nvPr/>
        </p:nvPicPr>
        <p:blipFill>
          <a:blip r:embed="rId1"/>
          <a:srcRect l="4636" t="18487" r="40929" b="16056"/>
          <a:stretch/>
        </p:blipFill>
        <p:spPr>
          <a:xfrm>
            <a:off x="1071720" y="500040"/>
            <a:ext cx="5635440" cy="5072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7572240" y="614376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Задача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Диаметр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g9.jpg"/>
          <p:cNvPicPr/>
          <p:nvPr/>
        </p:nvPicPr>
        <p:blipFill>
          <a:blip r:embed="rId1"/>
          <a:srcRect l="1006" t="20907" r="39119" b="6354"/>
          <a:stretch/>
        </p:blipFill>
        <p:spPr>
          <a:xfrm>
            <a:off x="1214280" y="428760"/>
            <a:ext cx="5857920" cy="5325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7286760" y="614376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Сложение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Вычитание 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img8.jpg"/>
          <p:cNvPicPr/>
          <p:nvPr/>
        </p:nvPicPr>
        <p:blipFill>
          <a:blip r:embed="rId1"/>
          <a:srcRect l="0" t="18487" r="46379" b="8785"/>
          <a:stretch/>
        </p:blipFill>
        <p:spPr>
          <a:xfrm>
            <a:off x="1143000" y="285840"/>
            <a:ext cx="5429160" cy="5510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358040" y="6143760"/>
            <a:ext cx="121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Диагональ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6600"/>
                </a:solidFill>
                <a:latin typeface="Times New Roman"/>
              </a:rPr>
              <a:t>Квадрат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57120" y="357120"/>
            <a:ext cx="7263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И прекрасна и сильна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математика страна!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Тут везде идёт работа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всё подсчитывают что-то,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всюду можно услыхать: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«раз, два, три, четыре, пять»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на странице двадцать пять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золотые дыни делят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на странице пятьдесят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умножают поросят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на странице двести десять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трёх слонов сумели взвесить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интересно с человеком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 поработать – посчитать.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Прибавлять плотины к рекам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а пустыни – вычитать!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Умножать сады и школы, дачи, шахты, ледоколы,</a:t>
            </a: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а потом делить на всех и богатство и успех!!!</a:t>
            </a: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cc6600"/>
                </a:solidFill>
                <a:latin typeface="Times New Roman"/>
              </a:rPr>
              <a:t>                                                 Владимир Гальба </a:t>
            </a: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795241"/>
                </a:solidFill>
                <a:latin typeface="Times New Roman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6886440" cy="53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i="1" lang="ru-RU" sz="1900" spc="-1" strike="noStrike">
                <a:solidFill>
                  <a:srgbClr val="cc6600"/>
                </a:solidFill>
                <a:latin typeface="Times New Roman"/>
              </a:rPr>
              <a:t>Математика - самая древняя из наук, она была и остаётся необходимой людям. Слово «математика» греческого происхождения. Оно означает «наука», «размышления». В древности часто полученные знания, открытия старались сохранить в тайне. </a:t>
            </a:r>
            <a:br>
              <a:rPr sz="1900"/>
            </a:br>
            <a:r>
              <a:rPr b="1" i="1" lang="ru-RU" sz="1900" spc="-1" strike="noStrike">
                <a:solidFill>
                  <a:srgbClr val="cc6600"/>
                </a:solidFill>
                <a:latin typeface="Times New Roman"/>
              </a:rPr>
              <a:t>  Все без исключения начинают изучать основы математики уже с первых классов школы, потому что эта наука нужна всем, особенно сейчас, когда математика проникла во все отрасли знаний – физику и химию, науки о языке и медицину астрономию и биологию и т.д. Математики учат вычислительные машины сочинять стихи и музыку, измерять размеры атомов и проектировать плотины электростанций.</a:t>
            </a:r>
            <a:br>
              <a:rPr sz="1900"/>
            </a:br>
            <a:r>
              <a:rPr b="1" i="1" lang="ru-RU" sz="1900" spc="-1" strike="noStrike">
                <a:solidFill>
                  <a:srgbClr val="cc6600"/>
                </a:solidFill>
                <a:latin typeface="Times New Roman"/>
              </a:rPr>
              <a:t>  Математика необходима в любой профессии, какую бы вы не выбрали для себя. Но кроме того, это и очень интересная и удивительная наука. Если вы и не станете математиками, знания пригодятся вам и на Земле, и в космосе.</a:t>
            </a:r>
            <a:r>
              <a:rPr b="1" i="1" lang="ru-RU" sz="1900" spc="-1" strike="noStrike">
                <a:solidFill>
                  <a:srgbClr val="795241"/>
                </a:solidFill>
                <a:latin typeface="Times New Roman"/>
              </a:rPr>
              <a:t>      </a:t>
            </a:r>
            <a:br>
              <a:rPr sz="1900"/>
            </a:br>
            <a:endParaRPr b="0" i="1" lang="en-US" sz="19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cc6600"/>
                </a:solidFill>
                <a:latin typeface="Times New Roman"/>
              </a:rPr>
              <a:t>Учёные о математике.</a:t>
            </a:r>
            <a:endParaRPr b="0" i="1" lang="en-US" sz="46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51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«Математика-это искусство давать разным вещам одно наименование»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                                                   </a:t>
            </a:r>
            <a:r>
              <a:rPr b="1" i="1" lang="en-US" sz="4000" spc="-1" strike="noStrike">
                <a:solidFill>
                  <a:srgbClr val="cc6600"/>
                </a:solidFill>
                <a:latin typeface="Times New Roman"/>
              </a:rPr>
              <a:t>            </a:t>
            </a: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А. Пуанкаре</a:t>
            </a: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6600"/>
                </a:solidFill>
                <a:latin typeface="Times New Roman"/>
              </a:rPr>
              <a:t>Каждая задача, которую я решал, становилась правилом, служившим в последствии для решения других задач.</a:t>
            </a:r>
            <a:br>
              <a:rPr sz="3800"/>
            </a:br>
            <a:br>
              <a:rPr sz="3800"/>
            </a:br>
            <a:r>
              <a:rPr b="1" i="1" lang="ru-RU" sz="3800" spc="-1" strike="noStrike">
                <a:solidFill>
                  <a:srgbClr val="cc6600"/>
                </a:solidFill>
                <a:latin typeface="Times New Roman"/>
              </a:rPr>
              <a:t>                                   Рене Декарт</a:t>
            </a:r>
            <a:endParaRPr b="0" i="1" lang="en-US" sz="38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314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Существует ещё одна причина, по которой математику надлежит ценить высоко: именно математика придаёт естественным наукам степень достоверности, недостижимую без неё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cc6600"/>
                </a:solidFill>
                <a:latin typeface="Times New Roman"/>
              </a:rPr>
              <a:t>                                Альберт Эйнштейн  </a:t>
            </a:r>
            <a:br>
              <a:rPr sz="3200"/>
            </a:br>
            <a:br>
              <a:rPr sz="3200"/>
            </a:br>
            <a:r>
              <a:rPr b="0" i="1" lang="ru-RU" sz="20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cc6600"/>
                </a:solidFill>
                <a:latin typeface="Times New Roman"/>
              </a:rPr>
              <a:t>Математика принадлежит к числу наук, имеющих громадное значение для выработки умения логически мыслить, делать обобщения.</a:t>
            </a:r>
            <a:br>
              <a:rPr sz="3700"/>
            </a:br>
            <a:br>
              <a:rPr sz="3700"/>
            </a:br>
            <a:r>
              <a:rPr b="1" i="1" lang="ru-RU" sz="3700" spc="-1" strike="noStrike">
                <a:solidFill>
                  <a:srgbClr val="cc6600"/>
                </a:solidFill>
                <a:latin typeface="Times New Roman"/>
              </a:rPr>
              <a:t>                                                  Н.К.Крупская</a:t>
            </a:r>
            <a:endParaRPr b="0" i="1" lang="en-US" sz="37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Природа говорит языком математики:</a:t>
            </a: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буквы этого языка – круги, треугольники и иные математические фигуры.</a:t>
            </a: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cc6600"/>
                </a:solidFill>
                <a:latin typeface="Times New Roman"/>
              </a:rPr>
              <a:t>  Г.Галилей</a:t>
            </a:r>
            <a:r>
              <a:rPr b="0" i="1" lang="ru-RU" sz="2000" spc="-1" strike="noStrike">
                <a:solidFill>
                  <a:srgbClr val="795241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43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«Мир </a:t>
            </a:r>
            <a:br>
              <a:rPr sz="4400"/>
            </a:b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  </a:t>
            </a: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остроен на</a:t>
            </a:r>
            <a:br>
              <a:rPr sz="4400"/>
            </a:b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                   силе чисел»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                                 </a:t>
            </a:r>
            <a:r>
              <a:rPr b="1" i="1" lang="ru-RU" sz="4400" spc="-1" strike="noStrike">
                <a:solidFill>
                  <a:srgbClr val="cc6600"/>
                </a:solidFill>
                <a:latin typeface="Times New Roman"/>
              </a:rPr>
              <a:t>Пифагор</a:t>
            </a:r>
            <a:r>
              <a:rPr b="0" i="1" lang="ru-RU" sz="4400" spc="-1" strike="noStrike">
                <a:solidFill>
                  <a:srgbClr val="795241"/>
                </a:solidFill>
                <a:latin typeface="Times New Roman"/>
              </a:rPr>
              <a:t> </a:t>
            </a:r>
            <a:br>
              <a:rPr sz="4400"/>
            </a:b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0:27:09Z</dcterms:created>
  <dc:creator>ВСЕВОЛОД</dc:creator>
  <dc:description/>
  <dc:language>en-US</dc:language>
  <cp:lastModifiedBy>Заочное отделение НГК</cp:lastModifiedBy>
  <dcterms:modified xsi:type="dcterms:W3CDTF">2017-01-17T11:03:14Z</dcterms:modified>
  <cp:revision>29</cp:revision>
  <dc:subject/>
  <dc:title>«О математика»</dc:title>
</cp:coreProperties>
</file>