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5C9-7EBF-4D68-8A71-80CA9BFE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8070-D227-469A-8AA2-1DBDC2EE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208C-E5AD-45D8-A35D-FB69D896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0B05-E07D-454A-B6E3-C3E7EA3C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AFDA-7485-4794-9D6A-D956BB4A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ED38-96B4-4460-A3B0-AA9572F1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76A7-2002-446E-AC13-CAEE8AAB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EFA6-6101-4D7E-903D-DDDC3FC0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84F2-562E-46B3-A2CC-C3363AEF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C9AB-F682-438D-9F7E-B508FD32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19FB-01A8-42D2-BA25-35AF18EF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305-546B-415E-B73E-877E3FDA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B896-0CC7-4B3C-9EDC-9875E784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AD5C-2A86-4374-8829-690A0BF5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63CC-8930-485F-A57D-E9597957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D0872-2142-45C4-9885-00CD8242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83A0-3F8F-4918-B5E0-1435418C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D5C2D-1816-43AE-8916-FBF3AB55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B0D6D2-EC8F-45D6-800B-FE7939FB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19CD84-60A7-4807-B452-04648768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0D4D6-BFF3-4589-A6DE-DFEE8CCA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2BC52-1B37-4674-8E5C-6BA54F6F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8300-90CF-4B9E-A90C-0894671E6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DC3DC-6C05-46AB-8049-C4C9E445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06AE3-9251-4DFF-B1F9-06FF7F04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001AA-766D-4ED8-829C-771C227F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16492-1B7F-4B9B-95DB-6DEDEAFD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304BA-9F68-4AF4-8CE9-5C2AC6F7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011402-C9DC-459C-BEAC-E9CB68F9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5D228-6E5B-4B42-9E6C-CC50BED7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19556-8FB8-4C7E-92ED-7211FEF8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00D48-6881-4F06-8190-191F1B57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886D9-5DAD-4191-9C8A-1BEB358E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33CF-4B57-4E4B-BAC8-4F9A05B7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2D627-B5D3-43FD-862C-04F6661E6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8DAEF-E22A-4882-A044-E9EFF2B6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61B5A-2B8A-4736-B28F-E38C8928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08043-AC02-48B8-B2AF-300DCD7C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6F01E-265B-4CDC-94B9-C1A73C91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E9B62-EF50-4184-B76D-3016545F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0A9C1-48EC-4D92-B355-E844762C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8F7C1-244F-42A8-A34A-B31C6D25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D53D4-6191-46B1-9494-F82E36EFC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8921-4BED-4232-97BE-4C510F51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02F-14BD-44CF-A011-3EAAA0D5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AC0-B11E-4B18-B7AB-22598B8B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0056-F900-44E1-86BB-935DECD0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ED4F-05C8-44CF-AD87-093AA2F4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6215-7970-45B3-9B0D-CAB76AD2443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F940-234D-43C3-9FF7-57A1225AA37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8305-C985-4EFE-AB13-EAB450E1468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C455-F075-4EB3-9F48-095DDCCC258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99640" y="1052640"/>
            <a:ext cx="755676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  <a:ea typeface="Verdana"/>
              </a:rPr>
              <a:t>Урок развития речи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Verdana"/>
                <a:ea typeface="Verdana"/>
              </a:rPr>
              <a:t>Текст-описание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56360" y="4076280"/>
            <a:ext cx="248112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2060"/>
                </a:solidFill>
                <a:latin typeface="Georgia"/>
              </a:rPr>
              <a:t>3 класс</a:t>
            </a:r>
            <a:endParaRPr b="0" lang="en-US" sz="4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3527280" y="5013360"/>
            <a:ext cx="561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териал подготовила учи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БОУ Шахунской СОШ №1 им. Д. Кома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мирнова Татьяна Павл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4" descr="79720662_0_5a2f7_cb9faf16_XLjpg.png"/>
          <p:cNvPicPr/>
          <p:nvPr/>
        </p:nvPicPr>
        <p:blipFill>
          <a:blip r:embed="rId1"/>
          <a:stretch/>
        </p:blipFill>
        <p:spPr>
          <a:xfrm>
            <a:off x="0" y="3716280"/>
            <a:ext cx="3328920" cy="29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11280" y="1483920"/>
            <a:ext cx="8137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1" lang="ru-RU" sz="3700" spc="-1" strike="noStrike">
                <a:solidFill>
                  <a:srgbClr val="000000"/>
                </a:solidFill>
                <a:latin typeface="Arial"/>
                <a:ea typeface="Arial"/>
              </a:rPr>
              <a:t>Я вхожу в лес. Под ногами шуршит опавшая листва. Деревья уже почти голые. Воздух чист и прохладен.    Небо серое, но безоблачное. 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ru-RU" sz="3700" spc="-1" strike="noStrike">
                <a:solidFill>
                  <a:srgbClr val="000000"/>
                </a:solidFill>
                <a:latin typeface="Arial"/>
                <a:ea typeface="Arial"/>
              </a:rPr>
              <a:t>Я люблю бродить по лесу в это время года. Вкусно пахнет грибами и мхом.</a:t>
            </a:r>
            <a:endParaRPr b="0" lang="en-US" sz="3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692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Trebuchet MS"/>
              </a:rPr>
              <a:t>Практическое задание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523880" y="1904760"/>
            <a:ext cx="7010640" cy="22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текст – описание используя план - схему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916360" y="404280"/>
            <a:ext cx="34560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bat"/>
              </a:rPr>
              <a:t>Тексты</a:t>
            </a:r>
            <a:r>
              <a:rPr b="1" lang="ru-RU" sz="3800" spc="-1" strike="noStrike">
                <a:solidFill>
                  <a:srgbClr val="990000"/>
                </a:solidFill>
                <a:latin typeface="Trebuchet MS"/>
              </a:rPr>
              <a:t> </a:t>
            </a:r>
            <a:endParaRPr b="0" lang="en-US" sz="3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50560" y="1905120"/>
            <a:ext cx="5616360" cy="66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178560" indent="-124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екст - повествование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178560" indent="-124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marL="178560" indent="-1249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324000" y="3716280"/>
            <a:ext cx="43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 - опис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324000" y="5373720"/>
            <a:ext cx="51847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 - рассуж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6443640" y="1916280"/>
            <a:ext cx="252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24456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24456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3995640" y="2492280"/>
            <a:ext cx="482436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24456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0099"/>
                </a:solidFill>
                <a:latin typeface="Arbat"/>
              </a:rPr>
              <a:t>что случилос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24456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572000" y="4221000"/>
            <a:ext cx="2232000" cy="648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24456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0099"/>
                </a:solidFill>
                <a:latin typeface="Arbat"/>
              </a:rPr>
              <a:t>какой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24456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219640" y="6021360"/>
            <a:ext cx="2664000" cy="647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24456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000099"/>
                </a:solidFill>
                <a:latin typeface="Arbat"/>
              </a:rPr>
              <a:t>почем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24456"/>
                </a:solidFill>
                <a:latin typeface="Arial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47640" y="476280"/>
            <a:ext cx="4104000" cy="12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Trebuchet MS"/>
              </a:rPr>
              <a:t>Название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476000" y="2060280"/>
            <a:ext cx="7056360" cy="8031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700" spc="-1" strike="noStrike">
                <a:solidFill>
                  <a:srgbClr val="000000"/>
                </a:solidFill>
                <a:latin typeface="Georgia"/>
              </a:rPr>
              <a:t>1.Главные признаки</a:t>
            </a:r>
            <a:endParaRPr b="0" lang="en-US" sz="4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1476360" y="3141720"/>
            <a:ext cx="6983280" cy="803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1" lang="ru-RU" sz="4700" spc="-1" strike="noStrike">
                <a:solidFill>
                  <a:srgbClr val="424456"/>
                </a:solidFill>
                <a:latin typeface="Times New Roman"/>
              </a:rPr>
              <a:t>2. Подробности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1476360" y="4221000"/>
            <a:ext cx="6912000" cy="803520"/>
          </a:xfrm>
          <a:prstGeom prst="rect">
            <a:avLst/>
          </a:prstGeom>
          <a:solidFill>
            <a:srgbClr val="c0e8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1" lang="ru-RU" sz="4700" spc="-1" strike="noStrike">
                <a:solidFill>
                  <a:srgbClr val="424456"/>
                </a:solidFill>
                <a:latin typeface="Times New Roman"/>
              </a:rPr>
              <a:t>3. Своё отношение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3456000" cy="109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Текст -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920" y="2349360"/>
            <a:ext cx="828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Это – собака. У неё короткие и сильные лапы, длинное, приземистое тело. У этой собаки  - висячие уши и длинный хвост. Мне она очень нравится.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859280" y="549360"/>
            <a:ext cx="4284720" cy="109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24456"/>
                </a:solidFill>
                <a:latin typeface="Arial"/>
                <a:ea typeface="Arial"/>
              </a:rPr>
              <a:t>описание</a:t>
            </a:r>
            <a:r>
              <a:rPr b="1" lang="ru-RU" sz="3800" spc="-1" strike="noStrike">
                <a:solidFill>
                  <a:srgbClr val="424456"/>
                </a:solidFill>
                <a:latin typeface="Arial"/>
                <a:ea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700360" y="1773360"/>
            <a:ext cx="3456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  <a:ea typeface="Arial"/>
              </a:rPr>
              <a:t>Такса</a:t>
            </a:r>
            <a:r>
              <a:rPr b="1" lang="ru-RU" sz="38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7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" dur="770" fill="hold"/>
                                        <p:tgtEl>
                                          <p:spTgt spid="2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71640" y="1628280"/>
            <a:ext cx="720072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  <a:ea typeface="Arial"/>
              </a:rPr>
              <a:t>                      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  <a:ea typeface="Arial"/>
              </a:rPr>
              <a:t>План: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Название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1. Главные признаки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2. Подробности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3. Своё отношение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4643280" y="584280"/>
            <a:ext cx="3961080" cy="29653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539640" y="3573360"/>
            <a:ext cx="849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него ………………..шёрстка. Головка и уши…………….., а мордочка……………. Грудка…………….., а спинка……………….. На лапках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щеночка …………….глазки   и …………………..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е этот  пёсик………………………. Он ..…………………….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вставь пропущенные сло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"/>
          <p:cNvSpPr/>
          <p:nvPr/>
        </p:nvSpPr>
        <p:spPr>
          <a:xfrm>
            <a:off x="1258920" y="177336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Творческо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1258920" y="3141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43280" y="549360"/>
            <a:ext cx="388944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bat"/>
              </a:rPr>
              <a:t>Белочка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0" name="Picture 3" descr="img196"/>
          <p:cNvPicPr/>
          <p:nvPr/>
        </p:nvPicPr>
        <p:blipFill>
          <a:blip r:embed="rId1"/>
          <a:stretch/>
        </p:blipFill>
        <p:spPr>
          <a:xfrm>
            <a:off x="250920" y="1197000"/>
            <a:ext cx="3521160" cy="431640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5580000" y="1125360"/>
            <a:ext cx="287964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"/>
          <p:cNvSpPr/>
          <p:nvPr/>
        </p:nvSpPr>
        <p:spPr>
          <a:xfrm>
            <a:off x="4067280" y="1484280"/>
            <a:ext cx="48974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фото изображена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 белки…......шёрстка,  ……………….хвост. На ушках……………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а……………….на ветке и 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лка ………………………зверёк. Она ………………………………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не нравится…………………потому,  что………………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37-10-1l"/>
          <p:cNvPicPr/>
          <p:nvPr/>
        </p:nvPicPr>
        <p:blipFill>
          <a:blip r:embed="rId1"/>
          <a:stretch/>
        </p:blipFill>
        <p:spPr>
          <a:xfrm>
            <a:off x="468360" y="1341360"/>
            <a:ext cx="3743280" cy="2793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11"/>
          <p:cNvPicPr/>
          <p:nvPr/>
        </p:nvPicPr>
        <p:blipFill>
          <a:blip r:embed="rId2"/>
          <a:stretch/>
        </p:blipFill>
        <p:spPr>
          <a:xfrm>
            <a:off x="4500720" y="1413000"/>
            <a:ext cx="4464000" cy="2763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37-5-1lЛевитан И"/>
          <p:cNvPicPr/>
          <p:nvPr/>
        </p:nvPicPr>
        <p:blipFill>
          <a:blip r:embed="rId3"/>
          <a:stretch/>
        </p:blipFill>
        <p:spPr>
          <a:xfrm>
            <a:off x="179280" y="4229280"/>
            <a:ext cx="4032360" cy="2606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Isaac Levitan. Autumn."/>
          <p:cNvPicPr/>
          <p:nvPr/>
        </p:nvPicPr>
        <p:blipFill>
          <a:blip r:embed="rId4"/>
          <a:stretch/>
        </p:blipFill>
        <p:spPr>
          <a:xfrm>
            <a:off x="4427640" y="4292640"/>
            <a:ext cx="4537080" cy="25304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"/>
          <p:cNvSpPr/>
          <p:nvPr/>
        </p:nvSpPr>
        <p:spPr>
          <a:xfrm>
            <a:off x="2771640" y="6206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писание кар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3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Isaac Levitan. Autumn."/>
          <p:cNvPicPr/>
          <p:nvPr/>
        </p:nvPicPr>
        <p:blipFill>
          <a:blip r:embed="rId1"/>
          <a:stretch/>
        </p:blipFill>
        <p:spPr>
          <a:xfrm>
            <a:off x="250920" y="333360"/>
            <a:ext cx="8675640" cy="61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5T14:36:39Z</dcterms:created>
  <dc:creator>Кравченко</dc:creator>
  <dc:description/>
  <dc:language>en-US</dc:language>
  <cp:lastModifiedBy>Татьяна</cp:lastModifiedBy>
  <dcterms:modified xsi:type="dcterms:W3CDTF">2017-01-18T16:01:49Z</dcterms:modified>
  <cp:revision>12</cp:revision>
  <dc:subject/>
  <dc:title>Урок развития речи</dc:title>
</cp:coreProperties>
</file>