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5C2F-B624-498D-86E0-25C561E15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0E8F-D3C8-4744-A703-C632A3D5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D6EE-1842-4601-A838-1EE3097E9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A478-675E-4ADB-BFA6-3C9B641BA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1027B-401B-4AF5-9E42-0AFA2B2E0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CD682-E938-4A6D-9C22-3238C100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BD0C-B227-4F65-AB90-4B661F2E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E446-34C8-4985-A16D-50E87413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E98F-EA36-467A-9C9B-0970CBB6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23B4-E0F6-40EE-BE4E-7A1C7007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542E-2216-4689-A7C4-7B83E4F7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562C-0501-462C-B051-DFE45987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9F7C3-3945-48D2-B14F-9C64B0D1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167E-8509-4E9D-B2E4-35044554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65BD-6A37-42DF-96E3-CAC79CAE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14070-D1FA-4E9C-8BC4-3797263BE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2C7A-25FA-47D9-B20C-CC1BC95B5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E5FE8B-0C52-43BF-A448-E77E79453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0BADE8-FFB0-493D-890E-D68356B3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5245BA-47CD-4139-9CE7-EAC5E8A8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359BF0-392A-49D4-8811-8FCCE6CE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528C26-C2CE-4584-B77C-E715E246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3736-3306-4FF6-9BD6-8678C178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0DB7F6-62B6-46A8-9DCF-40AFE2F4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6822F7-7CE2-4E3D-BB8B-0E1176F5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967A59-EA49-4266-A157-4780AA75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D4E041-6D0E-4F6D-B2C4-9BE7DD05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043A60-00DC-4143-87F7-94DFF9F3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863EAF-FAEE-463D-A591-08D87C90A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25C0AD-122E-4EEE-A3B9-A62DFF407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8E27E-87C3-47DB-BFDE-6F4E37FF8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0E5CA-7A2D-4063-BFEB-50A5D5AB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3582E-E5D5-4928-8D8A-DEFE0B4C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CC00-6528-4654-ADC9-4DA54B3F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BF345-9BC8-4DF5-94EA-4BE7132D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CF730-4414-48D7-9392-8F197EB7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D624C-1CFF-4AE5-A177-0F7EE3CE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FA39F-0EA6-4734-8421-FB326625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DF656-5C14-4B70-847B-E9078ACA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05B4B-32A2-4D38-A544-BC175EDD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E9106-0899-4434-AD1E-2D062F22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5019F-574B-4076-B50D-9ABF03F13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E1ACD-60E6-45BF-8065-23DAD9C85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E0F0-C59E-42BF-83C0-B0C98DA2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8CA8-0879-43A0-955C-8FF2BEFE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530D-8BBB-46EE-92B0-191B51AE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D70A-54CE-40D2-8A8A-28726A14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ABA6-87E2-4ABF-B3B2-322E0997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FA96-33BB-4952-B92B-555F53BA3824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601E-442E-4CE4-8AE7-70101C7352A0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63D9-E3C2-463C-8986-F7591F5A4DDD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6F78-FE9F-4F8A-B347-5514B50079D4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99640" y="1052640"/>
            <a:ext cx="755676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  <a:ea typeface="Verdana"/>
              </a:rPr>
              <a:t>Урок развития речи</a:t>
            </a:r>
            <a:br>
              <a:rPr sz="6000"/>
            </a:br>
            <a:r>
              <a:rPr b="1" lang="ru-RU" sz="6000" spc="-1" strike="noStrike">
                <a:solidFill>
                  <a:srgbClr val="ffffff"/>
                </a:solidFill>
                <a:latin typeface="Verdana"/>
                <a:ea typeface="Verdana"/>
              </a:rPr>
              <a:t>Текст-описание</a:t>
            </a:r>
            <a:endParaRPr b="0" lang="en-US" sz="6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156360" y="4076280"/>
            <a:ext cx="248112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2060"/>
                </a:solidFill>
                <a:latin typeface="Georgia"/>
              </a:rPr>
              <a:t>3 класс</a:t>
            </a:r>
            <a:endParaRPr b="0" lang="en-US" sz="4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3527280" y="5013360"/>
            <a:ext cx="561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териал подготовила учител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БОУ Шахунской СОШ №1 им. Д. Комар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мирнова Татьяна Павл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Рисунок 4" descr="79720662_0_5a2f7_cb9faf16_XLjpg.png"/>
          <p:cNvPicPr/>
          <p:nvPr/>
        </p:nvPicPr>
        <p:blipFill>
          <a:blip r:embed="rId1"/>
          <a:stretch/>
        </p:blipFill>
        <p:spPr>
          <a:xfrm>
            <a:off x="0" y="3716280"/>
            <a:ext cx="332892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11280" y="1483920"/>
            <a:ext cx="81374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</a:t>
            </a:r>
            <a:r>
              <a:rPr b="1" lang="ru-RU" sz="3700" spc="-1" strike="noStrike">
                <a:solidFill>
                  <a:srgbClr val="000000"/>
                </a:solidFill>
                <a:latin typeface="Arial"/>
                <a:ea typeface="Arial"/>
              </a:rPr>
              <a:t>Я вхожу в лес. Под ногами шуршит опавшая листва. Деревья уже почти голые. Воздух чист и прохладен.    Небо серое, но безоблачное. </a:t>
            </a:r>
            <a:endParaRPr b="0" lang="en-US" sz="3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lang="ru-RU" sz="3700" spc="-1" strike="noStrike">
                <a:solidFill>
                  <a:srgbClr val="000000"/>
                </a:solidFill>
                <a:latin typeface="Arial"/>
                <a:ea typeface="Arial"/>
              </a:rPr>
              <a:t>Я люблю бродить по лесу в это время года. Вкусно пахнет грибами и мхом.</a:t>
            </a:r>
            <a:endParaRPr b="0" lang="en-US" sz="3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6920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Trebuchet MS"/>
              </a:rPr>
              <a:t>Практическое задание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523880" y="1904760"/>
            <a:ext cx="7010640" cy="22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Составить текст – описание используя план - схему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916360" y="404280"/>
            <a:ext cx="3456000" cy="10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Arbat"/>
              </a:rPr>
              <a:t>Тексты</a:t>
            </a:r>
            <a:r>
              <a:rPr b="1" lang="ru-RU" sz="38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3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50560" y="1905120"/>
            <a:ext cx="5616360" cy="66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78560" indent="-1249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Текст - повествование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178560" indent="-1249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178560" indent="-1249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324000" y="3716280"/>
            <a:ext cx="439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кст - опис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324000" y="5373720"/>
            <a:ext cx="51847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кст - рассуж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6443640" y="1916280"/>
            <a:ext cx="2521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24456"/>
                </a:solidFill>
                <a:latin typeface="Arial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24456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3995640" y="2492280"/>
            <a:ext cx="4824360" cy="647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24456"/>
                </a:solidFill>
                <a:latin typeface="Arial"/>
              </a:rPr>
              <a:t>   </a:t>
            </a:r>
            <a:r>
              <a:rPr b="1" i="1" lang="ru-RU" sz="4000" spc="-1" strike="noStrike">
                <a:solidFill>
                  <a:srgbClr val="000099"/>
                </a:solidFill>
                <a:latin typeface="Arbat"/>
              </a:rPr>
              <a:t>что случилос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24456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572000" y="4221000"/>
            <a:ext cx="2232000" cy="648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24456"/>
                </a:solidFill>
                <a:latin typeface="Arial"/>
              </a:rPr>
              <a:t>   </a:t>
            </a:r>
            <a:r>
              <a:rPr b="1" i="1" lang="ru-RU" sz="4000" spc="-1" strike="noStrike">
                <a:solidFill>
                  <a:srgbClr val="000099"/>
                </a:solidFill>
                <a:latin typeface="Arbat"/>
              </a:rPr>
              <a:t>како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24456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5219640" y="6021360"/>
            <a:ext cx="2664000" cy="647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24456"/>
                </a:solidFill>
                <a:latin typeface="Arial"/>
              </a:rPr>
              <a:t>   </a:t>
            </a:r>
            <a:r>
              <a:rPr b="1" i="1" lang="ru-RU" sz="4000" spc="-1" strike="noStrike">
                <a:solidFill>
                  <a:srgbClr val="000099"/>
                </a:solidFill>
                <a:latin typeface="Arbat"/>
              </a:rPr>
              <a:t>почем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24456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47640" y="476280"/>
            <a:ext cx="410400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Trebuchet MS"/>
              </a:rPr>
              <a:t>Название</a:t>
            </a:r>
            <a:endParaRPr b="0" lang="en-US" sz="6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476000" y="2060280"/>
            <a:ext cx="7056360" cy="8031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4700" spc="-1" strike="noStrike">
                <a:solidFill>
                  <a:srgbClr val="000000"/>
                </a:solidFill>
                <a:latin typeface="Georgia"/>
              </a:rPr>
              <a:t>1.Главные признаки</a:t>
            </a:r>
            <a:endParaRPr b="0" lang="en-US" sz="4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1476360" y="3141720"/>
            <a:ext cx="6983280" cy="8031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1" lang="ru-RU" sz="4700" spc="-1" strike="noStrike">
                <a:solidFill>
                  <a:srgbClr val="424456"/>
                </a:solidFill>
                <a:latin typeface="Times New Roman"/>
              </a:rPr>
              <a:t>2. Подробности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1476360" y="4221000"/>
            <a:ext cx="6912000" cy="803520"/>
          </a:xfrm>
          <a:prstGeom prst="rect">
            <a:avLst/>
          </a:prstGeom>
          <a:solidFill>
            <a:srgbClr val="c0e8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1" lang="ru-RU" sz="4700" spc="-1" strike="noStrike">
                <a:solidFill>
                  <a:srgbClr val="424456"/>
                </a:solidFill>
                <a:latin typeface="Times New Roman"/>
              </a:rPr>
              <a:t>3. Своё отношение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63640" y="549360"/>
            <a:ext cx="3456000" cy="109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  <a:ea typeface="Arial"/>
              </a:rPr>
              <a:t>Текст -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50920" y="2349360"/>
            <a:ext cx="828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Это – собака. У неё короткие и сильные лапы, длинное, приземистое тело. У этой собаки  - висячие уши и длинный хвост. Мне она очень нравится.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859280" y="549360"/>
            <a:ext cx="4284720" cy="109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24456"/>
                </a:solidFill>
                <a:latin typeface="Arial"/>
                <a:ea typeface="Arial"/>
              </a:rPr>
              <a:t>описание</a:t>
            </a:r>
            <a:r>
              <a:rPr b="1" lang="ru-RU" sz="3800" spc="-1" strike="noStrike">
                <a:solidFill>
                  <a:srgbClr val="424456"/>
                </a:solidFill>
                <a:latin typeface="Arial"/>
                <a:ea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2700360" y="1773360"/>
            <a:ext cx="3456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Arial"/>
                <a:ea typeface="Arial"/>
              </a:rPr>
              <a:t>Такса</a:t>
            </a:r>
            <a:r>
              <a:rPr b="1" lang="ru-RU" sz="3800" spc="-1" strike="noStrike">
                <a:solidFill>
                  <a:srgbClr val="990000"/>
                </a:solidFill>
                <a:latin typeface="Arial"/>
                <a:ea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77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770" fill="hold"/>
                                        <p:tgtEl>
                                          <p:spTgt spid="2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71640" y="1628280"/>
            <a:ext cx="720072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  <a:ea typeface="Arial"/>
              </a:rPr>
              <a:t>                      </a:t>
            </a:r>
            <a:r>
              <a:rPr b="1" lang="ru-RU" sz="4800" spc="-1" strike="noStrike">
                <a:solidFill>
                  <a:srgbClr val="990000"/>
                </a:solidFill>
                <a:latin typeface="Arial"/>
                <a:ea typeface="Arial"/>
              </a:rPr>
              <a:t>План: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Название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1. Главные признаки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2. Подробности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3. Своё отношение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4643280" y="584280"/>
            <a:ext cx="3961080" cy="2965320"/>
          </a:xfrm>
          <a:prstGeom prst="rect">
            <a:avLst/>
          </a:prstGeom>
          <a:ln w="0">
            <a:noFill/>
          </a:ln>
        </p:spPr>
      </p:pic>
      <p:sp>
        <p:nvSpPr>
          <p:cNvPr id="236" name="TextBox 1"/>
          <p:cNvSpPr/>
          <p:nvPr/>
        </p:nvSpPr>
        <p:spPr>
          <a:xfrm>
            <a:off x="539640" y="3573360"/>
            <a:ext cx="849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него ………………..шёрстка. Головка и уши…………….., а мордочка……………. Грудка…………….., а спинка……………….. На лапках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щеночка …………….глазки   и …………………..у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е этот  пёсик………………………. Он ..…………………….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(вставь пропущенные сло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"/>
          <p:cNvSpPr/>
          <p:nvPr/>
        </p:nvSpPr>
        <p:spPr>
          <a:xfrm>
            <a:off x="1258920" y="1773360"/>
            <a:ext cx="30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Творческо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2"/>
          <p:cNvSpPr/>
          <p:nvPr/>
        </p:nvSpPr>
        <p:spPr>
          <a:xfrm>
            <a:off x="1258920" y="314172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43280" y="549360"/>
            <a:ext cx="388944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Arbat"/>
              </a:rPr>
              <a:t>Белочка</a:t>
            </a:r>
            <a:endParaRPr b="0" lang="en-US" sz="6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0" name="Picture 3" descr="img196"/>
          <p:cNvPicPr/>
          <p:nvPr/>
        </p:nvPicPr>
        <p:blipFill>
          <a:blip r:embed="rId1"/>
          <a:stretch/>
        </p:blipFill>
        <p:spPr>
          <a:xfrm>
            <a:off x="250920" y="1197000"/>
            <a:ext cx="3521160" cy="43164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4"/>
          <p:cNvSpPr/>
          <p:nvPr/>
        </p:nvSpPr>
        <p:spPr>
          <a:xfrm>
            <a:off x="5580000" y="1125360"/>
            <a:ext cx="287964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"/>
          <p:cNvSpPr/>
          <p:nvPr/>
        </p:nvSpPr>
        <p:spPr>
          <a:xfrm>
            <a:off x="4067280" y="1484280"/>
            <a:ext cx="48974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фото изображена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белки…......шёрстка,  ……………….хвост. На ушках……………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а……………….на ветке и 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лка ………………………зверёк. Она ………………………………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е нравится…………………потому,  что………………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77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77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37-10-1l"/>
          <p:cNvPicPr/>
          <p:nvPr/>
        </p:nvPicPr>
        <p:blipFill>
          <a:blip r:embed="rId1"/>
          <a:stretch/>
        </p:blipFill>
        <p:spPr>
          <a:xfrm>
            <a:off x="468360" y="1341360"/>
            <a:ext cx="3743280" cy="27939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11"/>
          <p:cNvPicPr/>
          <p:nvPr/>
        </p:nvPicPr>
        <p:blipFill>
          <a:blip r:embed="rId2"/>
          <a:stretch/>
        </p:blipFill>
        <p:spPr>
          <a:xfrm>
            <a:off x="4500720" y="1413000"/>
            <a:ext cx="4464000" cy="2763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37-5-1lЛевитан И"/>
          <p:cNvPicPr/>
          <p:nvPr/>
        </p:nvPicPr>
        <p:blipFill>
          <a:blip r:embed="rId3"/>
          <a:stretch/>
        </p:blipFill>
        <p:spPr>
          <a:xfrm>
            <a:off x="179280" y="4229280"/>
            <a:ext cx="4032360" cy="26064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Isaac Levitan. Autumn."/>
          <p:cNvPicPr/>
          <p:nvPr/>
        </p:nvPicPr>
        <p:blipFill>
          <a:blip r:embed="rId4"/>
          <a:stretch/>
        </p:blipFill>
        <p:spPr>
          <a:xfrm>
            <a:off x="4427640" y="4292640"/>
            <a:ext cx="4537080" cy="2530440"/>
          </a:xfrm>
          <a:prstGeom prst="rect">
            <a:avLst/>
          </a:prstGeom>
          <a:ln w="0">
            <a:noFill/>
          </a:ln>
        </p:spPr>
      </p:pic>
      <p:sp>
        <p:nvSpPr>
          <p:cNvPr id="247" name="TextBox 1"/>
          <p:cNvSpPr/>
          <p:nvPr/>
        </p:nvSpPr>
        <p:spPr>
          <a:xfrm>
            <a:off x="2771640" y="62064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Описание карт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3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3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Isaac Levitan. Autumn."/>
          <p:cNvPicPr/>
          <p:nvPr/>
        </p:nvPicPr>
        <p:blipFill>
          <a:blip r:embed="rId1"/>
          <a:stretch/>
        </p:blipFill>
        <p:spPr>
          <a:xfrm>
            <a:off x="250920" y="333360"/>
            <a:ext cx="8675640" cy="61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5T14:36:39Z</dcterms:created>
  <dc:creator>Кравченко</dc:creator>
  <dc:description/>
  <dc:language>en-US</dc:language>
  <cp:lastModifiedBy>Татьяна</cp:lastModifiedBy>
  <dcterms:modified xsi:type="dcterms:W3CDTF">2017-01-18T16:01:49Z</dcterms:modified>
  <cp:revision>12</cp:revision>
  <dc:subject/>
  <dc:title>Урок развития речи</dc:title>
</cp:coreProperties>
</file>