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29.wmf" ContentType="image/x-wmf"/>
  <Override PartName="/ppt/media/image19.jpeg" ContentType="image/jpeg"/>
  <Override PartName="/ppt/media/image17.jpeg" ContentType="image/jpeg"/>
  <Override PartName="/ppt/media/image14.gif" ContentType="image/gif"/>
  <Override PartName="/ppt/media/image31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7.jpeg" ContentType="image/jpeg"/>
  <Override PartName="/ppt/media/image32.jpeg" ContentType="image/jpeg"/>
  <Override PartName="/ppt/media/image38.jpeg" ContentType="image/jpeg"/>
  <Override PartName="/ppt/media/image40.jpeg" ContentType="image/jpeg"/>
  <Override PartName="/ppt/media/image33.jpeg" ContentType="image/jpeg"/>
  <Override PartName="/ppt/media/image39.jpeg" ContentType="image/jpeg"/>
  <Override PartName="/ppt/media/image41.jpeg" ContentType="image/jpeg"/>
  <Override PartName="/ppt/media/image13.gif" ContentType="image/gif"/>
  <Override PartName="/ppt/media/image16.jpeg" ContentType="image/jpeg"/>
  <Override PartName="/ppt/media/image8.gif" ContentType="image/gif"/>
  <Override PartName="/ppt/media/image18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6.png" ContentType="image/png"/>
  <Override PartName="/ppt/media/image12.jpeg" ContentType="image/jpeg"/>
  <Override PartName="/ppt/media/image4.png" ContentType="image/png"/>
  <Override PartName="/ppt/media/image3.wmf" ContentType="image/x-wmf"/>
  <Override PartName="/ppt/media/image15.jpeg" ContentType="image/jpeg"/>
  <Override PartName="/ppt/media/image2.png" ContentType="image/png"/>
  <Override PartName="/ppt/media/image2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9F2D-E199-455A-BDA0-3F127858D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B220-EA39-4F0E-93CC-EE022CEFA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B6EE60-ECFE-474A-A01F-979944E1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798CB-1D8D-478C-A0C7-C890ACA4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7202AD-CB92-4D7B-A7ED-67D41994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3D42C8-00E2-491D-9ED5-FE4D224E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741152-9D18-4E83-BAF8-B2BA043D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35B9B3-6CA3-4A3D-9A38-D2B1D707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A5DC58-E815-4BAE-B018-80089F75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CEE984-07C0-4F33-8740-66FBCDC82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1AA3C7-1B0C-48D6-B4CF-A95EC020B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F5B2-992B-473F-84BE-0F2512ED0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C538-41E7-4B92-ADB4-D8CBFBC79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F5514-DB07-4A81-9E11-5B2C8A206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2B5E-B932-4B63-AA1E-EE594435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5232-B6EA-4D29-9785-71D5257A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0E0E-0FE7-425B-8220-143D6F3C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4A37-BF9D-4EDC-9037-9DC72597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49C5-A66C-4074-8E23-F8A1C088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9AF3-CAAD-4E65-87CE-24200303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D3BB-EF23-4BD5-A3FB-2E3A423D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6302-2AC4-4FAB-B055-ECCF48D3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2E97-980B-40D1-BF92-D72A5591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EF31-14CC-4C16-93FF-19B7DB44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19E4-C84C-442F-9D2E-577908EA5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EE68-5DEF-42FA-BE36-CD00AE8DD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1DF61-1FD5-4752-90B7-402D1ABF4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4A5D7-1804-44FE-AF9E-0DC8942D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033A7-14D1-49DA-AA41-F68F8748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CD1C4-84A1-42D9-AF3E-488334D5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35DAC-67B0-4886-B9F3-AE2112E3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E8F3-E13E-486E-99BF-77A309C1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821C1-266E-44DF-8319-328133D4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F5187-00D5-42AB-9E9F-1B03CC88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D4A76-D56E-4CE3-988D-9D167FA6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07D03-ECEB-4559-A91F-A570123F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E836B-2505-4C3C-8374-BA2F397F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B1679-A469-4F17-B493-7645FC4BF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10584-12EB-442C-A7FD-2D5D368A3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454EFA-A8D8-4FB9-8C3E-8EA2C7BDB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B17AE1-95E9-4441-BB13-F920D39F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721134-AA51-4112-ABC0-04ED446F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EB96-1368-4B75-A6F0-46E37BA6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47B3C0-B15A-4AAB-B943-C8934825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CAA865-C6EA-4251-A512-3076C557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6D40A6-4CBD-4A60-912D-8D94A7B8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0C4CEE-1F70-48E2-80D6-56461BAE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60612B-05CB-4B65-8D48-7742FD73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009DE6-2DC5-4EA7-BC3B-824A8021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AA8F5E-A249-425C-9040-E57E1C1A0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19929A-BF55-46E6-86C8-B5989FA41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CFE8CA-3AA5-4D17-B528-34A7B9CE7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A859D-71A3-409A-906A-25B51F448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1E68-C5F8-4D03-9360-AFD0231C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8A0C4-C03E-49DB-BA26-E078B9D2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4F286-50CC-48F1-8720-27644435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D92FC-8507-43AF-BCA5-474E8116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3E442-8D5E-47F3-A689-8761F8A3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5055B-98E0-48C3-A60A-D59114980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6892F-7778-4FC9-829F-325B0230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FA3A6-5528-4A59-9C6F-BC4C0B0A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D206F-1AB3-4442-99D7-7849AE12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1AC02-782C-4252-ABFD-C5FF2DAE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91AC2-DB05-4EEE-A8EC-524985D1B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33DC-C9E9-4D65-800B-93A6863E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30D0D-8229-4A4D-82D7-4CC0162A9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1CA4A-6B38-4934-AE83-E60AADEA0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A238C-F298-4C7B-9C58-4CD519BD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1EDB6-3B2C-47E8-ACC1-C197ABCC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B5641-5887-4A6C-A1DF-29831F47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4435E-EB7E-48B2-B5A1-F5F867C6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E5498-2B67-49F5-AA72-D3165C93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05367-712C-436C-B51F-7D7DE2B0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F1518-7D9C-4C2D-BC1B-35FF6ECD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E127B-3B29-4D27-880C-01B80C73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AD72-052C-495A-B8F3-AE266418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1A632-0F84-431E-957B-9F0F8C66B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E5EAB-CF80-4EFA-9B92-BE9F593B5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549B2-2F20-40D5-ADD7-A82072462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28330-91E6-4B3A-A3DA-C533B48E8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FF616-E202-436B-87BC-BB5BC6F3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9453B-2716-4CA4-8DF1-1CF967CF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DEC8B-47E5-417C-931F-409534ED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39387-B267-4B47-86D5-9ED186FE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9F36A-9F60-47AB-A890-5AE883E4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6F08F-58E5-45B0-950C-82BF3703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0CB1-A837-4BC9-AB41-114DCDFC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4AB278-26B8-4B99-BFA7-E845968D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5D717-9A4C-4505-A9F2-05509B25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B976C-EF7C-4C2C-9753-15C76634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FAEF5-127C-404E-8E47-5DE70AE6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07117-BA53-4A29-B7BA-A5AFAA782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34B88-F7B7-4F80-B0B2-04653EC20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7210F-33CF-44E7-8CAA-EBC2E725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35060-6BFF-4B71-BFBE-C975C65C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28CCA-AACC-4C77-B033-E1714FC8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3CBC2B-2EE3-4038-8EFC-DBB8FCA4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D5D3-85FD-4433-A31C-270DFCAC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52B15-9CB0-420D-B39A-BE3F7568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89E28-DE92-4398-8B5F-041F74A8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0E967-7843-48BB-96FA-36494189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00416-8E8E-4FFB-AA31-52722C23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BBE1F-6581-4555-B698-2CD32710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69B03-06FF-493B-B3BC-0A4E63BC8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59020-D608-45EF-8F37-83B0AAA25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16C2F-6A04-4738-AD6D-8FBCFF7FA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B009BD-AF98-4170-9A42-3AA205A4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6EB1B-AA7F-495A-B226-FE0CBB98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5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5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9376-1BEB-48DB-A737-C115102F6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0464-D5CC-4891-9C50-33EBDB46E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4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51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52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53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54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55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56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157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Freeform 13"/>
                  <p:cNvSpPr/>
                  <p:nvPr/>
                </p:nvSpPr>
                <p:spPr>
                  <a:xfrm rot="16200000">
                    <a:off x="8757720" y="6120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Freeform 14"/>
                  <p:cNvSpPr/>
                  <p:nvPr/>
                </p:nvSpPr>
                <p:spPr>
                  <a:xfrm rot="16200000">
                    <a:off x="8828640" y="486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Freeform 15"/>
                  <p:cNvSpPr/>
                  <p:nvPr/>
                </p:nvSpPr>
                <p:spPr>
                  <a:xfrm rot="16200000">
                    <a:off x="8898120" y="9828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2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pic>
              <p:nvPicPr>
                <p:cNvPr id="16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7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7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91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2596-759B-405E-8A82-C7F99DB435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BCA8-398C-4ACF-894D-0A55B2988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86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87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88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99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00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18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19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336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37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3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344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45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46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47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348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444C-EE3B-4288-8660-FE42FEA288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91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392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3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4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5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6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7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8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9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0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1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2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3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4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5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6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7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8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9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0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1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2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3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4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5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6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7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8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9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0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1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22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23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92C4-64B3-43DF-BBE2-6E37BB2FB94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Group 2"/>
          <p:cNvGrpSpPr/>
          <p:nvPr/>
        </p:nvGrpSpPr>
        <p:grpSpPr>
          <a:xfrm>
            <a:off x="0" y="-360"/>
            <a:ext cx="9159840" cy="6870600"/>
            <a:chOff x="0" y="-360"/>
            <a:chExt cx="9159840" cy="6870600"/>
          </a:xfrm>
        </p:grpSpPr>
        <p:sp>
          <p:nvSpPr>
            <p:cNvPr id="466" name="Rectangle 3"/>
            <p:cNvSpPr/>
            <p:nvPr/>
          </p:nvSpPr>
          <p:spPr>
            <a:xfrm>
              <a:off x="0" y="6645600"/>
              <a:ext cx="8078760" cy="22464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7" name="Rectangle 4"/>
            <p:cNvSpPr/>
            <p:nvPr/>
          </p:nvSpPr>
          <p:spPr>
            <a:xfrm>
              <a:off x="0" y="1080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8" name="Rectangle 5"/>
            <p:cNvSpPr/>
            <p:nvPr/>
          </p:nvSpPr>
          <p:spPr>
            <a:xfrm>
              <a:off x="7953480" y="10800"/>
              <a:ext cx="1203120" cy="684684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69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470" name="Group 7"/>
              <p:cNvGrpSpPr/>
              <p:nvPr/>
            </p:nvGrpSpPr>
            <p:grpSpPr>
              <a:xfrm>
                <a:off x="8381880" y="-360"/>
                <a:ext cx="762120" cy="2278800"/>
                <a:chOff x="8381880" y="-360"/>
                <a:chExt cx="762120" cy="2278800"/>
              </a:xfrm>
            </p:grpSpPr>
            <p:grpSp>
              <p:nvGrpSpPr>
                <p:cNvPr id="471" name="Group 8"/>
                <p:cNvGrpSpPr/>
                <p:nvPr/>
              </p:nvGrpSpPr>
              <p:grpSpPr>
                <a:xfrm>
                  <a:off x="8717040" y="-360"/>
                  <a:ext cx="279360" cy="275400"/>
                  <a:chOff x="8717040" y="-360"/>
                  <a:chExt cx="279360" cy="275400"/>
                </a:xfrm>
              </p:grpSpPr>
              <p:grpSp>
                <p:nvGrpSpPr>
                  <p:cNvPr id="472" name="Group 9"/>
                  <p:cNvGrpSpPr/>
                  <p:nvPr/>
                </p:nvGrpSpPr>
                <p:grpSpPr>
                  <a:xfrm>
                    <a:off x="8717040" y="-360"/>
                    <a:ext cx="279360" cy="275400"/>
                    <a:chOff x="8717040" y="-360"/>
                    <a:chExt cx="279360" cy="275400"/>
                  </a:xfrm>
                </p:grpSpPr>
                <p:sp>
                  <p:nvSpPr>
                    <p:cNvPr id="473" name="Freeform 10"/>
                    <p:cNvSpPr/>
                    <p:nvPr/>
                  </p:nvSpPr>
                  <p:spPr>
                    <a:xfrm rot="16200000">
                      <a:off x="8755920" y="-392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4" name="Freeform 11"/>
                    <p:cNvSpPr/>
                    <p:nvPr/>
                  </p:nvSpPr>
                  <p:spPr>
                    <a:xfrm rot="16200000">
                      <a:off x="8765280" y="91800"/>
                      <a:ext cx="14076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475" name="Oval 12"/>
                  <p:cNvSpPr/>
                  <p:nvPr/>
                </p:nvSpPr>
                <p:spPr>
                  <a:xfrm rot="16200000">
                    <a:off x="8836560" y="1396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6" name="Freeform 13"/>
                  <p:cNvSpPr/>
                  <p:nvPr/>
                </p:nvSpPr>
                <p:spPr>
                  <a:xfrm rot="16200000">
                    <a:off x="8770320" y="7164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7" name="Freeform 14"/>
                  <p:cNvSpPr/>
                  <p:nvPr/>
                </p:nvSpPr>
                <p:spPr>
                  <a:xfrm rot="16200000">
                    <a:off x="8841240" y="5904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8" name="Freeform 15"/>
                  <p:cNvSpPr/>
                  <p:nvPr/>
                </p:nvSpPr>
                <p:spPr>
                  <a:xfrm rot="16200000">
                    <a:off x="8910720" y="10872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9" name="Freeform 16"/>
                  <p:cNvSpPr/>
                  <p:nvPr/>
                </p:nvSpPr>
                <p:spPr>
                  <a:xfrm rot="16200000">
                    <a:off x="8836560" y="20160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0" name="Freeform 17"/>
                  <p:cNvSpPr/>
                  <p:nvPr/>
                </p:nvSpPr>
                <p:spPr>
                  <a:xfrm rot="16200000">
                    <a:off x="8785080" y="1771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pic>
              <p:nvPicPr>
                <p:cNvPr id="481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90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2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90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3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436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4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237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5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74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6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83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7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84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8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86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89" name="Group 26"/>
              <p:cNvGrpSpPr/>
              <p:nvPr/>
            </p:nvGrpSpPr>
            <p:grpSpPr>
              <a:xfrm>
                <a:off x="7848720" y="1608480"/>
                <a:ext cx="828720" cy="4701960"/>
                <a:chOff x="7848720" y="1608480"/>
                <a:chExt cx="828720" cy="4701960"/>
              </a:xfrm>
            </p:grpSpPr>
            <p:pic>
              <p:nvPicPr>
                <p:cNvPr id="490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848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1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126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2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2108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3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932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4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9012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5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58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6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8212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7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86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8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1036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9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9052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0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876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1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68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2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70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3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94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4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96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5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188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6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401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7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206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8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83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09" name="Freeform 46"/>
            <p:cNvSpPr/>
            <p:nvPr/>
          </p:nvSpPr>
          <p:spPr>
            <a:xfrm>
              <a:off x="7953480" y="4911480"/>
              <a:ext cx="1190520" cy="193680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0" name="Freeform 47"/>
            <p:cNvSpPr/>
            <p:nvPr/>
          </p:nvSpPr>
          <p:spPr>
            <a:xfrm>
              <a:off x="7939080" y="4861080"/>
              <a:ext cx="1219320" cy="19965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1" name="Freeform 48"/>
            <p:cNvSpPr/>
            <p:nvPr/>
          </p:nvSpPr>
          <p:spPr>
            <a:xfrm>
              <a:off x="7927920" y="2824200"/>
              <a:ext cx="1231920" cy="403020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2" name="Freeform 49"/>
            <p:cNvSpPr/>
            <p:nvPr/>
          </p:nvSpPr>
          <p:spPr>
            <a:xfrm>
              <a:off x="8010360" y="3543840"/>
              <a:ext cx="979560" cy="21808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3" name="Freeform 50"/>
            <p:cNvSpPr/>
            <p:nvPr/>
          </p:nvSpPr>
          <p:spPr>
            <a:xfrm>
              <a:off x="8244000" y="437400"/>
              <a:ext cx="914400" cy="504000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4" name="Freeform 51"/>
            <p:cNvSpPr/>
            <p:nvPr/>
          </p:nvSpPr>
          <p:spPr>
            <a:xfrm>
              <a:off x="8250120" y="272520"/>
              <a:ext cx="909720" cy="306648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5" name="Freeform 52"/>
            <p:cNvSpPr/>
            <p:nvPr/>
          </p:nvSpPr>
          <p:spPr>
            <a:xfrm>
              <a:off x="7943760" y="10800"/>
              <a:ext cx="576360" cy="33469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6" name="Freeform 53"/>
            <p:cNvSpPr/>
            <p:nvPr/>
          </p:nvSpPr>
          <p:spPr>
            <a:xfrm>
              <a:off x="7943760" y="12240"/>
              <a:ext cx="300240" cy="334728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7" name="Rectangle 54"/>
            <p:cNvSpPr/>
            <p:nvPr/>
          </p:nvSpPr>
          <p:spPr>
            <a:xfrm>
              <a:off x="7866000" y="12240"/>
              <a:ext cx="88920" cy="684684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8" name="Freeform 55"/>
            <p:cNvSpPr/>
            <p:nvPr/>
          </p:nvSpPr>
          <p:spPr>
            <a:xfrm>
              <a:off x="7958160" y="6230160"/>
              <a:ext cx="1165320" cy="6181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9" name="AutoShape 56"/>
            <p:cNvSpPr/>
            <p:nvPr/>
          </p:nvSpPr>
          <p:spPr>
            <a:xfrm rot="5400000">
              <a:off x="4329720" y="3321360"/>
              <a:ext cx="684684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1AE5-7432-45CA-ADA9-4AD4E7F43F6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6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dt" idx="2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ftr" idx="2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D560-04CA-4D8C-9D31-A722A89173A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1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dt" idx="25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ftr" idx="26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2F2A-6C75-431A-B43E-4E06E3DB2D2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8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wmf"/><Relationship Id="rId3" Type="http://schemas.openxmlformats.org/officeDocument/2006/relationships/image" Target="../media/image30.jpeg"/><Relationship Id="rId4" Type="http://schemas.openxmlformats.org/officeDocument/2006/relationships/image" Target="../media/image9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8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771280" y="277920"/>
            <a:ext cx="59151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МЫ ВХОДИМ В МИР ПРЕКРАСНОГО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124000" y="1773000"/>
            <a:ext cx="66247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Средства выразительности в                    изобразительном искусстве, использование дидактических игр и тетрадей для творческих работ по музейно-педагогической программе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«ЗДРАВСТВУЙ, МУЗЕЙ!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0" name="Picture 7" descr="0линия"/>
          <p:cNvPicPr/>
          <p:nvPr/>
        </p:nvPicPr>
        <p:blipFill>
          <a:blip r:embed="rId1"/>
          <a:stretch/>
        </p:blipFill>
        <p:spPr>
          <a:xfrm flipH="1" rot="10800000">
            <a:off x="611280" y="6102000"/>
            <a:ext cx="6773760" cy="32868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1332000" y="5589720"/>
            <a:ext cx="72007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АДОУ ЦРР д/с № 105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оспитатель Куртаева С.В.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2" name="16866" descr="Архип  Иванович Куинджи  Волны"/>
          <p:cNvPicPr/>
          <p:nvPr/>
        </p:nvPicPr>
        <p:blipFill>
          <a:blip r:embed="rId2"/>
          <a:stretch/>
        </p:blipFill>
        <p:spPr>
          <a:xfrm>
            <a:off x="5435640" y="4292640"/>
            <a:ext cx="3024000" cy="216072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3"/>
          <a:stretch/>
        </p:blipFill>
        <p:spPr>
          <a:xfrm>
            <a:off x="395280" y="260280"/>
            <a:ext cx="1995480" cy="220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22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103480" cy="345780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2"/>
          <a:stretch/>
        </p:blipFill>
        <p:spPr>
          <a:xfrm>
            <a:off x="5364000" y="3573360"/>
            <a:ext cx="3492720" cy="2664000"/>
          </a:xfrm>
          <a:prstGeom prst="rect">
            <a:avLst/>
          </a:prstGeom>
          <a:ln w="0">
            <a:noFill/>
          </a:ln>
        </p:spPr>
      </p:pic>
      <p:pic>
        <p:nvPicPr>
          <p:cNvPr id="705" name="" descr=""/>
          <p:cNvPicPr/>
          <p:nvPr/>
        </p:nvPicPr>
        <p:blipFill>
          <a:blip r:embed="rId3"/>
          <a:stretch/>
        </p:blipFill>
        <p:spPr>
          <a:xfrm>
            <a:off x="2556000" y="549360"/>
            <a:ext cx="2971800" cy="4032000"/>
          </a:xfrm>
          <a:prstGeom prst="rect">
            <a:avLst/>
          </a:prstGeom>
          <a:ln w="0">
            <a:noFill/>
          </a:ln>
        </p:spPr>
      </p:pic>
      <p:pic>
        <p:nvPicPr>
          <p:cNvPr id="706" name="" descr=""/>
          <p:cNvPicPr/>
          <p:nvPr/>
        </p:nvPicPr>
        <p:blipFill>
          <a:blip r:embed="rId4"/>
          <a:stretch/>
        </p:blipFill>
        <p:spPr>
          <a:xfrm>
            <a:off x="0" y="3933720"/>
            <a:ext cx="2556000" cy="2735280"/>
          </a:xfrm>
          <a:prstGeom prst="rect">
            <a:avLst/>
          </a:prstGeom>
          <a:ln w="0">
            <a:noFill/>
          </a:ln>
        </p:spPr>
      </p:pic>
      <p:pic>
        <p:nvPicPr>
          <p:cNvPr id="707" name="" descr=""/>
          <p:cNvPicPr/>
          <p:nvPr/>
        </p:nvPicPr>
        <p:blipFill>
          <a:blip r:embed="rId5"/>
          <a:stretch/>
        </p:blipFill>
        <p:spPr>
          <a:xfrm>
            <a:off x="5724360" y="189000"/>
            <a:ext cx="2481480" cy="338436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/>
          <p:cNvPicPr/>
          <p:nvPr/>
        </p:nvPicPr>
        <p:blipFill>
          <a:blip r:embed="rId6"/>
          <a:stretch/>
        </p:blipFill>
        <p:spPr>
          <a:xfrm>
            <a:off x="2843280" y="3933720"/>
            <a:ext cx="290664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6840" y="244080"/>
            <a:ext cx="3251160" cy="36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К. Маковский «Дети, бегущие от грозы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4211640" y="304920"/>
            <a:ext cx="4498920" cy="6553080"/>
          </a:xfrm>
          <a:prstGeom prst="rect">
            <a:avLst/>
          </a:prstGeom>
          <a:ln w="0">
            <a:noFill/>
          </a:ln>
        </p:spPr>
      </p:pic>
      <p:sp>
        <p:nvSpPr>
          <p:cNvPr id="711" name="Rectangle 8"/>
          <p:cNvSpPr/>
          <p:nvPr/>
        </p:nvSpPr>
        <p:spPr>
          <a:xfrm>
            <a:off x="324000" y="4797360"/>
            <a:ext cx="431928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детям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смотри картину и найди средства выразительности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Мы продолжим наше путешествие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на следующих </a:t>
            </a:r>
            <a:br>
              <a:rPr sz="3600"/>
            </a:b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занятиях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13" name="Rectangle 68" descr=""/>
          <p:cNvPicPr/>
          <p:nvPr/>
        </p:nvPicPr>
        <p:blipFill>
          <a:blip r:embed="rId1"/>
          <a:stretch/>
        </p:blipFill>
        <p:spPr>
          <a:xfrm>
            <a:off x="3203640" y="1484280"/>
            <a:ext cx="5338800" cy="452592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18" descr="ромбовые линии"/>
          <p:cNvPicPr/>
          <p:nvPr/>
        </p:nvPicPr>
        <p:blipFill>
          <a:blip r:embed="rId2"/>
          <a:stretch/>
        </p:blipFill>
        <p:spPr>
          <a:xfrm>
            <a:off x="0" y="6165720"/>
            <a:ext cx="86425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556000" y="404640"/>
            <a:ext cx="61308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Цель. Осуществления музейными средствами деятельности по воспитанию, обучению и развитию воспитанников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2084400" cy="230328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4" descr="IMGP4139"/>
          <p:cNvPicPr/>
          <p:nvPr/>
        </p:nvPicPr>
        <p:blipFill>
          <a:blip r:embed="rId2"/>
          <a:stretch/>
        </p:blipFill>
        <p:spPr>
          <a:xfrm>
            <a:off x="5148360" y="2060640"/>
            <a:ext cx="3733560" cy="371952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23640" y="2852640"/>
            <a:ext cx="4546440" cy="36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грамма направлена на художественно-эстетическое развитие детей 6–7 лет. Система творческих заданий, игр и упражнений помогает подготовить ребенка к восприятию экспонатов художественного музея, знакомит с основами языка изобразительного искусства, учит создавать выразительные и интересные образы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3746520" y="834840"/>
            <a:ext cx="5397480" cy="52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680"/>
                <a:tab algn="l" pos="33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воей работе средствами направления «Музейная педагогика» стремлюсь способствовать эффективной социализации воспитанников через художественно – эстетическую деятельность Занятия развивают: социальные навыки воспитанников; способствуют расширению кругозора дошкольников в познании окружающего мира и социальной действительности;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680"/>
                <a:tab algn="l" pos="33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тию любознательности, познавательных способностей и; 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680"/>
                <a:tab algn="l" pos="330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ширяют образовательное пространства группы и детского сада, активное приобщают детей и их родителей к совместной деятельности по насыщению образовательной среды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9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2447640" cy="270504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7" descr="1 (3)"/>
          <p:cNvPicPr/>
          <p:nvPr/>
        </p:nvPicPr>
        <p:blipFill>
          <a:blip r:embed="rId2"/>
          <a:stretch/>
        </p:blipFill>
        <p:spPr>
          <a:xfrm>
            <a:off x="250920" y="371628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af7d"/>
            </a:gs>
            <a:gs pos="50000">
              <a:srgbClr val="99ff33"/>
            </a:gs>
            <a:gs pos="100000">
              <a:srgbClr val="79af7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597672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мы с вами отправимся в волшебное  путешествие в мир искусства.</a:t>
            </a:r>
            <a:br>
              <a:rPr sz="32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72" name="AutoShape 13">
            <a:hlinkClick r:id="rId1" action="ppaction://hlinksldjump"/>
          </p:cNvPr>
          <p:cNvSpPr/>
          <p:nvPr/>
        </p:nvSpPr>
        <p:spPr>
          <a:xfrm>
            <a:off x="6948360" y="6165720"/>
            <a:ext cx="720720" cy="43200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6024" h="21600">
                <a:moveTo>
                  <a:pt x="0" y="0"/>
                </a:moveTo>
                <a:lnTo>
                  <a:pt x="36024" y="0"/>
                </a:lnTo>
                <a:lnTo>
                  <a:pt x="36024" y="21600"/>
                </a:lnTo>
                <a:lnTo>
                  <a:pt x="0" y="21600"/>
                </a:lnTo>
                <a:close/>
              </a:path>
              <a:path fill="lightenLess" w="36024" h="21600">
                <a:moveTo>
                  <a:pt x="0" y="0"/>
                </a:moveTo>
                <a:lnTo>
                  <a:pt x="36024" y="0"/>
                </a:lnTo>
                <a:lnTo>
                  <a:pt x="34624" y="1400"/>
                </a:lnTo>
                <a:lnTo>
                  <a:pt x="1400" y="1400"/>
                </a:lnTo>
                <a:close/>
              </a:path>
              <a:path fill="darken" w="36024" h="21600">
                <a:moveTo>
                  <a:pt x="36024" y="0"/>
                </a:moveTo>
                <a:lnTo>
                  <a:pt x="36024" y="21600"/>
                </a:lnTo>
                <a:lnTo>
                  <a:pt x="34624" y="20200"/>
                </a:lnTo>
                <a:lnTo>
                  <a:pt x="34624" y="1400"/>
                </a:lnTo>
                <a:close/>
              </a:path>
              <a:path fill="darkenLess" w="36024" h="21600">
                <a:moveTo>
                  <a:pt x="36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24" y="20200"/>
                </a:lnTo>
                <a:close/>
              </a:path>
              <a:path fill="lighten" w="36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24" h="21600">
                <a:moveTo>
                  <a:pt x="11006" y="10800"/>
                </a:moveTo>
                <a:lnTo>
                  <a:pt x="25018" y="3794"/>
                </a:lnTo>
                <a:lnTo>
                  <a:pt x="25018" y="17806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3" name="Picture 18" descr="ромбовые линии"/>
          <p:cNvPicPr/>
          <p:nvPr/>
        </p:nvPicPr>
        <p:blipFill>
          <a:blip r:embed="rId2"/>
          <a:stretch/>
        </p:blipFill>
        <p:spPr>
          <a:xfrm>
            <a:off x="250920" y="2349360"/>
            <a:ext cx="8642160" cy="50328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20" descr="цветочная лния"/>
          <p:cNvPicPr/>
          <p:nvPr/>
        </p:nvPicPr>
        <p:blipFill>
          <a:blip r:embed="rId3"/>
          <a:stretch/>
        </p:blipFill>
        <p:spPr>
          <a:xfrm>
            <a:off x="250920" y="404640"/>
            <a:ext cx="7129440" cy="51624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4"/>
          <a:stretch/>
        </p:blipFill>
        <p:spPr>
          <a:xfrm>
            <a:off x="5724360" y="836640"/>
            <a:ext cx="2502000" cy="309708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2916360" y="2852640"/>
            <a:ext cx="2668320" cy="3429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77" name="" descr=""/>
          <p:cNvPicPr/>
          <p:nvPr/>
        </p:nvPicPr>
        <p:blipFill>
          <a:blip r:embed="rId6"/>
          <a:stretch/>
        </p:blipFill>
        <p:spPr>
          <a:xfrm>
            <a:off x="5580000" y="4010040"/>
            <a:ext cx="2689200" cy="2847960"/>
          </a:xfrm>
          <a:prstGeom prst="rect">
            <a:avLst/>
          </a:prstGeom>
          <a:ln w="0">
            <a:noFill/>
          </a:ln>
        </p:spPr>
      </p:pic>
      <p:pic>
        <p:nvPicPr>
          <p:cNvPr id="678" name="" descr=""/>
          <p:cNvPicPr/>
          <p:nvPr/>
        </p:nvPicPr>
        <p:blipFill>
          <a:blip r:embed="rId7">
            <a:lum bright="6000"/>
          </a:blip>
          <a:stretch/>
        </p:blipFill>
        <p:spPr>
          <a:xfrm>
            <a:off x="250920" y="2924280"/>
            <a:ext cx="2736720" cy="3467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ПОРТРЕ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2"/>
          <a:stretch/>
        </p:blipFill>
        <p:spPr>
          <a:xfrm>
            <a:off x="1042920" y="2349360"/>
            <a:ext cx="3406680" cy="4292640"/>
          </a:xfrm>
          <a:prstGeom prst="rect">
            <a:avLst/>
          </a:prstGeom>
          <a:ln w="0">
            <a:noFill/>
          </a:ln>
        </p:spPr>
      </p:pic>
      <p:pic>
        <p:nvPicPr>
          <p:cNvPr id="682" name="" descr=""/>
          <p:cNvPicPr/>
          <p:nvPr/>
        </p:nvPicPr>
        <p:blipFill>
          <a:blip r:embed="rId3"/>
          <a:stretch/>
        </p:blipFill>
        <p:spPr>
          <a:xfrm>
            <a:off x="5651640" y="0"/>
            <a:ext cx="2422440" cy="3384720"/>
          </a:xfrm>
          <a:prstGeom prst="rect">
            <a:avLst/>
          </a:prstGeom>
          <a:ln w="0">
            <a:noFill/>
          </a:ln>
        </p:spPr>
      </p:pic>
      <p:pic>
        <p:nvPicPr>
          <p:cNvPr id="683" name="" descr=""/>
          <p:cNvPicPr/>
          <p:nvPr/>
        </p:nvPicPr>
        <p:blipFill>
          <a:blip r:embed="rId4"/>
          <a:stretch/>
        </p:blipFill>
        <p:spPr>
          <a:xfrm>
            <a:off x="4716360" y="3448080"/>
            <a:ext cx="2743200" cy="3409920"/>
          </a:xfrm>
          <a:prstGeom prst="rect">
            <a:avLst/>
          </a:prstGeom>
          <a:ln w="0">
            <a:noFill/>
          </a:ln>
        </p:spPr>
      </p:pic>
      <p:sp>
        <p:nvSpPr>
          <p:cNvPr id="684" name="Rectangle 8"/>
          <p:cNvSpPr/>
          <p:nvPr/>
        </p:nvSpPr>
        <p:spPr>
          <a:xfrm>
            <a:off x="395280" y="260280"/>
            <a:ext cx="295272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задание детям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Какими средствами выразительности пользуется художник при передаче характера на  портрете?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НАТЮРМОР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2"/>
          <a:stretch/>
        </p:blipFill>
        <p:spPr>
          <a:xfrm>
            <a:off x="684360" y="2565360"/>
            <a:ext cx="3887640" cy="3686040"/>
          </a:xfrm>
          <a:prstGeom prst="rect">
            <a:avLst/>
          </a:prstGeom>
          <a:ln w="0">
            <a:noFill/>
          </a:ln>
        </p:spPr>
      </p:pic>
      <p:pic>
        <p:nvPicPr>
          <p:cNvPr id="688" name="" descr=""/>
          <p:cNvPicPr/>
          <p:nvPr/>
        </p:nvPicPr>
        <p:blipFill>
          <a:blip r:embed="rId3"/>
          <a:stretch/>
        </p:blipFill>
        <p:spPr>
          <a:xfrm>
            <a:off x="4716360" y="2492280"/>
            <a:ext cx="3370320" cy="4032360"/>
          </a:xfrm>
          <a:prstGeom prst="rect">
            <a:avLst/>
          </a:prstGeom>
          <a:ln w="0">
            <a:noFill/>
          </a:ln>
        </p:spPr>
      </p:pic>
      <p:pic>
        <p:nvPicPr>
          <p:cNvPr id="689" name="" descr=""/>
          <p:cNvPicPr/>
          <p:nvPr/>
        </p:nvPicPr>
        <p:blipFill>
          <a:blip r:embed="rId4"/>
          <a:stretch/>
        </p:blipFill>
        <p:spPr>
          <a:xfrm>
            <a:off x="324000" y="189000"/>
            <a:ext cx="2449440" cy="1584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4"/>
          <p:cNvSpPr/>
          <p:nvPr/>
        </p:nvSpPr>
        <p:spPr>
          <a:xfrm>
            <a:off x="539640" y="0"/>
            <a:ext cx="8229600" cy="10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ПЕЙЗАЖ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2"/>
          <a:stretch/>
        </p:blipFill>
        <p:spPr>
          <a:xfrm>
            <a:off x="3780000" y="692280"/>
            <a:ext cx="5105160" cy="316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92" name="" descr=""/>
          <p:cNvPicPr/>
          <p:nvPr/>
        </p:nvPicPr>
        <p:blipFill>
          <a:blip r:embed="rId3"/>
          <a:stretch/>
        </p:blipFill>
        <p:spPr>
          <a:xfrm>
            <a:off x="324000" y="3208320"/>
            <a:ext cx="3887640" cy="338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93" name="" descr="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5111640" y="3860640"/>
            <a:ext cx="4032360" cy="2735280"/>
          </a:xfrm>
          <a:prstGeom prst="rect">
            <a:avLst/>
          </a:prstGeom>
          <a:ln w="0">
            <a:noFill/>
          </a:ln>
        </p:spPr>
      </p:pic>
      <p:sp>
        <p:nvSpPr>
          <p:cNvPr id="694" name="Rectangle 8"/>
          <p:cNvSpPr/>
          <p:nvPr/>
        </p:nvSpPr>
        <p:spPr>
          <a:xfrm>
            <a:off x="250920" y="189000"/>
            <a:ext cx="295272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задание детям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Какими средствами выразительности пользуется художник при изображении пейзажа?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6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3276720" y="4365720"/>
            <a:ext cx="4687920" cy="35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Художники используют средства выразительности для изображения природных явл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6" name="Picture 11" descr="MCj03318150000[1]"/>
          <p:cNvPicPr/>
          <p:nvPr/>
        </p:nvPicPr>
        <p:blipFill>
          <a:blip r:embed="rId2"/>
          <a:stretch/>
        </p:blipFill>
        <p:spPr>
          <a:xfrm>
            <a:off x="6372360" y="3068640"/>
            <a:ext cx="1944720" cy="1766880"/>
          </a:xfrm>
          <a:prstGeom prst="rect">
            <a:avLst/>
          </a:prstGeom>
          <a:ln w="0">
            <a:noFill/>
          </a:ln>
        </p:spPr>
      </p:pic>
      <p:pic>
        <p:nvPicPr>
          <p:cNvPr id="697" name="" descr="Иван Иванович Шишкин  Перед грозой"/>
          <p:cNvPicPr/>
          <p:nvPr/>
        </p:nvPicPr>
        <p:blipFill>
          <a:blip r:embed="rId3"/>
          <a:stretch/>
        </p:blipFill>
        <p:spPr>
          <a:xfrm>
            <a:off x="250920" y="260280"/>
            <a:ext cx="2808360" cy="2879640"/>
          </a:xfrm>
          <a:prstGeom prst="rect">
            <a:avLst/>
          </a:prstGeom>
          <a:ln w="0">
            <a:noFill/>
          </a:ln>
        </p:spPr>
      </p:pic>
      <p:pic>
        <p:nvPicPr>
          <p:cNvPr id="698" name="16866" descr="Архип  Иванович Куинджи  Волны"/>
          <p:cNvPicPr/>
          <p:nvPr/>
        </p:nvPicPr>
        <p:blipFill>
          <a:blip r:embed="rId4"/>
          <a:stretch/>
        </p:blipFill>
        <p:spPr>
          <a:xfrm>
            <a:off x="5148360" y="189000"/>
            <a:ext cx="2565360" cy="2674800"/>
          </a:xfrm>
          <a:prstGeom prst="rect">
            <a:avLst/>
          </a:prstGeom>
          <a:ln w="0">
            <a:noFill/>
          </a:ln>
        </p:spPr>
      </p:pic>
      <p:pic>
        <p:nvPicPr>
          <p:cNvPr id="699" name="" descr=""/>
          <p:cNvPicPr/>
          <p:nvPr/>
        </p:nvPicPr>
        <p:blipFill>
          <a:blip r:embed="rId5"/>
          <a:stretch/>
        </p:blipFill>
        <p:spPr>
          <a:xfrm>
            <a:off x="2700360" y="1844640"/>
            <a:ext cx="3024000" cy="240336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6"/>
          <a:stretch/>
        </p:blipFill>
        <p:spPr>
          <a:xfrm>
            <a:off x="179280" y="4075200"/>
            <a:ext cx="3203640" cy="2782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604000" cy="4752720"/>
          </a:xfrm>
          <a:prstGeom prst="rect">
            <a:avLst/>
          </a:prstGeom>
          <a:ln w="0">
            <a:noFill/>
          </a:ln>
        </p:spPr>
      </p:pic>
      <p:sp>
        <p:nvSpPr>
          <p:cNvPr id="702" name="Rectangle 8"/>
          <p:cNvSpPr/>
          <p:nvPr/>
        </p:nvSpPr>
        <p:spPr>
          <a:xfrm>
            <a:off x="4572000" y="5229360"/>
            <a:ext cx="4319640" cy="14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детям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йди данные фигуры на картинах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следующий слайд).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7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02:07:55Z</dcterms:created>
  <dc:creator>user2_4</dc:creator>
  <dc:description/>
  <dc:language>en-US</dc:language>
  <cp:lastModifiedBy>00000</cp:lastModifiedBy>
  <dcterms:modified xsi:type="dcterms:W3CDTF">2017-01-18T18:05:52Z</dcterms:modified>
  <cp:revision>92</cp:revision>
  <dc:subject/>
  <dc:title>Русское народное творчество в декоративно-прикладном искусстве</dc:title>
</cp:coreProperties>
</file>