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19.jpeg" ContentType="image/jpeg"/>
  <Override PartName="/ppt/media/image17.jpeg" ContentType="image/jpeg"/>
  <Override PartName="/ppt/media/image14.gif" ContentType="image/gif"/>
  <Override PartName="/ppt/media/image31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33.jpeg" ContentType="image/jpeg"/>
  <Override PartName="/ppt/media/image39.jpeg" ContentType="image/jpeg"/>
  <Override PartName="/ppt/media/image41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BD2-5D21-499E-B8BC-0188282B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62A-FA2D-4A8A-8AB6-87F109EB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4101B-E87C-4C96-8F59-D69C7C27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22158-03CA-4622-A836-1B8BF5AE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CDC8A-DE62-4ECB-8C9E-16A5A424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A5323-15BF-4721-AF2F-E2469F9D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C4917-94D6-4F2E-A2A4-E8248EF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5694A-D0E6-4D33-8F83-44ACDFD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87315-A626-4899-BD51-87D1A823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0907F-ED42-4307-9188-ADE082B9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4E64E-C0F9-4B6C-9785-5168123D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1AC-FB34-41D6-B813-C0217013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5CF-0C25-493D-BBD1-05C60AAF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291E-02E4-46E4-AE7C-CACA8526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5C4D-EDA2-4549-875A-63E46068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5035-25CA-4BB4-A8E7-47A783E0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A8B7-D3BF-410B-8650-B12A07A9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E8E5-CDD7-404E-9263-D65B88BC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4920-3B4B-4E0E-9A0D-DAD392D8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2981-45AE-47F5-A351-521B74CE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D2A-2C2E-43AE-AB2A-F3CCF71C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AC49-1005-40E6-A007-6B85C70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E557-064F-48C3-A09E-6AE90C58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2A6B-6DAD-45F0-B4F9-365BB933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BECF-FC78-4BCD-A0C6-65245FCB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2CC1-A1EB-4AC3-9419-7906B41F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1F8B3-343F-4259-8BD7-A7A3DBC2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52BB-4274-4648-89EE-F1F0FDEA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CF48-B0D8-4A4C-B872-3A388F27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C91E-38E9-4ED3-A805-8C0B6AD9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8C8D-B240-4D87-BB1E-750B04C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89D-969D-4C68-BD88-7E9D1910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9163-90D9-4FEA-B2CE-2BCA9777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A862-7DCD-4718-A746-7BC7CF7D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09D8-9989-41E3-9597-D8B12387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C011-B2D2-41E6-AB4D-F8A25C7E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C34FF-31D5-4472-BB8D-063FE66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0891-2F47-4FA3-A62C-5D2A0E13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ED914-7F48-4621-9DFF-7D4DB899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B69C55-F903-40E0-9D5F-EFA61340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CF1B8-058E-4340-8A67-E1DB5BF0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23312-D8FF-4D43-9EAA-EE4FF443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458-DB56-4F65-9A82-EAB7A0C7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79E17-E3F0-4501-8F14-50B2EDC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0851D-BC3A-4604-B749-20FD77CB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4D589-CD9C-482A-886D-4FC0BEAF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4E97A-7CE7-480A-A45F-835E27BA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BCE2D-76E5-4B2D-9B5A-D6E4247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27C84-8DB3-4125-85CA-91416E64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89053-DA85-49D4-92A4-4A2C5D15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1ADAA-0826-4EA6-82E5-609612D5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12BC6-25BB-4774-A518-87BF190E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8185C-557B-433D-AB08-F531DEAD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83B-EC39-4AF0-AE0E-5A89A7A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9DAB-F3FE-4412-B792-2CB27A7E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036F1-5DC3-41D5-8D26-084417FE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E1BE-B86E-45FE-B4AE-37DBEEDB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76CA-55B6-49B5-847A-1FED56A6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9112-B9F3-4F49-9281-1EB50814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3BE48-74BC-4C38-9489-ECD7C9FF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18059-0DEF-4A57-BBE9-3D29D823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48DB-5BD8-4419-95C3-51D91BA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BD0D1-58BA-4D9A-861F-658768BE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2541F-B0B0-4512-82C2-9636FAEA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8CB-746C-4C85-9EC3-89A26B12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4D29-18A8-4E68-9BFC-1DCC7C24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3646C-CFFB-490A-8B5B-FAE4B4D2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4195E-71B4-4D9D-8123-612B6A76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00A2D-370C-4621-BF99-10745F18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25509-D686-4431-8D74-BDE0E7BA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665BC-0AE3-458D-9038-7626F521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D5C5-33CA-4715-830C-C760C670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89F5A-2670-4FBE-9059-E6220E8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F137-5B9B-4C47-B858-874142AB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F20C5-C0E0-44D4-B2D9-6F3371A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8D8-7BC8-4ADC-9001-2034AC7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FE7B2-DC4D-4640-B79B-CEC32AD2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6828D-9EC8-40F6-A298-2BD8B798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D8BFA-378F-497E-A8B1-C942BAA5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6B4CB-82A0-4B06-9DD0-13B21DD1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3DBEC-B3CA-4588-ADAB-D25E93F0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CE1ED-2313-44AC-ABC3-92485F69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50146-39F1-44DE-9A0A-C18C7184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73A30-3F78-42EB-9BBF-0B1B5731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1D6AE-6469-4285-90FE-F38C803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E7DDD-6F82-4AA0-86D8-8FC2E08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B46-3DD0-4F50-BBF7-A5A69C0B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DCC6-B887-499E-8CE0-BD732AFE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DF08-9A27-4D63-9174-013E1533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03FC-FA8C-4036-8BA5-ED2A7FE7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3F159-8E88-42DA-80FB-FD52FFE4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FBBE3-4019-4021-80D2-182C5B28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1BEA-C3AD-40B5-8AE1-EA73433F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73959-4809-4CDD-A898-0954B922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DA74C-C445-4D88-89F0-00ADC68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EB668-41E2-48F8-A225-D355EE3D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DE80-A15D-4601-9F94-21A5F16B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748-BF89-4E0A-9478-C590A65A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A051A-0FE4-43F1-BE0F-1E430F93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2558D-1277-46EE-8F51-F837A29A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7FE2F-7966-4941-8949-411E3449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C1C64-346D-48B6-A3EE-B60E42B1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036AD-72E6-4F0E-99C5-A8A630A7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0B5D2-09B7-401B-8948-DF004C29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D3B98-FC00-4E3D-BC57-7A84F080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173D1-A77E-4506-9ED8-BC1AC754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62CE2-BCB7-44C1-A044-FD3D3794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79AEF-4733-488E-8491-59FDAD1D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D4BD-CC41-4AF1-97A3-ACA5643B0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EC63-7F84-4374-8CB5-44E3669CE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5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47F7-16F3-432F-A533-0FE69F5820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4F86-B538-4F10-8770-9FF144B7F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6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4383-B3DE-4EC7-9F48-57CF2E367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9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1222-7EAD-4D65-B911-B65F7086E9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466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Rectangle 4"/>
            <p:cNvSpPr/>
            <p:nvPr/>
          </p:nvSpPr>
          <p:spPr>
            <a:xfrm>
              <a:off x="0" y="108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7953480" y="10800"/>
              <a:ext cx="1203120" cy="68468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9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470" name="Group 7"/>
              <p:cNvGrpSpPr/>
              <p:nvPr/>
            </p:nvGrpSpPr>
            <p:grpSpPr>
              <a:xfrm>
                <a:off x="8381880" y="-360"/>
                <a:ext cx="762120" cy="2278800"/>
                <a:chOff x="8381880" y="-360"/>
                <a:chExt cx="762120" cy="2278800"/>
              </a:xfrm>
            </p:grpSpPr>
            <p:grpSp>
              <p:nvGrpSpPr>
                <p:cNvPr id="471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472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473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4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75" name="Oval 12"/>
                  <p:cNvSpPr/>
                  <p:nvPr/>
                </p:nvSpPr>
                <p:spPr>
                  <a:xfrm rot="16200000">
                    <a:off x="8836560" y="139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6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7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8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9" name="Freeform 16"/>
                  <p:cNvSpPr/>
                  <p:nvPr/>
                </p:nvSpPr>
                <p:spPr>
                  <a:xfrm rot="16200000">
                    <a:off x="8836560" y="2016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0" name="Freeform 17"/>
                  <p:cNvSpPr/>
                  <p:nvPr/>
                </p:nvSpPr>
                <p:spPr>
                  <a:xfrm rot="16200000">
                    <a:off x="8785080" y="177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48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9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9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3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3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7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8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86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9" name="Group 26"/>
              <p:cNvGrpSpPr/>
              <p:nvPr/>
            </p:nvGrpSpPr>
            <p:grpSpPr>
              <a:xfrm>
                <a:off x="7848720" y="1608480"/>
                <a:ext cx="828720" cy="4701960"/>
                <a:chOff x="7848720" y="1608480"/>
                <a:chExt cx="828720" cy="4701960"/>
              </a:xfrm>
            </p:grpSpPr>
            <p:pic>
              <p:nvPicPr>
                <p:cNvPr id="49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8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2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1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9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58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21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8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03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0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7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7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4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3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09" name="Freeform 46"/>
            <p:cNvSpPr/>
            <p:nvPr/>
          </p:nvSpPr>
          <p:spPr>
            <a:xfrm>
              <a:off x="7953480" y="4911480"/>
              <a:ext cx="1190520" cy="1936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47"/>
            <p:cNvSpPr/>
            <p:nvPr/>
          </p:nvSpPr>
          <p:spPr>
            <a:xfrm>
              <a:off x="7939080" y="4861080"/>
              <a:ext cx="1219320" cy="19965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48"/>
            <p:cNvSpPr/>
            <p:nvPr/>
          </p:nvSpPr>
          <p:spPr>
            <a:xfrm>
              <a:off x="7927920" y="2824200"/>
              <a:ext cx="1231920" cy="40302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Freeform 49"/>
            <p:cNvSpPr/>
            <p:nvPr/>
          </p:nvSpPr>
          <p:spPr>
            <a:xfrm>
              <a:off x="8010360" y="3543840"/>
              <a:ext cx="979560" cy="21808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Freeform 50"/>
            <p:cNvSpPr/>
            <p:nvPr/>
          </p:nvSpPr>
          <p:spPr>
            <a:xfrm>
              <a:off x="8244000" y="437400"/>
              <a:ext cx="914400" cy="50400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Freeform 51"/>
            <p:cNvSpPr/>
            <p:nvPr/>
          </p:nvSpPr>
          <p:spPr>
            <a:xfrm>
              <a:off x="8250120" y="272520"/>
              <a:ext cx="909720" cy="3066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Freeform 52"/>
            <p:cNvSpPr/>
            <p:nvPr/>
          </p:nvSpPr>
          <p:spPr>
            <a:xfrm>
              <a:off x="7943760" y="10800"/>
              <a:ext cx="576360" cy="33469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53"/>
            <p:cNvSpPr/>
            <p:nvPr/>
          </p:nvSpPr>
          <p:spPr>
            <a:xfrm>
              <a:off x="7943760" y="12240"/>
              <a:ext cx="300240" cy="33472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54"/>
            <p:cNvSpPr/>
            <p:nvPr/>
          </p:nvSpPr>
          <p:spPr>
            <a:xfrm>
              <a:off x="7866000" y="12240"/>
              <a:ext cx="88920" cy="68468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55"/>
            <p:cNvSpPr/>
            <p:nvPr/>
          </p:nvSpPr>
          <p:spPr>
            <a:xfrm>
              <a:off x="7958160" y="6230160"/>
              <a:ext cx="1165320" cy="6181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AutoShape 56"/>
            <p:cNvSpPr/>
            <p:nvPr/>
          </p:nvSpPr>
          <p:spPr>
            <a:xfrm rot="5400000">
              <a:off x="4329720" y="3321360"/>
              <a:ext cx="68468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A803-99BA-42D9-958E-A00292460B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6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A6D4-7C0B-4652-8D54-981CD92F9D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1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C32D-3FBA-49F7-A6ED-AD6EEC31D6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image" Target="../media/image9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7128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Ы ВХОДИМ В МИР ПРЕКРАСНОГО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124000" y="1773000"/>
            <a:ext cx="6624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Средства выразительности в                    изобразительном искусстве, использование дидактических игр и тетрадей для творческих работ по музейно-педагогической программ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ЗДРАВСТВУЙ, МУЗЕЙ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7" descr="0линия"/>
          <p:cNvPicPr/>
          <p:nvPr/>
        </p:nvPicPr>
        <p:blipFill>
          <a:blip r:embed="rId1"/>
          <a:stretch/>
        </p:blipFill>
        <p:spPr>
          <a:xfrm flipH="1" rot="10800000">
            <a:off x="611280" y="6102000"/>
            <a:ext cx="6773760" cy="32868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1332000" y="5589720"/>
            <a:ext cx="7200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ДОУ ЦРР д/с № 105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спитатель Куртаева С.В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2" name="16866" descr="Архип  Иванович Куинджи  Волны"/>
          <p:cNvPicPr/>
          <p:nvPr/>
        </p:nvPicPr>
        <p:blipFill>
          <a:blip r:embed="rId2"/>
          <a:stretch/>
        </p:blipFill>
        <p:spPr>
          <a:xfrm>
            <a:off x="5435640" y="4292640"/>
            <a:ext cx="3024000" cy="21607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99548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03480" cy="34578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3492720" cy="26640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3"/>
          <a:stretch/>
        </p:blipFill>
        <p:spPr>
          <a:xfrm>
            <a:off x="2556000" y="549360"/>
            <a:ext cx="2971800" cy="40320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2556000" cy="273528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5724360" y="189000"/>
            <a:ext cx="2481480" cy="338436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2843280" y="3933720"/>
            <a:ext cx="29066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325116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К. Маковский «Дети, бегущие от грозы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4211640" y="304920"/>
            <a:ext cx="4498920" cy="6553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8"/>
          <p:cNvSpPr/>
          <p:nvPr/>
        </p:nvSpPr>
        <p:spPr>
          <a:xfrm>
            <a:off x="324000" y="4797360"/>
            <a:ext cx="431928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детям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мотри картину и найди средства выразительност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ы продолжим наше путешествие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на следующих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занятиях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3" name="Rectangle 68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5338800" cy="45259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8" descr="ромбовые линии"/>
          <p:cNvPicPr/>
          <p:nvPr/>
        </p:nvPicPr>
        <p:blipFill>
          <a:blip r:embed="rId2"/>
          <a:stretch/>
        </p:blipFill>
        <p:spPr>
          <a:xfrm>
            <a:off x="0" y="6165720"/>
            <a:ext cx="8642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13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Цель. Осуществления музейными средствами деятельности по воспитанию, обучению и развитию воспитанник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08440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IMGP4139"/>
          <p:cNvPicPr/>
          <p:nvPr/>
        </p:nvPicPr>
        <p:blipFill>
          <a:blip r:embed="rId2"/>
          <a:stretch/>
        </p:blipFill>
        <p:spPr>
          <a:xfrm>
            <a:off x="5148360" y="2060640"/>
            <a:ext cx="3733560" cy="37195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23640" y="2852640"/>
            <a:ext cx="454644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грамма направлена на художественно-эстетическое развитие детей 6–7 лет. Система творческих заданий, игр и упражнений помогает подготовить ребенка к восприятию экспонатов художественного музея, знакомит с основами языка изобразительного искусства, учит создавать выразительные и интересные образ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746520" y="834840"/>
            <a:ext cx="5397480" cy="52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воей работе средствами направления «Музейная педагогика» стремлюсь способствовать эффективной социализации воспитанников через художественно – эстетическую деятельность Занятия развивают: социальные навыки воспитанников; способствуют расширению кругозора дошкольников в познании окружающего мира и социальной действительности;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ю любознательности, познавательных способностей и;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ширяют образовательное пространства группы и детского сада, активное приобщают детей и их родителей к совместной деятельности по насыщению образовательной среды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2705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7" descr="1 (3)"/>
          <p:cNvPicPr/>
          <p:nvPr/>
        </p:nvPicPr>
        <p:blipFill>
          <a:blip r:embed="rId2"/>
          <a:stretch/>
        </p:blipFill>
        <p:spPr>
          <a:xfrm>
            <a:off x="250920" y="3716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f7d"/>
            </a:gs>
            <a:gs pos="50000">
              <a:srgbClr val="99ff33"/>
            </a:gs>
            <a:gs pos="100000">
              <a:srgbClr val="79af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767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ы с вами отправимся в волшебное  путешествие в мир искусства.</a:t>
            </a:r>
            <a:br>
              <a:rPr sz="32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2" name="AutoShape 13">
            <a:hlinkClick r:id="rId1" action="ppaction://hlinksldjump"/>
          </p:cNvPr>
          <p:cNvSpPr/>
          <p:nvPr/>
        </p:nvSpPr>
        <p:spPr>
          <a:xfrm>
            <a:off x="6948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3" name="Picture 18" descr="ромбовые линии"/>
          <p:cNvPicPr/>
          <p:nvPr/>
        </p:nvPicPr>
        <p:blipFill>
          <a:blip r:embed="rId2"/>
          <a:stretch/>
        </p:blipFill>
        <p:spPr>
          <a:xfrm>
            <a:off x="250920" y="2349360"/>
            <a:ext cx="8642160" cy="503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0" descr="цветочная лния"/>
          <p:cNvPicPr/>
          <p:nvPr/>
        </p:nvPicPr>
        <p:blipFill>
          <a:blip r:embed="rId3"/>
          <a:stretch/>
        </p:blipFill>
        <p:spPr>
          <a:xfrm>
            <a:off x="250920" y="404640"/>
            <a:ext cx="7129440" cy="51624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4"/>
          <a:stretch/>
        </p:blipFill>
        <p:spPr>
          <a:xfrm>
            <a:off x="5724360" y="836640"/>
            <a:ext cx="2502000" cy="309708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916360" y="2852640"/>
            <a:ext cx="2668320" cy="342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5580000" y="4010040"/>
            <a:ext cx="2689200" cy="28479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250920" y="2924280"/>
            <a:ext cx="2736720" cy="3467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РТР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3406680" cy="4292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2422440" cy="3384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4"/>
          <a:stretch/>
        </p:blipFill>
        <p:spPr>
          <a:xfrm>
            <a:off x="4716360" y="3448080"/>
            <a:ext cx="2743200" cy="34099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8"/>
          <p:cNvSpPr/>
          <p:nvPr/>
        </p:nvSpPr>
        <p:spPr>
          <a:xfrm>
            <a:off x="395280" y="260280"/>
            <a:ext cx="295272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ние детям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акими средствами выразительности пользуется художник при передаче характера на  портрете?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ТЮРМОР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3887640" cy="36860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>
            <a:off x="4716360" y="2492280"/>
            <a:ext cx="3370320" cy="40323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244944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539640" y="0"/>
            <a:ext cx="82296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ЕЙЗАЖ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3780000" y="692280"/>
            <a:ext cx="5105160" cy="316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324000" y="3208320"/>
            <a:ext cx="3887640" cy="338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3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111640" y="3860640"/>
            <a:ext cx="4032360" cy="273528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8"/>
          <p:cNvSpPr/>
          <p:nvPr/>
        </p:nvSpPr>
        <p:spPr>
          <a:xfrm>
            <a:off x="250920" y="189000"/>
            <a:ext cx="295272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ние детям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акими средствами выразительности пользуется художник при изображении пейзажа?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76720" y="4365720"/>
            <a:ext cx="468792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удожники используют средства выразительности для изображения природных я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Picture 11" descr="MCj03318150000[1]"/>
          <p:cNvPicPr/>
          <p:nvPr/>
        </p:nvPicPr>
        <p:blipFill>
          <a:blip r:embed="rId2"/>
          <a:stretch/>
        </p:blipFill>
        <p:spPr>
          <a:xfrm>
            <a:off x="6372360" y="3068640"/>
            <a:ext cx="1944720" cy="17668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Иван Иванович Шишкин  Перед грозой"/>
          <p:cNvPicPr/>
          <p:nvPr/>
        </p:nvPicPr>
        <p:blipFill>
          <a:blip r:embed="rId3"/>
          <a:stretch/>
        </p:blipFill>
        <p:spPr>
          <a:xfrm>
            <a:off x="250920" y="260280"/>
            <a:ext cx="2808360" cy="2879640"/>
          </a:xfrm>
          <a:prstGeom prst="rect">
            <a:avLst/>
          </a:prstGeom>
          <a:ln w="0">
            <a:noFill/>
          </a:ln>
        </p:spPr>
      </p:pic>
      <p:pic>
        <p:nvPicPr>
          <p:cNvPr id="698" name="16866" descr="Архип  Иванович Куинджи  Волны"/>
          <p:cNvPicPr/>
          <p:nvPr/>
        </p:nvPicPr>
        <p:blipFill>
          <a:blip r:embed="rId4"/>
          <a:stretch/>
        </p:blipFill>
        <p:spPr>
          <a:xfrm>
            <a:off x="5148360" y="189000"/>
            <a:ext cx="2565360" cy="26748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5"/>
          <a:stretch/>
        </p:blipFill>
        <p:spPr>
          <a:xfrm>
            <a:off x="2700360" y="1844640"/>
            <a:ext cx="3024000" cy="24033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4075200"/>
            <a:ext cx="3203640" cy="278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04000" cy="475272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8"/>
          <p:cNvSpPr/>
          <p:nvPr/>
        </p:nvSpPr>
        <p:spPr>
          <a:xfrm>
            <a:off x="4572000" y="5229360"/>
            <a:ext cx="431964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детям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 данные фигуры на картина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ледующий слайд)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2:07:55Z</dcterms:created>
  <dc:creator>user2_4</dc:creator>
  <dc:description/>
  <dc:language>en-US</dc:language>
  <cp:lastModifiedBy>00000</cp:lastModifiedBy>
  <dcterms:modified xsi:type="dcterms:W3CDTF">2017-01-18T18:05:52Z</dcterms:modified>
  <cp:revision>92</cp:revision>
  <dc:subject/>
  <dc:title>Русское народное творчество в декоративно-прикладном искусстве</dc:title>
</cp:coreProperties>
</file>