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F94-6AF4-4AA2-895F-0A0E2F79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089-43FB-4903-BC91-80BACAB9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EF0-1D6A-4BF6-B19E-4047DD9C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34A-9F2E-4A17-99E8-E5B4761F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877-3A27-47B6-903B-C0669B0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BF3-1EBF-4C69-8110-B517D0A6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9B2-C151-41FE-B2AD-15EE5231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6D4-09A4-465A-8121-F5A4B949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1E7-9467-430C-B8AF-C2C5128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607-FF62-4864-A0CE-86DEE1E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4EC-3A9C-4CCC-8D39-E40694D5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BB2-6789-4D66-8859-EE33927B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C8AB-4C5B-4539-9F6E-AF9A1AC59C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1\Desktop\525px-Map_Macedonia_336_BC-ru.svg.png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2190600"/>
                <a:gridCol w="287496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ход в Егип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тили как освободите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" descr="http://www.xxlbook.ru/imgh1142839.png"/>
          <p:cNvPicPr/>
          <p:nvPr/>
        </p:nvPicPr>
        <p:blipFill>
          <a:blip r:embed="rId1"/>
          <a:stretch/>
        </p:blipFill>
        <p:spPr>
          <a:xfrm>
            <a:off x="1547640" y="1628640"/>
            <a:ext cx="3333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бсудите, почему египтяне встречали с ликованием Александ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89000"/>
          <a:ext cx="8351640" cy="1736640"/>
        </p:xfrm>
        <a:graphic>
          <a:graphicData uri="http://schemas.openxmlformats.org/drawingml/2006/table">
            <a:tbl>
              <a:tblPr/>
              <a:tblGrid>
                <a:gridCol w="1942920"/>
                <a:gridCol w="3122640"/>
                <a:gridCol w="3286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1 г. до н. 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ва у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Гавгамел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ый разгром перс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2" descr="C:\Users\1\Desktop\карта.jpg"/>
          <p:cNvPicPr/>
          <p:nvPr/>
        </p:nvPicPr>
        <p:blipFill>
          <a:blip r:embed="rId1"/>
          <a:stretch/>
        </p:blipFill>
        <p:spPr>
          <a:xfrm>
            <a:off x="539640" y="1916280"/>
            <a:ext cx="82026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 группах, с помощью карты, прокомментируйте сражение при Гавгамелах и определите его результат для греков, македонян, персов и народов Аз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1942920"/>
                <a:gridCol w="312264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оёван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85" name="Picture 2" descr="C:\Users\1\Desktop\img21.jpg"/>
          <p:cNvPicPr/>
          <p:nvPr/>
        </p:nvPicPr>
        <p:blipFill>
          <a:blip r:embed="rId1"/>
          <a:stretch/>
        </p:blipFill>
        <p:spPr>
          <a:xfrm>
            <a:off x="684360" y="1747800"/>
            <a:ext cx="8135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1942920"/>
                <a:gridCol w="312264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 г. до н. 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вило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д окончен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2" descr="C:\Users\1\Desktop\карта.jpg"/>
          <p:cNvPicPr/>
          <p:nvPr/>
        </p:nvPicPr>
        <p:blipFill>
          <a:blip r:embed="rId1"/>
          <a:stretch/>
        </p:blipFill>
        <p:spPr>
          <a:xfrm>
            <a:off x="395280" y="1728720"/>
            <a:ext cx="85154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учите карту и перечислите страны, которые вошли в состав государства Александра Македонског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ываясь на информацию карты, объясните, почему государство Александра Македонского стало называться империей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йско – сформирован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://im2-tub-ru.yandex.net/i?id=494801077-40-72&amp;n=21"/>
          <p:cNvPicPr/>
          <p:nvPr/>
        </p:nvPicPr>
        <p:blipFill>
          <a:blip r:embed="rId1"/>
          <a:stretch/>
        </p:blipFill>
        <p:spPr>
          <a:xfrm>
            <a:off x="5076720" y="4581360"/>
            <a:ext cx="3672000" cy="186084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539640" y="836640"/>
            <a:ext cx="860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его можно охарактеризова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539640" y="2060640"/>
            <a:ext cx="8604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еция – завоевана, присоединен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5396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ова дальнейшая деятельность этого боеспособного войс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воевания Александра Македон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1\Desktop\1233662164_53156ca33f77.jpg"/>
          <p:cNvPicPr/>
          <p:nvPr/>
        </p:nvPicPr>
        <p:blipFill>
          <a:blip r:embed="rId1"/>
          <a:stretch/>
        </p:blipFill>
        <p:spPr>
          <a:xfrm>
            <a:off x="2195640" y="160164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и нашего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26920" y="1413000"/>
          <a:ext cx="7848720" cy="7207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опро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Ц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2421000"/>
          <a:ext cx="3961080" cy="137160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сподвигло Македонского царя к завоевания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788000" y="2421000"/>
          <a:ext cx="3960720" cy="1368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26920" y="3789360"/>
          <a:ext cx="3961080" cy="17985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сть завоевания городов, т.е. что нам необходимо изучи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788000" y="3789360"/>
          <a:ext cx="3960720" cy="1800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д завое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26920" y="5516640"/>
          <a:ext cx="3961080" cy="11523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из этого получилось? Т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88000" y="5516640"/>
          <a:ext cx="3960720" cy="1152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96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обходимо ответить на вопрос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47640" y="1197000"/>
            <a:ext cx="6769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лагодаря чему Александр Македонский смог завоевать такую огромную территорию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1\Desktop\фаланга.jpg"/>
          <p:cNvPicPr/>
          <p:nvPr/>
        </p:nvPicPr>
        <p:blipFill>
          <a:blip r:embed="rId1"/>
          <a:stretch/>
        </p:blipFill>
        <p:spPr>
          <a:xfrm>
            <a:off x="3108240" y="3387600"/>
            <a:ext cx="60357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им образом можно оформить ход завоева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052640"/>
          <a:ext cx="8353440" cy="936360"/>
        </p:xfrm>
        <a:graphic>
          <a:graphicData uri="http://schemas.openxmlformats.org/drawingml/2006/table">
            <a:tbl>
              <a:tblPr/>
              <a:tblGrid>
                <a:gridCol w="2190960"/>
                <a:gridCol w="2874960"/>
                <a:gridCol w="328752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т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быт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9640" y="2060640"/>
          <a:ext cx="8353440" cy="2286000"/>
        </p:xfrm>
        <a:graphic>
          <a:graphicData uri="http://schemas.openxmlformats.org/drawingml/2006/table">
            <a:tbl>
              <a:tblPr/>
              <a:tblGrid>
                <a:gridCol w="2190960"/>
                <a:gridCol w="2874960"/>
                <a:gridCol w="32875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4 г. до н. 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жение в М. Азию, битва у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. Гра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 борьба, разгром перс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C:\Users\1\Desktop\92765163_4711681_Aleksandr_Makedonskii_2.jpg"/>
          <p:cNvPicPr/>
          <p:nvPr/>
        </p:nvPicPr>
        <p:blipFill>
          <a:blip r:embed="rId1"/>
          <a:stretch/>
        </p:blipFill>
        <p:spPr>
          <a:xfrm>
            <a:off x="5508720" y="4417920"/>
            <a:ext cx="3435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знакомитьс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 п.2 на стр. 201-202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ыделить этапы военных походов и действия Александра Македонского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89000"/>
          <a:ext cx="8351640" cy="1736640"/>
        </p:xfrm>
        <a:graphic>
          <a:graphicData uri="http://schemas.openxmlformats.org/drawingml/2006/table">
            <a:tbl>
              <a:tblPr/>
              <a:tblGrid>
                <a:gridCol w="2190600"/>
                <a:gridCol w="2874960"/>
                <a:gridCol w="3286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 г. до н.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ва у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Ис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ром персидского царя Дария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3" descr="C:\Users\1\Desktop\img10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0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2190600"/>
                <a:gridCol w="287496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ад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Ти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захваче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" descr="http://im3-tub-ru.yandex.net/i?id=440832335-70-72&amp;n=21"/>
          <p:cNvPicPr/>
          <p:nvPr/>
        </p:nvPicPr>
        <p:blipFill>
          <a:blip r:embed="rId1"/>
          <a:stretch/>
        </p:blipFill>
        <p:spPr>
          <a:xfrm>
            <a:off x="5148360" y="1628640"/>
            <a:ext cx="3779640" cy="250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50920" y="3502080"/>
            <a:ext cx="4860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Шершнева</cp:lastModifiedBy>
  <dcterms:modified xsi:type="dcterms:W3CDTF">2014-03-05T19:26:24Z</dcterms:modified>
  <cp:revision>20</cp:revision>
  <dc:subject/>
  <dc:title>Слайд 1</dc:title>
</cp:coreProperties>
</file>