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4FF-926D-4807-BA93-0079B087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1A8B-AB4C-4A52-9884-B7F85086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DB3A-9131-4E67-A053-B892CB71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C9D-3AD8-4547-BBF0-B8A2E086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8AB-237D-4A29-9166-9E2EEB2B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127-9FC3-4ACE-9EFA-57A224DD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3CA0-6593-4A54-B9D3-3591179E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FA1-CE81-44AB-8F60-B4215AA5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E459-4622-441C-A452-4714129F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8FB5-77BE-48DD-AA51-D7608ED0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70F8-18AB-4C54-BA01-F8C82053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1122-613D-4087-A11E-DDA5ABAE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7BF3DC-BECD-43E1-8BA1-0823901F936B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9966ff"/>
                </a:solidFill>
                <a:latin typeface="Arial"/>
              </a:rPr>
              <a:t>Австрал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6165720"/>
            <a:ext cx="77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9966ff"/>
                </a:solidFill>
                <a:latin typeface="Arial"/>
              </a:rPr>
              <a:t>2008 </a:t>
            </a:r>
            <a:r>
              <a:rPr b="1" i="1" lang="ru-RU" sz="3600" spc="-1" strike="noStrike">
                <a:solidFill>
                  <a:srgbClr val="9966ff"/>
                </a:solidFill>
                <a:latin typeface="Arial"/>
              </a:rPr>
              <a:t>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олица Австралии – Канбер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ода Австралии: Сидней, Канберра, Перт, Аделаи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рб Австра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лаг австра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днеевская оп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2087280" cy="1368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00000" y="3716280"/>
            <a:ext cx="1943280" cy="1081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55640" y="5143680"/>
            <a:ext cx="2190600" cy="13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Улур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луру – это скала, которая на рассвете черная, днем багровая, а вечером кроваво – красная. Это священной место аборигенов, исписанное рисунками, которым сотни и тысячи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484360" y="4365720"/>
            <a:ext cx="4464000" cy="223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dur="indefinite" fill="hold">
                      <p:stCondLst>
                        <p:cond delay="0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dur="indefinite" fill="hold">
                      <p:stCondLst>
                        <p:cond delay="indefinite"/>
                      </p:stCondLst>
                      <p:childTnLst>
                        <p:par>
                          <p:cTn id="3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Интересные фак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Австралия - самый маленький материк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Материк полностью расположен в южном полуша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Австралия – самый засушливый из материков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Австралия – материк реликтов – животных и растений, сохранившихся от прошлых геологических эпо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0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Здесь нет действующих вулка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Около половины её площади занимают пустыни и полупусты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В окраске континента преобладают красновато – бурые т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Австралия позже всех была заселена и освоена европейц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Весь материк занимает одно государ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Истор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 1770 году Джеймсом Куком было обнаружено восточное побережье Австрал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03640" y="2205000"/>
            <a:ext cx="2953080" cy="23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0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dur="indefinite" fill="hold">
                            <p:stCondLst>
                              <p:cond delay="3650"/>
                            </p:stCondLst>
                            <p:childTnLst>
                              <p:par>
                                <p:cTn id="10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ельеф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9068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ло половины площади Австралии занимают пустыни и полупусты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шая точка – гора Косцюшко(2228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юго - востоке – низм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западе – плоскогор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ние горы – Большой Водораздельный хребет.(1000 – 2000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Австралийских Альпах заметны следы древнего оледе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84720" y="1484280"/>
            <a:ext cx="2190960" cy="1714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56360" y="3933720"/>
            <a:ext cx="1952640" cy="15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ма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стралия находится в 3-х климатических поясах: субтропическом, тропическом и субэкваториаль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ена года в Австралии не совпадают с временами года в нашей местности, потому что Австралия находится южнее эква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dur="indefinite" fill="hold">
                      <p:stCondLst>
                        <p:cond delay="0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03280" y="1268280"/>
          <a:ext cx="8640720" cy="3071880"/>
        </p:xfrm>
        <a:graphic>
          <a:graphicData uri="http://schemas.openxmlformats.org/drawingml/2006/table">
            <a:tbl>
              <a:tblPr/>
              <a:tblGrid>
                <a:gridCol w="2922480"/>
                <a:gridCol w="2113200"/>
                <a:gridCol w="2573280"/>
                <a:gridCol w="1031760"/>
              </a:tblGrid>
              <a:tr h="93888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, к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 бассей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рр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рлин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56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рамбидж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40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л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08000" y="4508640"/>
            <a:ext cx="496908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dur="indefinite" fill="hold">
                      <p:stCondLst>
                        <p:cond delay="0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Прир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ганический мир Австралии своеобразен и неповторим: 75% видов растений и 95% животных являются эндемик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62 вида сумчатых. В Австралии обитают и не встречаются больше нигде на Земле яйцекладущие и выкармливающие молоком организ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десь растет самое высокое дерево – эвкалип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dur="indefinite" fill="hold">
                      <p:stCondLst>
                        <p:cond delay="0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енг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8000" y="4797360"/>
            <a:ext cx="2089440" cy="1754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84720" y="1413000"/>
            <a:ext cx="2181240" cy="2409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68360" y="1413000"/>
            <a:ext cx="3384360" cy="2649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132000" y="0"/>
            <a:ext cx="2206800" cy="244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708360" y="3860640"/>
            <a:ext cx="2665440" cy="20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2:36:57Z</dcterms:created>
  <dc:creator>User</dc:creator>
  <dc:description/>
  <dc:language>en-US</dc:language>
  <cp:lastModifiedBy>Марина</cp:lastModifiedBy>
  <dcterms:modified xsi:type="dcterms:W3CDTF">2010-03-29T14:14:30Z</dcterms:modified>
  <cp:revision>4</cp:revision>
  <dc:subject/>
  <dc:title>Австралия</dc:title>
</cp:coreProperties>
</file>