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jpeg" ContentType="image/jpeg"/>
  <Override PartName="/ppt/media/image2.png" ContentType="image/png"/>
  <Override PartName="/ppt/media/image5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1103-1991-4D1C-86BA-DCD722F25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BE21-51E1-4FF4-B5BE-EC6530A35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8933-712E-42D1-8466-3C81BC360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B2A4-3A56-481A-8005-760A1D8E1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FBAEE-A0A7-4F6A-A7B4-47A93CBD9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4A9B3-E7C9-4237-AA29-B1568B276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C0C83-B6F9-47A0-9CDC-8F5696DEA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61340-2407-45BD-A4FF-7B5ACE3CC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41861-0A1E-4BF1-B274-150957D2E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5E376-3496-4724-8C4C-893C83EC4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C1C8B-DABA-4A4A-900E-8B1377C70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14BF-625B-402B-A07A-5FFBB86CA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DC794-AD3E-4D96-8F13-82C8E23C4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0AEC9-2083-4EAC-8DA4-ECD11F562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63FBB-26FF-4CBB-ADE3-C050EAF0C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AFBB3-07B1-430D-81F1-F188952F6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8DEF4-2D9A-4322-BB60-61F945EC6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90724D-DD9B-411B-869F-C8E169C78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B84F0C-E929-4273-B100-5F6F9FBE9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85E2C5-A313-4A27-9A54-01AE02592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062B99-048B-443D-B15A-367B52F02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EFF8F6-5AD0-4230-8B34-63603575C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D2EF-5BD5-409F-A57A-B9C06C1C8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B523B2-E83D-479A-920B-62D119DA9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AFC2C9-35FE-4527-8430-077C77530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73EEA9-D20E-4C7E-AA92-0061A7725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8EFFF4-8FC0-4BBA-9516-349B45E7D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A99F7E-CFE7-4A08-BB30-9561406C9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151CFD-5851-4A4A-BA89-4EB0F707B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0BCF93-1261-4921-B357-DCC6D7ADF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855CB7-325D-4BDD-87A7-A6EC8EC38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B453B6-0B65-4339-854C-7F0916C63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FDFCAB-7E14-473E-B6B3-9E78E20DE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7AB9-19FE-4226-BED6-7A14A2FBE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652D09-84A4-456C-881E-35A8C4712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CF892E-7687-4776-A5A9-C0F277365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CC5470-03A7-49C3-BA13-20B3B5FE5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0549C4-53BF-485B-ADFD-3D081560F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9FF910-018C-447E-961E-53A4DF433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79E9DB-96F1-41C4-B04A-BBE46964D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B69E8E-B81E-4497-A3F7-59A2F00A2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783A25-672C-423C-B825-0D2021450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B61649-19AD-4E47-AD0A-BD6890137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395C-4296-4141-8ECF-16F012277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B896-C33B-4838-B102-412CDAE6E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E77F-3B10-40F4-BE2B-198318705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0D90-B740-408B-8D01-136ADA917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26DC-EC29-4A69-9744-ABCB65972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0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13286-91B5-423F-876C-32F15D80210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0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7AB7F-EB41-4FF8-816A-D171132E0BC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0809E-2B1E-4A6D-8236-F79520BEBB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0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F211F-31D1-45C2-860E-D36FC79CEE5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CB039-2F13-4B9C-92E9-7508EAA209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0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0CD80-CCA8-4343-8CA7-1E3C32E352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1" descr="Русь.jpg"/>
          <p:cNvPicPr/>
          <p:nvPr/>
        </p:nvPicPr>
        <p:blipFill>
          <a:blip r:embed="rId1"/>
          <a:stretch/>
        </p:blipFill>
        <p:spPr>
          <a:xfrm>
            <a:off x="0" y="0"/>
            <a:ext cx="912024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1" descr="правая часть старинный сказ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Прямоугольник 3" descr=""/>
          <p:cNvPicPr/>
          <p:nvPr/>
        </p:nvPicPr>
        <p:blipFill>
          <a:blip r:embed="rId1"/>
          <a:stretch/>
        </p:blipFill>
        <p:spPr>
          <a:xfrm>
            <a:off x="3743280" y="1322280"/>
            <a:ext cx="5400720" cy="1073160"/>
          </a:xfrm>
          <a:prstGeom prst="rect">
            <a:avLst/>
          </a:prstGeom>
          <a:ln w="0">
            <a:noFill/>
          </a:ln>
        </p:spPr>
      </p:pic>
      <p:pic>
        <p:nvPicPr>
          <p:cNvPr id="177" name="Прямоугольник 4" descr=""/>
          <p:cNvPicPr/>
          <p:nvPr/>
        </p:nvPicPr>
        <p:blipFill>
          <a:blip r:embed="rId2"/>
          <a:stretch/>
        </p:blipFill>
        <p:spPr>
          <a:xfrm>
            <a:off x="414360" y="3986280"/>
            <a:ext cx="4505400" cy="27129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" descr="RUSSIA.RU - &amp;Bcy;&amp;lcy;&amp;ocy;&amp;gcy;&amp;icy; - &amp;Scy;&amp;iecy;&amp;rcy;&amp;gcy;&amp;iecy;&amp;jcy; &amp;Bcy;&amp;iecy;&amp;lcy;&amp;ocy;&amp;scy;&amp;lcy;&amp;ucy;&amp;dcy;&amp;tscy;&amp;iecy;&amp;vcy;"/>
          <p:cNvPicPr/>
          <p:nvPr/>
        </p:nvPicPr>
        <p:blipFill>
          <a:blip r:embed="rId3"/>
          <a:stretch/>
        </p:blipFill>
        <p:spPr>
          <a:xfrm>
            <a:off x="250920" y="765000"/>
            <a:ext cx="3889440" cy="34480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4" descr="&amp;Mcy;&amp;ucy;&amp;zcy;&amp;ycy;&amp;kcy;&amp;acy;&amp;lcy;&amp;softcy;&amp;ncy;&amp;ycy;&amp;jcy; &amp;gcy;&amp;ocy;&amp;rcy;&amp;ocy;&amp;dcy;"/>
          <p:cNvPicPr/>
          <p:nvPr/>
        </p:nvPicPr>
        <p:blipFill>
          <a:blip r:embed="rId4"/>
          <a:stretch/>
        </p:blipFill>
        <p:spPr>
          <a:xfrm>
            <a:off x="4859280" y="2492280"/>
            <a:ext cx="3638520" cy="35719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Прямоугольник 11"/>
          <p:cNvSpPr/>
          <p:nvPr/>
        </p:nvSpPr>
        <p:spPr>
          <a:xfrm>
            <a:off x="468360" y="2349360"/>
            <a:ext cx="83516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Arial"/>
              </a:rPr>
              <a:t>Кантата </a:t>
            </a:r>
            <a:r>
              <a:rPr b="1" i="1" lang="en-US" sz="3200" spc="-1" strike="noStrike">
                <a:solidFill>
                  <a:srgbClr val="7030a0"/>
                </a:solidFill>
                <a:latin typeface="Arial"/>
              </a:rPr>
              <a:t>–</a:t>
            </a:r>
            <a:r>
              <a:rPr b="1" i="1" lang="ru-RU" sz="3200" spc="-1" strike="noStrike">
                <a:solidFill>
                  <a:srgbClr val="7030a0"/>
                </a:solidFill>
                <a:latin typeface="Arial"/>
              </a:rPr>
              <a:t> крупное музыкальное произведение</a:t>
            </a:r>
            <a:r>
              <a:rPr b="1" i="1" lang="en-US" sz="3200" spc="-1" strike="noStrike">
                <a:solidFill>
                  <a:srgbClr val="7030a0"/>
                </a:solidFill>
                <a:latin typeface="Arial"/>
              </a:rPr>
              <a:t>, </a:t>
            </a:r>
            <a:r>
              <a:rPr b="1" i="1" lang="ru-RU" sz="3200" spc="-1" strike="noStrike">
                <a:solidFill>
                  <a:srgbClr val="7030a0"/>
                </a:solidFill>
                <a:latin typeface="Arial"/>
              </a:rPr>
              <a:t>состоящее из нескольких частей</a:t>
            </a:r>
            <a:r>
              <a:rPr b="1" i="1" lang="en-US" sz="3200" spc="-1" strike="noStrike">
                <a:solidFill>
                  <a:srgbClr val="7030a0"/>
                </a:solidFill>
                <a:latin typeface="Arial"/>
              </a:rPr>
              <a:t>, </a:t>
            </a:r>
            <a:r>
              <a:rPr b="1" i="1" lang="ru-RU" sz="3200" spc="-1" strike="noStrike">
                <a:solidFill>
                  <a:srgbClr val="7030a0"/>
                </a:solidFill>
                <a:latin typeface="Arial"/>
              </a:rPr>
              <a:t>в котором учавствуют хор</a:t>
            </a:r>
            <a:r>
              <a:rPr b="1" i="1" lang="en-US" sz="3200" spc="-1" strike="noStrike">
                <a:solidFill>
                  <a:srgbClr val="7030a0"/>
                </a:solidFill>
                <a:latin typeface="Arial"/>
              </a:rPr>
              <a:t>, </a:t>
            </a:r>
            <a:r>
              <a:rPr b="1" i="1" lang="ru-RU" sz="3200" spc="-1" strike="noStrike">
                <a:solidFill>
                  <a:srgbClr val="7030a0"/>
                </a:solidFill>
                <a:latin typeface="Arial"/>
              </a:rPr>
              <a:t>солисты</a:t>
            </a:r>
            <a:r>
              <a:rPr b="1" i="1" lang="en-US" sz="3200" spc="-1" strike="noStrike">
                <a:solidFill>
                  <a:srgbClr val="7030a0"/>
                </a:solidFill>
                <a:latin typeface="Arial"/>
              </a:rPr>
              <a:t>,  </a:t>
            </a:r>
            <a:r>
              <a:rPr b="1" i="1" lang="ru-RU" sz="3200" spc="-1" strike="noStrike">
                <a:solidFill>
                  <a:srgbClr val="7030a0"/>
                </a:solidFill>
                <a:latin typeface="Arial"/>
              </a:rPr>
              <a:t>симфонический орекстр</a:t>
            </a:r>
            <a:r>
              <a:rPr b="1" i="1" lang="en-US" sz="3200" spc="-1" strike="noStrike">
                <a:solidFill>
                  <a:srgbClr val="7030a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"/>
          <p:cNvPicPr/>
          <p:nvPr/>
        </p:nvPicPr>
        <p:blipFill>
          <a:blip r:embed="rId1"/>
          <a:stretch/>
        </p:blipFill>
        <p:spPr>
          <a:xfrm>
            <a:off x="264960" y="588960"/>
            <a:ext cx="8614080" cy="6218280"/>
          </a:xfrm>
          <a:prstGeom prst="rect">
            <a:avLst/>
          </a:prstGeom>
          <a:ln w="0">
            <a:noFill/>
          </a:ln>
        </p:spPr>
      </p:pic>
      <p:pic>
        <p:nvPicPr>
          <p:cNvPr id="182" name="Прямоугольник 4" descr=""/>
          <p:cNvPicPr/>
          <p:nvPr/>
        </p:nvPicPr>
        <p:blipFill>
          <a:blip r:embed="rId2"/>
          <a:stretch/>
        </p:blipFill>
        <p:spPr>
          <a:xfrm>
            <a:off x="311040" y="30240"/>
            <a:ext cx="8521920" cy="8348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1" descr="Русь.jpg"/>
          <p:cNvPicPr/>
          <p:nvPr/>
        </p:nvPicPr>
        <p:blipFill>
          <a:blip r:embed="rId1"/>
          <a:stretch/>
        </p:blipFill>
        <p:spPr>
          <a:xfrm>
            <a:off x="0" y="0"/>
            <a:ext cx="912024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Прямоугольник 1"/>
          <p:cNvSpPr/>
          <p:nvPr/>
        </p:nvSpPr>
        <p:spPr>
          <a:xfrm>
            <a:off x="297000" y="774720"/>
            <a:ext cx="8496000" cy="58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1.Солдатушки, бравы ребятушки, где же ваши деды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Наши деды- славные побед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Вот, где наши дед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Наши деды- славные побед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Вот, где наши дед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2. Солдатушки, бравы ребятушки, где же ваши сёстры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Наши сёстры- пики, сабли остр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Вот, где наши сёстр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Наши сёстры- пики, сабли остр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Вот, где наши сёстр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3. Солдатушки, бравы ребятушки, где же ваша слава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Наша слава- Русская держав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Вот, где наша слава!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Наша слава- Русская держав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Вот, где наша слава!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5" name="Прямоугольник 2" descr=""/>
          <p:cNvPicPr/>
          <p:nvPr/>
        </p:nvPicPr>
        <p:blipFill>
          <a:blip r:embed="rId1"/>
          <a:stretch/>
        </p:blipFill>
        <p:spPr>
          <a:xfrm>
            <a:off x="195120" y="0"/>
            <a:ext cx="8948880" cy="8352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Новости.mp4" descr="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166" name="Новости.mp4" descr=""/>
          <p:cNvPicPr/>
          <p:nvPr/>
        </p:nvPicPr>
        <p:blipFill>
          <a:blip r:embed="rId2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167" name="Новости.mp4" descr=""/>
          <p:cNvPicPr/>
          <p:nvPr/>
        </p:nvPicPr>
        <p:blipFill>
          <a:blip r:embed="rId3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1" descr="Невский.jpg"/>
          <p:cNvPicPr/>
          <p:nvPr/>
        </p:nvPicPr>
        <p:blipFill>
          <a:blip r:embed="rId1"/>
          <a:stretch/>
        </p:blipFill>
        <p:spPr>
          <a:xfrm>
            <a:off x="2843280" y="189000"/>
            <a:ext cx="3220920" cy="66690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Прямоугольник 3" descr=""/>
          <p:cNvPicPr/>
          <p:nvPr/>
        </p:nvPicPr>
        <p:blipFill>
          <a:blip r:embed="rId1"/>
          <a:stretch/>
        </p:blipFill>
        <p:spPr>
          <a:xfrm>
            <a:off x="249120" y="1768320"/>
            <a:ext cx="8570880" cy="24624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1" descr="Невский.jpg"/>
          <p:cNvPicPr/>
          <p:nvPr/>
        </p:nvPicPr>
        <p:blipFill>
          <a:blip r:embed="rId1"/>
          <a:stretch/>
        </p:blipFill>
        <p:spPr>
          <a:xfrm>
            <a:off x="2844720" y="263520"/>
            <a:ext cx="3311640" cy="65944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1" descr="Триптих Корина.jpg"/>
          <p:cNvPicPr/>
          <p:nvPr/>
        </p:nvPicPr>
        <p:blipFill>
          <a:blip r:embed="rId1"/>
          <a:stretch/>
        </p:blipFill>
        <p:spPr>
          <a:xfrm>
            <a:off x="0" y="907920"/>
            <a:ext cx="9144000" cy="51372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1" descr="Корин Триптих Александр Невский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1"/>
          <p:cNvSpPr/>
          <p:nvPr/>
        </p:nvSpPr>
        <p:spPr>
          <a:xfrm>
            <a:off x="684360" y="1916280"/>
            <a:ext cx="763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7030a0"/>
                </a:solidFill>
                <a:latin typeface="Arial Black"/>
                <a:ea typeface="Arial Black"/>
              </a:rPr>
              <a:t>Триптих- произведение искусства, состоящее из трёх картин, объединённых общей идеей, темой, сюжетом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1" descr="северная баллада.jpg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3T10:26:03Z</dcterms:created>
  <dc:creator>Ольга</dc:creator>
  <dc:description/>
  <dc:language>en-US</dc:language>
  <cp:lastModifiedBy>Mac</cp:lastModifiedBy>
  <dcterms:modified xsi:type="dcterms:W3CDTF">2016-03-30T22:11:32Z</dcterms:modified>
  <cp:revision>26</cp:revision>
  <dc:subject/>
  <dc:title>Презентация PowerPoint</dc:title>
</cp:coreProperties>
</file>