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5907-56FA-458E-A82C-06015D91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40A8-D080-4EB8-AE87-EC6A0423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14C9-D188-4B27-BB17-86AF3E29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1816-09C8-40E5-8544-F1F4F4C46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BBC0-E0D4-493C-9160-7BEBB4BBE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71C1-7EC8-4BCD-B108-B9E7BB18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F4E6-020C-47A3-ADB2-83F682B7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CC92-AEC5-4E83-8CED-E985A21B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27AD-7442-4223-AF49-02C8254F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9C812-3BC2-418D-849E-037B6192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3A36-F40F-43D5-A815-3066626B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9659-A4FE-49ED-B334-7F2AC0B8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7867-D156-4B60-85FE-EFAF06D8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ABF9-12DE-4E3D-8894-55C99755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56BC-7672-4ABF-A676-52ED1C79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B78B-8C0F-4E51-B147-2F81317D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9064-2ACD-4105-A3F3-9E122E09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BA36E-A61F-40C6-8F66-D5521A55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0E12A-CD30-41FB-9B19-028C6EBE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5166F-60F7-4B22-AF85-932E4898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26EE8-73BB-44DB-A0D8-E925694F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2E94D-5567-4D27-BC70-1E47C83C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7D46-F548-43F4-B74C-1BA03CF1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EA414-F1C7-48B4-979B-D0B28C10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304D4-07F5-4AC8-A9F1-2571C2BD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9E644-A022-46BF-891C-B6560ED3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C5632-3028-41D2-90B7-AB48D47C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00A86-BBAA-44F5-A229-E4B7EFD0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0C45B-CD75-4353-971F-B79754448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1CCE1-04E5-4CDC-9135-BB061C456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9D8B7-2CAC-411C-B7E3-CEBE8875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03811-36BC-4DF8-BD82-DC3B4416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F4A52-EC7E-410F-8399-B7404051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CA50-8932-427E-B31A-E37C5821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5C5CD-A22C-4B3C-9CCD-4A357B17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CD292-968C-4F67-A6A8-C140068B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548AB-1271-43F4-99C9-75F2F25A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6F5BD-3102-48AE-A7A5-8ABC3B7A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B3E66-0C68-46E1-992D-63FAA095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13C80-5D2D-4D22-91AA-C556EA41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818CB-01A7-4EAF-9AE6-272D85AC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6A2C7-852E-4210-BE08-DFA632815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1EA3A-651F-43B5-B4D4-C30F4594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5E9B-5DA1-4FDD-ABC3-E4AE6336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A6A3-6A9F-4C34-A5DD-F7F4B38F7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8103-7BFE-45B0-8594-78D98E81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74AC-792D-4F6F-802B-C95B12C3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729E-9EEE-488C-8032-20F7F2BB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AE4B-32FA-45EE-8770-39FFC05358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8174-43FC-419F-8484-A5E5F19A63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F5F3-2EEA-4985-90A3-574840B98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3E55-9946-4B54-A655-D974F40FD2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EE82-8289-480E-8B4E-35D6C9D71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270B-97A6-4580-A095-569654201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" descr="Русь.jpg"/>
          <p:cNvPicPr/>
          <p:nvPr/>
        </p:nvPicPr>
        <p:blipFill>
          <a:blip r:embed="rId1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правая часть старинный сказ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Прямоугольник 3" descr=""/>
          <p:cNvPicPr/>
          <p:nvPr/>
        </p:nvPicPr>
        <p:blipFill>
          <a:blip r:embed="rId1"/>
          <a:stretch/>
        </p:blipFill>
        <p:spPr>
          <a:xfrm>
            <a:off x="3743280" y="1322280"/>
            <a:ext cx="5400720" cy="1073160"/>
          </a:xfrm>
          <a:prstGeom prst="rect">
            <a:avLst/>
          </a:prstGeom>
          <a:ln w="0">
            <a:noFill/>
          </a:ln>
        </p:spPr>
      </p:pic>
      <p:pic>
        <p:nvPicPr>
          <p:cNvPr id="177" name="Прямоугольник 4" descr=""/>
          <p:cNvPicPr/>
          <p:nvPr/>
        </p:nvPicPr>
        <p:blipFill>
          <a:blip r:embed="rId2"/>
          <a:stretch/>
        </p:blipFill>
        <p:spPr>
          <a:xfrm>
            <a:off x="414360" y="3986280"/>
            <a:ext cx="4505400" cy="2712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RUSSIA.RU - &amp;Bcy;&amp;lcy;&amp;ocy;&amp;gcy;&amp;icy; - &amp;Scy;&amp;iecy;&amp;rcy;&amp;gcy;&amp;iecy;&amp;jcy; &amp;Bcy;&amp;iecy;&amp;lcy;&amp;ocy;&amp;scy;&amp;lcy;&amp;ucy;&amp;dcy;&amp;tscy;&amp;iecy;&amp;vcy;"/>
          <p:cNvPicPr/>
          <p:nvPr/>
        </p:nvPicPr>
        <p:blipFill>
          <a:blip r:embed="rId3"/>
          <a:stretch/>
        </p:blipFill>
        <p:spPr>
          <a:xfrm>
            <a:off x="250920" y="765000"/>
            <a:ext cx="3889440" cy="3448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&amp;Mcy;&amp;ucy;&amp;zcy;&amp;ycy;&amp;kcy;&amp;acy;&amp;lcy;&amp;softcy;&amp;ncy;&amp;ycy;&amp;jcy; &amp;gcy;&amp;ocy;&amp;rcy;&amp;ocy;&amp;dcy;"/>
          <p:cNvPicPr/>
          <p:nvPr/>
        </p:nvPicPr>
        <p:blipFill>
          <a:blip r:embed="rId4"/>
          <a:stretch/>
        </p:blipFill>
        <p:spPr>
          <a:xfrm>
            <a:off x="4859280" y="2492280"/>
            <a:ext cx="363852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11"/>
          <p:cNvSpPr/>
          <p:nvPr/>
        </p:nvSpPr>
        <p:spPr>
          <a:xfrm>
            <a:off x="468360" y="2349360"/>
            <a:ext cx="835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Кантата 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–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 крупное музыкальное произведение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,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состоящее из нескольких частей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,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в котором учавствуют хор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,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солисты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, 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симфонический орекстр</a:t>
            </a:r>
            <a:r>
              <a:rPr b="1" i="1" lang="en-US" sz="3200" spc="-1" strike="noStrike">
                <a:solidFill>
                  <a:srgbClr val="7030a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64960" y="588960"/>
            <a:ext cx="8614080" cy="6218280"/>
          </a:xfrm>
          <a:prstGeom prst="rect">
            <a:avLst/>
          </a:prstGeom>
          <a:ln w="0">
            <a:noFill/>
          </a:ln>
        </p:spPr>
      </p:pic>
      <p:pic>
        <p:nvPicPr>
          <p:cNvPr id="182" name="Прямоугольник 4" descr=""/>
          <p:cNvPicPr/>
          <p:nvPr/>
        </p:nvPicPr>
        <p:blipFill>
          <a:blip r:embed="rId2"/>
          <a:stretch/>
        </p:blipFill>
        <p:spPr>
          <a:xfrm>
            <a:off x="311040" y="30240"/>
            <a:ext cx="8521920" cy="834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" descr="Русь.jpg"/>
          <p:cNvPicPr/>
          <p:nvPr/>
        </p:nvPicPr>
        <p:blipFill>
          <a:blip r:embed="rId1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297000" y="774720"/>
            <a:ext cx="849600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1.Солдатушки, бравы ребятушки, где же ваши дед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Наши деды- славные побе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Вот, где наши де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Наши деды- славные побе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Вот, где наши де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2. Солдатушки, бравы ребятушки, где же ваши сёстр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Наши сёстры- пики, сабли ост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Вот, где наши сёст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Наши сёстры- пики, сабли ост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Вот, где наши сёст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3. Солдатушки, бравы ребятушки, где же ваша слава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Наша слава- Русская держа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Вот, где наша слава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Наша слава- Русская держа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Вот, где наша слава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Прямоугольник 2" descr=""/>
          <p:cNvPicPr/>
          <p:nvPr/>
        </p:nvPicPr>
        <p:blipFill>
          <a:blip r:embed="rId1"/>
          <a:stretch/>
        </p:blipFill>
        <p:spPr>
          <a:xfrm>
            <a:off x="195120" y="0"/>
            <a:ext cx="8948880" cy="83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Новости.mp4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66" name="Новости.mp4" descr="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67" name="Новости.mp4" descr=""/>
          <p:cNvPicPr/>
          <p:nvPr/>
        </p:nvPicPr>
        <p:blipFill>
          <a:blip r:embed="rId3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Невский.jpg"/>
          <p:cNvPicPr/>
          <p:nvPr/>
        </p:nvPicPr>
        <p:blipFill>
          <a:blip r:embed="rId1"/>
          <a:stretch/>
        </p:blipFill>
        <p:spPr>
          <a:xfrm>
            <a:off x="2843280" y="189000"/>
            <a:ext cx="3220920" cy="6669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Прямоугольник 3" descr=""/>
          <p:cNvPicPr/>
          <p:nvPr/>
        </p:nvPicPr>
        <p:blipFill>
          <a:blip r:embed="rId1"/>
          <a:stretch/>
        </p:blipFill>
        <p:spPr>
          <a:xfrm>
            <a:off x="249120" y="1768320"/>
            <a:ext cx="8570880" cy="2462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" descr="Невский.jpg"/>
          <p:cNvPicPr/>
          <p:nvPr/>
        </p:nvPicPr>
        <p:blipFill>
          <a:blip r:embed="rId1"/>
          <a:stretch/>
        </p:blipFill>
        <p:spPr>
          <a:xfrm>
            <a:off x="2844720" y="263520"/>
            <a:ext cx="3311640" cy="6594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" descr="Триптих Корина.jpg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137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" descr="Корин Триптих Александр Невский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684360" y="191628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030a0"/>
                </a:solidFill>
                <a:latin typeface="Arial Black"/>
                <a:ea typeface="Arial Black"/>
              </a:rPr>
              <a:t>Триптих- произведение искусства, состоящее из трёх картин, объединённых общей идеей, темой, сюжет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северная баллада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0:26:03Z</dcterms:created>
  <dc:creator>Ольга</dc:creator>
  <dc:description/>
  <dc:language>en-US</dc:language>
  <cp:lastModifiedBy>Mac</cp:lastModifiedBy>
  <dcterms:modified xsi:type="dcterms:W3CDTF">2016-03-30T22:11:32Z</dcterms:modified>
  <cp:revision>26</cp:revision>
  <dc:subject/>
  <dc:title>Презентация PowerPoint</dc:title>
</cp:coreProperties>
</file>