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210D-D95E-4986-803A-F9D152AEFD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E9FB-6439-49B8-A055-F439DFCE00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17B1-B459-474F-AF78-B3E9FBC60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B27-CCDF-4EF4-ADF9-90EB0942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5E45-1F36-4543-8DE4-07941540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5473-890F-4C6E-ABDB-9FE1F828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DEE2-35CD-4FF0-B527-548A8945B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0CE9-267A-4DC2-8D65-6CF72D94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BBD5-1E87-4C63-BFFF-23F1318E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EB90-E29F-4131-AD3F-542575FF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310F-0FE1-4D49-B79A-86AD3704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4477-722A-4AE5-A56D-8FE9B4A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671B-6C2B-4F0B-9952-4B8506B4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D45-E6B6-41DB-8FE2-06009454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806C-B61D-4E21-BE44-3CE87E14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0B82-7EAC-4E08-95EE-E7A845E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42F8-1C26-4CBF-971D-FAE18A3B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A1D9-54DE-418A-9517-C07AF67D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7585-D877-4264-B7AA-8D2F2EC38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D771-DBB1-4D6A-8770-9090017FA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6BA2-FFAA-496A-A763-98B891C5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2A56-E280-4CF2-97CF-EF5BEFD4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5C5F4-F518-4200-921E-6A69F22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CBD61-4A88-4796-B4C5-6B1F94F0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F256-7826-4F8E-9B6E-1D420AE8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D486-FA92-43AB-A136-D8E06C12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A24A6-DD21-447E-9A51-14C6D253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238C-5A1E-48DB-8416-6DCF50A8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4F8F5-1CD5-4E80-ADCE-30C3A66C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5C06-FBEA-4578-B669-812D7F84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73BFD-1749-4331-A0C8-C2D010EF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10C4-9B70-4FBE-A515-A0C7B0A5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BFBC6-4AD9-40CD-B2F4-D9CB544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A4DBF-F33C-46B6-AE58-73CA347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CD7B9-2B23-4C40-B254-D978317E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F129-3E62-4D91-A195-BA6CE2D7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A114C-00CD-4A56-9B66-F2BEB5B2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97F2-589F-4580-BD07-B398150A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61EA4-F563-416C-AF8F-42BD2C83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11E27-2DF3-4076-BE30-6FB4600B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F4EE-EFCB-401E-BDDA-EC734A1C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671FE-4127-4294-B2A6-934DD07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05B34-EBEC-4846-961D-687C05FE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2277B-4829-4F2B-94F3-6ECF05E8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E2550-173C-490D-B31E-4EC59EC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8C56-C9DC-4F28-80CD-A2496A43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5BEB-5820-42FB-9F4B-66756CCC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A3A1-399B-4615-B8F7-DB617984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6D95-A3A4-4904-8838-3B4EFFB6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3EAE-B70C-411A-9341-A5E5B500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77CE1-11C1-4575-BCB6-1282BDD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7473-906C-4113-8040-7FBF50F8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40DFB-B246-4075-BC5E-A7F15F7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5AD5-E0E3-43DA-B18A-007C0F9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15B9-A710-47E9-927C-BF9637B0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4D220-F899-40A5-BAF7-9790716D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26887-AD5F-48C7-BF06-2542EBB7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6E44-9078-48F9-BF97-23B8110B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29E16-F069-415D-9B78-CC8F1D59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E179-5E84-4805-9FFD-F99AF935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88CE6-9825-4388-8977-6886150B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C33D7-C595-4A97-BCFC-41451867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03E5B-1B82-4230-929D-57969209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5A020-1AE8-4E48-8EE7-5400D90D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599D1-9A54-4ACA-8937-E28D4AC8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F5F4-C304-4EFA-83C5-E0A2D78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F72F-4315-4244-AABB-734407FA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B1547-EC24-4C26-A8FE-59838D6A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ACA5-99D7-4A39-8667-203C2655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8B894-AF98-44E2-B940-14B524145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BAB86-06A5-4670-B97D-54595E4D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C3260-6574-4D18-BC3A-A416B0D7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96EB8-8D77-4221-9C63-1E1EEE49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C825A-9D48-4279-937B-679EB5E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EDC23-84EC-413C-A940-EBCFB54C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2FC05-1563-4DC2-8A14-58386FC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48D1D-A822-4F29-A728-1B6F1C8F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B5864-3A63-45FF-9A36-9BF637D1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9CB6-6471-4B4A-B55C-B7B95CE7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1B6-8EDC-44C8-82CF-00D9192E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EAE33-9167-43B4-A4D8-2B401412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01D7-74FF-4905-BB9A-7D768AE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2C3CD-B4B4-4166-9C84-DE2A14D1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5B90A-E957-4068-92AE-561AE4C7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FA52D-9969-438E-89F3-9744E20A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55B-E024-4023-8EAD-458774E8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15B8-83D0-4A42-B403-BFDD7A8FC17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60D3-8958-4CF3-9918-BD2A645AEF4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EF38-4642-41D2-8E7A-5C658FC55E5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622-57E2-4416-8281-92E8B849016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C9E0-8BB6-4709-BDA2-0E6F44BD8C6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199B-860E-4C75-A812-2E3A93CFBDB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6D8-B345-4E49-8C81-4740FFBB11E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3" name="ӘНИЕМ! - .mp3" descr=""/>
          <p:cNvPicPr/>
          <p:nvPr/>
        </p:nvPicPr>
        <p:blipFill>
          <a:blip r:embed="rId1"/>
          <a:stretch/>
        </p:blipFill>
        <p:spPr>
          <a:xfrm>
            <a:off x="111600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7"/>
          <p:cNvSpPr/>
          <p:nvPr/>
        </p:nvSpPr>
        <p:spPr>
          <a:xfrm>
            <a:off x="235800" y="260280"/>
            <a:ext cx="8638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ФОРМИРОВАНИЕ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ФЕССИОНАЛЬНОЙ КОМПЕТЕНТНОСТ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ДАГОГИЧЕСКИХ РАБОТНИКОВ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ЕКТНО- ИССЛЕДОВАТЕЛЬСКУЮ  ДЕЯТЕЛЬНОСТЬ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392360" cy="381636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9"/>
          <p:cNvSpPr/>
          <p:nvPr/>
        </p:nvSpPr>
        <p:spPr>
          <a:xfrm>
            <a:off x="5148360" y="2133720"/>
            <a:ext cx="360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Arial"/>
              </a:rPr>
              <a:t>Автор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ряхметова Рузалия Хузяхметовна, заместитель директора по ВР МБОУ «Балыклы-Чукае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6188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4"/>
          <p:cNvSpPr/>
          <p:nvPr/>
        </p:nvSpPr>
        <p:spPr>
          <a:xfrm>
            <a:off x="539640" y="-10656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ель проекта: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работка и реализация методического инструментария по формированию профессиональной компетентности педагогических работников сельских школ через проектно-исследовательскую дея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4"/>
          <p:cNvSpPr/>
          <p:nvPr/>
        </p:nvSpPr>
        <p:spPr>
          <a:xfrm>
            <a:off x="250920" y="610920"/>
            <a:ext cx="871380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учить требования и рекомендации по разработке методического инструментария по профессиональной компетентности педагогических работников сельских школ через проектно-исследовательскую деятельность в условиях государственно-общественного управления образова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ь структуру и разработать содержание методического сопровождения по формированию профессиональной компетентности педагогических работников сельских школ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ать систему учебно-методического и материально-технического обеспечения методической работы по формированию профессиональной компетентности педагогических работ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2274120" y="691560"/>
            <a:ext cx="536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 предмет иссле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971640" y="1552680"/>
          <a:ext cx="7416720" cy="402264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2248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исследования 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ство учителей МБОУ «Балыклы –Чукаевская СОШ» Рыбно-Слободского муниципального района Республики Татарста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 исследования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ессиональная компетентность педагогических работников сельских школ через проектно-исследовательскую деятельност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4"/>
          <p:cNvSpPr/>
          <p:nvPr/>
        </p:nvSpPr>
        <p:spPr>
          <a:xfrm>
            <a:off x="0" y="224280"/>
            <a:ext cx="914400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апы реализаци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. Подготовительный 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015 – 2016 г.). Изучение нормативно-правовых документов по формированию профессиональной компетентности педагогических работников, разные формы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. Основной эта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016-  2017 г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аботка проектно-исследовательских методов, приемов, критериев, управленческих подходов в реализации методического инструментария  формирования профессиональной компетентности педагогических работник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III. Обобщающий этап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017-2018 гг.). Анализ реализации целей, задач и результатов программы методического сопровождения по формированию профессиональной компетентности педагогических работников через проектно-исследовательскую деятель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4"/>
          <p:cNvSpPr/>
          <p:nvPr/>
        </p:nvSpPr>
        <p:spPr>
          <a:xfrm>
            <a:off x="1624680" y="40356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826920" y="1052640"/>
          <a:ext cx="7632720" cy="53942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10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косрочные  результат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спешная мотивация педагогов к самореализации через проектно-исследовательскую деятель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Уровен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ми технологиями,  проблемного, проектно-исследовательского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нформированность педагогов по вопросам гражданского образования, технологий образовательного мониторинга и умение применять на практике полученные 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Коммуникативная компетентность(учитель-ученик-родител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госроч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Уровень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ния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ми деятельностного,  проблемного, проектно-исследовательского, 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Акмеологическая компетентность (способность к постоянному профессиональному совершенствованию, умение выбрать необходимые направления и формы деятельности для профессионального рос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Исследовательская и инновационная компетентнос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5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4"/>
          <p:cNvSpPr/>
          <p:nvPr/>
        </p:nvSpPr>
        <p:spPr>
          <a:xfrm>
            <a:off x="465480" y="426240"/>
            <a:ext cx="82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ки реализации проекта и пути их преодо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539640" y="1268280"/>
          <a:ext cx="7197840" cy="4937400"/>
        </p:xfrm>
        <a:graphic>
          <a:graphicData uri="http://schemas.openxmlformats.org/drawingml/2006/table">
            <a:tbl>
              <a:tblPr/>
              <a:tblGrid>
                <a:gridCol w="3672000"/>
                <a:gridCol w="35258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ти преодо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Грамотное построение методической работы с педагогическими кадрам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едостаточное овладение методикой организации проектно-исследовательской работ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Проблемы, связанные с особенностями личности педагог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Разработка локальных ак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Создание условия для эффективности работы всех участников образовательного процесса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4"/>
          <p:cNvSpPr/>
          <p:nvPr/>
        </p:nvSpPr>
        <p:spPr>
          <a:xfrm>
            <a:off x="250920" y="706680"/>
            <a:ext cx="88930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формирования профессиональной компетентности педагогических  работников можно использовать разные формы и методы. В Настоящее время это невозможно без изучения инновационных методик. В нашем проекте мы привели один из вариантов формирования профессиональной компетентности  педагогических работников через проектную деятельность.  Привлекая обучающихся в научно-проектную деятельность учитель привлекает учащихся к своему учебному предмету. Вместе с этим учитель сам повышает свой профессионализм.  Ведь без определенного знания учитель не может привлекать учащихся к проекту. Тем и повышается профессиональная компетентность учит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690560" y="1628640"/>
            <a:ext cx="640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5:58:55Z</dcterms:created>
  <dc:creator>Фанис</dc:creator>
  <dc:description/>
  <dc:language>en-US</dc:language>
  <cp:lastModifiedBy>ильнар</cp:lastModifiedBy>
  <dcterms:modified xsi:type="dcterms:W3CDTF">2017-01-18T23:51:53Z</dcterms:modified>
  <cp:revision>9</cp:revision>
  <dc:subject/>
  <dc:title>Слайд 1</dc:title>
</cp:coreProperties>
</file>