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0EC5-933F-472C-926F-ACB3DAE7E04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AE577-3A96-4F2C-B54A-60575B498D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9B2F-9B73-487A-877F-87D3827AD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AD0A-FC3D-499C-8B7A-B65AD00CA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5B41-1829-4308-8E7A-8A4D95347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A151-7EAD-4224-9CF7-8E7563236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17387-8A84-4D01-B192-C19AB04EC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09340-AC22-4BD9-AB56-8A893F805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40351-32C3-4DBB-A5A2-9478F6964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6D2D9-CA67-4BFB-8D25-43D154375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E6D42-F2ED-4743-8EDA-B5A264534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0A022-2D0A-4626-BDB3-33116B8BF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885C2-72A4-41E7-9AA5-D7DBC609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7897-2E15-403B-B39D-238D2702F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AEF44-397A-425F-BB62-43F7E845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A69D0-160E-4827-8E5B-7F8FAAB3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C4F38-89EB-477C-95A7-C1874046B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F5FC8-FA6B-4B33-A29C-C60724D72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E990A-1A3C-42AA-83E2-D8D36811A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CA56A-B00E-40C3-BD8E-995C7BD19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B3BFD-4C64-43E9-97BD-3EA7A388E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8DE90-6240-4AD1-8644-D706FA499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5B086-B290-4108-AD07-A0A88ADA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C2CAC-DE5F-4219-A61A-6FF7A484F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63D4-01FF-44C6-B613-4CC4FD971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E3E7A-8658-4920-BEF0-B3ECC6C61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E6D05-97FC-4E2D-9309-779AFEBF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48FCA-A15D-4B5C-AF42-5AD30C1E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17A43-DB0F-48EF-8B03-3948C109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F83C7-D2D5-4319-8A21-9D3B33573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7FFA4-B4D5-4981-99BB-63BF553E9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6715A-5638-4C6E-B7AE-C6B874320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B5B46-599F-44DA-AEA8-58DC5DAFC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7B377-A651-49F7-88BE-D2EC71FFD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8747D-2513-4BE5-8F4F-9D987CECD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C9F3-62E8-488A-B653-3319D20A5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F121E-5DD8-4498-B178-E9422EFB3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7AE51-8944-4958-9710-D2D10A37F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CDA6B-1A7D-4C7D-A6A8-791F14E82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0F271-4092-4E8A-9859-7A6358B6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55DF3-8617-4F75-8C14-E28926B8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C7FA2-1A14-4B47-ADAC-45284230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93A6B-87C8-4C37-A562-C0F7DE924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5BEAA-9A78-448F-97A8-F767B7622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F3E90-2570-4CED-A971-AAA172D8E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0CA0A-D120-4A91-BB76-8E907E439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0514-DB02-499B-B2B2-DA4FABDAF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7018F-389B-4832-A1BE-0988AB80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F9881-901A-4D3E-B651-746EF40A0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A95AC-D99D-45E9-8B0B-EB145A264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F9EF0-42C1-42E0-9761-88C95039B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6726F-0086-4202-BA79-A78B8B3E2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D130A-C531-4116-A68B-7E05A536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A1D3D-E56D-470F-8344-181F4B7D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B3C8C-FDD2-4694-A281-97B1DEB2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2EE5A-1FAC-4B1F-B360-8F92C7A9F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5C06C-679D-4E9B-9F38-44154EC7F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D051-2D76-4A8D-98B0-519149DDB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ED44F-76A8-40B9-8672-4E32D06BF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8EAC7D-E423-4B9E-A9BF-FC6C98B7F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CB446-7ED1-421C-92BA-FBA7CC40F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C08A1-FE76-4826-95FF-1978D4778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25942-C5CC-42DD-B511-E41E908B7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8E1C6-ED81-416D-931C-AF2F6B2D4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7517FC-4FFF-4D7C-975B-260858417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EDF17-6B40-4F09-8108-238B562E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194B2-FDF7-4720-9A66-0A0328EA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F42DE8-1BB9-4911-A12E-8DCB8793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6A18-3EBA-4AFD-8587-49705754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E48A7-C026-4CDA-A4A0-FCF22D03E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C34BC-32EE-42A5-A64F-8E0CD8C78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17AFF-C736-40A2-A790-0F127AAE0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529268-4C5E-4519-82E0-CF1D9282B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CD8F5D-43A3-4BE7-98D5-B1940E0FF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6C7C2E-89AB-4813-86E6-95E31C446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2C9C03-917C-48C8-8810-E9ABBD3B1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991A6-456D-4153-B4D0-222A63656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6CD79-18A6-4DCF-997B-B07269604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F73B9-567E-4904-8893-D50C8AC1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721F-0C90-4600-A6BD-BB5AC2BE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B563E-F4E0-4DEE-BA61-B220EE21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5F968-38E6-4CC7-B2BF-984755B6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58A21-E1ED-41FD-8099-77A86CD94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3811A-96F0-41AD-9DAA-0FFE470C3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01071D-BC4F-49E4-9A0B-2C1537BBA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ED9C-D759-4FC4-AA39-999F2479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AC168-CD76-4088-8830-1DE111ECFB1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20A32-298D-4CB2-8CCA-07C2E0EECDE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009FF-0394-4B98-B7D5-AC431A27A94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FCEDC-ADB0-42EA-B90B-A6E0AF275F9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4728D-5061-4BD0-8E0F-8CBE651C6DB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F8C28-A24B-482D-9F7F-AEDB6C96B5E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65258-6172-4BDC-96C6-F50272B2EDC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ffff"/>
                </a:solidFill>
                <a:latin typeface="Candar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3" name="ӘНИЕМ! - .mp3" descr=""/>
          <p:cNvPicPr/>
          <p:nvPr/>
        </p:nvPicPr>
        <p:blipFill>
          <a:blip r:embed="rId1"/>
          <a:stretch/>
        </p:blipFill>
        <p:spPr>
          <a:xfrm>
            <a:off x="1116000" y="5157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7"/>
          <p:cNvSpPr/>
          <p:nvPr/>
        </p:nvSpPr>
        <p:spPr>
          <a:xfrm>
            <a:off x="235800" y="260280"/>
            <a:ext cx="8638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«ФОРМИРОВАНИЕ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ОФЕССИОНАЛЬНОЙ КОМПЕТЕНТНОСТИ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ЕДАГОГИЧЕСКИХ РАБОТНИКОВ ЧЕРЕ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ОЕКТНО- ИССЛЕДОВАТЕЛЬСКУЮ  ДЕЯТЕЛЬНОСТЬ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3" descr=""/>
          <p:cNvPicPr/>
          <p:nvPr/>
        </p:nvPicPr>
        <p:blipFill>
          <a:blip r:embed="rId2"/>
          <a:stretch/>
        </p:blipFill>
        <p:spPr>
          <a:xfrm>
            <a:off x="324000" y="2276640"/>
            <a:ext cx="4392360" cy="381636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9"/>
          <p:cNvSpPr/>
          <p:nvPr/>
        </p:nvSpPr>
        <p:spPr>
          <a:xfrm>
            <a:off x="5148360" y="2133720"/>
            <a:ext cx="3600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Arial"/>
              </a:rPr>
              <a:t>Автор проек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уряхметова Рузалия Хузяхметовна, заместитель директора по ВР МБОУ «Балыклы-Чукаевская СОШ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6188" fill="hold"/>
                                        <p:tgtEl>
                                          <p:spTgt spid="3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4"/>
          <p:cNvSpPr/>
          <p:nvPr/>
        </p:nvSpPr>
        <p:spPr>
          <a:xfrm>
            <a:off x="539640" y="-106560"/>
            <a:ext cx="8353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Цель проекта: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зработка и реализация методического инструментария по формированию профессиональной компетентности педагогических работников сельских школ через проектно-исследовательскую деятельнос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4"/>
          <p:cNvSpPr/>
          <p:nvPr/>
        </p:nvSpPr>
        <p:spPr>
          <a:xfrm>
            <a:off x="250920" y="610920"/>
            <a:ext cx="871380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чи проек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зучить требования и рекомендации по разработке методического инструментария по профессиональной компетентности педагогических работников сельских школ через проектно-исследовательскую деятельность в условиях государственно-общественного управления образовани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пределить структуру и разработать содержание методического сопровождения по формированию профессиональной компетентности педагогических работников сельских школ.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ать систему учебно-методического и материально-технического обеспечения методической работы по формированию профессиональной компетентности педагогических работни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4"/>
          <p:cNvSpPr/>
          <p:nvPr/>
        </p:nvSpPr>
        <p:spPr>
          <a:xfrm>
            <a:off x="2274120" y="691560"/>
            <a:ext cx="536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 и предмет исслед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971640" y="1552680"/>
          <a:ext cx="7416720" cy="4022640"/>
        </p:xfrm>
        <a:graphic>
          <a:graphicData uri="http://schemas.openxmlformats.org/drawingml/2006/table">
            <a:tbl>
              <a:tblPr/>
              <a:tblGrid>
                <a:gridCol w="7416720"/>
              </a:tblGrid>
              <a:tr h="22248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кт исследования -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бщество учителей МБОУ «Балыклы –Чукаевская СОШ» Рыбно-Слободского муниципального района Республики Татарст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 исследования-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ессиональная компетентность педагогических работников сельских школ через проектно-исследовательскую деятельность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4"/>
          <p:cNvSpPr/>
          <p:nvPr/>
        </p:nvSpPr>
        <p:spPr>
          <a:xfrm>
            <a:off x="0" y="224280"/>
            <a:ext cx="9144000" cy="63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апы реализации пр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I. Подготовительный  эта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(2015 – 2016 г.). Изучение нормативно-правовых документов по формированию профессиональной компетентности педагогических работников, разные формы прое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II. Основной эта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(2016-  2017 гг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работка проектно-исследовательских методов, приемов, критериев, управленческих подходов в реализации методического инструментария  формирования профессиональной компетентности педагогических работнико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III. Обобщающий этап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2017-2018 гг.). Анализ реализации целей, задач и результатов программы методического сопровождения по формированию профессиональной компетентности педагогических работников через проектно-исследовательскую деятельност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4"/>
          <p:cNvSpPr/>
          <p:nvPr/>
        </p:nvSpPr>
        <p:spPr>
          <a:xfrm>
            <a:off x="1624680" y="403560"/>
            <a:ext cx="63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жидаемые результаты реализации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826920" y="1052640"/>
          <a:ext cx="7632720" cy="5394240"/>
        </p:xfrm>
        <a:graphic>
          <a:graphicData uri="http://schemas.openxmlformats.org/drawingml/2006/table">
            <a:tbl>
              <a:tblPr/>
              <a:tblGrid>
                <a:gridCol w="7632720"/>
              </a:tblGrid>
              <a:tr h="3109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5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5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ткосрочные  результаты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5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Успешная мотивация педагогов к самореализации через проектно-исследовательскую деятельность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5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Уровень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дени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ременными технологиями,  проблемного, проектно-исследовательского обуч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5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Информированность педагогов по вопросам гражданского образования, технологий образовательного мониторинга и умение применять на практике полученные зна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5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Коммуникативная компетентность(учитель-ученик-родитель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5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5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госрочные результ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5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Уровень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дени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ологиями деятельностного,  проблемного, проектно-исследовательского,  обуч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5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Акмеологическая компетентность (способность к постоянному профессиональному совершенствованию, умение выбрать необходимые направления и формы деятельности для профессионального рост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5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Исследовательская и инновационная компетентность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5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4"/>
          <p:cNvSpPr/>
          <p:nvPr/>
        </p:nvSpPr>
        <p:spPr>
          <a:xfrm>
            <a:off x="465480" y="426240"/>
            <a:ext cx="82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ки реализации проекта и пути их преодо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539640" y="1268280"/>
          <a:ext cx="7197840" cy="4937400"/>
        </p:xfrm>
        <a:graphic>
          <a:graphicData uri="http://schemas.openxmlformats.org/drawingml/2006/table">
            <a:tbl>
              <a:tblPr/>
              <a:tblGrid>
                <a:gridCol w="3672000"/>
                <a:gridCol w="352584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с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ти преодол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516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Грамотное построение методической работы с педагогическими кадрам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Недостаточное овладение методикой организации проектно-исследовательской работы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Проблемы, связанные с особенностями личности педагог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Разработка локальных акто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Создание условия для эффективности работы всех участников образовательного процесса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4"/>
          <p:cNvSpPr/>
          <p:nvPr/>
        </p:nvSpPr>
        <p:spPr>
          <a:xfrm>
            <a:off x="250920" y="706680"/>
            <a:ext cx="889308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формирования профессиональной компетентности педагогических  работников можно использовать разные формы и методы. В Настоящее время это невозможно без изучения инновационных методик. В нашем проекте мы привели один из вариантов формирования профессиональной компетентности  педагогических работников через проектную деятельность.  Привлекая обучающихся в научно-проектную деятельность учитель привлекает учащихся к своему учебному предмету. Вместе с этим учитель сам повышает свой профессионализм.  Ведь без определенного знания учитель не может привлекать учащихся к проекту. Тем и повышается профессиональная компетентность учител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4"/>
          <p:cNvSpPr/>
          <p:nvPr/>
        </p:nvSpPr>
        <p:spPr>
          <a:xfrm>
            <a:off x="1690560" y="1628640"/>
            <a:ext cx="640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2T15:58:55Z</dcterms:created>
  <dc:creator>Фанис</dc:creator>
  <dc:description/>
  <dc:language>en-US</dc:language>
  <cp:lastModifiedBy>ильнар</cp:lastModifiedBy>
  <dcterms:modified xsi:type="dcterms:W3CDTF">2017-01-18T23:51:53Z</dcterms:modified>
  <cp:revision>9</cp:revision>
  <dc:subject/>
  <dc:title>Слайд 1</dc:title>
</cp:coreProperties>
</file>