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gif" ContentType="image/gif"/>
  <Override PartName="/ppt/media/image28.png" ContentType="image/png"/>
  <Override PartName="/ppt/media/image5.gif" ContentType="image/gif"/>
  <Override PartName="/ppt/media/image35.gif" ContentType="image/gif"/>
  <Override PartName="/ppt/media/image38.jpeg" ContentType="image/jpeg"/>
  <Override PartName="/ppt/media/image25.gif" ContentType="image/gif"/>
  <Override PartName="/ppt/media/image27.png" ContentType="image/png"/>
  <Override PartName="/ppt/media/image4.gif" ContentType="image/gif"/>
  <Override PartName="/ppt/media/image34.gif" ContentType="image/gif"/>
  <Override PartName="/ppt/media/image8.wmf" ContentType="image/x-wmf"/>
  <Override PartName="/ppt/media/image10.gif" ContentType="image/gif"/>
  <Override PartName="/ppt/media/image29.gif" ContentType="image/gif"/>
  <Override PartName="/ppt/media/image11.gif" ContentType="image/gif"/>
  <Override PartName="/ppt/media/image32.gif" ContentType="image/gif"/>
  <Override PartName="/ppt/media/image12.gif" ContentType="image/gif"/>
  <Override PartName="/ppt/media/image30.jpeg" ContentType="image/jpeg"/>
  <Override PartName="/ppt/media/image9.gif" ContentType="image/gif"/>
  <Override PartName="/ppt/media/image7.gif" ContentType="image/gif"/>
  <Override PartName="/ppt/media/image37.gif" ContentType="image/gif"/>
  <Override PartName="/ppt/media/image2.jpeg" ContentType="image/jpeg"/>
  <Override PartName="/ppt/media/image23.jpeg" ContentType="image/jpeg"/>
  <Override PartName="/ppt/media/image13.gif" ContentType="image/gif"/>
  <Override PartName="/ppt/media/image33.gif" ContentType="image/gif"/>
  <Override PartName="/ppt/media/image36.png" ContentType="image/png"/>
  <Override PartName="/ppt/media/image1.jpeg" ContentType="image/jpeg"/>
  <Override PartName="/ppt/media/image3.png" ContentType="image/png"/>
  <Override PartName="/ppt/media/image31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6.gif" ContentType="image/gif"/>
  <Override PartName="/ppt/media/image21.jpeg" ContentType="image/jpeg"/>
  <Override PartName="/ppt/media/image22.png" ContentType="image/png"/>
  <Override PartName="/ppt/media/image18.gif" ContentType="image/gif"/>
  <Override PartName="/ppt/media/image20.gif" ContentType="image/gif"/>
  <Override PartName="/ppt/media/image19.gif" ContentType="image/gif"/>
  <Override PartName="/ppt/media/image24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9E44-04A9-4A4D-9581-6A4FDDB2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6A1-2F7E-4F54-B338-7230D441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8E30-33D6-4E36-BC8F-6DB375FF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F1C-275C-42C1-B9CA-E641B758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9BC4-19AC-4D5A-8176-AE304B35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7B05-E77A-46BD-9F8A-81154C1D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1C0E-DD45-44E5-B4F2-16CBD662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4C08-6F35-43C8-88FB-CDEC1C11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30C8-5AAE-41E2-8599-ABFA5E196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CAE2-5596-4B66-AC0E-B9D627AE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4A0A-BFBD-4EFB-BE90-4F4A23FB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BE84-B827-4E2A-B7E5-4B1947C9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4BE7-7AE6-49AB-8509-2821B9F1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9700-9057-4256-8F17-96F9474E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D8F1-E4B7-41F2-A279-266FD0A5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E1A8-B295-45AE-AB83-8C87A9B4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3D23-3C96-4C5B-A564-9AA8F7FD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E94-A2ED-4843-ABEA-55FCB597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C01-66B9-4990-9CAF-70130673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23A-D3FF-4247-98C2-BB28E6E0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DAFB-096B-494F-A3CF-9DAEFEAD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1F3-AD84-4D1E-A574-0B2FFBE0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9C25-2D69-4E62-BF76-7A8F8799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870-B05C-4A18-B7BD-BFE8BC28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BF16-957F-4A5A-AAFA-161F9D0083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C599-C570-47C1-92ED-BB0AE8EC80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3.jpe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gif"/><Relationship Id="rId5" Type="http://schemas.openxmlformats.org/officeDocument/2006/relationships/image" Target="../media/image31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10.gif"/><Relationship Id="rId5" Type="http://schemas.openxmlformats.org/officeDocument/2006/relationships/image" Target="../media/image36.png"/><Relationship Id="rId6" Type="http://schemas.openxmlformats.org/officeDocument/2006/relationships/image" Target="../media/image37.gif"/><Relationship Id="rId7" Type="http://schemas.openxmlformats.org/officeDocument/2006/relationships/image" Target="../media/image38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6.gif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987120" y="4581360"/>
            <a:ext cx="755964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Times New Roman"/>
              </a:rPr>
              <a:t>Автор проекта:</a:t>
            </a:r>
            <a:r>
              <a:rPr b="0" lang="ru-RU" sz="2000" spc="-1" strike="noStrike">
                <a:solidFill>
                  <a:srgbClr val="00cc00"/>
                </a:solidFill>
                <a:latin typeface="Arial"/>
              </a:rPr>
              <a:t> Черевашенко Я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00"/>
                </a:solidFill>
                <a:latin typeface="Times New Roman"/>
              </a:rPr>
              <a:t>Руководитель проекта: Тополницкая Анна Васил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684360" y="4491000"/>
            <a:ext cx="78483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1547640" y="5549760"/>
            <a:ext cx="6400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д составления – 1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рок реализации – сентябрь 2015 май 2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79280" y="185760"/>
            <a:ext cx="874872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униципальное бюджетное общеобразовательное учреждение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Средняя общеобразовательная школа №1»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.Ханымей Пуров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468360" y="1484280"/>
            <a:ext cx="835344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ЦИАЛЬНЫЙ ПРОЕКТ ШКОЛЬНОЙ ГАЗ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«ПЕРЕМЕ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87640" y="2462040"/>
            <a:ext cx="3024360" cy="1936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Рисунок61"/>
          <p:cNvPicPr/>
          <p:nvPr/>
        </p:nvPicPr>
        <p:blipFill>
          <a:blip r:embed="rId1"/>
          <a:stretch/>
        </p:blipFill>
        <p:spPr>
          <a:xfrm>
            <a:off x="1547640" y="189000"/>
            <a:ext cx="7128000" cy="62150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Критерии эффективност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640" y="1412640"/>
            <a:ext cx="79581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Востребованность проекта, охват детей и подростков, привлечение    общественности, специалис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Состояние эмоционально-деловых отношений участников про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Уровень информационной культуры участников про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imes New Roman"/>
              </a:rPr>
              <a:t>Качество и профессионализм газет, созданных в рамках про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4_s"/>
          <p:cNvPicPr/>
          <p:nvPr/>
        </p:nvPicPr>
        <p:blipFill>
          <a:blip r:embed="rId2"/>
          <a:stretch/>
        </p:blipFill>
        <p:spPr>
          <a:xfrm>
            <a:off x="179280" y="4365720"/>
            <a:ext cx="152712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_icon_stars"/>
          <p:cNvPicPr/>
          <p:nvPr/>
        </p:nvPicPr>
        <p:blipFill>
          <a:blip r:embed="rId3"/>
          <a:stretch/>
        </p:blipFill>
        <p:spPr>
          <a:xfrm>
            <a:off x="8424720" y="0"/>
            <a:ext cx="719280" cy="650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008000"/>
            </a:gs>
            <a:gs pos="100000">
              <a:srgbClr val="ff66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Рисунок61"/>
          <p:cNvPicPr/>
          <p:nvPr/>
        </p:nvPicPr>
        <p:blipFill>
          <a:blip r:embed="rId1"/>
          <a:stretch/>
        </p:blipFill>
        <p:spPr>
          <a:xfrm>
            <a:off x="1042920" y="260280"/>
            <a:ext cx="7128000" cy="62150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15640" y="549360"/>
            <a:ext cx="75819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Ожидаемые количественные результаты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000" y="1557360"/>
            <a:ext cx="755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Проведение учебных занятий –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Выпуск рекламных листовок  –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Презентация первого номера –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Выпуск газет – 4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раза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в меся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Количество учащихся обученных азам журналистской профессии –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Заметка в районную газету о работе пресс-центра –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рисунок219"/>
          <p:cNvPicPr/>
          <p:nvPr/>
        </p:nvPicPr>
        <p:blipFill>
          <a:blip r:embed="rId2"/>
          <a:stretch/>
        </p:blipFill>
        <p:spPr>
          <a:xfrm>
            <a:off x="7164360" y="4941720"/>
            <a:ext cx="1728720" cy="1729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icon3"/>
          <p:cNvPicPr/>
          <p:nvPr/>
        </p:nvPicPr>
        <p:blipFill>
          <a:blip r:embed="rId3"/>
          <a:stretch/>
        </p:blipFill>
        <p:spPr>
          <a:xfrm>
            <a:off x="179280" y="40464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8000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Рисунок61"/>
          <p:cNvPicPr/>
          <p:nvPr/>
        </p:nvPicPr>
        <p:blipFill>
          <a:blip r:embed="rId1"/>
          <a:stretch/>
        </p:blipFill>
        <p:spPr>
          <a:xfrm>
            <a:off x="1042920" y="260280"/>
            <a:ext cx="7489800" cy="62150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6920" y="404280"/>
            <a:ext cx="75106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Ожидаемые качественные результат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770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Создание школьного пресс-цент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Обучение детей и подростков азам журналистской профессии и компьютерной верст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овышение информационной культуры  участников про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ривлечение внимания общественности к проблемам детей и подрост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риобретение участниками проекта навыков социального поведения и применения их в повседневной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Сплочение детского коллектива, развитие творческих способностей детей и подростков, саморазвитие, самовыражение личности на основе познавательной дея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6" descr="icon3"/>
          <p:cNvPicPr/>
          <p:nvPr/>
        </p:nvPicPr>
        <p:blipFill>
          <a:blip r:embed="rId2"/>
          <a:stretch/>
        </p:blipFill>
        <p:spPr>
          <a:xfrm>
            <a:off x="250920" y="404640"/>
            <a:ext cx="1008000" cy="1008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80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Рисунок61"/>
          <p:cNvPicPr/>
          <p:nvPr/>
        </p:nvPicPr>
        <p:blipFill>
          <a:blip r:embed="rId1"/>
          <a:stretch/>
        </p:blipFill>
        <p:spPr>
          <a:xfrm>
            <a:off x="755640" y="404640"/>
            <a:ext cx="7632720" cy="6120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7129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Перспективы развития проек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6920" y="1125360"/>
            <a:ext cx="749016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ривлечение большего числа детей и подростков к реализации проек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Участие в пропаганде работы пресс-цент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Организация регулярного издания школьной газ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ередача накопленного опыта детям, желающим принять участие в работе пресс-цент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Объединение в едином информационном пространстве детей и подростков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Сотрудничество с издательствами других шко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Освещение работы пресс-центра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в средствах масс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icon3"/>
          <p:cNvPicPr/>
          <p:nvPr/>
        </p:nvPicPr>
        <p:blipFill>
          <a:blip r:embed="rId2"/>
          <a:stretch/>
        </p:blipFill>
        <p:spPr>
          <a:xfrm>
            <a:off x="250920" y="5661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35280" y="244080"/>
            <a:ext cx="700704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Партнерство в рамках проек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Oval 4"/>
          <p:cNvSpPr/>
          <p:nvPr/>
        </p:nvSpPr>
        <p:spPr>
          <a:xfrm>
            <a:off x="3276720" y="3068640"/>
            <a:ext cx="2952720" cy="208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ресс-центр МБОУ СОШ №1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.Ханым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6588000" y="4221000"/>
            <a:ext cx="1944720" cy="865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одительск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ществен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419640" y="1628640"/>
            <a:ext cx="2592360" cy="8654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Школьный сай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5364000" y="5373720"/>
            <a:ext cx="1656000" cy="10080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МИ районн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Газ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«Северный луч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1692360" y="5084640"/>
            <a:ext cx="1655640" cy="1008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ресс-центр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школ райо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айты шко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6300720" y="2565360"/>
            <a:ext cx="2592360" cy="8650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Администраци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педагог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пециалисты школ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84360" y="3141720"/>
            <a:ext cx="1944720" cy="863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ов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старшеклассник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МБОУ СОШ №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2"/>
          <p:cNvSpPr/>
          <p:nvPr/>
        </p:nvSpPr>
        <p:spPr>
          <a:xfrm flipH="1" flipV="1">
            <a:off x="2626920" y="3860640"/>
            <a:ext cx="7938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6012000" y="3212640"/>
            <a:ext cx="3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Line 14"/>
          <p:cNvSpPr/>
          <p:nvPr/>
        </p:nvSpPr>
        <p:spPr>
          <a:xfrm flipV="1">
            <a:off x="4643280" y="378900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15"/>
          <p:cNvSpPr/>
          <p:nvPr/>
        </p:nvSpPr>
        <p:spPr>
          <a:xfrm flipH="1">
            <a:off x="3276360" y="4797360"/>
            <a:ext cx="64764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16"/>
          <p:cNvSpPr/>
          <p:nvPr/>
        </p:nvSpPr>
        <p:spPr>
          <a:xfrm>
            <a:off x="5219640" y="5229360"/>
            <a:ext cx="14436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18"/>
          <p:cNvSpPr/>
          <p:nvPr/>
        </p:nvSpPr>
        <p:spPr>
          <a:xfrm>
            <a:off x="6156360" y="472428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13"/>
          <p:cNvSpPr/>
          <p:nvPr/>
        </p:nvSpPr>
        <p:spPr>
          <a:xfrm flipV="1">
            <a:off x="4500720" y="2491920"/>
            <a:ext cx="360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50000">
              <a:srgbClr val="008000"/>
            </a:gs>
            <a:gs pos="100000">
              <a:srgbClr val="ff66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3851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c3300"/>
                </a:solidFill>
                <a:uFillTx/>
                <a:latin typeface="Times New Roman"/>
              </a:rPr>
              <a:t>Кадры проек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496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Учредитель  проект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директор МБОУ «СОШ №1» п.Ханым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Технический редакто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 зам.директора по О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Авторы проект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– Тополницкая Анна Васильев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Техники  и корреспонденты проект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- из числа учащихся школ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Главный редактор проект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- педагог-филолог,   на усмотрение администрации школ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f4fd"/>
            </a:gs>
            <a:gs pos="50000">
              <a:srgbClr val="008000"/>
            </a:gs>
            <a:gs pos="100000">
              <a:srgbClr val="9bf4f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5834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Материально-техническая база проект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734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2 персональных компьютер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рограммное обеспече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цветной лазерный принтер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цифровая фотокамер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брошюровщик (для подшивки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резентационное оборудование, т.к. считаем полезным презентовать свое издани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диктофо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выход в Интерн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Считаем необходим выделить помещение для редакции газ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6" descr="комп"/>
          <p:cNvPicPr/>
          <p:nvPr/>
        </p:nvPicPr>
        <p:blipFill>
          <a:blip r:embed="rId2"/>
          <a:stretch/>
        </p:blipFill>
        <p:spPr>
          <a:xfrm>
            <a:off x="5940360" y="1484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677880"/>
            <a:ext cx="838512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 Black"/>
              </a:rPr>
              <a:t>Смета расход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55280" y="1483920"/>
            <a:ext cx="748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Канцтовары (бумага «Снегурочка, ручки, карандаши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Картриджи на цветной лазерный прин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Цифровой фотоаппар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_icon_stars"/>
          <p:cNvPicPr/>
          <p:nvPr/>
        </p:nvPicPr>
        <p:blipFill>
          <a:blip r:embed="rId2"/>
          <a:stretch/>
        </p:blipFill>
        <p:spPr>
          <a:xfrm>
            <a:off x="324000" y="189000"/>
            <a:ext cx="718920" cy="650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комп"/>
          <p:cNvPicPr/>
          <p:nvPr/>
        </p:nvPicPr>
        <p:blipFill>
          <a:blip r:embed="rId3"/>
          <a:stretch/>
        </p:blipFill>
        <p:spPr>
          <a:xfrm>
            <a:off x="5940360" y="400536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835280" y="244440"/>
            <a:ext cx="5905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Comic Sans MS"/>
              </a:rPr>
              <a:t>Мы предлагае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Выпускать 4 номера в месяц – три для старшей школы и один для начальной. Всего 36 номеров  в год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зПартп"/>
          <p:cNvPicPr/>
          <p:nvPr/>
        </p:nvPicPr>
        <p:blipFill>
          <a:blip r:embed="rId2"/>
          <a:stretch/>
        </p:blipFill>
        <p:spPr>
          <a:xfrm>
            <a:off x="6443640" y="4648320"/>
            <a:ext cx="240984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50000">
              <a:srgbClr val="ffccff"/>
            </a:gs>
            <a:gs pos="100000">
              <a:srgbClr val="ff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330720" y="244440"/>
            <a:ext cx="5511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Результаты анкетирова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1" name="Picture 3" descr="пишу"/>
          <p:cNvPicPr/>
          <p:nvPr/>
        </p:nvPicPr>
        <p:blipFill>
          <a:blip r:embed="rId1"/>
          <a:stretch/>
        </p:blipFill>
        <p:spPr>
          <a:xfrm flipH="1">
            <a:off x="324000" y="3716280"/>
            <a:ext cx="1412640" cy="180180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4"/>
          <p:cNvSpPr/>
          <p:nvPr/>
        </p:nvSpPr>
        <p:spPr>
          <a:xfrm>
            <a:off x="684360" y="1125360"/>
            <a:ext cx="3743280" cy="1584360"/>
          </a:xfrm>
          <a:prstGeom prst="wedgeRoundRectCallout">
            <a:avLst>
              <a:gd name="adj1" fmla="val -36430"/>
              <a:gd name="adj2" fmla="val 118236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Кто из учителей должен принимать участие в школьной газет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5003640" y="2492280"/>
            <a:ext cx="3637080" cy="4178520"/>
          </a:xfrm>
          <a:prstGeom prst="foldedCorner">
            <a:avLst>
              <a:gd name="adj" fmla="val 125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Завуч по 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ителя-филоло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Педагог-организат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Социальный педаго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" descr="зПартп"/>
          <p:cNvPicPr/>
          <p:nvPr/>
        </p:nvPicPr>
        <p:blipFill>
          <a:blip r:embed="rId2"/>
          <a:stretch/>
        </p:blipFill>
        <p:spPr>
          <a:xfrm>
            <a:off x="1763640" y="3284640"/>
            <a:ext cx="240984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008000"/>
            </a:gs>
            <a:gs pos="100000">
              <a:srgbClr val="ccff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00"/>
                </a:solidFill>
                <a:latin typeface="Times New Roman"/>
              </a:rPr>
              <a:t>Цели проекта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8007480" cy="24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1. Содействие формированию и развитию творческих способностей детей и подростков  МБОУ СОШ №1 путем издания школьной газе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2. Развитие ученического само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3. Создать  живую, активно работающую информационную среду через издание школьной газе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56360" y="3951360"/>
            <a:ext cx="2790720" cy="2906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008000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Результаты анкетировани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06" name="Picture 3" descr="пишу"/>
          <p:cNvPicPr/>
          <p:nvPr/>
        </p:nvPicPr>
        <p:blipFill>
          <a:blip r:embed="rId1"/>
          <a:stretch/>
        </p:blipFill>
        <p:spPr>
          <a:xfrm flipH="1">
            <a:off x="-360" y="3429000"/>
            <a:ext cx="1413000" cy="18018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зПартп"/>
          <p:cNvPicPr/>
          <p:nvPr/>
        </p:nvPicPr>
        <p:blipFill>
          <a:blip r:embed="rId2"/>
          <a:stretch/>
        </p:blipFill>
        <p:spPr>
          <a:xfrm>
            <a:off x="3924360" y="2781360"/>
            <a:ext cx="2089080" cy="191592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5"/>
          <p:cNvSpPr/>
          <p:nvPr/>
        </p:nvSpPr>
        <p:spPr>
          <a:xfrm>
            <a:off x="2627280" y="765000"/>
            <a:ext cx="3457440" cy="1511640"/>
          </a:xfrm>
          <a:prstGeom prst="wedgeRoundRectCallout">
            <a:avLst>
              <a:gd name="adj1" fmla="val -85263"/>
              <a:gd name="adj2" fmla="val 135819"/>
              <a:gd name="adj3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Кто из учеников может, по Вашему мнению, принимать участие в выпуске номеров школьной газет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6465960" y="1500120"/>
            <a:ext cx="2498760" cy="2649600"/>
          </a:xfrm>
          <a:prstGeom prst="wedgeRoundRectCallout">
            <a:avLst>
              <a:gd name="adj1" fmla="val -85259"/>
              <a:gd name="adj2" fmla="val -208"/>
              <a:gd name="adj3" fmla="val 16667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Галлямова 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амина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рянская Окс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Васько Анаста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етрук Екате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Чепелева Инна</a:t>
            </a:r>
            <a:r>
              <a:rPr b="0" lang="ru-RU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1187280" y="4094280"/>
            <a:ext cx="2953080" cy="2503440"/>
          </a:xfrm>
          <a:prstGeom prst="wedgeRoundRectCallout">
            <a:avLst>
              <a:gd name="adj1" fmla="val 61560"/>
              <a:gd name="adj2" fmla="val -63444"/>
              <a:gd name="adj3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ндреева Вале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огомолова Кс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апша Натал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алых Пол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урайкина Евг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ожкова Анаста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5219640" y="5300640"/>
            <a:ext cx="3384720" cy="1368360"/>
          </a:xfrm>
          <a:prstGeom prst="wedgeRoundRectCallout">
            <a:avLst>
              <a:gd name="adj1" fmla="val -48782"/>
              <a:gd name="adj2" fmla="val -161138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Есть ещё мнение: в работе над газетой могут принимать участие ВСЕ желающи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5616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244440"/>
            <a:ext cx="7632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Мы разработали следующие документы: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4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Положение о свободной школьной газе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«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еремена 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»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Обязанности главного редакто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Обязанности технического редакто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Нормы сдачи статей в редакци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Правила сдачи материалов в редакц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Общее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положение о школьных средствах массовой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611280" y="2565360"/>
            <a:ext cx="8137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boyany-1158221530_i_9674_full"/>
          <p:cNvPicPr/>
          <p:nvPr/>
        </p:nvPicPr>
        <p:blipFill>
          <a:blip r:embed="rId2"/>
          <a:stretch/>
        </p:blipFill>
        <p:spPr>
          <a:xfrm>
            <a:off x="7164360" y="5157720"/>
            <a:ext cx="1459080" cy="1379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8000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640" y="244440"/>
            <a:ext cx="75614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Обязанности главного редактор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В начале учебного года предлагает темы для творческого конкурса корреспонд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Занимается сбором и подбором сданного материала, как текстового,  так и иллюстративног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ри необходимости проводит литературную обработку текста, исправляет грамматические, орфографические и прочие ошиб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Участвует в наборе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ринимает участие в разработке оригинал – мак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Просматривает и проверяет оригинал – макет издания перед печат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Директор"/>
          <p:cNvPicPr/>
          <p:nvPr/>
        </p:nvPicPr>
        <p:blipFill>
          <a:blip r:embed="rId2"/>
          <a:stretch/>
        </p:blipFill>
        <p:spPr>
          <a:xfrm>
            <a:off x="6300720" y="5229360"/>
            <a:ext cx="1511280" cy="1495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50000">
              <a:srgbClr val="008000"/>
            </a:gs>
            <a:gs pos="100000">
              <a:srgbClr val="cc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84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Обязанности технического редактор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65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Набирает текст из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Ведет подбор иллюстративного материала, при необходимости проводит его обработку для из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Оформляет титульные лис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Отвечает за внутреннее оформление текста (шрифты, буквицы и т.д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Верстает оригинал – макет и распечатывает из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5" descr="Никитин"/>
          <p:cNvPicPr/>
          <p:nvPr/>
        </p:nvPicPr>
        <p:blipFill>
          <a:blip r:embed="rId2"/>
          <a:stretch/>
        </p:blipFill>
        <p:spPr>
          <a:xfrm>
            <a:off x="6732720" y="4797360"/>
            <a:ext cx="2016000" cy="1679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008000"/>
            </a:gs>
            <a:gs pos="100000">
              <a:srgbClr val="ff99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Обязанности корреспондентов газеты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26" name="Picture 3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74880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Для корреспондентов газе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Каждый класс в начале учебного года избирает корреспондента в школьную газету «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». Участие этого человека в собраниях редакционного коллектива, а также в подготовке материала и издании газеты является ОБЯЗАТЕЛЬНЫМ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Корреспондент обязан в сроки, заявленные главным редактором газеты, сдать от имени своего класса конкурсную статью на заданную тему. Корреспондент должен в меру своих творческих способностей помогать изданию школьной газеты,  принося в редакцию заметки, напрямую не относящиеся к заявленной конкурсной теме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5" descr="133"/>
          <p:cNvPicPr/>
          <p:nvPr/>
        </p:nvPicPr>
        <p:blipFill>
          <a:blip r:embed="rId2"/>
          <a:stretch/>
        </p:blipFill>
        <p:spPr>
          <a:xfrm>
            <a:off x="3059280" y="5373720"/>
            <a:ext cx="2304720" cy="1297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Правила сдачи статей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30" name="Picture 3" descr="Рисунок61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62150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03280" y="476280"/>
            <a:ext cx="68407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mic Sans MS"/>
              </a:rPr>
              <a:t>При сдаче статей в редакцию автор должен руководствоваться нижеследующими норм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Статья должна быть сдана в печатном виде (желательно на электронном носителе). Если нет возможности напечатать работу, то нужно аккуратно переписать ее на двойной лист бумаг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В сданной работе обязательно должно быть указано название, фамилия и имя автора (полностью), класс. При отсутствии этих сведений работа засчитана не буде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Если в статье используется иллюстративный материал, он также должен быть подписан или передан в редакцию на электронном носителе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_icon_music2"/>
          <p:cNvPicPr/>
          <p:nvPr/>
        </p:nvPicPr>
        <p:blipFill>
          <a:blip r:embed="rId2"/>
          <a:stretch/>
        </p:blipFill>
        <p:spPr>
          <a:xfrm>
            <a:off x="324000" y="476280"/>
            <a:ext cx="934920" cy="846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_icon_music1"/>
          <p:cNvPicPr/>
          <p:nvPr/>
        </p:nvPicPr>
        <p:blipFill>
          <a:blip r:embed="rId3"/>
          <a:stretch/>
        </p:blipFill>
        <p:spPr>
          <a:xfrm>
            <a:off x="7667640" y="5157720"/>
            <a:ext cx="1008000" cy="912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141"/>
          <p:cNvPicPr/>
          <p:nvPr/>
        </p:nvPicPr>
        <p:blipFill>
          <a:blip r:embed="rId4"/>
          <a:stretch/>
        </p:blipFill>
        <p:spPr>
          <a:xfrm>
            <a:off x="260280" y="4365720"/>
            <a:ext cx="1401840" cy="1942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_icon_music1"/>
          <p:cNvPicPr/>
          <p:nvPr/>
        </p:nvPicPr>
        <p:blipFill>
          <a:blip r:embed="rId5"/>
          <a:stretch/>
        </p:blipFill>
        <p:spPr>
          <a:xfrm>
            <a:off x="684360" y="1052640"/>
            <a:ext cx="1008000" cy="912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_icon_music2"/>
          <p:cNvPicPr/>
          <p:nvPr/>
        </p:nvPicPr>
        <p:blipFill>
          <a:blip r:embed="rId6"/>
          <a:stretch/>
        </p:blipFill>
        <p:spPr>
          <a:xfrm>
            <a:off x="8209080" y="5734080"/>
            <a:ext cx="934920" cy="846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5" descr="Машка"/>
          <p:cNvPicPr/>
          <p:nvPr/>
        </p:nvPicPr>
        <p:blipFill>
          <a:blip r:embed="rId1"/>
          <a:stretch/>
        </p:blipFill>
        <p:spPr>
          <a:xfrm>
            <a:off x="7318440" y="4941720"/>
            <a:ext cx="1542960" cy="1657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В школу"/>
          <p:cNvPicPr/>
          <p:nvPr/>
        </p:nvPicPr>
        <p:blipFill>
          <a:blip r:embed="rId2"/>
          <a:stretch/>
        </p:blipFill>
        <p:spPr>
          <a:xfrm flipH="1">
            <a:off x="7667640" y="2708280"/>
            <a:ext cx="936720" cy="1641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Никит ИН"/>
          <p:cNvPicPr/>
          <p:nvPr/>
        </p:nvPicPr>
        <p:blipFill>
          <a:blip r:embed="rId3"/>
          <a:stretch/>
        </p:blipFill>
        <p:spPr>
          <a:xfrm>
            <a:off x="468360" y="549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8" descr="новости"/>
          <p:cNvPicPr/>
          <p:nvPr/>
        </p:nvPicPr>
        <p:blipFill>
          <a:blip r:embed="rId4"/>
          <a:stretch/>
        </p:blipFill>
        <p:spPr>
          <a:xfrm>
            <a:off x="3419640" y="2565360"/>
            <a:ext cx="1755720" cy="2305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Учитель"/>
          <p:cNvPicPr/>
          <p:nvPr/>
        </p:nvPicPr>
        <p:blipFill>
          <a:blip r:embed="rId5"/>
          <a:stretch/>
        </p:blipFill>
        <p:spPr>
          <a:xfrm>
            <a:off x="3492360" y="476280"/>
            <a:ext cx="1773360" cy="13478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1" descr="учитель3"/>
          <p:cNvPicPr/>
          <p:nvPr/>
        </p:nvPicPr>
        <p:blipFill>
          <a:blip r:embed="rId6"/>
          <a:stretch/>
        </p:blipFill>
        <p:spPr>
          <a:xfrm>
            <a:off x="395280" y="2708280"/>
            <a:ext cx="1873080" cy="124920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17"/>
          <p:cNvSpPr/>
          <p:nvPr/>
        </p:nvSpPr>
        <p:spPr>
          <a:xfrm>
            <a:off x="5003640" y="1341360"/>
            <a:ext cx="3745080" cy="1224000"/>
          </a:xfrm>
          <a:prstGeom prst="cloudCallout">
            <a:avLst>
              <a:gd name="adj1" fmla="val -44828"/>
              <a:gd name="adj2" fmla="val 107458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Быть или не бы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школьной газет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18"/>
          <p:cNvSpPr/>
          <p:nvPr/>
        </p:nvSpPr>
        <p:spPr>
          <a:xfrm>
            <a:off x="2195640" y="1125360"/>
            <a:ext cx="3024000" cy="1224000"/>
          </a:xfrm>
          <a:prstGeom prst="wedgeEllipseCallout">
            <a:avLst>
              <a:gd name="adj1" fmla="val -57347"/>
              <a:gd name="adj2" fmla="val -47666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Школьной газете бы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19"/>
          <p:cNvSpPr/>
          <p:nvPr/>
        </p:nvSpPr>
        <p:spPr>
          <a:xfrm>
            <a:off x="5940360" y="189000"/>
            <a:ext cx="2879640" cy="1152360"/>
          </a:xfrm>
          <a:prstGeom prst="wedgeEllipseCallout">
            <a:avLst>
              <a:gd name="adj1" fmla="val -73486"/>
              <a:gd name="adj2" fmla="val 35398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Школьной газете бы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Простите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0"/>
          <p:cNvSpPr/>
          <p:nvPr/>
        </p:nvSpPr>
        <p:spPr>
          <a:xfrm>
            <a:off x="1835280" y="2708280"/>
            <a:ext cx="3600360" cy="1008000"/>
          </a:xfrm>
          <a:prstGeom prst="wedgeEllipseCallout">
            <a:avLst>
              <a:gd name="adj1" fmla="val -58643"/>
              <a:gd name="adj2" fmla="val 17402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Школьной газете быт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1"/>
          <p:cNvSpPr/>
          <p:nvPr/>
        </p:nvSpPr>
        <p:spPr>
          <a:xfrm>
            <a:off x="5435640" y="2565360"/>
            <a:ext cx="2521080" cy="1009800"/>
          </a:xfrm>
          <a:prstGeom prst="wedgeEllipseCallout">
            <a:avLst>
              <a:gd name="adj1" fmla="val 56800"/>
              <a:gd name="adj2" fmla="val 1101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mic Sans MS"/>
              </a:rPr>
              <a:t>Школьной газете быть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2"/>
          <p:cNvSpPr/>
          <p:nvPr/>
        </p:nvSpPr>
        <p:spPr>
          <a:xfrm>
            <a:off x="1835280" y="4005360"/>
            <a:ext cx="1657080" cy="7189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mic Sans MS"/>
              </a:rPr>
              <a:t>Ха-х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3"/>
          <p:cNvSpPr/>
          <p:nvPr/>
        </p:nvSpPr>
        <p:spPr>
          <a:xfrm>
            <a:off x="3132000" y="3716280"/>
            <a:ext cx="2808360" cy="1079640"/>
          </a:xfrm>
          <a:prstGeom prst="wedgeEllipseCallout">
            <a:avLst>
              <a:gd name="adj1" fmla="val 43046"/>
              <a:gd name="adj2" fmla="val 9956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Школьной газете бы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24"/>
          <p:cNvSpPr/>
          <p:nvPr/>
        </p:nvSpPr>
        <p:spPr>
          <a:xfrm>
            <a:off x="-181080" y="4437000"/>
            <a:ext cx="3168720" cy="1513080"/>
          </a:xfrm>
          <a:prstGeom prst="wedgeEllipseCallout">
            <a:avLst>
              <a:gd name="adj1" fmla="val 53708"/>
              <a:gd name="adj2" fmla="val 472"/>
            </a:avLst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Школьной газете быть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25"/>
          <p:cNvSpPr/>
          <p:nvPr/>
        </p:nvSpPr>
        <p:spPr>
          <a:xfrm>
            <a:off x="4716360" y="4221000"/>
            <a:ext cx="3600720" cy="1008360"/>
          </a:xfrm>
          <a:prstGeom prst="wedgeEllipseCallout">
            <a:avLst>
              <a:gd name="adj1" fmla="val 5069"/>
              <a:gd name="adj2" fmla="val 18819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Конечно, конечно быть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2987640" y="5057640"/>
            <a:ext cx="2533680" cy="1800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500"/>
                            </p:stCondLst>
                            <p:childTnLst>
                              <p:par>
                                <p:cTn id="14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5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50000">
              <a:srgbClr val="008000"/>
            </a:gs>
            <a:gs pos="100000">
              <a:srgbClr val="cc66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study77"/>
          <p:cNvPicPr/>
          <p:nvPr/>
        </p:nvPicPr>
        <p:blipFill>
          <a:blip r:embed="rId1"/>
          <a:stretch/>
        </p:blipFill>
        <p:spPr>
          <a:xfrm>
            <a:off x="7093080" y="5167440"/>
            <a:ext cx="1582560" cy="152856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3"/>
          <p:cNvSpPr/>
          <p:nvPr/>
        </p:nvSpPr>
        <p:spPr>
          <a:xfrm>
            <a:off x="684360" y="476280"/>
            <a:ext cx="7632720" cy="4321080"/>
          </a:xfrm>
          <a:prstGeom prst="wedgeRoundRectCallout">
            <a:avLst>
              <a:gd name="adj1" fmla="val 41203"/>
              <a:gd name="adj2" fmla="val 68000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00"/>
                </a:solidFill>
                <a:uFillTx/>
                <a:latin typeface="Times New Roman"/>
              </a:rPr>
              <a:t>Задачи проек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Организовать практическую общественно значимую коллективную деятельность для  Освещения  школьных событ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Привлечь внимание общественности к проблемам детей и подрост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Повысить информационную культуру участников прое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Arial"/>
              </a:rPr>
              <a:t>Привить детям и подросткам интерес к таким профессиям как журналист, корреспондент, дизайнер, верстальщик, коррект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8e46e"/>
            </a:gs>
            <a:gs pos="100000">
              <a:srgbClr val="008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7221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Аннотация проек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1405080" y="5351400"/>
            <a:ext cx="822960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Скаут"/>
          <p:cNvPicPr/>
          <p:nvPr/>
        </p:nvPicPr>
        <p:blipFill>
          <a:blip r:embed="rId1"/>
          <a:stretch/>
        </p:blipFill>
        <p:spPr>
          <a:xfrm flipH="1">
            <a:off x="468360" y="0"/>
            <a:ext cx="860400" cy="1600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никита"/>
          <p:cNvPicPr/>
          <p:nvPr/>
        </p:nvPicPr>
        <p:blipFill>
          <a:blip r:embed="rId2"/>
          <a:stretch/>
        </p:blipFill>
        <p:spPr>
          <a:xfrm>
            <a:off x="395280" y="2781360"/>
            <a:ext cx="1800360" cy="1649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Никитин"/>
          <p:cNvPicPr/>
          <p:nvPr/>
        </p:nvPicPr>
        <p:blipFill>
          <a:blip r:embed="rId3"/>
          <a:stretch/>
        </p:blipFill>
        <p:spPr>
          <a:xfrm>
            <a:off x="6877080" y="4941720"/>
            <a:ext cx="2266920" cy="188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никиток"/>
          <p:cNvPicPr/>
          <p:nvPr/>
        </p:nvPicPr>
        <p:blipFill>
          <a:blip r:embed="rId4"/>
          <a:stretch/>
        </p:blipFill>
        <p:spPr>
          <a:xfrm>
            <a:off x="7020000" y="981000"/>
            <a:ext cx="1798560" cy="139068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8"/>
          <p:cNvSpPr/>
          <p:nvPr/>
        </p:nvSpPr>
        <p:spPr>
          <a:xfrm>
            <a:off x="250920" y="476280"/>
            <a:ext cx="6264360" cy="2376360"/>
          </a:xfrm>
          <a:prstGeom prst="wedgeEllipseCallout">
            <a:avLst>
              <a:gd name="adj1" fmla="val 58541"/>
              <a:gd name="adj2" fmla="val 1352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В муниципальном бюджетном общеобразовательном учреждении средней общеобразовательной школе №1 п.Ханымей действует школьное самоуправление -  информационный центр, который отвечает за наполняемость и обновление школьного сай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2843280" y="2781360"/>
            <a:ext cx="6121440" cy="1657440"/>
          </a:xfrm>
          <a:prstGeom prst="wedgeEllipseCallout">
            <a:avLst>
              <a:gd name="adj1" fmla="val -70277"/>
              <a:gd name="adj2" fmla="val -768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Школьное самоуправление  вышло с предложением организовать пресс-центр, который будет издавать школьную  печатную газету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324000" y="4292640"/>
            <a:ext cx="6553080" cy="2232000"/>
          </a:xfrm>
          <a:prstGeom prst="wedgeEllipseCallout">
            <a:avLst>
              <a:gd name="adj1" fmla="val 61601"/>
              <a:gd name="adj2" fmla="val 12092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ект «Школьная газета» предлагает решение проблем современных подростков, а так же способствует формированию условий для развития творческих способностей детей и подрост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008000"/>
            </a:gs>
            <a:gs pos="100000">
              <a:srgbClr val="66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8"/>
          <p:cNvGraphicFramePr/>
          <p:nvPr/>
        </p:nvGraphicFramePr>
        <p:xfrm>
          <a:off x="2268360" y="2565360"/>
          <a:ext cx="4104000" cy="28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565360"/>
                    <a:ext cx="4104000" cy="28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3640" y="274680"/>
            <a:ext cx="828036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Подготовительный этап - анкетирование</a:t>
            </a:r>
            <a:br>
              <a:rPr sz="3200"/>
            </a:br>
            <a:r>
              <a:rPr b="1" lang="en-US" sz="3200" spc="-1" strike="noStrike">
                <a:solidFill>
                  <a:srgbClr val="ffffb7"/>
                </a:solidFill>
                <a:latin typeface="Times New Roman"/>
              </a:rPr>
              <a:t>октябрь – ноябрь 2015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19280" y="4005360"/>
            <a:ext cx="568944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анализировав результаты анкетирования, мы пришли к выводу, что школьная газета просто необходим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5" descr="пишу"/>
          <p:cNvPicPr/>
          <p:nvPr/>
        </p:nvPicPr>
        <p:blipFill>
          <a:blip r:embed="rId3"/>
          <a:stretch/>
        </p:blipFill>
        <p:spPr>
          <a:xfrm flipH="1">
            <a:off x="539640" y="3213000"/>
            <a:ext cx="1130400" cy="14414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2050920" y="1773360"/>
            <a:ext cx="5616720" cy="1224000"/>
          </a:xfrm>
          <a:prstGeom prst="wedgeRoundRectCallout">
            <a:avLst>
              <a:gd name="adj1" fmla="val -58421"/>
              <a:gd name="adj2" fmla="val 107847"/>
              <a:gd name="adj3" fmla="val 16667"/>
            </a:avLst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Есть ли необходимость издания школьной печатной газеты в нашей школ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66"/>
            </a:gs>
            <a:gs pos="50000">
              <a:srgbClr val="008000"/>
            </a:gs>
            <a:gs pos="100000">
              <a:srgbClr val="ff99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Второй этап – разработка проекта </a:t>
            </a:r>
            <a:br>
              <a:rPr sz="3600"/>
            </a:b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декабрь 2015 - февраль 2015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На этом этап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ы обучались основам издательского д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накомились с компьютерной программой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soft Office Publisher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2003, в которой планировали создавать школьную газет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нформировали учащихся школы о работе пресс-цент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бирали редколлегию с помощью анкетир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дали первые 4 номера школьной газ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8" descr="новости"/>
          <p:cNvPicPr/>
          <p:nvPr/>
        </p:nvPicPr>
        <p:blipFill>
          <a:blip r:embed="rId1"/>
          <a:stretch/>
        </p:blipFill>
        <p:spPr>
          <a:xfrm flipH="1">
            <a:off x="3203280" y="5084640"/>
            <a:ext cx="1268280" cy="1454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новости"/>
          <p:cNvPicPr/>
          <p:nvPr/>
        </p:nvPicPr>
        <p:blipFill>
          <a:blip r:embed="rId2"/>
          <a:stretch/>
        </p:blipFill>
        <p:spPr>
          <a:xfrm>
            <a:off x="4716360" y="5084640"/>
            <a:ext cx="1108080" cy="1454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ыбор названия школьной газе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716360" y="34290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-2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4788000" y="45813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- 2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00000" y="5516640"/>
            <a:ext cx="3878280" cy="66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ЕРЕМЕН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932360" y="558972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- 5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5003640" y="1989000"/>
            <a:ext cx="21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- 1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00000" y="4437000"/>
            <a:ext cx="3384720" cy="6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Звон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71640" y="3213000"/>
            <a:ext cx="2952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Перва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ff"/>
            </a:gs>
            <a:gs pos="50000">
              <a:srgbClr val="008000"/>
            </a:gs>
            <a:gs pos="100000">
              <a:srgbClr val="cc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Times New Roman"/>
              </a:rPr>
              <a:t>С помощью анкетирования мы выявили наиболее популярные рубрики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640" y="1197000"/>
            <a:ext cx="662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ЛАВНАЯ ТЕМ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 этой полосе мы будем публиковать самые важные события школьной жиз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ОБЛЕМ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у а здесь мы будем описывать самые заметные недостатки нашей школы. Пишите нам, а мы поведаем об этих проблемах мир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ОВОСТИ МИ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ша жизнь не замыкается только на школе. В мире много интересных вещ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ОЛОНКА РЕДАКТО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Традиционная для  всех модных изданий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МЫ И СПОР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Здесь мы планируем освещать спортивные новости, результаты и достижения нашей школы в спорт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ЕГЭ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уальная для сегодняшних выпускников тем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ОБА ПЕ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этой рубрике мы будем публиковать Ваши художественные  произведе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43"/>
          <p:cNvPicPr/>
          <p:nvPr/>
        </p:nvPicPr>
        <p:blipFill>
          <a:blip r:embed="rId1"/>
          <a:stretch/>
        </p:blipFill>
        <p:spPr>
          <a:xfrm>
            <a:off x="7885080" y="1916280"/>
            <a:ext cx="1079640" cy="8888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64"/>
          <p:cNvPicPr/>
          <p:nvPr/>
        </p:nvPicPr>
        <p:blipFill>
          <a:blip r:embed="rId2"/>
          <a:stretch/>
        </p:blipFill>
        <p:spPr>
          <a:xfrm>
            <a:off x="755640" y="1052640"/>
            <a:ext cx="1008000" cy="922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p17"/>
          <p:cNvPicPr/>
          <p:nvPr/>
        </p:nvPicPr>
        <p:blipFill>
          <a:blip r:embed="rId3"/>
          <a:stretch/>
        </p:blipFill>
        <p:spPr>
          <a:xfrm>
            <a:off x="7596360" y="5734080"/>
            <a:ext cx="1296720" cy="7840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Директор"/>
          <p:cNvPicPr/>
          <p:nvPr/>
        </p:nvPicPr>
        <p:blipFill>
          <a:blip r:embed="rId4"/>
          <a:stretch/>
        </p:blipFill>
        <p:spPr>
          <a:xfrm>
            <a:off x="7885080" y="3429000"/>
            <a:ext cx="876240" cy="866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читают"/>
          <p:cNvPicPr/>
          <p:nvPr/>
        </p:nvPicPr>
        <p:blipFill>
          <a:blip r:embed="rId5"/>
          <a:stretch/>
        </p:blipFill>
        <p:spPr>
          <a:xfrm>
            <a:off x="684360" y="5084640"/>
            <a:ext cx="1038240" cy="781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глобус"/>
          <p:cNvPicPr/>
          <p:nvPr/>
        </p:nvPicPr>
        <p:blipFill>
          <a:blip r:embed="rId6"/>
          <a:stretch/>
        </p:blipFill>
        <p:spPr>
          <a:xfrm>
            <a:off x="1042920" y="2708280"/>
            <a:ext cx="792360" cy="749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Спорт"/>
          <p:cNvPicPr/>
          <p:nvPr/>
        </p:nvPicPr>
        <p:blipFill>
          <a:blip r:embed="rId7"/>
          <a:stretch/>
        </p:blipFill>
        <p:spPr>
          <a:xfrm>
            <a:off x="900000" y="3716280"/>
            <a:ext cx="905040" cy="1333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b7"/>
                </a:solidFill>
                <a:latin typeface="Times New Roman"/>
              </a:rPr>
              <a:t>Промежуточный результат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тоги социологического опроса после выхода первых номер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2195640" y="1628640"/>
          <a:ext cx="532764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628640"/>
                    <a:ext cx="53276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5" descr="детишки"/>
          <p:cNvPicPr/>
          <p:nvPr/>
        </p:nvPicPr>
        <p:blipFill>
          <a:blip r:embed="rId3"/>
          <a:stretch/>
        </p:blipFill>
        <p:spPr>
          <a:xfrm>
            <a:off x="1619280" y="4653000"/>
            <a:ext cx="1492200" cy="1773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крутой"/>
          <p:cNvPicPr/>
          <p:nvPr/>
        </p:nvPicPr>
        <p:blipFill>
          <a:blip r:embed="rId4"/>
          <a:stretch/>
        </p:blipFill>
        <p:spPr>
          <a:xfrm flipH="1">
            <a:off x="6876720" y="4724280"/>
            <a:ext cx="934920" cy="1584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Нахал"/>
          <p:cNvPicPr/>
          <p:nvPr/>
        </p:nvPicPr>
        <p:blipFill>
          <a:blip r:embed="rId5"/>
          <a:stretch/>
        </p:blipFill>
        <p:spPr>
          <a:xfrm>
            <a:off x="3851280" y="4869000"/>
            <a:ext cx="1800360" cy="1388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9:46:30Z</dcterms:created>
  <dc:creator>Мария</dc:creator>
  <dc:description/>
  <dc:language>en-US</dc:language>
  <cp:lastModifiedBy>Анна</cp:lastModifiedBy>
  <dcterms:modified xsi:type="dcterms:W3CDTF">2015-11-18T10:01:08Z</dcterms:modified>
  <cp:revision>23</cp:revision>
  <dc:subject/>
  <dc:title>Проект школьная газета </dc:title>
</cp:coreProperties>
</file>