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654-E802-45D3-88F7-36A3C53C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AEB-6A4F-4FBE-B5D9-24522B0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93C-1C49-4B76-9BF7-E007313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44D-405F-45D0-96F0-405C04DD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E23-DCDF-4800-B50A-5FEBBC73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8E81-B0CD-4D50-A87E-2F8C7167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3DDA-3EA8-4483-A7D3-0A71B92B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35B-B4DD-4761-B2A4-C874BC9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622-98D8-4900-9300-42E8A1B6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310-9AD1-418F-B84A-AD1153F8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DBF6-9F6F-4FE0-8415-87B7810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DEF-4C6B-4C86-B4B8-9A573A9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B58-5772-44AA-A680-1B2AD98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940-A163-47C3-90D8-7545C930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400C-AA24-4F4B-96DE-669188D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5A40-217A-4D58-80B1-C8A4AB3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5405-DF89-4978-86C4-953BCCB3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58A93-EC62-491D-BD15-300A7BC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0541-771E-4012-806C-0B9BFD9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2E97-C0BC-4323-A425-D57C094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1D52-1AC4-4EE7-84BB-4016172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E7A7-1DC3-422D-894E-9E37BBFB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321-A880-4C49-8A25-22FEEF09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6EBD-21EB-47B9-8517-662F321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736A-922F-47B3-974A-CABC851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F6B6-7F14-4E96-B4C1-85DE5FCA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F87F-7936-4F40-A9AB-DE551D4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EA6C-ED2F-4DC8-924F-93856AE9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A86E-F6F0-4737-A0CF-B9F6E003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70EF-182E-4BCA-98B8-3589F936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53E2-759E-40F5-B8B8-4F495066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6A0C-427D-4E99-8B19-53CC70E3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930A-23B6-43DE-B0EC-14C21D7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623-2105-439D-AE8C-549538F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CDE4-F231-4C7C-893E-7286525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2E08-7024-484F-A07B-1C86957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3416-A013-40F6-A30D-DE27DCB5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416E-DB53-4EEB-8010-53D2842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71F2-720D-4934-B378-BBBDB43B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6E74-ED01-4113-AC6B-650EA94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5862-2ACB-428A-88D9-ACBD92B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A11F-EE47-4A76-AE0E-0DC10426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01BF-4620-47FE-BF92-A6B69190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C50EB-35B0-46F8-AB32-4CFE6804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7F3-FF46-4B9A-8D32-7324DBC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01D7-CAEA-4827-9422-3AF736AF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3952-0CA6-4352-8946-8B748EC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C6C0-8256-49B6-A29C-566C4B82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45B0-DD5A-4D24-8A85-AF1CD8B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8C7B-95F0-4565-B60A-515B774F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CFF85-C2F4-4B42-93B8-19A4FF56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7C72-331A-406B-A1C4-EC2D65D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F9B67-E4F2-4871-92F9-3C33A89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FEAC-A49C-47FD-87EB-A358B75C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90E0-6C83-4929-B174-EB2D6F08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2CA8-D646-4A5D-A3BB-03DBF044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43ED4-7723-4DE6-A8EA-5C932376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8614-A6F1-463F-B566-88293CD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50028-CCF1-4365-975B-5E3141F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D169-2F58-41F3-98A2-20BB90B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E727-966F-40A4-AD85-A7D65C15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B38E3-284B-4E47-89FA-EFD6FCB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6EFD-E300-4495-B44F-DB6F0CFD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799C-3BC2-4001-A79A-EE5C394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3E15-912E-4A53-8949-256A6818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26D0-DDC9-44A8-B383-EC39E72B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00D-D161-4332-B457-4CDC196C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C58A-0381-42CA-952F-E5717714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7125B-E70B-42D5-A15B-1D47B4E3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8FB03-A308-432E-B532-DDB6625B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2AE5E-1084-41BD-B94D-AAA101A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5A43-0DE3-4207-9536-083DB08D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AA53-3FF2-41BB-B58D-836B254E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7C57-D1CE-4DF6-B6C6-0FC0C46A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9B931-E01B-4C5D-944D-0F6422E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2D2A-E715-4B64-A0EF-8BC4C60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E1561-F387-4F98-99CF-BECD084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14D1-D446-4284-A039-29F5CE95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4B68-310E-4D88-88D9-1B127B0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8DFC-43FD-4D74-8C1F-F2BFFCB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0B53-EC02-44E4-8891-CA0A40A9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1F23-6986-48B6-A7E7-AA3D2F9F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8E1BA-D37D-49A5-9DAF-AC8B7C59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1996-CD09-4CB1-891A-BF25DB3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109E-B4BA-428C-A752-07D230D5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D837-F1DB-4CCA-B991-1F3CDF9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249C-B34E-49CE-B3BB-187EAA58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DDCC-DB28-4727-92C8-1554A03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F09BE-41D5-42D7-8F98-85CC734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35DC-74AB-4854-B4C2-5D33D5D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A02C1-4834-4A08-83CB-E27EFA38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1BC24-7F6D-47BC-8DB4-25E12EE0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7C09-F3BC-4189-B865-32CF4B87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301-9D68-44E0-9200-1624C9B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FC9-01CC-4163-B2CC-2F6DDF63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033-89E7-4DAD-9AA9-799E8C5A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89.xml"/><Relationship Id="rId7" Type="http://schemas.openxmlformats.org/officeDocument/2006/relationships/slideLayout" Target="../slideLayouts/slideLayout590.xml"/><Relationship Id="rId8" Type="http://schemas.openxmlformats.org/officeDocument/2006/relationships/slideLayout" Target="../slideLayouts/slideLayout591.xml"/><Relationship Id="rId9" Type="http://schemas.openxmlformats.org/officeDocument/2006/relationships/slideLayout" Target="../slideLayouts/slideLayout592.xml"/><Relationship Id="rId10" Type="http://schemas.openxmlformats.org/officeDocument/2006/relationships/slideLayout" Target="../slideLayouts/slideLayout593.xml"/><Relationship Id="rId11" Type="http://schemas.openxmlformats.org/officeDocument/2006/relationships/slideLayout" Target="../slideLayouts/slideLayout594.xml"/><Relationship Id="rId12" Type="http://schemas.openxmlformats.org/officeDocument/2006/relationships/slideLayout" Target="../slideLayouts/slideLayout595.xml"/><Relationship Id="rId13" Type="http://schemas.openxmlformats.org/officeDocument/2006/relationships/slideLayout" Target="../slideLayouts/slideLayout596.xml"/><Relationship Id="rId14" Type="http://schemas.openxmlformats.org/officeDocument/2006/relationships/slideLayout" Target="../slideLayouts/slideLayout597.xml"/><Relationship Id="rId15" Type="http://schemas.openxmlformats.org/officeDocument/2006/relationships/slideLayout" Target="../slideLayouts/slideLayout598.xml"/><Relationship Id="rId16" Type="http://schemas.openxmlformats.org/officeDocument/2006/relationships/slideLayout" Target="../slideLayouts/slideLayout599.xml"/><Relationship Id="rId17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01.xml"/><Relationship Id="rId10" Type="http://schemas.openxmlformats.org/officeDocument/2006/relationships/slideLayout" Target="../slideLayouts/slideLayout602.xml"/><Relationship Id="rId11" Type="http://schemas.openxmlformats.org/officeDocument/2006/relationships/slideLayout" Target="../slideLayouts/slideLayout603.xml"/><Relationship Id="rId12" Type="http://schemas.openxmlformats.org/officeDocument/2006/relationships/slideLayout" Target="../slideLayouts/slideLayout604.xml"/><Relationship Id="rId13" Type="http://schemas.openxmlformats.org/officeDocument/2006/relationships/slideLayout" Target="../slideLayouts/slideLayout605.xml"/><Relationship Id="rId14" Type="http://schemas.openxmlformats.org/officeDocument/2006/relationships/slideLayout" Target="../slideLayouts/slideLayout606.xml"/><Relationship Id="rId15" Type="http://schemas.openxmlformats.org/officeDocument/2006/relationships/slideLayout" Target="../slideLayouts/slideLayout607.xml"/><Relationship Id="rId16" Type="http://schemas.openxmlformats.org/officeDocument/2006/relationships/slideLayout" Target="../slideLayouts/slideLayout608.xml"/><Relationship Id="rId17" Type="http://schemas.openxmlformats.org/officeDocument/2006/relationships/slideLayout" Target="../slideLayouts/slideLayout609.xml"/><Relationship Id="rId18" Type="http://schemas.openxmlformats.org/officeDocument/2006/relationships/slideLayout" Target="../slideLayouts/slideLayout610.xml"/><Relationship Id="rId19" Type="http://schemas.openxmlformats.org/officeDocument/2006/relationships/slideLayout" Target="../slideLayouts/slideLayout611.xml"/><Relationship Id="rId20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3.xml"/><Relationship Id="rId7" Type="http://schemas.openxmlformats.org/officeDocument/2006/relationships/slideLayout" Target="../slideLayouts/slideLayout614.xml"/><Relationship Id="rId8" Type="http://schemas.openxmlformats.org/officeDocument/2006/relationships/slideLayout" Target="../slideLayouts/slideLayout615.xml"/><Relationship Id="rId9" Type="http://schemas.openxmlformats.org/officeDocument/2006/relationships/slideLayout" Target="../slideLayouts/slideLayout616.xml"/><Relationship Id="rId10" Type="http://schemas.openxmlformats.org/officeDocument/2006/relationships/slideLayout" Target="../slideLayouts/slideLayout617.xml"/><Relationship Id="rId11" Type="http://schemas.openxmlformats.org/officeDocument/2006/relationships/slideLayout" Target="../slideLayouts/slideLayout618.xml"/><Relationship Id="rId12" Type="http://schemas.openxmlformats.org/officeDocument/2006/relationships/slideLayout" Target="../slideLayouts/slideLayout619.xml"/><Relationship Id="rId13" Type="http://schemas.openxmlformats.org/officeDocument/2006/relationships/slideLayout" Target="../slideLayouts/slideLayout620.xml"/><Relationship Id="rId14" Type="http://schemas.openxmlformats.org/officeDocument/2006/relationships/slideLayout" Target="../slideLayouts/slideLayout621.xml"/><Relationship Id="rId15" Type="http://schemas.openxmlformats.org/officeDocument/2006/relationships/slideLayout" Target="../slideLayouts/slideLayout622.xml"/><Relationship Id="rId16" Type="http://schemas.openxmlformats.org/officeDocument/2006/relationships/slideLayout" Target="../slideLayouts/slideLayout623.xml"/><Relationship Id="rId17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25.xml"/><Relationship Id="rId7" Type="http://schemas.openxmlformats.org/officeDocument/2006/relationships/slideLayout" Target="../slideLayouts/slideLayout626.xml"/><Relationship Id="rId8" Type="http://schemas.openxmlformats.org/officeDocument/2006/relationships/slideLayout" Target="../slideLayouts/slideLayout627.xml"/><Relationship Id="rId9" Type="http://schemas.openxmlformats.org/officeDocument/2006/relationships/slideLayout" Target="../slideLayouts/slideLayout628.xml"/><Relationship Id="rId10" Type="http://schemas.openxmlformats.org/officeDocument/2006/relationships/slideLayout" Target="../slideLayouts/slideLayout629.xml"/><Relationship Id="rId11" Type="http://schemas.openxmlformats.org/officeDocument/2006/relationships/slideLayout" Target="../slideLayouts/slideLayout630.xml"/><Relationship Id="rId12" Type="http://schemas.openxmlformats.org/officeDocument/2006/relationships/slideLayout" Target="../slideLayouts/slideLayout631.xml"/><Relationship Id="rId13" Type="http://schemas.openxmlformats.org/officeDocument/2006/relationships/slideLayout" Target="../slideLayouts/slideLayout632.xml"/><Relationship Id="rId14" Type="http://schemas.openxmlformats.org/officeDocument/2006/relationships/slideLayout" Target="../slideLayouts/slideLayout633.xml"/><Relationship Id="rId15" Type="http://schemas.openxmlformats.org/officeDocument/2006/relationships/slideLayout" Target="../slideLayouts/slideLayout634.xml"/><Relationship Id="rId16" Type="http://schemas.openxmlformats.org/officeDocument/2006/relationships/slideLayout" Target="../slideLayouts/slideLayout635.xml"/><Relationship Id="rId17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6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8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9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9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6"/>
    <p:sldLayoutId id="2147484287" r:id="rId7"/>
    <p:sldLayoutId id="2147484288" r:id="rId8"/>
    <p:sldLayoutId id="2147484289" r:id="rId9"/>
    <p:sldLayoutId id="2147484290" r:id="rId10"/>
    <p:sldLayoutId id="2147484291" r:id="rId11"/>
    <p:sldLayoutId id="2147484292" r:id="rId12"/>
    <p:sldLayoutId id="2147484293" r:id="rId13"/>
    <p:sldLayoutId id="2147484294" r:id="rId14"/>
    <p:sldLayoutId id="2147484295" r:id="rId15"/>
    <p:sldLayoutId id="2147484296" r:id="rId16"/>
    <p:sldLayoutId id="2147484297" r:id="rId17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93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94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4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94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95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5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9"/>
    <p:sldLayoutId id="2147484300" r:id="rId10"/>
    <p:sldLayoutId id="2147484301" r:id="rId11"/>
    <p:sldLayoutId id="2147484302" r:id="rId12"/>
    <p:sldLayoutId id="2147484303" r:id="rId13"/>
    <p:sldLayoutId id="2147484304" r:id="rId14"/>
    <p:sldLayoutId id="2147484305" r:id="rId15"/>
    <p:sldLayoutId id="2147484306" r:id="rId16"/>
    <p:sldLayoutId id="2147484307" r:id="rId17"/>
    <p:sldLayoutId id="2147484308" r:id="rId18"/>
    <p:sldLayoutId id="2147484309" r:id="rId19"/>
    <p:sldLayoutId id="2147484310" r:id="rId20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0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0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0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6"/>
    <p:sldLayoutId id="2147484313" r:id="rId7"/>
    <p:sldLayoutId id="2147484314" r:id="rId8"/>
    <p:sldLayoutId id="2147484315" r:id="rId9"/>
    <p:sldLayoutId id="2147484316" r:id="rId10"/>
    <p:sldLayoutId id="2147484317" r:id="rId11"/>
    <p:sldLayoutId id="2147484318" r:id="rId12"/>
    <p:sldLayoutId id="2147484319" r:id="rId13"/>
    <p:sldLayoutId id="2147484320" r:id="rId14"/>
    <p:sldLayoutId id="2147484321" r:id="rId15"/>
    <p:sldLayoutId id="2147484322" r:id="rId16"/>
    <p:sldLayoutId id="2147484323" r:id="rId17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6"/>
    <p:sldLayoutId id="2147484326" r:id="rId7"/>
    <p:sldLayoutId id="2147484327" r:id="rId8"/>
    <p:sldLayoutId id="2147484328" r:id="rId9"/>
    <p:sldLayoutId id="2147484329" r:id="rId10"/>
    <p:sldLayoutId id="2147484330" r:id="rId11"/>
    <p:sldLayoutId id="2147484331" r:id="rId12"/>
    <p:sldLayoutId id="2147484332" r:id="rId13"/>
    <p:sldLayoutId id="2147484333" r:id="rId14"/>
    <p:sldLayoutId id="2147484334" r:id="rId15"/>
    <p:sldLayoutId id="2147484335" r:id="rId16"/>
    <p:sldLayoutId id="2147484336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5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Shape 179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d85c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hape 180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424838"/>
              </a:gs>
              <a:gs pos="100000">
                <a:srgbClr val="827f00"/>
              </a:gs>
            </a:gsLst>
            <a:lin ang="5400000"/>
          </a:gra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Shape 181" descr=""/>
          <p:cNvPicPr/>
          <p:nvPr/>
        </p:nvPicPr>
        <p:blipFill>
          <a:blip r:embed="rId2"/>
          <a:stretch/>
        </p:blipFill>
        <p:spPr>
          <a:xfrm>
            <a:off x="1878120" y="1884240"/>
            <a:ext cx="7064280" cy="2859120"/>
          </a:xfrm>
          <a:prstGeom prst="rect">
            <a:avLst/>
          </a:prstGeom>
          <a:ln w="0">
            <a:noFill/>
          </a:ln>
        </p:spPr>
      </p:pic>
      <p:pic>
        <p:nvPicPr>
          <p:cNvPr id="2101" name="Shape 182" descr=""/>
          <p:cNvPicPr/>
          <p:nvPr/>
        </p:nvPicPr>
        <p:blipFill>
          <a:blip r:embed="rId3"/>
          <a:stretch/>
        </p:blipFill>
        <p:spPr>
          <a:xfrm>
            <a:off x="231840" y="231840"/>
            <a:ext cx="2286000" cy="2157480"/>
          </a:xfrm>
          <a:prstGeom prst="rect">
            <a:avLst/>
          </a:prstGeom>
          <a:ln w="0">
            <a:noFill/>
          </a:ln>
        </p:spPr>
      </p:pic>
      <p:sp>
        <p:nvSpPr>
          <p:cNvPr id="2102" name="Shape 183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Shape 182" descr=""/>
          <p:cNvPicPr/>
          <p:nvPr/>
        </p:nvPicPr>
        <p:blipFill>
          <a:blip r:embed="rId4"/>
          <a:stretch/>
        </p:blipFill>
        <p:spPr>
          <a:xfrm>
            <a:off x="384120" y="384120"/>
            <a:ext cx="22860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Shape 192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2106" name="Shape 193"/>
            <p:cNvSpPr/>
            <p:nvPr/>
          </p:nvSpPr>
          <p:spPr>
            <a:xfrm>
              <a:off x="457200" y="0"/>
              <a:ext cx="75960" cy="6858000"/>
            </a:xfrm>
            <a:prstGeom prst="rect">
              <a:avLst/>
            </a:prstGeom>
            <a:solidFill>
              <a:srgbClr val="db945f"/>
            </a:soli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Shape 194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solidFill>
              <a:srgbClr val="949d1f"/>
            </a:solidFill>
            <a:ln cap="rnd" w="9360">
              <a:solidFill>
                <a:srgbClr val="829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8" name="Shape 19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1932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38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е современного урока от традицио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Структура урока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пология современно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0" name=""/>
          <p:cNvGraphicFramePr/>
          <p:nvPr/>
        </p:nvGraphicFramePr>
        <p:xfrm>
          <a:off x="228600" y="214200"/>
          <a:ext cx="8629560" cy="6543720"/>
        </p:xfrm>
        <a:graphic>
          <a:graphicData uri="http://schemas.openxmlformats.org/drawingml/2006/table">
            <a:tbl>
              <a:tblPr/>
              <a:tblGrid>
                <a:gridCol w="1892160"/>
                <a:gridCol w="3407040"/>
                <a:gridCol w="3330360"/>
              </a:tblGrid>
              <a:tr h="263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525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ообщает учащим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и учащие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5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формулирует и сообщает учащимся, чему должны научить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и 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определив границы знания и незн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ообщает учащимся, какую работу они должны выполнить, чтобы достичь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особов достижения намеченной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о намеченному плану (применяется групповой, индивидуальный методы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 выполнением учащимися практической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 (применяются формы самоконтроля, взаимоконтрол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в ходе выполнения и по итогам выполненной работы учащимис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яет коррек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формулируют затруднения и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яют коррекцию самостоя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хся за работу на уро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ют оценку деятельности по её результатам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, оценивание результатов деятельности товарищ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572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 учащихся, что они запомни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флек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омментирует (чаще – задание одно для все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 из предложенных учителем с учётом индивидуальных возмож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1" name=""/>
          <p:cNvGraphicFramePr/>
          <p:nvPr/>
        </p:nvGraphicFramePr>
        <p:xfrm>
          <a:off x="428760" y="549360"/>
          <a:ext cx="8501040" cy="5916600"/>
        </p:xfrm>
        <a:graphic>
          <a:graphicData uri="http://schemas.openxmlformats.org/drawingml/2006/table">
            <a:tbl>
              <a:tblPr/>
              <a:tblGrid>
                <a:gridCol w="2143080"/>
                <a:gridCol w="3214440"/>
                <a:gridCol w="3143520"/>
              </a:tblGrid>
              <a:tr h="112068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ер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в условиях введения ФГО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4302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ирование ЗУ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Развитие лич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  <a:tr h="11286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дущий тип деятель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продуктивный, воспроизводящ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следовательский, продуктивный, творче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97344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особ усвоения материа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ятельность по образц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Мыслительная  деятельность, рефлек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  <a:tr h="10872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троль и самоконтроль усвоения нового материа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, рефлексия результатов 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117648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еполаг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ет учи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ют ученик и учитель по согласова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Как изменяется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50760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становится личностно-развивающ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тановится компетентностно-ориентирован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тановится метапредмет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яду с предметно-ориентированным уроком рождаются интегрированные формы (уроки                занятия), стирается грань между обучением и воспит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Shape 246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hape 24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6" name="Shape 248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2117" name="Shape 249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52720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Структура урока по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ирование (самоопределение) к учебной деятельности (орга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ионный этап 1-2 мину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знаний и фиксирование индивидуального затруднения в пробном учебном действии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ление места и причины затруднения, постановка цели деятельности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троение проекта выхода из затруднения (открытие нового знания) 7-8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ализация построенного проекта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ервичное закрепление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амостоятельная работа с самопроверкой по эталону (образцу)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ключение в систему знаний и повторение 7-8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ефлексия учебной деятельности (итог урока) – 2-3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hape 418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hape 41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2" name="Shape 420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Типология уроков по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Shape 496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Shape 49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6" name="Shape 498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"/>
          <p:cNvGraphicFramePr/>
          <p:nvPr/>
        </p:nvGraphicFramePr>
        <p:xfrm>
          <a:off x="838080" y="1447920"/>
          <a:ext cx="8001000" cy="5224320"/>
        </p:xfrm>
        <a:graphic>
          <a:graphicData uri="http://schemas.openxmlformats.org/drawingml/2006/table">
            <a:tbl>
              <a:tblPr/>
              <a:tblGrid>
                <a:gridCol w="3510000"/>
                <a:gridCol w="4491000"/>
              </a:tblGrid>
              <a:tr h="49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изучения н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 (комбинированный), лекция, экскурсия, исследовательская работа, учебный и трудовой практику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закрепл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, экскурсия, лабораторная работа, собеседование, консуль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комплексного примен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, лабораторная работа, семинар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обобщения и систематизации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, конференция, круглый стол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контроля, оценки и коррекции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, зачет, коллоквиум, смотр знаний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Основные трудности при подготовке урока в условиях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094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шаяся за предыдущие  годы устойчивая методика проведения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ать возможность ученику самому искать информацию и исследовать е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вать учебные ситуации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подход  к анализу урока и стремление придерживаться старых подходов к оценке деятельност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известных планов-конспектов технологическими картам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Shape 580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Shape 58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2" name="Shape 58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Реализация стандарта должна изменить представление учителя об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094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ступает не объектом, а субъектом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рименяются разнообразные источники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структура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индивидуальная и коллектив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ется приоритет деятель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критерии оценивания деятельност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hape 590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Shape 59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7" name="Shape 59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на</dc:creator>
  <dc:description/>
  <dc:language>en-US</dc:language>
  <cp:lastModifiedBy>Sosh1kab26</cp:lastModifiedBy>
  <dcterms:modified xsi:type="dcterms:W3CDTF">2017-01-19T05:21:19Z</dcterms:modified>
  <cp:revision>16</cp:revision>
  <dc:subject/>
  <dc:title>Современный урок в соответствии с требованиями ФГОС</dc:title>
</cp:coreProperties>
</file>