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53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</p:sldMasterIdLst>
  <p:sldIdLst>
    <p:sldId id="256" r:id="rId55"/>
    <p:sldId id="257" r:id="rId56"/>
    <p:sldId id="258" r:id="rId57"/>
    <p:sldId id="259" r:id="rId58"/>
    <p:sldId id="260" r:id="rId59"/>
    <p:sldId id="261" r:id="rId60"/>
    <p:sldId id="262" r:id="rId61"/>
    <p:sldId id="263" r:id="rId62"/>
    <p:sldId id="264" r:id="rId6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" Target="slides/slide1.xml"/><Relationship Id="rId56" Type="http://schemas.openxmlformats.org/officeDocument/2006/relationships/slide" Target="slides/slide2.xml"/><Relationship Id="rId57" Type="http://schemas.openxmlformats.org/officeDocument/2006/relationships/slide" Target="slides/slide3.xml"/><Relationship Id="rId58" Type="http://schemas.openxmlformats.org/officeDocument/2006/relationships/slide" Target="slides/slide4.xml"/><Relationship Id="rId59" Type="http://schemas.openxmlformats.org/officeDocument/2006/relationships/slide" Target="slides/slide5.xml"/><Relationship Id="rId60" Type="http://schemas.openxmlformats.org/officeDocument/2006/relationships/slide" Target="slides/slide6.xml"/><Relationship Id="rId61" Type="http://schemas.openxmlformats.org/officeDocument/2006/relationships/slide" Target="slides/slide7.xml"/><Relationship Id="rId62" Type="http://schemas.openxmlformats.org/officeDocument/2006/relationships/slide" Target="slides/slide8.xml"/><Relationship Id="rId63" Type="http://schemas.openxmlformats.org/officeDocument/2006/relationships/slide" Target="slides/slide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213-0231-45DF-904E-93DD9244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8BA-55F5-47A2-9524-03B6C28A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411-E990-418A-A87F-DA27138F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5A9-5D4A-447C-A270-4D48B94E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A5C3-BC5D-4E8D-91D1-4A29476F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F35F-BA42-4A6A-A43F-C07C1CCD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9BC5-84EA-4CA8-9EFE-85B8196F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68B-CC03-49ED-A4CD-BB851D9C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5D52-734E-449A-B777-7151EE53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3591-FC51-4D67-A99E-F6496793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2908-9BF1-4EF5-B139-FDD79B5E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11A1-BDFD-4B41-A55D-94D4DAC5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1E0C8-F0DE-4919-AA22-D6335C1E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892E-47CD-4B2F-81EE-41D2955C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CF68-9913-4548-91A2-3EE8B730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D4A2-DBCC-4B17-BC4A-667B65BF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2026-4F53-44B1-9C0B-25E6681F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0743-BDF8-48DB-A3F7-9A128175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59439-8047-4F14-A68E-878152C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25F2-2731-4DC8-80B3-FF74D21D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53FD-EB97-4B3F-A5EE-F4268558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D3C6B-366A-4BE5-863B-92ABB678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990F-D283-468A-956F-84EC15269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D73CA-B583-44A6-9C9B-D41CA396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A4DE3-3A83-489F-A67E-AE87DB0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F59DB-D004-4565-94DF-4987C88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1A0D-9970-4912-BEFA-C83EB1FB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A588-0B19-4197-AB25-29617CD8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F5F1-884A-434B-A4F8-3590BE7D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ADDDF-0D67-46D2-BA81-97C20349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3B991-3C7B-4373-8F91-3E527CE6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868C8-B5BF-4B69-9B12-5296EA43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F909-30D3-4BD1-80FC-407212EB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BDFC-F398-4ECD-AF26-5216B797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25F2-1842-41E7-8239-E87FE769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7CA9B-86AF-41D0-A8CC-9F07193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4AE9E-06AB-4235-B02C-DD28A038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39B85-503C-4336-BFA7-289C34DD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B6E4B-BE1E-4DA3-87D0-297CDB58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F45A9-D36F-40A8-9DF5-F0D1EBCD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B5A17-7282-4A2A-BB05-8B4D1FE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AC0AD-64E8-4368-9371-F8C688982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0A31-BA87-4EE0-8541-65E7C702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4F99-3E1F-483F-BE7C-D81E5A46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164F-A492-49A6-BD5F-E4266453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9821-6070-4DFE-8D9E-CD3E0F0A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57A48-D8F6-4C86-B192-39A86F4B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C7165-7271-4DBA-B0F2-C3C62AA2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3022B-171A-46AA-B03E-F4CDDEFC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1A4F7-B3DF-4448-9555-31A7D0BF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BE04-9609-4D73-A89B-0F1FFA7D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E698A-04E7-4B3A-8889-6098EAE4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CF937-874B-47CC-B4DC-5797355A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43BDE-E3E3-48E3-AD84-169E49C6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F39E9-7143-40E0-9A99-8B5408CC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8E31-DC1F-4517-AF50-C7A6E6890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8884-E24A-44AA-AD3B-09F33B04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39D86-9F30-41EE-BD0F-EB2C7337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4B9B8-83B4-49DF-AEBC-5FB51EF9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40535-FADF-47B6-A3A0-AB336521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8B970-A4F7-4504-9B59-DBC9F760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AEA05-7103-4734-88F8-1DA03350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99BC2-815B-4C31-B40C-153DFBF7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05735-F670-40CC-AC54-29FADB24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018FC-8C0D-4A1E-97D3-0E1382B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6B1FC-DF79-4941-BE75-1893B8701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DA9D-6925-4975-9E18-3EE99B20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94AD4-A90B-432A-BF0C-E677176A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959B6-8341-4986-8173-6D1907EC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E9D8E-9ACC-4F15-B9B4-ABD5DC35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5867A-AE55-40FF-B0A2-2ABF2C17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AF0DE-25C0-429A-A46E-5DFB9A4D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5B57A-AE2E-420B-A865-5CE75AF2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9DB98-E530-4542-B8D1-B20CA34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AF187-1EF7-489D-8172-C03FEC78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E1F77-C642-47D4-BEFE-D496474B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60931-65AF-4A83-A709-00C4400C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414FE-1A12-4B57-962D-48A7595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7C39-B82F-43FD-A950-D0F3ABEB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A18C8-B74C-4685-B2AB-44C2A45C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E27B7-13A6-49C6-BB0D-53DAA526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154DB-B78A-4CB1-849A-ECDECEF9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84925-128B-42AF-8421-0E2A6CE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04848-4374-460B-8C98-3CEF2AE1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D9364-F9A8-4223-B8EA-19FC9A1E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47CDC-8BCB-4E75-829F-9B180971A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0E9D1-0C40-4178-BFAF-FAC1C2A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58EC6-67BE-434D-8EC7-D3BA41C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D5A5F-6BA5-4DCF-837B-4A9D8D63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F521D-F1EB-4A26-AFDC-3E6C878E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128E7-A508-4F00-9333-418BE933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2A4D8-5951-46A4-82ED-EB04F46C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80AD4-CFC3-4559-9983-BC6C5704F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624-2D54-4843-9E4F-BBEB5A4F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AD31-712A-46E0-A051-17D8006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31F-16D8-47DB-9B35-3521F322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89.xml"/><Relationship Id="rId7" Type="http://schemas.openxmlformats.org/officeDocument/2006/relationships/slideLayout" Target="../slideLayouts/slideLayout590.xml"/><Relationship Id="rId8" Type="http://schemas.openxmlformats.org/officeDocument/2006/relationships/slideLayout" Target="../slideLayouts/slideLayout591.xml"/><Relationship Id="rId9" Type="http://schemas.openxmlformats.org/officeDocument/2006/relationships/slideLayout" Target="../slideLayouts/slideLayout592.xml"/><Relationship Id="rId10" Type="http://schemas.openxmlformats.org/officeDocument/2006/relationships/slideLayout" Target="../slideLayouts/slideLayout593.xml"/><Relationship Id="rId11" Type="http://schemas.openxmlformats.org/officeDocument/2006/relationships/slideLayout" Target="../slideLayouts/slideLayout594.xml"/><Relationship Id="rId12" Type="http://schemas.openxmlformats.org/officeDocument/2006/relationships/slideLayout" Target="../slideLayouts/slideLayout595.xml"/><Relationship Id="rId13" Type="http://schemas.openxmlformats.org/officeDocument/2006/relationships/slideLayout" Target="../slideLayouts/slideLayout596.xml"/><Relationship Id="rId14" Type="http://schemas.openxmlformats.org/officeDocument/2006/relationships/slideLayout" Target="../slideLayouts/slideLayout597.xml"/><Relationship Id="rId15" Type="http://schemas.openxmlformats.org/officeDocument/2006/relationships/slideLayout" Target="../slideLayouts/slideLayout598.xml"/><Relationship Id="rId16" Type="http://schemas.openxmlformats.org/officeDocument/2006/relationships/slideLayout" Target="../slideLayouts/slideLayout599.xml"/><Relationship Id="rId17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01.xml"/><Relationship Id="rId10" Type="http://schemas.openxmlformats.org/officeDocument/2006/relationships/slideLayout" Target="../slideLayouts/slideLayout602.xml"/><Relationship Id="rId11" Type="http://schemas.openxmlformats.org/officeDocument/2006/relationships/slideLayout" Target="../slideLayouts/slideLayout603.xml"/><Relationship Id="rId12" Type="http://schemas.openxmlformats.org/officeDocument/2006/relationships/slideLayout" Target="../slideLayouts/slideLayout604.xml"/><Relationship Id="rId13" Type="http://schemas.openxmlformats.org/officeDocument/2006/relationships/slideLayout" Target="../slideLayouts/slideLayout605.xml"/><Relationship Id="rId14" Type="http://schemas.openxmlformats.org/officeDocument/2006/relationships/slideLayout" Target="../slideLayouts/slideLayout606.xml"/><Relationship Id="rId15" Type="http://schemas.openxmlformats.org/officeDocument/2006/relationships/slideLayout" Target="../slideLayouts/slideLayout607.xml"/><Relationship Id="rId16" Type="http://schemas.openxmlformats.org/officeDocument/2006/relationships/slideLayout" Target="../slideLayouts/slideLayout608.xml"/><Relationship Id="rId17" Type="http://schemas.openxmlformats.org/officeDocument/2006/relationships/slideLayout" Target="../slideLayouts/slideLayout609.xml"/><Relationship Id="rId18" Type="http://schemas.openxmlformats.org/officeDocument/2006/relationships/slideLayout" Target="../slideLayouts/slideLayout610.xml"/><Relationship Id="rId19" Type="http://schemas.openxmlformats.org/officeDocument/2006/relationships/slideLayout" Target="../slideLayouts/slideLayout611.xml"/><Relationship Id="rId20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3.xml"/><Relationship Id="rId7" Type="http://schemas.openxmlformats.org/officeDocument/2006/relationships/slideLayout" Target="../slideLayouts/slideLayout614.xml"/><Relationship Id="rId8" Type="http://schemas.openxmlformats.org/officeDocument/2006/relationships/slideLayout" Target="../slideLayouts/slideLayout615.xml"/><Relationship Id="rId9" Type="http://schemas.openxmlformats.org/officeDocument/2006/relationships/slideLayout" Target="../slideLayouts/slideLayout616.xml"/><Relationship Id="rId10" Type="http://schemas.openxmlformats.org/officeDocument/2006/relationships/slideLayout" Target="../slideLayouts/slideLayout617.xml"/><Relationship Id="rId11" Type="http://schemas.openxmlformats.org/officeDocument/2006/relationships/slideLayout" Target="../slideLayouts/slideLayout618.xml"/><Relationship Id="rId12" Type="http://schemas.openxmlformats.org/officeDocument/2006/relationships/slideLayout" Target="../slideLayouts/slideLayout619.xml"/><Relationship Id="rId13" Type="http://schemas.openxmlformats.org/officeDocument/2006/relationships/slideLayout" Target="../slideLayouts/slideLayout620.xml"/><Relationship Id="rId14" Type="http://schemas.openxmlformats.org/officeDocument/2006/relationships/slideLayout" Target="../slideLayouts/slideLayout621.xml"/><Relationship Id="rId15" Type="http://schemas.openxmlformats.org/officeDocument/2006/relationships/slideLayout" Target="../slideLayouts/slideLayout622.xml"/><Relationship Id="rId16" Type="http://schemas.openxmlformats.org/officeDocument/2006/relationships/slideLayout" Target="../slideLayouts/slideLayout623.xml"/><Relationship Id="rId17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625.xml"/><Relationship Id="rId7" Type="http://schemas.openxmlformats.org/officeDocument/2006/relationships/slideLayout" Target="../slideLayouts/slideLayout626.xml"/><Relationship Id="rId8" Type="http://schemas.openxmlformats.org/officeDocument/2006/relationships/slideLayout" Target="../slideLayouts/slideLayout627.xml"/><Relationship Id="rId9" Type="http://schemas.openxmlformats.org/officeDocument/2006/relationships/slideLayout" Target="../slideLayouts/slideLayout628.xml"/><Relationship Id="rId10" Type="http://schemas.openxmlformats.org/officeDocument/2006/relationships/slideLayout" Target="../slideLayouts/slideLayout629.xml"/><Relationship Id="rId11" Type="http://schemas.openxmlformats.org/officeDocument/2006/relationships/slideLayout" Target="../slideLayouts/slideLayout630.xml"/><Relationship Id="rId12" Type="http://schemas.openxmlformats.org/officeDocument/2006/relationships/slideLayout" Target="../slideLayouts/slideLayout631.xml"/><Relationship Id="rId13" Type="http://schemas.openxmlformats.org/officeDocument/2006/relationships/slideLayout" Target="../slideLayouts/slideLayout632.xml"/><Relationship Id="rId14" Type="http://schemas.openxmlformats.org/officeDocument/2006/relationships/slideLayout" Target="../slideLayouts/slideLayout633.xml"/><Relationship Id="rId15" Type="http://schemas.openxmlformats.org/officeDocument/2006/relationships/slideLayout" Target="../slideLayouts/slideLayout634.xml"/><Relationship Id="rId16" Type="http://schemas.openxmlformats.org/officeDocument/2006/relationships/slideLayout" Target="../slideLayouts/slideLayout635.xml"/><Relationship Id="rId17" Type="http://schemas.openxmlformats.org/officeDocument/2006/relationships/slideLayout" Target="../slideLayouts/slideLayout636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752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90720" y="2941200"/>
            <a:ext cx="716256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6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6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7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888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9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0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891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2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3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4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895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6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dt" idx="16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4"/>
          <p:cNvSpPr>
            <a:spLocks noGrp="1"/>
          </p:cNvSpPr>
          <p:nvPr>
            <p:ph type="ftr" idx="17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5"/>
          <p:cNvSpPr>
            <a:spLocks noGrp="1"/>
          </p:cNvSpPr>
          <p:nvPr>
            <p:ph type="sldNum" idx="18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6"/>
    <p:sldLayoutId id="2147484287" r:id="rId7"/>
    <p:sldLayoutId id="2147484288" r:id="rId8"/>
    <p:sldLayoutId id="2147484289" r:id="rId9"/>
    <p:sldLayoutId id="2147484290" r:id="rId10"/>
    <p:sldLayoutId id="2147484291" r:id="rId11"/>
    <p:sldLayoutId id="2147484292" r:id="rId12"/>
    <p:sldLayoutId id="2147484293" r:id="rId13"/>
    <p:sldLayoutId id="2147484294" r:id="rId14"/>
    <p:sldLayoutId id="2147484295" r:id="rId15"/>
    <p:sldLayoutId id="2147484296" r:id="rId16"/>
    <p:sldLayoutId id="2147484297" r:id="rId17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8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93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0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1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942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3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4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46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8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949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0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1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952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4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5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956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7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 type="dt" idx="19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 type="ftr" idx="20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 type="sldNum" idx="21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9"/>
    <p:sldLayoutId id="2147484300" r:id="rId10"/>
    <p:sldLayoutId id="2147484301" r:id="rId11"/>
    <p:sldLayoutId id="2147484302" r:id="rId12"/>
    <p:sldLayoutId id="2147484303" r:id="rId13"/>
    <p:sldLayoutId id="2147484304" r:id="rId14"/>
    <p:sldLayoutId id="2147484305" r:id="rId15"/>
    <p:sldLayoutId id="2147484306" r:id="rId16"/>
    <p:sldLayoutId id="2147484307" r:id="rId17"/>
    <p:sldLayoutId id="2147484308" r:id="rId18"/>
    <p:sldLayoutId id="2147484309" r:id="rId19"/>
    <p:sldLayoutId id="2147484310" r:id="rId20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9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2000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1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2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2003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4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5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6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07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8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 type="dt" idx="22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 type="ftr" idx="23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 type="sldNum" idx="24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6"/>
    <p:sldLayoutId id="2147484313" r:id="rId7"/>
    <p:sldLayoutId id="2147484314" r:id="rId8"/>
    <p:sldLayoutId id="2147484315" r:id="rId9"/>
    <p:sldLayoutId id="2147484316" r:id="rId10"/>
    <p:sldLayoutId id="2147484317" r:id="rId11"/>
    <p:sldLayoutId id="2147484318" r:id="rId12"/>
    <p:sldLayoutId id="2147484319" r:id="rId13"/>
    <p:sldLayoutId id="2147484320" r:id="rId14"/>
    <p:sldLayoutId id="2147484321" r:id="rId15"/>
    <p:sldLayoutId id="2147484322" r:id="rId16"/>
    <p:sldLayoutId id="2147484323" r:id="rId17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05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05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05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6"/>
    <p:sldLayoutId id="2147484326" r:id="rId7"/>
    <p:sldLayoutId id="2147484327" r:id="rId8"/>
    <p:sldLayoutId id="2147484328" r:id="rId9"/>
    <p:sldLayoutId id="2147484329" r:id="rId10"/>
    <p:sldLayoutId id="2147484330" r:id="rId11"/>
    <p:sldLayoutId id="2147484331" r:id="rId12"/>
    <p:sldLayoutId id="2147484332" r:id="rId13"/>
    <p:sldLayoutId id="2147484333" r:id="rId14"/>
    <p:sldLayoutId id="2147484334" r:id="rId15"/>
    <p:sldLayoutId id="2147484335" r:id="rId16"/>
    <p:sldLayoutId id="2147484336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5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7.png"/><Relationship Id="rId20" Type="http://schemas.openxmlformats.org/officeDocument/2006/relationships/image" Target="../media/image18.png"/><Relationship Id="rId21" Type="http://schemas.openxmlformats.org/officeDocument/2006/relationships/slideLayout" Target="../slideLayouts/slideLayout5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Shape 179"/>
          <p:cNvSpPr/>
          <p:nvPr/>
        </p:nvSpPr>
        <p:spPr>
          <a:xfrm>
            <a:off x="1523880" y="0"/>
            <a:ext cx="76320" cy="6858000"/>
          </a:xfrm>
          <a:prstGeom prst="rect">
            <a:avLst/>
          </a:prstGeom>
          <a:solidFill>
            <a:srgbClr val="d85c00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Shape 180"/>
          <p:cNvSpPr/>
          <p:nvPr/>
        </p:nvSpPr>
        <p:spPr>
          <a:xfrm>
            <a:off x="228600" y="0"/>
            <a:ext cx="1219320" cy="6858000"/>
          </a:xfrm>
          <a:prstGeom prst="rect">
            <a:avLst/>
          </a:prstGeom>
          <a:gradFill rotWithShape="0">
            <a:gsLst>
              <a:gs pos="0">
                <a:srgbClr val="424838"/>
              </a:gs>
              <a:gs pos="100000">
                <a:srgbClr val="827f00"/>
              </a:gs>
            </a:gsLst>
            <a:lin ang="5400000"/>
          </a:gra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0" name="Shape 181" descr=""/>
          <p:cNvPicPr/>
          <p:nvPr/>
        </p:nvPicPr>
        <p:blipFill>
          <a:blip r:embed="rId2"/>
          <a:stretch/>
        </p:blipFill>
        <p:spPr>
          <a:xfrm>
            <a:off x="1878120" y="1884240"/>
            <a:ext cx="7064280" cy="2859120"/>
          </a:xfrm>
          <a:prstGeom prst="rect">
            <a:avLst/>
          </a:prstGeom>
          <a:ln w="0">
            <a:noFill/>
          </a:ln>
        </p:spPr>
      </p:pic>
      <p:pic>
        <p:nvPicPr>
          <p:cNvPr id="2101" name="Shape 182" descr=""/>
          <p:cNvPicPr/>
          <p:nvPr/>
        </p:nvPicPr>
        <p:blipFill>
          <a:blip r:embed="rId3"/>
          <a:stretch/>
        </p:blipFill>
        <p:spPr>
          <a:xfrm>
            <a:off x="231840" y="231840"/>
            <a:ext cx="2286000" cy="2157480"/>
          </a:xfrm>
          <a:prstGeom prst="rect">
            <a:avLst/>
          </a:prstGeom>
          <a:ln w="0">
            <a:noFill/>
          </a:ln>
        </p:spPr>
      </p:pic>
      <p:sp>
        <p:nvSpPr>
          <p:cNvPr id="2102" name="Shape 183"/>
          <p:cNvSpPr/>
          <p:nvPr/>
        </p:nvSpPr>
        <p:spPr>
          <a:xfrm>
            <a:off x="5105520" y="4800600"/>
            <a:ext cx="4038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3" name="Shape 182" descr=""/>
          <p:cNvPicPr/>
          <p:nvPr/>
        </p:nvPicPr>
        <p:blipFill>
          <a:blip r:embed="rId4"/>
          <a:stretch/>
        </p:blipFill>
        <p:spPr>
          <a:xfrm>
            <a:off x="384120" y="384120"/>
            <a:ext cx="2286000" cy="21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вопро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Shape 192"/>
          <p:cNvGrpSpPr/>
          <p:nvPr/>
        </p:nvGrpSpPr>
        <p:grpSpPr>
          <a:xfrm>
            <a:off x="0" y="0"/>
            <a:ext cx="1219320" cy="6858000"/>
            <a:chOff x="0" y="0"/>
            <a:chExt cx="1219320" cy="6858000"/>
          </a:xfrm>
        </p:grpSpPr>
        <p:sp>
          <p:nvSpPr>
            <p:cNvPr id="2106" name="Shape 193"/>
            <p:cNvSpPr/>
            <p:nvPr/>
          </p:nvSpPr>
          <p:spPr>
            <a:xfrm>
              <a:off x="457200" y="0"/>
              <a:ext cx="75960" cy="6858000"/>
            </a:xfrm>
            <a:prstGeom prst="rect">
              <a:avLst/>
            </a:prstGeom>
            <a:solidFill>
              <a:srgbClr val="db945f"/>
            </a:solidFill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Shape 194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solidFill>
              <a:srgbClr val="949d1f"/>
            </a:solidFill>
            <a:ln cap="rnd" w="9360">
              <a:solidFill>
                <a:srgbClr val="8291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8" name="Shape 19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21932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38"/>
              </a:spcBef>
              <a:buClr>
                <a:srgbClr val="000000"/>
              </a:buClr>
              <a:buSzPct val="99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ие современного урока от традицион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 Структура урока по ФГ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ипология современного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0" name=""/>
          <p:cNvGraphicFramePr/>
          <p:nvPr/>
        </p:nvGraphicFramePr>
        <p:xfrm>
          <a:off x="228600" y="214200"/>
          <a:ext cx="8629560" cy="6543720"/>
        </p:xfrm>
        <a:graphic>
          <a:graphicData uri="http://schemas.openxmlformats.org/drawingml/2006/table">
            <a:tbl>
              <a:tblPr/>
              <a:tblGrid>
                <a:gridCol w="1892160"/>
                <a:gridCol w="3407040"/>
                <a:gridCol w="3330360"/>
              </a:tblGrid>
              <a:tr h="263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525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ообщает учащим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и учащие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725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формулирует и сообщает учащимся, чему должны научить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и 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определив границы знания и незн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сообщает учащимся, какую работу они должны выполнить, чтобы достичь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особов достижения намеченной ц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по намеченному плану (применяется групповой, индивидуальный методы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 выполнением учащимися практической 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 (применяются формы самоконтроля, взаимоконтрол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в ходе выполнения и по итогам выполненной работы учащимис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яет коррекцию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формулируют затруднения и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яют коррекцию самостоятель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</a:tr>
              <a:tr h="9144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хся за работу на уро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ют оценку деятельности по её результатам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самооценивание, оценивание результатов деятельности товарищей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4572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 учащихся, что они запомни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флекс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6858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омментирует (чаще – задание одно для всех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 из предложенных учителем с учётом индивидуальных возможносте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1" name=""/>
          <p:cNvGraphicFramePr/>
          <p:nvPr/>
        </p:nvGraphicFramePr>
        <p:xfrm>
          <a:off x="428760" y="549360"/>
          <a:ext cx="8501040" cy="5916600"/>
        </p:xfrm>
        <a:graphic>
          <a:graphicData uri="http://schemas.openxmlformats.org/drawingml/2006/table">
            <a:tbl>
              <a:tblPr/>
              <a:tblGrid>
                <a:gridCol w="2143080"/>
                <a:gridCol w="3214440"/>
                <a:gridCol w="3143520"/>
              </a:tblGrid>
              <a:tr h="112068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итери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в условиях введения ФГОС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4302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ирование ЗУ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Развитие лич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  <a:tr h="11286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едущий тип деятель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продуктивный, воспроизводящ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сследовательский, продуктивный, творческ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97344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особ усвоения материа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ятельность по образц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Мыслительная  деятельность, рефлек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  <a:tr h="108720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тро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нтроль и самоконтроль усвоения нового материал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db7b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амооценка , рефлексия результатов 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b69"/>
                    </a:solidFill>
                  </a:tcPr>
                </a:tc>
              </a:tr>
              <a:tr h="1176480"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еполаг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ет учител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e7a7"/>
                    </a:solidFill>
                  </a:tcPr>
                </a:tc>
                <a:tc>
                  <a:txBody>
                    <a:bodyPr lIns="64080" rIns="64080" tIns="32040" bIns="32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ределяют ученик и учитель по согласованию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a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Как изменяется ур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507600" y="12949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 становится личностно-развивающи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тановится компетентностно-ориентирован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к становится метапредметны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яду с предметно-ориентированным уроком рождаются интегрированные формы (уроки                занятия), стирается грань между обучением и воспит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Shape 246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Shape 24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6" name="Shape 248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  <p:pic>
        <p:nvPicPr>
          <p:cNvPr id="2117" name="Shape 249" descr=""/>
          <p:cNvPicPr/>
          <p:nvPr/>
        </p:nvPicPr>
        <p:blipFill>
          <a:blip r:embed="rId2"/>
          <a:stretch/>
        </p:blipFill>
        <p:spPr>
          <a:xfrm>
            <a:off x="5334120" y="4724280"/>
            <a:ext cx="252720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Структура урока по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отивирование (самоопределение) к учебной деятельности (орга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ионный этап 1-2 мину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Актуализация знаний и фиксирование индивидуального затруднения в пробном учебном действии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явление места и причины затруднения, постановка цели деятельности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строение проекта выхода из затруднения (открытие нового знания) 7-8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еализация построенного проекта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ервичное закрепление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амостоятельная работа с самопроверкой по эталону (образцу) 4-5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ключение в систему знаний и повторение 7-8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Рефлексия учебной деятельности (итог урока) – 2-3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Shape 418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Shape 41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2" name="Shape 420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Типология уроков по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Shape 496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Shape 497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6" name="Shape 498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7" name=""/>
          <p:cNvGraphicFramePr/>
          <p:nvPr/>
        </p:nvGraphicFramePr>
        <p:xfrm>
          <a:off x="838080" y="1447920"/>
          <a:ext cx="8001000" cy="5224320"/>
        </p:xfrm>
        <a:graphic>
          <a:graphicData uri="http://schemas.openxmlformats.org/drawingml/2006/table">
            <a:tbl>
              <a:tblPr/>
              <a:tblGrid>
                <a:gridCol w="3510000"/>
                <a:gridCol w="4491000"/>
              </a:tblGrid>
              <a:tr h="49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уро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5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изучения нов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диционный (комбинированный), лекция, экскурсия, исследовательская работа, учебный и трудовой практику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закрепл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, экскурсия, лабораторная работа, собеседование, консультац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комплексного применения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ум, лабораторная работа, семинар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обобщения и систематизации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, конференция, круглый стол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к контроля, оценки и коррекции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ая работа, зачет, коллоквиум, смотр знаний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Основные трудности при подготовке урока в условиях ФГ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6094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вшаяся за предыдущие  годы устойчивая методика проведения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дать возможность ученику самому искать информацию и исследовать е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создавать учебные ситуации как особые структурные единицы учебной деятельности, а также уметь переводить учебные задачи в учебную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подход  к анализу урока и стремление придерживаться старых подходов к оценке деятельности учи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а известных планов-конспектов технологическими картами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о-оценочная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Shape 580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Shape 58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2" name="Shape 58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47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86e00"/>
                </a:solidFill>
                <a:latin typeface="Times New Roman"/>
                <a:ea typeface="Times New Roman"/>
              </a:rPr>
              <a:t>Реализация стандарта должна изменить представление учителя об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609480" y="138384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выступает не объектом, а субъектом учеб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применяются разнообразные источники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структура уро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индивидуальная и коллективная деятель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ается приоритет деятельности учен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ся новые критерии оценивания деятельности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Shape 590"/>
          <p:cNvSpPr/>
          <p:nvPr/>
        </p:nvSpPr>
        <p:spPr>
          <a:xfrm>
            <a:off x="457200" y="0"/>
            <a:ext cx="76320" cy="6858000"/>
          </a:xfrm>
          <a:prstGeom prst="rect">
            <a:avLst/>
          </a:prstGeom>
          <a:solidFill>
            <a:srgbClr val="ffcc99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Shape 591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82916f"/>
          </a:solidFill>
          <a:ln cap="rnd" w="9360">
            <a:solidFill>
              <a:srgbClr val="8291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7" name="Shape 592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137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Яна</dc:creator>
  <dc:description/>
  <dc:language>en-US</dc:language>
  <cp:lastModifiedBy>Sosh1kab26</cp:lastModifiedBy>
  <dcterms:modified xsi:type="dcterms:W3CDTF">2017-01-19T05:21:19Z</dcterms:modified>
  <cp:revision>16</cp:revision>
  <dc:subject/>
  <dc:title>Современный урок в соответствии с требованиями ФГОС</dc:title>
</cp:coreProperties>
</file>