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5B5-534E-44FE-8A41-7B149853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FEB-1D6F-46FF-BBAB-8951FD91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C3AC-2CCC-4367-BE29-EE26DACF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43D-508E-450F-AFB8-D75BCB3A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058E-00E7-4296-98D7-F1DEDB7A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CEA8-9DF0-4D51-8575-CFCB8CFC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8A74-77AA-4027-BA75-C48479F9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2A19-457F-491C-AFBC-521DF6C6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77B7-A844-4996-BEA0-A902C96E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E83C-FB86-4853-A52B-95A29276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0B9B-F447-4D26-9BC6-B4B430C9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4DA-6882-4DB9-B771-950BC8C5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4194-3CC2-4DB8-B334-D3DD6A1B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24ED-224D-49F8-93AB-DB5925DD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98DE-850A-4370-9139-C9EA86C5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6AEF-EB0D-4111-B5C1-DA3D21D2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3CE9-8A9D-4FA0-B691-F57B982E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2B85-9AB4-4D3A-8EB8-59E8540C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C4DDB-7CB3-44FA-B027-1A2CA4E7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CA01C-5D3D-41DA-9963-348EAC51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C44A8-93B3-49A5-9713-11A58002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D050B-2746-4927-AF2B-D563255B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4D7-61A7-482C-A5B3-23DB9E04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5965A-9BAF-4C40-82EE-F7193903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0DB04-2A91-411D-A5E0-DB1930C3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330BD-E92A-407E-A2BE-30FAF037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85913-3E53-4DEA-B2F9-DD076FEE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1ECB0-4BC9-4F5D-89D9-A615C5EF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F731-B8F8-4355-BB3F-081BAB70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DC1FD-1D99-4362-B752-F641DD0E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2AF19-EFD3-47BE-ABE9-9251B418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59CB5-A790-4499-A528-445A3E96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DF2EB-381E-45C7-9F04-150AEB7E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115-246A-44A8-8033-93DADAB0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46FC6-9C3E-4295-8E46-8782107C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9C899-EED2-4FB8-B0F5-F0DA17EF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A8E29-A308-4E24-9D35-DFFEEC79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5CED1-D16B-4E7B-8BAD-29EEFA87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1D149-2345-4656-942D-5035C347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76421-C7CF-4EB6-A8EF-665F39FF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99A38-0E51-4F43-BC2B-B2BFB9AD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21472-6E25-4138-AE1F-C0245C10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00C4E-3BD9-4F80-BE55-624433E6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0D36B-E21F-4486-8A47-1B77615A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68A-E176-482C-88C4-72BA2258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78AB5-7C7F-45B8-809C-6F62B8F1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2E22F-3AFD-44A6-A5A3-CB9B04A0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81D93-897D-476D-BC43-D6EA0FCA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3E5B9-81BD-4B66-9403-DE5E3E5B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AD1D9-9EF5-441B-8606-2CE31F30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6A8A8-5D47-4B03-BEA0-3B75D1E3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BAFEC-750B-41E1-BB47-66F23537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E6476-A34E-4844-A397-DCF46572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81888-4534-4F39-A8D3-12A2B318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19E77-F03E-4878-88FE-F0BC7B09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119-38D7-41DB-8033-24582645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3AF8B-2751-428B-974B-64A39B3B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E0769-85BE-4DA6-8E3E-1872BDA6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CAECA-C099-4003-9B16-803F0E18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EE3A8D-57DC-468B-848D-CA26307A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1E1868-C8A0-41DA-9444-52ABB0D8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F0C5F-3E44-4BB6-B4DE-2D6E0932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DDF115-8DA5-477B-B4DC-D60DB8C6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A5937-8E4A-4BE7-9D00-F7568789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32CB7-EA3A-4B14-ADDB-DC67EDF1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AECE00-4D4C-4695-84A8-9F596AF6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B4C-B02F-4EE7-AA79-D3F1E33B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79A0A-756D-4044-A96F-F4504221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D8310-66AF-402D-AC49-D21B36AE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12712-B1E3-494D-ADD9-9E2221A8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F49-5F34-4F63-979A-3026B53A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E2F-C2EC-41A2-BD57-8D74A8BD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11CC-11E0-4210-B731-2DC5A0EB21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0A28-069B-4988-AE04-1EB8B54CD9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B470-59E7-4F6F-B1DC-291A51D88B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9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2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3B0F-E08F-4008-B6CE-0B7D27A382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73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F585-F08C-4018-8768-5E8733F77FE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036A-EF38-435A-8835-E0A891F3EC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7"/>
          <p:cNvSpPr/>
          <p:nvPr/>
        </p:nvSpPr>
        <p:spPr>
          <a:xfrm>
            <a:off x="1127160" y="3722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-6313320" y="3570120"/>
            <a:ext cx="150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Виды рынков. Конкуренция и монопол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4"/>
          <p:cNvSpPr txBox="1"/>
          <p:nvPr/>
        </p:nvSpPr>
        <p:spPr>
          <a:xfrm>
            <a:off x="179280" y="189000"/>
            <a:ext cx="856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оха не монополия сама по себе, а 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транение ею конкуренции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6734160" y="1557360"/>
            <a:ext cx="163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. Хай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3348360" y="239220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нопо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1189080" y="321300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З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6519600" y="31417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ротив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1440" y="4148280"/>
            <a:ext cx="405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высококачествен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ук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развитие научн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ого прогресса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4572360" y="3933720"/>
            <a:ext cx="480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Усиление неравен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охода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банкротство мелк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приятий и безработиц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 нестабильность в социаль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олитической сф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1553040" y="189000"/>
            <a:ext cx="59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особы образования монопол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1440" y="1197000"/>
            <a:ext cx="901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корнер – скупка товара, складирование, продажа товара п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ышенным ценам в условиях дефици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купка акций – тайное приобретение контрольного паке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ций какой-либо компан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 поглощение мелких фирм круп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2828160" y="31813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ы монопол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2700360" y="3213000"/>
            <a:ext cx="3240000" cy="503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377640" y="3879720"/>
            <a:ext cx="15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рыт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ыт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250920" y="3860640"/>
            <a:ext cx="1728720" cy="9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6229800" y="3933720"/>
            <a:ext cx="22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ественн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кусстве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1"/>
          <p:cNvSpPr/>
          <p:nvPr/>
        </p:nvSpPr>
        <p:spPr>
          <a:xfrm>
            <a:off x="6156360" y="3860640"/>
            <a:ext cx="2376360" cy="9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2"/>
          <p:cNvSpPr/>
          <p:nvPr/>
        </p:nvSpPr>
        <p:spPr>
          <a:xfrm>
            <a:off x="1169640" y="510372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чай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1116000" y="5084640"/>
            <a:ext cx="1871640" cy="50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14"/>
          <p:cNvSpPr/>
          <p:nvPr/>
        </p:nvSpPr>
        <p:spPr>
          <a:xfrm>
            <a:off x="5295960" y="501336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нопс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15"/>
          <p:cNvSpPr/>
          <p:nvPr/>
        </p:nvSpPr>
        <p:spPr>
          <a:xfrm>
            <a:off x="5219640" y="4941720"/>
            <a:ext cx="208908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6"/>
          <p:cNvSpPr/>
          <p:nvPr/>
        </p:nvSpPr>
        <p:spPr>
          <a:xfrm>
            <a:off x="2053440" y="580536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опо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17"/>
          <p:cNvSpPr/>
          <p:nvPr/>
        </p:nvSpPr>
        <p:spPr>
          <a:xfrm>
            <a:off x="2050920" y="5734080"/>
            <a:ext cx="158436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4288680" y="573408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ухстороння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19"/>
          <p:cNvSpPr/>
          <p:nvPr/>
        </p:nvSpPr>
        <p:spPr>
          <a:xfrm>
            <a:off x="4211640" y="5661000"/>
            <a:ext cx="244800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0"/>
          <p:cNvSpPr/>
          <p:nvPr/>
        </p:nvSpPr>
        <p:spPr>
          <a:xfrm flipH="1">
            <a:off x="1115640" y="3429000"/>
            <a:ext cx="1584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1"/>
          <p:cNvSpPr/>
          <p:nvPr/>
        </p:nvSpPr>
        <p:spPr>
          <a:xfrm flipH="1">
            <a:off x="2123640" y="3716280"/>
            <a:ext cx="208764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22"/>
          <p:cNvSpPr/>
          <p:nvPr/>
        </p:nvSpPr>
        <p:spPr>
          <a:xfrm flipH="1">
            <a:off x="2987640" y="3716280"/>
            <a:ext cx="1224000" cy="2017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23"/>
          <p:cNvSpPr/>
          <p:nvPr/>
        </p:nvSpPr>
        <p:spPr>
          <a:xfrm>
            <a:off x="4211640" y="3716280"/>
            <a:ext cx="1800360" cy="122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Line 24"/>
          <p:cNvSpPr/>
          <p:nvPr/>
        </p:nvSpPr>
        <p:spPr>
          <a:xfrm>
            <a:off x="4211640" y="3716280"/>
            <a:ext cx="72072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25"/>
          <p:cNvSpPr/>
          <p:nvPr/>
        </p:nvSpPr>
        <p:spPr>
          <a:xfrm>
            <a:off x="5940360" y="3429000"/>
            <a:ext cx="1368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4"/>
          <p:cNvSpPr/>
          <p:nvPr/>
        </p:nvSpPr>
        <p:spPr>
          <a:xfrm>
            <a:off x="2051640" y="21096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стественные монополи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185400" y="928800"/>
            <a:ext cx="9003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коммунальные службы (газо-, водо-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ктроснабж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патентная служба (патент – это защита пра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обретателя на изобретение в течение его жиз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17 лет после смерти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торговая марка и торговый знак (знак ка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вара, защищает права владельца в теч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зни и 50 лет после смерт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7" descr="j0285360"/>
          <p:cNvPicPr/>
          <p:nvPr/>
        </p:nvPicPr>
        <p:blipFill>
          <a:blip r:embed="rId1"/>
          <a:stretch/>
        </p:blipFill>
        <p:spPr>
          <a:xfrm>
            <a:off x="7669080" y="4653000"/>
            <a:ext cx="1474920" cy="1817640"/>
          </a:xfrm>
          <a:prstGeom prst="rect">
            <a:avLst/>
          </a:prstGeom>
          <a:ln w="0">
            <a:noFill/>
          </a:ln>
        </p:spPr>
      </p:pic>
      <p:sp>
        <p:nvSpPr>
          <p:cNvPr id="449" name="Litebulb"/>
          <p:cNvSpPr/>
          <p:nvPr/>
        </p:nvSpPr>
        <p:spPr>
          <a:xfrm>
            <a:off x="5292720" y="4653000"/>
            <a:ext cx="1465200" cy="18003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9" descr="j0299125"/>
          <p:cNvPicPr/>
          <p:nvPr/>
        </p:nvPicPr>
        <p:blipFill>
          <a:blip r:embed="rId2"/>
          <a:stretch/>
        </p:blipFill>
        <p:spPr>
          <a:xfrm>
            <a:off x="3564000" y="4581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5"/>
          <p:cNvSpPr/>
          <p:nvPr/>
        </p:nvSpPr>
        <p:spPr>
          <a:xfrm>
            <a:off x="324000" y="299880"/>
            <a:ext cx="88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нтимонопольное законодательст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это система законов, ограничивающих действия компаний, которые ведут к снижению конкуренции и установлению монопол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451080" y="2965320"/>
            <a:ext cx="811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Закон Шермана (США) 1890г. о незакон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тельных соглаш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Антимонопольный закон Российской имп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908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Закон РФ «О конкуренции и ограничен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ополистической деятельности на товар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ынках» в 1991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4"/>
          <p:cNvSpPr/>
          <p:nvPr/>
        </p:nvSpPr>
        <p:spPr>
          <a:xfrm>
            <a:off x="900360" y="260280"/>
            <a:ext cx="74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ели антимонопольной политик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320" y="1268280"/>
            <a:ext cx="655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контроль за слиянием компани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контроль в сфере ценообраз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0" y="3500280"/>
            <a:ext cx="855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"/>
              </a:rPr>
              <a:t>В 1991 г. был создан Федеральный комитет по антимонопольной политике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5"/>
          <p:cNvSpPr/>
          <p:nvPr/>
        </p:nvSpPr>
        <p:spPr>
          <a:xfrm>
            <a:off x="5368680" y="1413000"/>
            <a:ext cx="31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ьберт Хабба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5153400" y="5300640"/>
            <a:ext cx="35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жон Стюарт Мил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WordArt 9"/>
          <p:cNvSpPr txBox="1"/>
          <p:nvPr/>
        </p:nvSpPr>
        <p:spPr>
          <a:xfrm>
            <a:off x="179280" y="189000"/>
            <a:ext cx="8748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куренция – жизнь торговли и 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мерть торговцев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7" name="WordArt 10"/>
          <p:cNvSpPr txBox="1"/>
          <p:nvPr/>
        </p:nvSpPr>
        <p:spPr>
          <a:xfrm>
            <a:off x="0" y="3573360"/>
            <a:ext cx="9144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м где нет конкуренции, там нет 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едмета для экономического анализа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0" y="557280"/>
          <a:ext cx="9144000" cy="6311880"/>
        </p:xfrm>
        <a:graphic>
          <a:graphicData uri="http://schemas.openxmlformats.org/drawingml/2006/table">
            <a:tbl>
              <a:tblPr/>
              <a:tblGrid>
                <a:gridCol w="1332000"/>
                <a:gridCol w="1152360"/>
                <a:gridCol w="1295640"/>
                <a:gridCol w="1296720"/>
                <a:gridCol w="1295640"/>
                <a:gridCol w="1439640"/>
                <a:gridCol w="1332000"/>
              </a:tblGrid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ы рын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во фирм на рын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пень контроля над цен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рьеры для вхождения в отрас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фф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нциация проду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ценовая конку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н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вершен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я конкурен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ножество независи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тсутствует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цены определяют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я рынк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ти отсутствую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нород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сутству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льск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5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совер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енная (монополис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ческая) конкуренц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лигопол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таточно мн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сколько фир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раничен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раничена ценовой политикой фирмы- лиде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вел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итель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фферен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рова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нородный и дифферен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рова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клама особенностей проду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клама торговой мар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зничная торговля, закусочные, химчис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мобиль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я, сталилитей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я промышлен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солютная монопол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на фир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ктически полный контро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рынок вступить не возмож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нородный нет близких замени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клама особого места компании в жизни обще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Text Box 49"/>
          <p:cNvSpPr/>
          <p:nvPr/>
        </p:nvSpPr>
        <p:spPr>
          <a:xfrm>
            <a:off x="2916360" y="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ели рын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653040" y="326880"/>
            <a:ext cx="793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куренция – это соперничество между участниками рыноч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ошений за лучшие условия и результа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зводства, продажи и купли товаров и услу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7"/>
          <p:cNvSpPr/>
          <p:nvPr/>
        </p:nvSpPr>
        <p:spPr>
          <a:xfrm>
            <a:off x="755640" y="836640"/>
            <a:ext cx="1512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3566160" y="2276640"/>
            <a:ext cx="19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2880" y="436572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овая     Нецен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3863520" y="436572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иотраслев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отрасле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23"/>
          <p:cNvSpPr/>
          <p:nvPr/>
        </p:nvSpPr>
        <p:spPr>
          <a:xfrm flipH="1">
            <a:off x="755280" y="2637000"/>
            <a:ext cx="287964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24"/>
          <p:cNvSpPr/>
          <p:nvPr/>
        </p:nvSpPr>
        <p:spPr>
          <a:xfrm flipH="1">
            <a:off x="2627280" y="2781360"/>
            <a:ext cx="194472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25"/>
          <p:cNvSpPr/>
          <p:nvPr/>
        </p:nvSpPr>
        <p:spPr>
          <a:xfrm>
            <a:off x="4572000" y="2781360"/>
            <a:ext cx="129528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26"/>
          <p:cNvSpPr/>
          <p:nvPr/>
        </p:nvSpPr>
        <p:spPr>
          <a:xfrm>
            <a:off x="5651640" y="2781360"/>
            <a:ext cx="230508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4"/>
          <p:cNvSpPr/>
          <p:nvPr/>
        </p:nvSpPr>
        <p:spPr>
          <a:xfrm>
            <a:off x="1959480" y="35100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арактеристика видов 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79280" y="1413000"/>
          <a:ext cx="8713800" cy="4968720"/>
        </p:xfrm>
        <a:graphic>
          <a:graphicData uri="http://schemas.openxmlformats.org/drawingml/2006/table">
            <a:tbl>
              <a:tblPr/>
              <a:tblGrid>
                <a:gridCol w="1871640"/>
                <a:gridCol w="1584360"/>
                <a:gridCol w="1441440"/>
                <a:gridCol w="1943280"/>
                <a:gridCol w="1873080"/>
              </a:tblGrid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курен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кты и ц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посыл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утриотра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е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прития одной отрас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учшие условия производства и сбы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личия индивидуаль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й стоимости и сбы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ыночная цена на однородные товары, разорение не эффективных предприят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жотрасле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прия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я разных отрас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ера наиболее прибыльного вложения капита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личные нормы прибыли в разных отрасл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норма прибыли и пропорциона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ьность эконом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4"/>
          <p:cNvSpPr/>
          <p:nvPr/>
        </p:nvSpPr>
        <p:spPr>
          <a:xfrm>
            <a:off x="171360" y="476280"/>
            <a:ext cx="877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овая конкуренция – борьба между товаропроизводит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ями за получение дополнительной прибы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редством уменьшения издержек производ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, соответственно, снижения цен на продук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изменения её ассортимента и кач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4320" y="4365720"/>
            <a:ext cx="885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ценовая конкуренция – борьба, которая разворачив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круг потребительских свойств товара, качест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ортимента и условий продаж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6"/>
          <p:cNvSpPr/>
          <p:nvPr/>
        </p:nvSpPr>
        <p:spPr>
          <a:xfrm>
            <a:off x="324000" y="907920"/>
            <a:ext cx="302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9"/>
          <p:cNvSpPr/>
          <p:nvPr/>
        </p:nvSpPr>
        <p:spPr>
          <a:xfrm>
            <a:off x="0" y="4797360"/>
            <a:ext cx="341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4"/>
          <p:cNvSpPr/>
          <p:nvPr/>
        </p:nvSpPr>
        <p:spPr>
          <a:xfrm>
            <a:off x="4714920" y="1714680"/>
            <a:ext cx="36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жоан   Робинс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WordArt 16"/>
          <p:cNvSpPr txBox="1"/>
          <p:nvPr/>
        </p:nvSpPr>
        <p:spPr>
          <a:xfrm>
            <a:off x="255600" y="0"/>
            <a:ext cx="88884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вершенная конкуренция возможна в 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х свободного рынк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7" name="Picture 17" descr="7578_201"/>
          <p:cNvPicPr/>
          <p:nvPr/>
        </p:nvPicPr>
        <p:blipFill>
          <a:blip r:embed="rId1"/>
          <a:stretch/>
        </p:blipFill>
        <p:spPr>
          <a:xfrm>
            <a:off x="0" y="1484280"/>
            <a:ext cx="3813120" cy="5373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23"/>
          <p:cNvSpPr/>
          <p:nvPr/>
        </p:nvSpPr>
        <p:spPr>
          <a:xfrm>
            <a:off x="4143240" y="25718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дела в несовершенной конкуренции главную слабость капиталистической системы. Она считала, что компании получают больше прибыли, поддерживая более высокую цену, чем они могли бы иметь при совершенной конкурен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4"/>
          <p:cNvSpPr/>
          <p:nvPr/>
        </p:nvSpPr>
        <p:spPr>
          <a:xfrm>
            <a:off x="2556000" y="620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85400" y="3573360"/>
            <a:ext cx="7399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знаки монополистической конкуренц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предоставление дополнительных услу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упателя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гарантия обслужива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яркие красочные упаковки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WordArt 10"/>
          <p:cNvSpPr txBox="1"/>
          <p:nvPr/>
        </p:nvSpPr>
        <p:spPr>
          <a:xfrm>
            <a:off x="0" y="0"/>
            <a:ext cx="924408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нополистическая конкуренция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едполагает дифференциацию продукта,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. е. наличие у него таких свойств, 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торых нет у продуктов конкурентов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5725800" y="234936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. Чемберл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5"/>
          <p:cNvSpPr/>
          <p:nvPr/>
        </p:nvSpPr>
        <p:spPr>
          <a:xfrm>
            <a:off x="-2520" y="2205000"/>
            <a:ext cx="865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новая война – это цикл последовательн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ньшений цены конкурентами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гополистическом рын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10"/>
          <p:cNvSpPr/>
          <p:nvPr/>
        </p:nvSpPr>
        <p:spPr>
          <a:xfrm>
            <a:off x="611280" y="2708280"/>
            <a:ext cx="172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365400" y="3933720"/>
            <a:ext cx="877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рты олигопол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лидерство в цена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традиционнос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йное соглашение конкурентов на стадии сбы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та (картел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WordArt 12"/>
          <p:cNvSpPr txBox="1"/>
          <p:nvPr/>
        </p:nvSpPr>
        <p:spPr>
          <a:xfrm>
            <a:off x="0" y="189000"/>
            <a:ext cx="8820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лигополия характеризуется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 что на рынк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сподствуют несколько 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упных фирм 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4:38:51Z</dcterms:created>
  <dc:creator>user</dc:creator>
  <dc:description/>
  <dc:language>en-US</dc:language>
  <cp:lastModifiedBy>Дима</cp:lastModifiedBy>
  <dcterms:modified xsi:type="dcterms:W3CDTF">2016-09-13T18:12:51Z</dcterms:modified>
  <cp:revision>13</cp:revision>
  <dc:subject/>
  <dc:title>Слайд 1</dc:title>
</cp:coreProperties>
</file>