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media/image6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7F0A-8A89-4806-AE3E-1AF752C83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AFAD-12F6-4C06-BF77-D951366C4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4550-5189-4D6D-A78E-3B84DD9E9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25A0-C7EE-46F9-AEDA-403CD075C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97361-818B-440E-BFD9-0113E535D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1EC8B-C16E-48DA-9F9E-6E69EFE8D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2A987-6BAE-482F-8FB3-03441C285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DB7D4-4840-48EE-BF53-8B76EC941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8ABED-98E8-4FDE-AA30-DB75817B3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CC5AA-41B9-4270-B118-C727D6A59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23B31-B57A-4440-925B-84DD25219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6546-7EF3-49FA-AAE1-1B5C8FF27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FED6D-DCC1-4156-8B83-2303EF4F9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2496E-5CC7-4BBC-84FF-B8BC5C6EC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A9E2E-277C-404E-81B0-5102DC782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8D746-8D51-41CB-ADC6-808E9EC2E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14E77-3716-4671-A33D-E0F38A165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49E75-BFD4-4E5D-9DC6-D08A04B56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609BA-15D5-46FA-8AD7-E8B637B0C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76FA2-F104-4130-BB28-625CC0910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1B511-5C13-4F1D-A93C-B95AB9F77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FA343-C81E-4FBE-95CB-E00DB5A3F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04B7-F17A-42DF-93D8-C731C1E3D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6F399-9F81-4288-88D3-8167D47AD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8FDBE-E5C0-4BB1-A9C2-5FC639C6D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43038-D241-4E3E-896A-D2C35E6DB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6B355-8299-42D1-9030-D4831306C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C094C-C52C-4F19-BFF8-F40031FD5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9CC0A-DCED-4C2B-8E70-ED6F8FC9E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6C048-4458-45B3-861F-BD8EA93DE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D2205-FCB9-4E0B-AE84-85F5ADB5F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4D80D-A33D-4B3F-928D-1B4606B4D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5E9A93-C1B0-41E2-8758-85134755E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6190-A35C-4588-A66F-944A06916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9D5F7-BE25-45C5-9E2D-3CFEFCA2C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32D4E-6513-4364-9243-081494793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0ECFE-F17C-4BDE-8F0F-F03515C12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874FD3-1A57-41EE-BAB7-27DC75929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4B8CB-BED0-4453-B8AB-29CC8F3F3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A6703-E429-48BA-B486-190437338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F9E96-2DBD-4B98-AE93-521011F86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9DEE3-E784-4739-B73E-9E0A83122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94D48-4128-477B-AD60-F081F0FF3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045A5A-BF40-4695-A47D-DAF8C672A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E7B0-23ED-4BBE-B86B-5FF03D54A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BC7163-97E3-49FE-B0F2-BCA501529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3BF8C8-FFDE-46E8-9CC3-1FD55E793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1CCCE5-CA2E-4425-9CA9-A05078783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003E21-A658-4311-AFF6-C35B4A8CF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8B7729-535F-4AE7-8652-0BD559D91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96B5D1-743F-4903-B716-F4420A78B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92984C-9D5A-45B8-9E85-93DAEF6B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F196B2-128D-4BE2-B41F-6198F4E10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BE0548-DED4-4E32-A589-F482F6178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5E973B-1561-40C1-A288-81B16E09C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9580-7F8D-4020-95F4-C985E0F52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27527E-561A-49C8-A190-0CC690FEA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ACEB19-9DCF-4DC3-A1F0-2A41A1562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AB2A16-06B4-4C2F-95EF-3CA371454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B304A1-63C6-4268-86C5-762D55EAD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D3CF6D-AC87-48AC-8408-879631344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3EB355-0110-4A74-A752-EF6FC2B2B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E06554-32CE-49A9-872A-A6CE045FA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D3DAB9-5082-4510-91BF-D83E3405F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DFCE3E-1EDA-408B-88F2-F3D082A0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EDE7414-1175-4D1D-9B48-969A6526F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0164-190E-4341-A75E-9EDF84DB1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62BE65-60CE-4232-A7B6-5EDFEC920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AC11EF-DF23-428D-8F1A-7DB218014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0008D1-3BB0-4E61-A525-BA4CE9C7B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575D-EAF8-4832-B2D4-AC1892BD6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8883-DC7C-48AA-97AB-7707706AF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62BC4-8AE5-4C95-8B2F-3F116A8BC7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82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3B7D5-FD5F-4BCD-8AAA-F5EAF82C7EE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31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3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35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3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2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4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CC1FD-8877-47AF-AC76-BA4DBA59AF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9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2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EB0F3-B0CC-42E1-B53A-532182988E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273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43A4A-41C2-4A36-AEA5-2C73A549294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322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4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326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32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3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35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9E300-C4BC-44C3-BADE-6906732C30F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 Box 7"/>
          <p:cNvSpPr/>
          <p:nvPr/>
        </p:nvSpPr>
        <p:spPr>
          <a:xfrm>
            <a:off x="1127160" y="37227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Text Box 8"/>
          <p:cNvSpPr/>
          <p:nvPr/>
        </p:nvSpPr>
        <p:spPr>
          <a:xfrm>
            <a:off x="-6313320" y="3570120"/>
            <a:ext cx="150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6d1ec"/>
                </a:solidFill>
                <a:latin typeface="Times New Roman"/>
                <a:ea typeface="Times New Roman"/>
              </a:rPr>
              <a:t>Виды рынков. Конкуренция и монополи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WordArt 4"/>
          <p:cNvSpPr txBox="1"/>
          <p:nvPr/>
        </p:nvSpPr>
        <p:spPr>
          <a:xfrm>
            <a:off x="179280" y="189000"/>
            <a:ext cx="85694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лоха не монополия сама по себе, а 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странение ею конкуренции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18" name="Text Box 5"/>
          <p:cNvSpPr/>
          <p:nvPr/>
        </p:nvSpPr>
        <p:spPr>
          <a:xfrm>
            <a:off x="6734160" y="1557360"/>
            <a:ext cx="163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. Хайе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Text Box 6"/>
          <p:cNvSpPr/>
          <p:nvPr/>
        </p:nvSpPr>
        <p:spPr>
          <a:xfrm>
            <a:off x="3348360" y="2392200"/>
            <a:ext cx="232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нопол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Text Box 7"/>
          <p:cNvSpPr/>
          <p:nvPr/>
        </p:nvSpPr>
        <p:spPr>
          <a:xfrm>
            <a:off x="1189080" y="3213000"/>
            <a:ext cx="99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За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Text Box 8"/>
          <p:cNvSpPr/>
          <p:nvPr/>
        </p:nvSpPr>
        <p:spPr>
          <a:xfrm>
            <a:off x="6519600" y="3141720"/>
            <a:ext cx="177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Против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Text Box 9"/>
          <p:cNvSpPr/>
          <p:nvPr/>
        </p:nvSpPr>
        <p:spPr>
          <a:xfrm>
            <a:off x="1440" y="4148280"/>
            <a:ext cx="4059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 высококачественна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дукци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 развитие научно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хнического прогресса 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изводств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Text Box 10"/>
          <p:cNvSpPr/>
          <p:nvPr/>
        </p:nvSpPr>
        <p:spPr>
          <a:xfrm>
            <a:off x="4572360" y="3933720"/>
            <a:ext cx="4803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 Усиление неравенств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дохода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 банкротство мелки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едприятий и безработиц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 нестабильность в социально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политической сфер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 Box 4"/>
          <p:cNvSpPr/>
          <p:nvPr/>
        </p:nvSpPr>
        <p:spPr>
          <a:xfrm>
            <a:off x="1553040" y="189000"/>
            <a:ext cx="592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пособы образования монополи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Text Box 5"/>
          <p:cNvSpPr/>
          <p:nvPr/>
        </p:nvSpPr>
        <p:spPr>
          <a:xfrm>
            <a:off x="1440" y="1197000"/>
            <a:ext cx="9016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 корнер – скупка товара, складирование, продажа товара п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вышенным ценам в условиях дефицит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 скупка акций – тайное приобретение контрольного пакет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кций какой-либо компани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 поглощение мелких фирм крупн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Text Box 6"/>
          <p:cNvSpPr/>
          <p:nvPr/>
        </p:nvSpPr>
        <p:spPr>
          <a:xfrm>
            <a:off x="2828160" y="3181320"/>
            <a:ext cx="300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иды монопол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Rectangle 7"/>
          <p:cNvSpPr/>
          <p:nvPr/>
        </p:nvSpPr>
        <p:spPr>
          <a:xfrm>
            <a:off x="2700360" y="3213000"/>
            <a:ext cx="3240000" cy="5032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Text Box 8"/>
          <p:cNvSpPr/>
          <p:nvPr/>
        </p:nvSpPr>
        <p:spPr>
          <a:xfrm>
            <a:off x="377640" y="3879720"/>
            <a:ext cx="157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крыта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крыт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Rectangle 9"/>
          <p:cNvSpPr/>
          <p:nvPr/>
        </p:nvSpPr>
        <p:spPr>
          <a:xfrm>
            <a:off x="250920" y="3860640"/>
            <a:ext cx="1728720" cy="936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Text Box 10"/>
          <p:cNvSpPr/>
          <p:nvPr/>
        </p:nvSpPr>
        <p:spPr>
          <a:xfrm>
            <a:off x="6229800" y="3933720"/>
            <a:ext cx="223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стественна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кусствен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Rectangle 11"/>
          <p:cNvSpPr/>
          <p:nvPr/>
        </p:nvSpPr>
        <p:spPr>
          <a:xfrm>
            <a:off x="6156360" y="3860640"/>
            <a:ext cx="2376360" cy="936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Text Box 12"/>
          <p:cNvSpPr/>
          <p:nvPr/>
        </p:nvSpPr>
        <p:spPr>
          <a:xfrm>
            <a:off x="1169640" y="5103720"/>
            <a:ext cx="17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лучай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Rectangle 13"/>
          <p:cNvSpPr/>
          <p:nvPr/>
        </p:nvSpPr>
        <p:spPr>
          <a:xfrm>
            <a:off x="1116000" y="5084640"/>
            <a:ext cx="1871640" cy="505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Text Box 14"/>
          <p:cNvSpPr/>
          <p:nvPr/>
        </p:nvSpPr>
        <p:spPr>
          <a:xfrm>
            <a:off x="5295960" y="501336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нопсо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Rectangle 15"/>
          <p:cNvSpPr/>
          <p:nvPr/>
        </p:nvSpPr>
        <p:spPr>
          <a:xfrm>
            <a:off x="5219640" y="4941720"/>
            <a:ext cx="208908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 Box 16"/>
          <p:cNvSpPr/>
          <p:nvPr/>
        </p:nvSpPr>
        <p:spPr>
          <a:xfrm>
            <a:off x="2053440" y="5805360"/>
            <a:ext cx="155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уопол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Rectangle 17"/>
          <p:cNvSpPr/>
          <p:nvPr/>
        </p:nvSpPr>
        <p:spPr>
          <a:xfrm>
            <a:off x="2050920" y="5734080"/>
            <a:ext cx="158436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Text Box 18"/>
          <p:cNvSpPr/>
          <p:nvPr/>
        </p:nvSpPr>
        <p:spPr>
          <a:xfrm>
            <a:off x="4288680" y="5734080"/>
            <a:ext cx="231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вухстороння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Rectangle 19"/>
          <p:cNvSpPr/>
          <p:nvPr/>
        </p:nvSpPr>
        <p:spPr>
          <a:xfrm>
            <a:off x="4211640" y="5661000"/>
            <a:ext cx="2448000" cy="5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Line 20"/>
          <p:cNvSpPr/>
          <p:nvPr/>
        </p:nvSpPr>
        <p:spPr>
          <a:xfrm flipH="1">
            <a:off x="1115640" y="3429000"/>
            <a:ext cx="158436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Line 21"/>
          <p:cNvSpPr/>
          <p:nvPr/>
        </p:nvSpPr>
        <p:spPr>
          <a:xfrm flipH="1">
            <a:off x="2123640" y="3716280"/>
            <a:ext cx="2087640" cy="136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Line 22"/>
          <p:cNvSpPr/>
          <p:nvPr/>
        </p:nvSpPr>
        <p:spPr>
          <a:xfrm flipH="1">
            <a:off x="2987640" y="3716280"/>
            <a:ext cx="1224000" cy="2017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Line 23"/>
          <p:cNvSpPr/>
          <p:nvPr/>
        </p:nvSpPr>
        <p:spPr>
          <a:xfrm>
            <a:off x="4211640" y="3716280"/>
            <a:ext cx="1800360" cy="1225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Line 24"/>
          <p:cNvSpPr/>
          <p:nvPr/>
        </p:nvSpPr>
        <p:spPr>
          <a:xfrm>
            <a:off x="4211640" y="3716280"/>
            <a:ext cx="720720" cy="194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Line 25"/>
          <p:cNvSpPr/>
          <p:nvPr/>
        </p:nvSpPr>
        <p:spPr>
          <a:xfrm>
            <a:off x="5940360" y="3429000"/>
            <a:ext cx="136836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Text Box 4"/>
          <p:cNvSpPr/>
          <p:nvPr/>
        </p:nvSpPr>
        <p:spPr>
          <a:xfrm>
            <a:off x="2051640" y="210960"/>
            <a:ext cx="581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Естественные монополии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Text Box 5"/>
          <p:cNvSpPr/>
          <p:nvPr/>
        </p:nvSpPr>
        <p:spPr>
          <a:xfrm>
            <a:off x="185400" y="928800"/>
            <a:ext cx="90032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 коммунальные службы (газо-, водо-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лектроснабжени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 патентная служба (патент – это защита пра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зобретателя на изобретение в течение его жизн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17 лет после смерти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 торговая марка и торговый знак (знак качест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овара, защищает права владельца в течен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жизни и 50 лет после смерти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8" name="Picture 7" descr="j0285360"/>
          <p:cNvPicPr/>
          <p:nvPr/>
        </p:nvPicPr>
        <p:blipFill>
          <a:blip r:embed="rId1"/>
          <a:stretch/>
        </p:blipFill>
        <p:spPr>
          <a:xfrm>
            <a:off x="7669080" y="4653000"/>
            <a:ext cx="1474920" cy="1817640"/>
          </a:xfrm>
          <a:prstGeom prst="rect">
            <a:avLst/>
          </a:prstGeom>
          <a:ln w="0">
            <a:noFill/>
          </a:ln>
        </p:spPr>
      </p:pic>
      <p:sp>
        <p:nvSpPr>
          <p:cNvPr id="449" name="Litebulb"/>
          <p:cNvSpPr/>
          <p:nvPr/>
        </p:nvSpPr>
        <p:spPr>
          <a:xfrm>
            <a:off x="5292720" y="4653000"/>
            <a:ext cx="1465200" cy="1800360"/>
          </a:xfrm>
          <a:prstGeom prst="pie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0" name="Picture 9" descr="j0299125"/>
          <p:cNvPicPr/>
          <p:nvPr/>
        </p:nvPicPr>
        <p:blipFill>
          <a:blip r:embed="rId2"/>
          <a:stretch/>
        </p:blipFill>
        <p:spPr>
          <a:xfrm>
            <a:off x="3564000" y="4581360"/>
            <a:ext cx="110016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0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Text Box 5"/>
          <p:cNvSpPr/>
          <p:nvPr/>
        </p:nvSpPr>
        <p:spPr>
          <a:xfrm>
            <a:off x="324000" y="299880"/>
            <a:ext cx="8820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Антимонопольное законодательство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это система законов, ограничивающих действия компаний, которые ведут к снижению конкуренции и установлению монопол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Text Box 6"/>
          <p:cNvSpPr/>
          <p:nvPr/>
        </p:nvSpPr>
        <p:spPr>
          <a:xfrm>
            <a:off x="451080" y="2965320"/>
            <a:ext cx="8110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 Закон Шермана (США) 1890г. о незаконност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ртельных соглашен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 Антимонопольный закон Российской импер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1908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 Закон РФ «О конкуренции и ограничени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нополистической деятельности на товарны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ынках» в 1991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0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 Box 4"/>
          <p:cNvSpPr/>
          <p:nvPr/>
        </p:nvSpPr>
        <p:spPr>
          <a:xfrm>
            <a:off x="900360" y="260280"/>
            <a:ext cx="743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Цели антимонопольной политики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5"/>
          <p:cNvSpPr/>
          <p:nvPr/>
        </p:nvSpPr>
        <p:spPr>
          <a:xfrm>
            <a:off x="4320" y="1268280"/>
            <a:ext cx="6557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 контроль за слиянием компани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 контроль в сфере ценообразова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Text Box 6"/>
          <p:cNvSpPr/>
          <p:nvPr/>
        </p:nvSpPr>
        <p:spPr>
          <a:xfrm>
            <a:off x="0" y="3500280"/>
            <a:ext cx="8555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mic"/>
              </a:rPr>
              <a:t>В 1991 г. был создан Федеральный комитет по антимонопольной политике РФ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0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5"/>
          <p:cNvSpPr/>
          <p:nvPr/>
        </p:nvSpPr>
        <p:spPr>
          <a:xfrm>
            <a:off x="5368680" y="1413000"/>
            <a:ext cx="311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льберт Хаббар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Text Box 7"/>
          <p:cNvSpPr/>
          <p:nvPr/>
        </p:nvSpPr>
        <p:spPr>
          <a:xfrm>
            <a:off x="5153400" y="5300640"/>
            <a:ext cx="358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жон Стюарт Милл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WordArt 9"/>
          <p:cNvSpPr txBox="1"/>
          <p:nvPr/>
        </p:nvSpPr>
        <p:spPr>
          <a:xfrm>
            <a:off x="179280" y="189000"/>
            <a:ext cx="8748720" cy="12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нкуренция – жизнь торговли и 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мерть торговцев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87" name="WordArt 10"/>
          <p:cNvSpPr txBox="1"/>
          <p:nvPr/>
        </p:nvSpPr>
        <p:spPr>
          <a:xfrm>
            <a:off x="0" y="3573360"/>
            <a:ext cx="9144000" cy="126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ам где нет конкуренции, там нет 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едмета для экономического анализа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8" name=""/>
          <p:cNvGraphicFramePr/>
          <p:nvPr/>
        </p:nvGraphicFramePr>
        <p:xfrm>
          <a:off x="0" y="557280"/>
          <a:ext cx="9144000" cy="6311880"/>
        </p:xfrm>
        <a:graphic>
          <a:graphicData uri="http://schemas.openxmlformats.org/drawingml/2006/table">
            <a:tbl>
              <a:tblPr/>
              <a:tblGrid>
                <a:gridCol w="1332000"/>
                <a:gridCol w="1152360"/>
                <a:gridCol w="1295640"/>
                <a:gridCol w="1296720"/>
                <a:gridCol w="1295640"/>
                <a:gridCol w="1439640"/>
                <a:gridCol w="1332000"/>
              </a:tblGrid>
              <a:tr h="119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иды рынк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иче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во фирм на рынк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епень контроля над ценам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арьеры для вхождения в отрасл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иффе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нциация продукт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 ценовая конку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нц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ме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0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вершен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я конкуренц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ножество независи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ы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тсутствует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цены определяют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я рынко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чти отсутствую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днородны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сутствун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ельское хозяйств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65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совер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шенная (монополис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ическая) конкуренция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лигопол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статочно мног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сколько фир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граниченн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граничена ценовой политикой фирмы- лидер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велик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чительн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ифферен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ированны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днородный и дифферен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ированны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клама особенностей продукт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клама торговой марк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озничная торговля, закусочные, химчистк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втомобиль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я, сталилитей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я промышлен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ос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бсолютная монопол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дна фирм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актически полный контрол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 рынок вступить не возможн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днородный нет близких заменителе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клама особого места компании в жизни обществ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9" name="Text Box 49"/>
          <p:cNvSpPr/>
          <p:nvPr/>
        </p:nvSpPr>
        <p:spPr>
          <a:xfrm>
            <a:off x="2916360" y="0"/>
            <a:ext cx="28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дели рынк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4"/>
          <p:cNvSpPr/>
          <p:nvPr/>
        </p:nvSpPr>
        <p:spPr>
          <a:xfrm>
            <a:off x="653040" y="326880"/>
            <a:ext cx="793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нкуренция – это соперничество между участниками рыночных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ношений за лучшие условия и результат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изводства, продажи и купли товаров и услу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Line 7"/>
          <p:cNvSpPr/>
          <p:nvPr/>
        </p:nvSpPr>
        <p:spPr>
          <a:xfrm>
            <a:off x="755640" y="836640"/>
            <a:ext cx="15127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8"/>
          <p:cNvSpPr/>
          <p:nvPr/>
        </p:nvSpPr>
        <p:spPr>
          <a:xfrm>
            <a:off x="3566160" y="2276640"/>
            <a:ext cx="199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нкурен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Text Box 9"/>
          <p:cNvSpPr/>
          <p:nvPr/>
        </p:nvSpPr>
        <p:spPr>
          <a:xfrm>
            <a:off x="2880" y="4365720"/>
            <a:ext cx="33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Ценовая     Неценов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10"/>
          <p:cNvSpPr/>
          <p:nvPr/>
        </p:nvSpPr>
        <p:spPr>
          <a:xfrm>
            <a:off x="3863520" y="4365720"/>
            <a:ext cx="530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нутриотраслева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жотраслев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Line 23"/>
          <p:cNvSpPr/>
          <p:nvPr/>
        </p:nvSpPr>
        <p:spPr>
          <a:xfrm flipH="1">
            <a:off x="755280" y="2637000"/>
            <a:ext cx="2879640" cy="172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Line 24"/>
          <p:cNvSpPr/>
          <p:nvPr/>
        </p:nvSpPr>
        <p:spPr>
          <a:xfrm flipH="1">
            <a:off x="2627280" y="2781360"/>
            <a:ext cx="1944720" cy="158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Line 25"/>
          <p:cNvSpPr/>
          <p:nvPr/>
        </p:nvSpPr>
        <p:spPr>
          <a:xfrm>
            <a:off x="4572000" y="2781360"/>
            <a:ext cx="1295280" cy="165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Line 26"/>
          <p:cNvSpPr/>
          <p:nvPr/>
        </p:nvSpPr>
        <p:spPr>
          <a:xfrm>
            <a:off x="5651640" y="2781360"/>
            <a:ext cx="2305080" cy="172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4"/>
          <p:cNvSpPr/>
          <p:nvPr/>
        </p:nvSpPr>
        <p:spPr>
          <a:xfrm>
            <a:off x="1959480" y="351000"/>
            <a:ext cx="52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Характеристика видов конкурен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179280" y="1413000"/>
          <a:ext cx="8713800" cy="4968720"/>
        </p:xfrm>
        <a:graphic>
          <a:graphicData uri="http://schemas.openxmlformats.org/drawingml/2006/table">
            <a:tbl>
              <a:tblPr/>
              <a:tblGrid>
                <a:gridCol w="1871640"/>
                <a:gridCol w="1584360"/>
                <a:gridCol w="1441440"/>
                <a:gridCol w="1943280"/>
                <a:gridCol w="1873080"/>
              </a:tblGrid>
              <a:tr h="129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нкуренц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убъект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ъекты и ц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едпосыл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езульта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3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нутриотра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лева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едпрития одной отрасл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учшие условия производства и сбы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личия индивидуаль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ой стоимости и сбы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ыночная цена на однородные товары, разорение не эффективных предприят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3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жотраслева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едприя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ия разных отрасл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фера наиболее прибыльного вложения капитал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личные нормы прибыли в разных отрасля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дняя норма прибыли и пропорциона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ьность экономи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4"/>
          <p:cNvSpPr/>
          <p:nvPr/>
        </p:nvSpPr>
        <p:spPr>
          <a:xfrm>
            <a:off x="171360" y="476280"/>
            <a:ext cx="8778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Ценовая конкуренция – борьба между товаропроизводите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ями за получение дополнительной прибыл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средством уменьшения издержек производств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, соответственно, снижения цен на продукцию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ез изменения её ассортимента и качест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 Box 5"/>
          <p:cNvSpPr/>
          <p:nvPr/>
        </p:nvSpPr>
        <p:spPr>
          <a:xfrm>
            <a:off x="4320" y="4365720"/>
            <a:ext cx="885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ценовая конкуренция – борьба, которая разворачиваетс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круг потребительских свойств товара, качеств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ссортимента и условий продаж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Line 6"/>
          <p:cNvSpPr/>
          <p:nvPr/>
        </p:nvSpPr>
        <p:spPr>
          <a:xfrm>
            <a:off x="324000" y="907920"/>
            <a:ext cx="302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Line 9"/>
          <p:cNvSpPr/>
          <p:nvPr/>
        </p:nvSpPr>
        <p:spPr>
          <a:xfrm>
            <a:off x="0" y="4797360"/>
            <a:ext cx="34196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14"/>
          <p:cNvSpPr/>
          <p:nvPr/>
        </p:nvSpPr>
        <p:spPr>
          <a:xfrm>
            <a:off x="4714920" y="1714680"/>
            <a:ext cx="366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жоан   Робинсо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WordArt 16"/>
          <p:cNvSpPr txBox="1"/>
          <p:nvPr/>
        </p:nvSpPr>
        <p:spPr>
          <a:xfrm>
            <a:off x="255600" y="0"/>
            <a:ext cx="88884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овершенная конкуренция возможна в 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словиях свободного рынка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07" name="Picture 17" descr="7578_201"/>
          <p:cNvPicPr/>
          <p:nvPr/>
        </p:nvPicPr>
        <p:blipFill>
          <a:blip r:embed="rId1"/>
          <a:stretch/>
        </p:blipFill>
        <p:spPr>
          <a:xfrm>
            <a:off x="0" y="1484280"/>
            <a:ext cx="3813120" cy="5373720"/>
          </a:xfrm>
          <a:prstGeom prst="rect">
            <a:avLst/>
          </a:prstGeom>
          <a:ln w="0">
            <a:noFill/>
          </a:ln>
        </p:spPr>
      </p:pic>
      <p:sp>
        <p:nvSpPr>
          <p:cNvPr id="408" name="Text Box 23"/>
          <p:cNvSpPr/>
          <p:nvPr/>
        </p:nvSpPr>
        <p:spPr>
          <a:xfrm>
            <a:off x="4143240" y="257184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идела в несовершенной конкуренции главную слабость капиталистической системы. Она считала, что компании получают больше прибыли, поддерживая более высокую цену, чем они могли бы иметь при совершенной конкуренц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 Box 4"/>
          <p:cNvSpPr/>
          <p:nvPr/>
        </p:nvSpPr>
        <p:spPr>
          <a:xfrm>
            <a:off x="2556000" y="62064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 Box 6"/>
          <p:cNvSpPr/>
          <p:nvPr/>
        </p:nvSpPr>
        <p:spPr>
          <a:xfrm>
            <a:off x="185400" y="3573360"/>
            <a:ext cx="7399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знаки монополистической конкуренци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 предоставление дополнительных услуг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купателям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 гарантия обслуживания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 яркие красочные упаковки и д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WordArt 10"/>
          <p:cNvSpPr txBox="1"/>
          <p:nvPr/>
        </p:nvSpPr>
        <p:spPr>
          <a:xfrm>
            <a:off x="0" y="0"/>
            <a:ext cx="9244080" cy="227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онополистическая конкуренция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едполагает дифференциацию продукта,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. е. наличие у него таких свойств, 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торых нет у продуктов конкурентов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12" name="Text Box 11"/>
          <p:cNvSpPr/>
          <p:nvPr/>
        </p:nvSpPr>
        <p:spPr>
          <a:xfrm>
            <a:off x="5725800" y="2349360"/>
            <a:ext cx="218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. Чемберле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4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2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5"/>
          <p:cNvSpPr/>
          <p:nvPr/>
        </p:nvSpPr>
        <p:spPr>
          <a:xfrm>
            <a:off x="-2520" y="2205000"/>
            <a:ext cx="8656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Ценовая война – это цикл последовательных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меньшений цены конкурентами 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лигополистическом рынк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Line 10"/>
          <p:cNvSpPr/>
          <p:nvPr/>
        </p:nvSpPr>
        <p:spPr>
          <a:xfrm>
            <a:off x="611280" y="2708280"/>
            <a:ext cx="1728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Text Box 11"/>
          <p:cNvSpPr/>
          <p:nvPr/>
        </p:nvSpPr>
        <p:spPr>
          <a:xfrm>
            <a:off x="365400" y="3933720"/>
            <a:ext cx="8773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ерты олигополи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 лидерство в ценах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 традиционност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айное соглашение конкурентов на стадии сбыт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дукта (картель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WordArt 12"/>
          <p:cNvSpPr txBox="1"/>
          <p:nvPr/>
        </p:nvSpPr>
        <p:spPr>
          <a:xfrm>
            <a:off x="0" y="189000"/>
            <a:ext cx="882000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лигополия характеризуется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ем что на рынке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осподствуют несколько 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рупных фирм 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1T04:38:51Z</dcterms:created>
  <dc:creator>user</dc:creator>
  <dc:description/>
  <dc:language>en-US</dc:language>
  <cp:lastModifiedBy>Дима</cp:lastModifiedBy>
  <dcterms:modified xsi:type="dcterms:W3CDTF">2016-09-13T18:12:51Z</dcterms:modified>
  <cp:revision>13</cp:revision>
  <dc:subject/>
  <dc:title>Слайд 1</dc:title>
</cp:coreProperties>
</file>