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gif" ContentType="image/gi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214A-8247-4E0B-AA3A-DB3F9C1C0149}" type="slidenum"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этой анкеты такие: было опрошено 22 выпускника 2005г., каждая анкета может дать максимальное количество очков 24, всего можно набрать 524 очка. По количеству набранных очков предметы распределились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изика – 470 очков, что составляет примерно 89,6 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иология – 439 очков, что составляет примерно 83,5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тория – 424 очков, что составляет примерно 80,9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й – 369 очков, что составляет примерно 70,4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матика -351 очков, что составляет примерно 66,9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DFB-26DB-4D84-97B1-B51D9ED7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2F2-8593-472F-AE67-645D5F67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FE7-0EBA-48CD-93F9-959A071C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4C9-353E-4127-85F9-B56DB562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A045-D7A5-4538-8BF3-F119652F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A578-FFEE-4213-8FC6-AF4BB51D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C627-16BF-4C93-B279-16E4DAF6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FBF7-F30D-4C82-A99F-AB8C8255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33DE-A24B-43BB-AC6C-B16721E8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C64D-6035-4242-BCF4-2D7DD754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BE20-3C6D-434F-833F-027894B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A4C-1974-4FD6-AF10-55E243C8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E07C-EF78-4481-9BCA-D5F6B8B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1E4A-9C36-4A95-9C72-BF9AA931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CD77-32BC-4179-B39B-846EEDD8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82C6-FBD4-4FC1-BCA5-DAA6FFBA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7B6E-674A-4D5E-8E85-2EAA6585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E4C9-76D2-4648-83C6-81AFA8D8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9C9E-2733-4BC7-A211-63B4CA2C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701E-6C5C-4029-BC47-5951CFC1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B270-A211-4EA1-A31B-9993AC67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3DB1A-A020-40BD-A637-2283CA3A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DC9-0DDE-4E4A-A122-0EFC5C5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3787-6B14-4B89-ACD6-9083F116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344A-9368-48F9-BCDE-BE617714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BA81-64AC-462C-90AA-CD8BE183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E335-BA3D-4367-9F7F-E948C3C8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769A-B57A-401D-910D-1626BBEF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881C-7BF4-4BB6-AF21-97387089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B72E-BA60-4C81-A489-E68117E0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5806-5F68-4508-85FB-50626F16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91D1-D553-4998-A217-0D39BDBA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89F4F-7933-4014-8F73-1FA6E7AE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879-209F-4604-A401-D6A6E232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134E-F802-4A27-850D-14C492A9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56039-21F3-4751-BD67-B743FB8C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EDBF5-EE01-40E3-B676-B8548BBA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895E-64F0-4499-8D97-B6338F7A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5758-395E-4C93-BF0D-CB79AC5E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4A0A-8A56-40DD-8AB5-D3168BE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4EF1D-9B36-4123-96A5-A2C5CD2E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6E13-CA67-4584-BB21-582CA028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2B142-CACA-43C4-83F1-93048BEA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E3AB-237D-4B34-BD1F-5AF48F39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10F-27BA-4E88-98BD-8FAE0738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FFC73-77A8-4CF9-AAC2-706977C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87CAE-BFF0-4DF5-AAB9-74A5FD0B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7018-2C87-4D01-900D-E5ECBB4C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FB09C-E0A6-4F26-81E8-9F1359F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F714-75D7-4590-9D2C-4CC468AE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7CA1C-061A-468A-B96D-87DE3762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A7C3C-11BA-40B1-B79B-69F079A2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DA86D-BC09-430B-AF72-73C98967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61F9-6868-428B-B769-B47A79A4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8CA65-2453-4484-A80B-B45DA6CE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688-388C-4D89-BF94-6C745BB7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A2E2E-4162-4E75-B51A-E102C1D5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626F0-4F17-49B9-826A-AC516FF7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38F7-DD08-4F11-B429-7AD05EE5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C017-FE10-47A9-A777-CE20643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809C2-72CE-4753-A84E-C6849DC9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63733-635E-4418-BD73-FB4376EA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18BED-2AE3-4C6C-9AAD-764C7BA2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ADD7-360F-4A7E-846F-E1F9C92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59FB1-07F0-4AAB-A7DB-D668404C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C41A7-A2CA-4BDA-8F62-B2997DC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520-F290-42A4-9BEB-BCA099E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E834-C16A-4E81-A0F9-5922893A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D0DA9-2553-4E85-B2D4-BA1B7430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6B9C2-FE74-4CC6-BB12-6EC6650A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C2B9F-E554-492F-A6E9-7F6D61EE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A2F73-AC95-408F-A570-7F20A88F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5ECE0-F501-41D8-A938-F80C34E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074CF-BCAC-42A1-BF4C-3323E878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CA2F0-C41B-4EB7-8AAC-0E4754CF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31CAC-4F0A-4AF0-9662-DA956277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8C3EE-2612-4051-BF57-07172F0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D10-EF92-453F-AF54-25F0DDF6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14EB7-A986-420F-82EE-AD7E87E0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E6B2-BE66-4641-A912-7641344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CB08E-0933-4A09-944E-17B6D01C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E905B-D649-4888-B29E-EAECA895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8281A-603B-4080-B3C9-64BADB46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DF0-09EC-4E0B-84D4-028BA16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BA6-1A1E-4A0F-995C-2C6703B9FF0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CA3C-59F7-403A-9E75-72DAA1C24C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304B-0223-4A75-8D00-7BD0DFA619B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3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5" name="Прямая соединительная линия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6" name="Нашивка 12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ашивка 13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B0FE-62C0-492D-98DE-315986423F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2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4" name="Прямая соединительная линия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C3E3-E312-4A05-A1A4-C1784D382C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CC8D-76DA-4487-B1A3-37AFE5035A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0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" name="Прямая соединительная линия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0ECC-FD62-40E9-A8F7-ADAC3E5EA8E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5"/>
          <p:cNvSpPr txBox="1"/>
          <p:nvPr/>
        </p:nvSpPr>
        <p:spPr>
          <a:xfrm>
            <a:off x="1116000" y="549360"/>
            <a:ext cx="73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ПРЕЗЕНТ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1187280" y="4724280"/>
            <a:ext cx="748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Описание опыта Кустовой Надежды Ильиничны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343" name="Picture 8" descr="013"/>
          <p:cNvPicPr/>
          <p:nvPr/>
        </p:nvPicPr>
        <p:blipFill>
          <a:blip r:embed="rId1"/>
          <a:stretch/>
        </p:blipFill>
        <p:spPr>
          <a:xfrm>
            <a:off x="3564000" y="1628640"/>
            <a:ext cx="27255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Новизна и практическая значимость состои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4380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в разработке оригинальных моделей уро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в авторской разработке системы нестандартной формы уроков и заданий для самостоятельной работы учащихся с различными источниками информации 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в подготовке методических материалов для учителей-предмет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ИДЫ ЗАДАЧ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Собрать и изучить информацию по нестандартным урокам и игровой техноло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Разработать систему нестандартных уроков, учитывая возрастные особенности учащихся, и применить её на практи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Развить у учащихся интерес к предмету и мотивацию к обуч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 Привить навыки самостоятельной работы по приобретению знаний из различных источников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Этапы исследовательской работы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и решении задач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63280" y="1916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 учащихся с целью определения пробл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с материалами периодической печати, научно-методической и научной литературой, изучение опы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типов уроков и игр по возрастным группам и темам учебных пр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Этапы исследовательской работы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и решении задач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системы игр и уроков по темам и классам и их применение в рабо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иторинг учащихся с целью выявления результата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и выпуск разработок уроков и внеклассных мероприятий по физ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бщение опыта и его распростран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ОЖИДАЕМЫЕ РЕЗУЛЬТАТЫ РАБОТ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ние обстановки творческого сотруднич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вышение интереса к предмету и мотивации детей к обу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ктивизация процессов мыш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ормирование навыков самостоятельного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ние и поддержка «здоровой» конкуренции на уро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ОНИТОРИНГ развития интереса к предмет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ультаты анкетирования учащихся доказывают, что интерес к предмету возрос в несколько раз: от 30% (2003 г.) до 89,6% (2006г.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р такой анке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йте вопросы и для каждого предмета укажите балл, наиболее соответствующий варианту вашего ответа: 2-всегда;1-иногда;0– никог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МОНИТОРИНГ развития интереса к предмет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08000" y="1884240"/>
          <a:ext cx="8750160" cy="4975200"/>
        </p:xfrm>
        <a:graphic>
          <a:graphicData uri="http://schemas.openxmlformats.org/drawingml/2006/table">
            <a:tbl>
              <a:tblPr/>
              <a:tblGrid>
                <a:gridCol w="3925800"/>
                <a:gridCol w="1008000"/>
                <a:gridCol w="1008000"/>
                <a:gridCol w="1008360"/>
                <a:gridCol w="934920"/>
                <a:gridCol w="865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сс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тем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На уроке бывает интерес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Нравится учител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Нравится получать хорошие отме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Родители заставляют учит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Учу, так как это мой дол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Предмет полезен для жизн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Узнаю много новог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Учитель заставляет дума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Получаю удовольствие, работая на уро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Предмет даётся легк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С нетерпением жду уро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Стремлюсь узнать больше, че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бует уч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МОНИТОРИНГ развития интереса к предмет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зультаты этой анкеты такие: было опрошено 22 выпускника 2006г., каждая анкета может дать максимальное количество очков - 24, всего можно набрать 524 очка. По количеству набранных очков предметы распределились следующим образ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зика – 470 очков, что составляет примерно 89,6 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я – 439 очков, что составляет примерно 83,5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тория – 424 очков, что составляет примерно 80,9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ский – 369 очков, что составляет примерно 70,4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матика -351 очков, что составляет примерно 66,9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ИТОРИНГ РЕЗУЛЬТАТИВНОСТИ УЧЕБН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87" name="Object 9"/>
          <p:cNvGraphicFramePr/>
          <p:nvPr/>
        </p:nvGraphicFramePr>
        <p:xfrm>
          <a:off x="1133640" y="1986120"/>
          <a:ext cx="74102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986120"/>
                    <a:ext cx="74102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СПЕКТИВЫ ПРОФЕССИОНАЛЬНОГО РОС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838836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бщение опыта работы на основе технологии уровневой дифференци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воение, апробация и внедрение игровой, информационно-коммуникативных технологий, технологии развития критического мыш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786240" y="-1785960"/>
            <a:ext cx="99298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70c0"/>
              </a:solidFill>
              <a:latin typeface="Arial Black"/>
            </a:endParaRPr>
          </a:p>
        </p:txBody>
      </p:sp>
      <p:pic>
        <p:nvPicPr>
          <p:cNvPr id="345" name="Picture 13" descr="стрела3"/>
          <p:cNvPicPr/>
          <p:nvPr/>
        </p:nvPicPr>
        <p:blipFill>
          <a:blip r:embed="rId1"/>
          <a:stretch/>
        </p:blipFill>
        <p:spPr>
          <a:xfrm>
            <a:off x="0" y="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стрела3"/>
          <p:cNvPicPr/>
          <p:nvPr/>
        </p:nvPicPr>
        <p:blipFill>
          <a:blip r:embed="rId2"/>
          <a:stretch/>
        </p:blipFill>
        <p:spPr>
          <a:xfrm>
            <a:off x="0" y="669924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стрела3"/>
          <p:cNvPicPr/>
          <p:nvPr/>
        </p:nvPicPr>
        <p:blipFill>
          <a:blip r:embed="rId3"/>
          <a:stretch/>
        </p:blipFill>
        <p:spPr>
          <a:xfrm rot="16200000">
            <a:off x="-3369240" y="3369240"/>
            <a:ext cx="6858000" cy="119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стрела3"/>
          <p:cNvPicPr/>
          <p:nvPr/>
        </p:nvPicPr>
        <p:blipFill>
          <a:blip r:embed="rId4"/>
          <a:stretch/>
        </p:blipFill>
        <p:spPr>
          <a:xfrm rot="16200000">
            <a:off x="565524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8"/>
          <p:cNvSpPr/>
          <p:nvPr/>
        </p:nvSpPr>
        <p:spPr>
          <a:xfrm>
            <a:off x="1692360" y="620640"/>
            <a:ext cx="65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Monotype Corsiva"/>
              </a:rPr>
              <a:t>Кустова Надежда Ильинич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539640" y="2637000"/>
            <a:ext cx="8604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2" descr="100_5616"/>
          <p:cNvPicPr/>
          <p:nvPr/>
        </p:nvPicPr>
        <p:blipFill>
          <a:blip r:embed="rId5"/>
          <a:stretch/>
        </p:blipFill>
        <p:spPr>
          <a:xfrm>
            <a:off x="1403280" y="1916280"/>
            <a:ext cx="63374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028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исание опыта Кустовой Надежды Ильиничн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теме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58560" y="1915920"/>
            <a:ext cx="74898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Нестандартные формы уроков физики, как средство повышения интереса и мотивации к обучению у учащихся».      – МОШИ Овгортская ОШИС(п)ОО, п. Овгорт, Шурышкарский район, ЯНАО, Кустова Н.И. – учитель физ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4" name="Picture 11" descr="стрела3"/>
          <p:cNvPicPr/>
          <p:nvPr/>
        </p:nvPicPr>
        <p:blipFill>
          <a:blip r:embed="rId1"/>
          <a:stretch/>
        </p:blipFill>
        <p:spPr>
          <a:xfrm rot="16200000">
            <a:off x="-3369240" y="3369240"/>
            <a:ext cx="6858000" cy="119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стрела3"/>
          <p:cNvPicPr/>
          <p:nvPr/>
        </p:nvPicPr>
        <p:blipFill>
          <a:blip r:embed="rId2"/>
          <a:stretch/>
        </p:blipFill>
        <p:spPr>
          <a:xfrm rot="16200000">
            <a:off x="5655240" y="3369240"/>
            <a:ext cx="6858000" cy="119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стрела3"/>
          <p:cNvPicPr/>
          <p:nvPr/>
        </p:nvPicPr>
        <p:blipFill>
          <a:blip r:embed="rId3"/>
          <a:stretch/>
        </p:blipFill>
        <p:spPr>
          <a:xfrm>
            <a:off x="0" y="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стрела3"/>
          <p:cNvPicPr/>
          <p:nvPr/>
        </p:nvPicPr>
        <p:blipFill>
          <a:blip r:embed="rId4"/>
          <a:stretch/>
        </p:blipFill>
        <p:spPr>
          <a:xfrm>
            <a:off x="0" y="669924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186920" y="2636640"/>
            <a:ext cx="747108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интер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зкая мотивация к обуч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зкий рейтинг предме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учесть  педагогических кад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826920" y="333360"/>
            <a:ext cx="83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облемы обучении физике в Овгортской школе-интерн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Monotype Corsiva"/>
              </a:rPr>
              <a:t>Гипотеза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преподавании физики использовать нетрадиционные формы уроков, то это способствует развитию интереса к предмету и мотивации к обучению у учащихся, при условии, что: 1) при проведении таких уроков будут учитываться возрастные особенности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уроки проводятся в сист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в работу вовлекаются все учащие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7086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ahoma"/>
                <a:ea typeface="Times New Roman"/>
              </a:rPr>
              <a:t>Обоснование актуальности и перспективности опыта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1042920" y="1844640"/>
            <a:ext cx="766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стандартные формы урока физики в огромной мер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пособствует решению задач. поставленных перед школой (социальный заказ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ют интерес и мотивацию к обуче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ет навыки самостоятельного приобретения знаний и умения их применить в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eaeaea"/>
                </a:solidFill>
                <a:uFillTx/>
                <a:latin typeface="Monotype Corsiva"/>
              </a:rPr>
              <a:t>Цели: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я в своей работе нестандартные формы уроков, выяснить, как они влияют на развитие интереса к предмету и мотивации у учащихся к обучен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ать систему нестандартных уроков по физике с учётом возрастных особенносте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 опыт для внедрения его другими педагогами в работе с учащими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2928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eaeaea"/>
                </a:solidFill>
                <a:uFillTx/>
                <a:latin typeface="Monotype Corsiva"/>
              </a:rPr>
              <a:t>Цели: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928800" y="196380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ть мотивацию у учащихся к познанию учебного материала через нестандартные формы обуч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ивизировать деятельность учащихся через выполнение компетентностно - ориентированных зад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олнить предмет профессионально - значимым материалом для каждой профе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ть ситуацию успеха для каждого учащегося в процессе индивидуальной работы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3"/>
          <p:cNvSpPr txBox="1"/>
          <p:nvPr/>
        </p:nvSpPr>
        <p:spPr>
          <a:xfrm>
            <a:off x="611280" y="260280"/>
            <a:ext cx="8229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оторые противоречия отечественного образова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971640" y="1469880"/>
            <a:ext cx="8172360" cy="58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жду стандартизированным обучением школьников и и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дивидуальными способностями и интерес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жду бурным развитием науки 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альными познавательными возможностями уче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 школе-интернат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жду системным уровнем организации учебно-воспитательного процесс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внем решения проблемы повышения образованности сельских детей (малого этнос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3:48:36Z</dcterms:created>
  <dc:creator>user</dc:creator>
  <dc:description/>
  <dc:language>en-US</dc:language>
  <cp:lastModifiedBy>user</cp:lastModifiedBy>
  <dcterms:modified xsi:type="dcterms:W3CDTF">2009-02-11T16:34:06Z</dcterms:modified>
  <cp:revision>23</cp:revision>
  <dc:subject/>
  <dc:title>Обобщение опыта Кустовой Надежды Ильиничны</dc:title>
</cp:coreProperties>
</file>