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gif" ContentType="image/gi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E4B0-3FD1-4C3F-9489-8DA65F6A5362}" type="slidenum"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зультаты этой анкеты такие: было опрошено 22 выпускника 2005г., каждая анкета может дать максимальное количество очков 24, всего можно набрать 524 очка. По количеству набранных очков предметы распределились следующим образо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изика – 470 очков, что составляет примерно 89,6 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иология – 439 очков, что составляет примерно 83,5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стория – 424 очков, что составляет примерно 80,9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усский – 369 очков, что составляет примерно 70,4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матика -351 очков, что составляет примерно 66,9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45BB-D2CD-4CF4-9D00-D3ED14E6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255C-A04B-41FB-9451-9FC9872A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2CA-7A1B-4805-898C-6AE2AC9E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BD3-1F89-46ED-91D6-4B5BE510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B0B9-13CB-401C-92E2-F66B1D48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FCCC1-CBD1-4D02-AAF0-894719A1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724E-4D23-49AF-9BA2-020BDE27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6E1E-24E8-4400-B39E-F9B3F065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9060-E007-4852-A7FE-B8905CEA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5E7A-FB0E-4C71-A923-1182C414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B718-D8D2-44DC-9F0D-0EB2A735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6F3-6EF6-422B-AF8E-F497A741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AE3C-B2E9-4440-843E-5CA4DDD0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89F4-F9EA-495D-86ED-9524886A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488A-CDC5-4DB8-8D4E-314851A1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D425-916E-4053-8458-5980A88A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7E7D-71FD-4987-A422-C04E68D3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6269F-2ED8-44E7-844D-EF6621619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95980-AE97-4A1B-8659-910C86C3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2CEC8-B1F1-41EB-9610-062053AF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D5917-5A13-46B7-8364-E34070AF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D2B3F-4928-4783-A9C1-DD285142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6C5-3521-4A8B-9DDC-A8D158AE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A032E-361C-4E10-AFC6-CDC95CD7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8DF2F-4733-4FCE-BC24-D20F210E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F4CDC-BF6C-413F-A2AD-2AC13364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BA59-C37A-4259-A709-8C2EEA1B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5C82-AABD-4D4A-AA1D-9EAB37AF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8976C-2593-4398-8AC0-7695DCD63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3868E-AD88-4A44-98CF-7BC982328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2F41-E512-4BBC-AB0E-A91F1A54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62DC-10E8-4DDF-9134-60E57C73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DA73F-56C1-41E6-BB89-EF04D61E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897-2E60-4684-8ADF-19BBC95E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6041D-3721-4F1A-9C95-1DFD5151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1220C-1B44-4FFB-857C-81A34052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C2291-6684-415C-852A-04C775D8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32B18-68CE-4B51-917D-03612EC4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1C143-4325-4469-9C0F-3496980B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86E4D-2F87-4A23-AFFD-D07A1A0B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DE442-1961-4CFF-873F-E55FA5F6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C3A60-2592-4842-93C5-E3D36011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A5FD1-1941-41D7-BA3F-CA14CF97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CC3F7-959C-4A19-86AA-623DC685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8AFA-3576-407D-B075-309AF3D4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136A1-CA02-4A94-A1DF-C858CEEA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2E476-AB06-4E92-B47F-2B2C711F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E4426-54B5-48A0-9B0A-7EF92779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B76FF-AC97-462C-B003-FF00FAB8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A24A5-6841-41ED-B597-E376AE74F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18AFD-A490-4D13-965C-886080F8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3DC45-65E3-43A0-BD72-B3AB9002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20066-4287-4262-962A-CCDBAADF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B495D-FF67-4F54-A074-7108E01A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D1B06-E990-4BC3-96E3-F8C01C1B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EFF-53DE-4581-A984-4C877BED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8278C-98CB-4C07-AB79-872A7ED1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F7F9D-0743-4DA6-A304-B6174BC2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9B938-9CFA-46C2-B269-01EAEC8F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43EA7-89F4-482B-8D13-C8EB4676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31209-436D-457B-B5F1-05453C2D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EC878-0D81-4E86-8FE4-6EB4BDFE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E91A6-0031-4BED-9C89-26D671DA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E9528-2C1B-4EA7-BF4C-89E97D3B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2A0C9B-4B5F-417E-BB4E-2366FDB2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3CB0B-235F-48D9-B4F3-E302EE25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915-589C-460E-AF25-801A7835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40C92-FB88-4819-85C0-0D3786C6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2BFD7-1B17-48D3-88DE-45548403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4F3EA-3CE9-43C4-9D29-840EBC18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EA4BA-8987-4CA5-ABB2-51E6C813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C7DBA0-028A-411D-AE8A-BE6BCF10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7BEEB-23A1-457F-9A27-95B2AA76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B577C-8F2B-4E2A-84C7-7650D6E0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49CBE-A8F0-4BD2-BB9D-3912B3CA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4D751-2E10-4FFD-B195-F3169AA2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E5CB4-975A-40E4-9819-D08573D2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2BD-8DD2-43FD-871F-B5CAD86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E85DA-ED25-4E25-816C-227AB69B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31532-E7D2-4B02-901C-A1FA81F3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D8DBE-C454-4888-9B5B-78DF7BC5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F026D-5EFF-468E-B709-B634365D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B24FF-356E-4E8A-9F88-AF442D21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001-15B7-488D-83CC-7721ACDD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0A69-AC73-4CF1-8BAB-2AE8AD63070D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6C2B-B7B6-4E2E-AA31-7C97C4A71F7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F1D3-AD18-4ADD-9D45-34AC276C82B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3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5" name="Прямая соединительная линия 11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6" name="Нашивка 12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ашивка 13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0E87-02A8-4533-BA1C-D4B8CA4019D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2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4" name="Прямая соединительная линия 11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1310-ECBA-49AA-B887-51CD73BFB29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FF32-2792-4D04-9701-D6B41D9602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олилиния 6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Полилиния 7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Прямоугольный треугольник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0" name="Прямоугольный треугольник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" name="Прямая соединительная линия 11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F393-8039-41C4-AE85-B67DA864B81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5"/>
          <p:cNvSpPr txBox="1"/>
          <p:nvPr/>
        </p:nvSpPr>
        <p:spPr>
          <a:xfrm>
            <a:off x="1116000" y="549360"/>
            <a:ext cx="734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ПРЕЗЕНТ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342" name="WordArt 7"/>
          <p:cNvSpPr txBox="1"/>
          <p:nvPr/>
        </p:nvSpPr>
        <p:spPr>
          <a:xfrm>
            <a:off x="1187280" y="4724280"/>
            <a:ext cx="748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Описание опыта Кустовой Надежды Ильиничны</a:t>
            </a:r>
            <a:endParaRPr b="0" lang="en-US" sz="18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343" name="Picture 8" descr="013"/>
          <p:cNvPicPr/>
          <p:nvPr/>
        </p:nvPicPr>
        <p:blipFill>
          <a:blip r:embed="rId1"/>
          <a:stretch/>
        </p:blipFill>
        <p:spPr>
          <a:xfrm>
            <a:off x="3564000" y="1628640"/>
            <a:ext cx="27255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aeaea"/>
                </a:solidFill>
                <a:latin typeface="Tahoma"/>
              </a:rPr>
              <a:t>Новизна и практическая значимость состоит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5640" y="2420640"/>
            <a:ext cx="7543800" cy="38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) в разработке оригинальных моделей уроков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) в авторской разработке системы нестандартной формы уроков и заданий для самостоятельной работы учащихся с различными источниками информации 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) в подготовке методических материалов для учителей-предмет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ИДЫ ЗАДАЧ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156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Собрать и изучить информацию по нестандартным урокам и игровой технолог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. Разработать систему нестандартных уроков, учитывая возрастные особенности учащихся, и применить её на практи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3. Развить у учащихся интерес к предмету и мотивацию к обучени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4. Привить навыки самостоятельной работы по приобретению знаний из различных источников информ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856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Этапы исследовательской работы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и решении задач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63280" y="191628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ниторинг учащихся с целью определения пробл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бота с материалами периодической печати, научно-методической и научной литературой, изучение опы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ределение типов уроков и игр по возрастным группам и темам учебных програм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Этапы исследовательской работы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и решении задач: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работка системы игр и уроков по темам и классам и их применение в рабо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ниторинг учащихся с целью выявления результата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здание и выпуск разработок уроков и внеклассных мероприятий по физ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бщение опыта и его распростран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ОЖИДАЕМЫЕ РЕЗУЛЬТАТЫ РАБОТЫ: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здание обстановки творческого сотруднич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вышение интереса к предмету и мотивации детей к обуче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ктивизация процессов мыш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ормирование навыков самостоятельного обуч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оздание и поддержка «здоровой» конкуренции на урока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МОНИТОРИНГ развития интереса к предмету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ультаты анкетирования учащихся доказывают, что интерес к предмету возрос в несколько раз: от 30% (2003 г.) до 89,6% (2006г.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р такой анкет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тайте вопросы и для каждого предмета укажите балл, наиболее соответствующий варианту вашего ответа: 2-всегда;1-иногда;0– никогд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МОНИТОРИНГ развития интереса к предмету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08000" y="1884240"/>
          <a:ext cx="8750160" cy="4975200"/>
        </p:xfrm>
        <a:graphic>
          <a:graphicData uri="http://schemas.openxmlformats.org/drawingml/2006/table">
            <a:tbl>
              <a:tblPr/>
              <a:tblGrid>
                <a:gridCol w="3925800"/>
                <a:gridCol w="1008000"/>
                <a:gridCol w="1008000"/>
                <a:gridCol w="1008360"/>
                <a:gridCol w="934920"/>
                <a:gridCol w="865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тнош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усский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тема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из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олог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На уроке бывает интерес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Нравится учител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Нравится получать хорошие отмет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Родители заставляют учится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Учу, так как это мой долг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Предмет полезен для жизн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Узнаю много новог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Учитель заставляет думать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Получаю удовольствие, работая на урок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Предмет даётся легко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С нетерпением жду урок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Стремлюсь узнать больше, че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ребует учит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МОНИТОРИНГ развития интереса к предмету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езультаты этой анкеты такие: было опрошено 22 выпускника 2006г., каждая анкета может дать максимальное количество очков - 24, всего можно набрать 524 очка. По количеству набранных очков предметы распределились следующим образо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зика – 470 очков, что составляет примерно 89,6 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иология – 439 очков, что составляет примерно 83,5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стория – 424 очков, что составляет примерно 80,9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усский – 369 очков, что составляет примерно 70,4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тематика -351 очков, что составляет примерно 66,9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ОНИТОРИНГ РЕЗУЛЬТАТИВНОСТИ УЧЕБНОЙ ДЕЯТЕЛЬНОСТ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387" name="Object 9"/>
          <p:cNvGraphicFramePr/>
          <p:nvPr/>
        </p:nvGraphicFramePr>
        <p:xfrm>
          <a:off x="1133640" y="1986120"/>
          <a:ext cx="741024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986120"/>
                    <a:ext cx="741024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СПЕКТИВЫ ПРОФЕССИОНАЛЬНОГО РОСТА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55280" y="2349360"/>
            <a:ext cx="838836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общение опыта работы на основе технологии уровневой дифференци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воение, апробация и внедрение игровой, информационно-коммуникативных технологий, технологии развития критического мыш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786240" y="-1785960"/>
            <a:ext cx="99298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70c0"/>
              </a:solidFill>
              <a:latin typeface="Arial Black"/>
            </a:endParaRPr>
          </a:p>
        </p:txBody>
      </p:sp>
      <p:pic>
        <p:nvPicPr>
          <p:cNvPr id="345" name="Picture 13" descr="стрела3"/>
          <p:cNvPicPr/>
          <p:nvPr/>
        </p:nvPicPr>
        <p:blipFill>
          <a:blip r:embed="rId1"/>
          <a:stretch/>
        </p:blipFill>
        <p:spPr>
          <a:xfrm>
            <a:off x="0" y="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3" descr="стрела3"/>
          <p:cNvPicPr/>
          <p:nvPr/>
        </p:nvPicPr>
        <p:blipFill>
          <a:blip r:embed="rId2"/>
          <a:stretch/>
        </p:blipFill>
        <p:spPr>
          <a:xfrm>
            <a:off x="0" y="669924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1" descr="стрела3"/>
          <p:cNvPicPr/>
          <p:nvPr/>
        </p:nvPicPr>
        <p:blipFill>
          <a:blip r:embed="rId3"/>
          <a:stretch/>
        </p:blipFill>
        <p:spPr>
          <a:xfrm rot="16200000">
            <a:off x="-3369240" y="3369240"/>
            <a:ext cx="6858000" cy="1191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11" descr="стрела3"/>
          <p:cNvPicPr/>
          <p:nvPr/>
        </p:nvPicPr>
        <p:blipFill>
          <a:blip r:embed="rId4"/>
          <a:stretch/>
        </p:blipFill>
        <p:spPr>
          <a:xfrm rot="16200000">
            <a:off x="5655240" y="3369240"/>
            <a:ext cx="6858000" cy="119160"/>
          </a:xfrm>
          <a:prstGeom prst="rect">
            <a:avLst/>
          </a:prstGeom>
          <a:ln w="0">
            <a:noFill/>
          </a:ln>
        </p:spPr>
      </p:pic>
      <p:sp>
        <p:nvSpPr>
          <p:cNvPr id="349" name="TextBox 8"/>
          <p:cNvSpPr/>
          <p:nvPr/>
        </p:nvSpPr>
        <p:spPr>
          <a:xfrm>
            <a:off x="1692360" y="620640"/>
            <a:ext cx="652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Monotype Corsiva"/>
              </a:rPr>
              <a:t>Кустова Надежда Ильинич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11"/>
          <p:cNvSpPr/>
          <p:nvPr/>
        </p:nvSpPr>
        <p:spPr>
          <a:xfrm>
            <a:off x="539640" y="2637000"/>
            <a:ext cx="86043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2" descr="100_5616"/>
          <p:cNvPicPr/>
          <p:nvPr/>
        </p:nvPicPr>
        <p:blipFill>
          <a:blip r:embed="rId5"/>
          <a:stretch/>
        </p:blipFill>
        <p:spPr>
          <a:xfrm>
            <a:off x="1403280" y="1916280"/>
            <a:ext cx="633744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8028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исание опыта Кустовой Надежды Ильиничн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 теме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58560" y="1915920"/>
            <a:ext cx="74898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«Нестандартные формы уроков физики, как средство повышения интереса и мотивации к обучению у учащихся».      – МОШИ Овгортская ОШИС(п)ОО, п. Овгорт, Шурышкарский район, ЯНАО, Кустова Н.И. – учитель физ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4" name="Picture 11" descr="стрела3"/>
          <p:cNvPicPr/>
          <p:nvPr/>
        </p:nvPicPr>
        <p:blipFill>
          <a:blip r:embed="rId1"/>
          <a:stretch/>
        </p:blipFill>
        <p:spPr>
          <a:xfrm rot="16200000">
            <a:off x="-3369240" y="3369240"/>
            <a:ext cx="6858000" cy="1191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1" descr="стрела3"/>
          <p:cNvPicPr/>
          <p:nvPr/>
        </p:nvPicPr>
        <p:blipFill>
          <a:blip r:embed="rId2"/>
          <a:stretch/>
        </p:blipFill>
        <p:spPr>
          <a:xfrm rot="16200000">
            <a:off x="5655240" y="3369240"/>
            <a:ext cx="6858000" cy="119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стрела3"/>
          <p:cNvPicPr/>
          <p:nvPr/>
        </p:nvPicPr>
        <p:blipFill>
          <a:blip r:embed="rId3"/>
          <a:stretch/>
        </p:blipFill>
        <p:spPr>
          <a:xfrm>
            <a:off x="0" y="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3" descr="стрела3"/>
          <p:cNvPicPr/>
          <p:nvPr/>
        </p:nvPicPr>
        <p:blipFill>
          <a:blip r:embed="rId4"/>
          <a:stretch/>
        </p:blipFill>
        <p:spPr>
          <a:xfrm>
            <a:off x="0" y="6699240"/>
            <a:ext cx="9144000" cy="1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186920" y="2636640"/>
            <a:ext cx="747108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тсутствие интере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зкая мотивация к обуче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изкий рейтинг предмет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кучесть  педагогических кадр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826920" y="333360"/>
            <a:ext cx="83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onotype Corsiva"/>
              </a:rPr>
              <a:t>Проблемы обучении физике в Овгортской школе-интерн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aeaea"/>
                </a:solidFill>
                <a:latin typeface="Monotype Corsiva"/>
              </a:rPr>
              <a:t>Гипотеза: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в преподавании физики использовать нетрадиционные формы уроков, то это способствует развитию интереса к предмету и мотивации к обучению у учащихся, при условии, что: 1) при проведении таких уроков будут учитываться возрастные особенности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) уроки проводятся в систем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3) в работу вовлекаются все учащие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76000" y="549000"/>
            <a:ext cx="7086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eaeaea"/>
                </a:solidFill>
                <a:latin typeface="Tahoma"/>
                <a:ea typeface="Times New Roman"/>
              </a:rPr>
              <a:t>Обоснование актуальности и перспективности опыта</a:t>
            </a:r>
            <a:r>
              <a:rPr b="0" lang="ru-RU" sz="4400" spc="-1" strike="noStrike">
                <a:solidFill>
                  <a:srgbClr val="eaeaea"/>
                </a:solidFill>
                <a:latin typeface="Tahoma"/>
                <a:ea typeface="Times New Roman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1042920" y="1844640"/>
            <a:ext cx="7669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стандартные формы урока физики в огромной мере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способствует решению задач. поставленных перед школой (социальный заказ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вивают интерес и мотивацию к обучен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ивает навыки самостоятельного приобретения знаний и умения их применить в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eaeaea"/>
                </a:solidFill>
                <a:uFillTx/>
                <a:latin typeface="Monotype Corsiva"/>
              </a:rPr>
              <a:t>Цели: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меняя в своей работе нестандартные формы уроков, выяснить, как они влияют на развитие интереса к предмету и мотивации у учащихся к обучени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ать систему нестандартных уроков по физике с учётом возрастных особенностей учащихс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 algn="just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ить опыт для внедрения его другими педагогами в работе с учащими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29289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 u="sng">
                <a:solidFill>
                  <a:srgbClr val="eaeaea"/>
                </a:solidFill>
                <a:uFillTx/>
                <a:latin typeface="Monotype Corsiva"/>
              </a:rPr>
              <a:t>Цели: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928800" y="1963800"/>
            <a:ext cx="8001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ть мотивацию у учащихся к познанию учебного материала через нестандартные формы обуч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ктивизировать деятельность учащихся через выполнение компетентностно - ориентированных зад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олнить предмет профессионально - значимым материалом для каждой профе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здать ситуацию успеха для каждого учащегося в процессе индивидуальной работы.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WordArt 3"/>
          <p:cNvSpPr txBox="1"/>
          <p:nvPr/>
        </p:nvSpPr>
        <p:spPr>
          <a:xfrm>
            <a:off x="611280" y="260280"/>
            <a:ext cx="82296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которые противоречия отечественного образован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971640" y="1469880"/>
            <a:ext cx="8172360" cy="58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жду стандартизированным обучением школьников и и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индивидуальными способностями и интерес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жду бурным развитием науки 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еальными познавательными возможностями уче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 школе-интернат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жду системным уровнем организации учебно-воспитательного процесс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уровнем решения проблемы повышения образованности сельских детей (малого этнос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3:48:36Z</dcterms:created>
  <dc:creator>user</dc:creator>
  <dc:description/>
  <dc:language>en-US</dc:language>
  <cp:lastModifiedBy>user</cp:lastModifiedBy>
  <dcterms:modified xsi:type="dcterms:W3CDTF">2009-02-11T16:34:06Z</dcterms:modified>
  <cp:revision>23</cp:revision>
  <dc:subject/>
  <dc:title>Обобщение опыта Кустовой Надежды Ильиничны</dc:title>
</cp:coreProperties>
</file>