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44EC-D56E-41B0-B77F-98C13647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D781-A8E3-4C87-AB1A-301B0E35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BC6F76-93BD-4046-AE43-AEEAE830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F0803D-6A3E-4F8D-B13D-43FC8607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72256C-E1BE-4CDA-862D-A0A2EC46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1BCA9E-82CB-49F1-ADFB-278A4AA7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14AAE7-DC76-41A6-9B19-645EBFC1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7E3C4-09BA-4782-8796-E6BA9F9A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7C6153-9178-4135-8F19-1244DC00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1DC09-C8A4-48D3-9CE5-A4F00867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86AD4-0EC5-461B-B53C-E69F17BE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75132-3AD6-42AB-9B21-DFB5F200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CD9C-671E-4E07-804F-312A39FE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1002BE-6A07-4653-A626-0FCF42BA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A0F6C-9F0E-4159-B654-374E46E7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6C62ED-E793-489A-915F-3A37A395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2EF45-AAAA-4EA7-88A2-357FF77B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29DFB-081F-4253-81F7-707DD1AA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1DBBE-4132-412A-94F3-1EFFEA85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08918-3EB9-449D-AA1D-15AC9D3E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A2BC4-BD7E-4418-BF73-2E2C2320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C32ACD-8252-4861-863D-A5DB46ED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421F1-532B-4308-85DC-594CAAF1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952-8B99-4950-B7B9-681FA183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F551A-4ED7-410B-9616-86067261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106B5-D326-4B83-B3BB-CB2C1CEA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0E227-1E1D-429E-B51E-B4C0139A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2DF4D-0FF9-4A6C-9063-A0887C06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A1DDD-9977-485A-BDC7-D9C02B66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1B2EA-7EC1-4846-9CBC-24C41DEE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10074-2026-43A3-A471-18997C5D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C63D9-212F-41F7-B1F7-DD4F1CB1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4BAC2-DDF8-403A-865D-22105068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EFEA9-800C-41CA-B0C0-07123D84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3F5E-4F3B-4B79-8E68-4E3BBD5B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49D23-DBB7-4865-BE66-FBDB922E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737B2-C38B-4705-B298-98C1F4AA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88836-8B12-489D-8C7C-98CF1E20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EF09F1-B278-4D4C-9C71-E0FAB577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C930A-961C-42A7-9435-1AB3F0B5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EC6FC4-C38C-43AB-A144-04AA51C5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C55A8-EBD5-4EAA-81A3-AEFF9997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926737-EBCB-4A1C-9873-A18C9790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E7815-3D01-4E20-B998-63DCAA4B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3D4165-54ED-4B2F-8EB3-DDEB75FE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5432-441B-47BB-85CE-E1E5F175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374C93-88FF-4DE9-AA72-9D1D1BBE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C2DD1A-A1C0-437D-8303-FA1EFDFC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4C13BA-5B54-4D5B-9C9C-818055E6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F98FB-9C1D-4799-940F-EE698DB6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0DB68-4777-4E93-B93D-E1568534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29FC-637D-4244-8D28-D4FCAEBF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054D-A388-4FD0-9F15-66F227B0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CCF2-9DEC-477C-BFDC-E0241460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63AA-419C-4AB0-BD20-DDAACBCF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4451-7117-4705-B123-C03AF973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49F4-97C3-4021-8B1E-E551C752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C5AA-0C37-4EEB-BD3F-DC3576A9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FECD-3865-49A8-AD60-8783A8C1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4C96-73DB-4296-8534-EEF802BF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9F80-5684-49E0-8F38-C76922C4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A030-9F1D-4B3F-980B-7F0D18F7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9A891-C04E-4719-A471-56F33A0E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1EF0E-F1B1-4C74-A23C-5540762D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C0EBD-2814-4EFC-A13A-9A8EA2CF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5CAC8-22A5-421D-8CF4-EA17BB4B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7AE6A-C61B-4DC9-8A1F-E17D459C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01A-4862-4DE9-804F-3815B1E2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487D2-6E22-4C33-B188-A52AE1EB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0B834-B6A9-4EF7-88D5-495D0BD3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7B836-217B-46FC-BBFB-61698400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1852D-A4CE-43BE-93E5-269F5AB8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8BE2E-C8DE-481F-9AA0-5CB9015F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3EBE1-7B60-4D27-8C51-2F187E8C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BBCF1-6279-4518-9672-14D8FBA4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15288-AFD2-43C7-87AD-180DB2D9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F6D86-C445-4EC6-834C-825A0605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8F39B-F245-4412-AFB1-EDDD4E1E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31BC-92C5-4EB7-BC6D-7170160F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B4A21-8833-4DA3-8896-EA851956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6205A-2B08-470D-A75F-8D8D0269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3C667-6E59-4FD9-A8DA-D26C3E4F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51C13-4939-43B3-9639-F81E1C1B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453C5-8140-4862-974C-A1094376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0CD29-9F55-492E-8A19-F03B3FCD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F5A9D-4455-4D20-A733-5BBF3BAA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9E654-0035-4D17-B1CB-08385365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A9CE7-FF6B-4AF6-AA1D-5B9C186B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009A1-AD10-4017-B2D4-51D79A6C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549-04E3-49DF-9E68-C3509525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8DF91-3D2D-43C3-AD29-F7B4CA03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C7E14-1423-4F3E-B58A-FD80BF36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2E4E1-E7D5-4191-8D5D-71000140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1036F-FEE3-4015-84BA-FE8AB5FB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25A96-B0D2-42F3-893D-017DB061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FD22C-121E-45AD-8D90-5999CAB3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AB006-0CC3-474D-9F3B-0200FE88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538D9-3538-425C-8AAF-DD0F71BD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BB787-41BF-419B-9607-E6044AE9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9F953-340B-4BE8-9947-1A9F99A1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DB7-777A-4C19-ABAF-DFFCF5E7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70122-4B4F-4FC3-AEDB-351CFE01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E7483-B14A-423A-99E2-17FE663C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84357-99B6-440B-AB16-A0046BCE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183D0-097C-4512-AD47-D86E8DFA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1B373-128B-427E-A826-07BB4F38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C0A6C-604F-4694-B5C9-1FF91C68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A4661-7F7C-4BFA-92B0-DC1F9A89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1B6B5-D149-4D30-8DE9-FF200B3A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32945-E182-4BCC-B23C-19BA1974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35A9C-9A94-4A1D-81F3-05A8D1D5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902-DE1B-4E30-90C6-BEECE914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DA625-C508-4FB1-9098-8C7349CB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B9DCA-DDA3-498B-97BD-3DA9B814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5EC06-6A0C-4A90-B5CF-FAF9F9B4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5105A-B5A8-42A1-80A3-77736E8A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1BB08-1F9D-496B-A662-274544E8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79B43-3A9A-4D8A-A13A-455011EB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3D99D-9C25-4247-8CD7-75B66579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3B699-B424-44F1-A793-9C6765FB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AC6FF-E21A-4E8C-8E5F-1910BE6A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DB9C4-F341-42B1-B49D-936505CC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0CF-F74E-4C06-97B7-7C917F91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8BEDF-DA7F-45BA-8F4A-41DB5CC5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0C8D1-FFFC-4EF7-908E-F5AE8157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B5797-3C4F-4D59-976D-CE05E7E5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7D924-C5C5-4E05-B53C-881C8BDE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9E9E5-4AD8-4656-94C5-05F8365E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EC848-1D81-4496-BD80-40946579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E2814-7A96-4394-A441-DD5E8702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29025-4162-4118-A416-EC5132A9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388F9-E616-47F7-B13B-747EF0F1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32AFC-255B-4E97-AD32-32983DDC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A7D3-9A97-4E01-9F09-7CA99DC1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914BA-BFA3-4F3D-B39C-9DA747F5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6A023-6299-4D51-8098-2884F6FC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93D8A-AE6D-46F4-BAC1-04ACA53E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E0D86-851F-466E-84F7-923BD0C7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2BB5D-1A70-4D17-A2B3-10B9E01D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57EC0-313E-48A8-A84A-21F5B101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5684C-BEB0-4BEC-9D3A-046E3194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74171-1CA3-417E-9AF8-F0F39C2A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4E6E16-8CF3-438F-B311-8C9018DF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92E4C-1E03-4CC7-A628-51CB0EB0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7B7C-0D12-45B4-9B6A-A625528B48C9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e7c5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2109-272A-474D-8E23-60599DDD7F65}" type="slidenum">
              <a:rPr b="0" lang="ru-RU" sz="1600" spc="-1" strike="noStrike">
                <a:solidFill>
                  <a:srgbClr val="8e7c5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e7c5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21FA-928D-412C-A2B8-1B3B1E0C8A30}" type="slidenum">
              <a:rPr b="0" lang="ru-RU" sz="1600" spc="-1" strike="noStrike">
                <a:solidFill>
                  <a:srgbClr val="8e7c5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A658-747C-438D-B134-65A6D8F3C0AC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E156-F3EC-45C4-800B-203CEFE7A0E0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e7c5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85FA-58F8-47B5-A3F0-CE021D9B00DA}" type="slidenum">
              <a:rPr b="0" lang="ru-RU" sz="1600" spc="-1" strike="noStrike">
                <a:solidFill>
                  <a:srgbClr val="8e7c5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e7c5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D177-06CC-4F19-86D0-BF919FCEF195}" type="slidenum">
              <a:rPr b="0" lang="ru-RU" sz="1600" spc="-1" strike="noStrike">
                <a:solidFill>
                  <a:srgbClr val="8e7c5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C2A0-7FA9-4080-B114-F6D2A6C832C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FCDF-B2F9-48BE-B33D-76C7509CBE0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e7c5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677E-ED4D-404E-ABC6-9CAF52D4BD5B}" type="slidenum">
              <a:rPr b="0" lang="ru-RU" sz="1600" spc="-1" strike="noStrike">
                <a:solidFill>
                  <a:srgbClr val="8e7c5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6346-D713-4C59-999D-1A7BBBD1B0E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e7c5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9894-9EC0-4824-B7CD-3E54C1727B03}" type="slidenum">
              <a:rPr b="0" lang="ru-RU" sz="1600" spc="-1" strike="noStrike">
                <a:solidFill>
                  <a:srgbClr val="8e7c5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23CF-AFE4-4DD6-A6FD-2D10F82D2BE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e7c5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184A-B88C-44C2-A228-DA1DF0DC44BC}" type="slidenum">
              <a:rPr b="0" lang="ru-RU" sz="1600" spc="-1" strike="noStrike">
                <a:solidFill>
                  <a:srgbClr val="8e7c5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9646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41A9-9E76-4B4A-B979-480218E8709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e7c5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8A0B-2C81-4485-BFF9-D29F28FB4206}" type="slidenum">
              <a:rPr b="0" lang="ru-RU" sz="1600" spc="-1" strike="noStrike">
                <a:solidFill>
                  <a:srgbClr val="8e7c5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9646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50DA-A75B-4C32-8D2C-2049468C7589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e7c5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4FF9-769D-4D45-8A47-E88DE36CE108}" type="slidenum">
              <a:rPr b="0" lang="ru-RU" sz="1600" spc="-1" strike="noStrike">
                <a:solidFill>
                  <a:srgbClr val="8e7c5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0496-BCE7-460E-A932-8D855172967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e7c5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3A08-D944-4DA1-A255-20FF3AB6DEF0}" type="slidenum">
              <a:rPr b="0" lang="ru-RU" sz="1600" spc="-1" strike="noStrike">
                <a:solidFill>
                  <a:srgbClr val="8e7c5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B484-68FB-40C2-9261-A24555A8CC15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C07F-BCFC-4D30-B985-FFDE28E147F8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e7c5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5610-A6DB-4894-B1AD-B53723E9F4FB}" type="slidenum">
              <a:rPr b="0" lang="ru-RU" sz="1600" spc="-1" strike="noStrike">
                <a:solidFill>
                  <a:srgbClr val="8e7c5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0A28-EB95-45EC-BF3E-FA8F9483D99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НДОУ "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2;&#1086;&#1084;.&#1080;&#1075;&#1088;&#1099;.docx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79280" y="2819520"/>
            <a:ext cx="8785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464"/>
                </a:solidFill>
                <a:latin typeface="Georgia"/>
              </a:rPr>
              <a:t>Д.А. ТОЛМАЧЕВ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464"/>
                </a:solidFill>
                <a:latin typeface="Georgia"/>
              </a:rPr>
              <a:t>СОЦИАЛЬНЫЙ ПЕДАГОГ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464"/>
                </a:solidFill>
                <a:latin typeface="Georgia"/>
              </a:rPr>
              <a:t>ДЕТСКИЙ САД №25 ОАО «РЖД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-360" y="549360"/>
            <a:ext cx="87850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d34817"/>
                </a:solidFill>
                <a:latin typeface="Georgia"/>
              </a:rPr>
              <a:t>C</a:t>
            </a:r>
            <a:r>
              <a:rPr b="1" i="1" lang="ru-RU" sz="2800" spc="-1" strike="noStrike">
                <a:solidFill>
                  <a:srgbClr val="d34817"/>
                </a:solidFill>
                <a:latin typeface="Georgia"/>
              </a:rPr>
              <a:t>оциально</a:t>
            </a:r>
            <a:r>
              <a:rPr b="1" i="1" lang="en-US" sz="2800" spc="-1" strike="noStrike">
                <a:solidFill>
                  <a:srgbClr val="d34817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d34817"/>
                </a:solidFill>
                <a:latin typeface="Georgia"/>
              </a:rPr>
              <a:t>-</a:t>
            </a:r>
            <a:r>
              <a:rPr b="1" i="1" lang="en-US" sz="2800" spc="-1" strike="noStrike">
                <a:solidFill>
                  <a:srgbClr val="d34817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d34817"/>
                </a:solidFill>
                <a:latin typeface="Georgia"/>
              </a:rPr>
              <a:t>коммуникативное развитие детей дошкольного возраста </a:t>
            </a:r>
            <a:br>
              <a:rPr sz="2800"/>
            </a:br>
            <a:r>
              <a:rPr b="1" i="1" lang="ru-RU" sz="2800" spc="-1" strike="noStrike">
                <a:solidFill>
                  <a:srgbClr val="d34817"/>
                </a:solidFill>
                <a:latin typeface="Georgia"/>
              </a:rPr>
              <a:t>в условиях введения ФГОС</a:t>
            </a:r>
            <a:br>
              <a:rPr sz="3800"/>
            </a:br>
            <a:endParaRPr b="0" lang="en-US" sz="2800" spc="-1" strike="noStrike">
              <a:solidFill>
                <a:srgbClr val="8e7c5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34160" cy="7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09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7514-EA6F-44BB-9655-5711E034FA30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ть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ри ошибки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общении людей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вая — эт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желание говорить прежд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чем нужно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торая —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застенчивост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не говорить когда это нужно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ретья —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говорить, не наблюда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за вашим слушателем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фуц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Нижний колонтитул 5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50920" y="32364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e7c5c"/>
                </a:solidFill>
                <a:latin typeface="Georgia"/>
              </a:rPr>
              <a:t>Федеральный закон </a:t>
            </a:r>
            <a:br>
              <a:rPr sz="2800"/>
            </a:br>
            <a:r>
              <a:rPr b="0" i="1" lang="ru-RU" sz="2800" spc="-1" strike="noStrike">
                <a:solidFill>
                  <a:srgbClr val="8e7c5c"/>
                </a:solidFill>
                <a:latin typeface="Georgia"/>
              </a:rPr>
              <a:t>«</a:t>
            </a:r>
            <a:r>
              <a:rPr b="1" i="1" lang="ru-RU" sz="2800" spc="-1" strike="noStrike">
                <a:solidFill>
                  <a:srgbClr val="8e7c5c"/>
                </a:solidFill>
                <a:latin typeface="Georgia"/>
              </a:rPr>
              <a:t>Об образовании в РФ»</a:t>
            </a:r>
            <a:endParaRPr b="0" lang="en-US" sz="28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13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E030-23E7-4B2A-A213-E2466913B680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Глава 2 ст.1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 В Российской Федерации устанавливаются следующие уровни общего образования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1) дошкольное образова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) начальное общее образова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) основное общее образова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) среднее общее образовани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Федеральный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Нижний колонтитул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e7c5c"/>
                </a:solidFill>
                <a:latin typeface="Georgia"/>
              </a:rPr>
              <a:t>Социально-коммуникативное развитие</a:t>
            </a:r>
            <a:endParaRPr b="0" lang="en-US" sz="28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17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FEAD-CF47-41D7-8561-68CE66F4A01F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6760"/>
            <a:ext cx="850428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циально-коммуникативное развитие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аправлено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на: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своение норм и ценностей, принятых в обществе, включая моральные и нравственные  ценности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звитие общения и взаимодействия ребёнка со взрослыми и  сверстниками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тановление  самостоятельности, целенаправленности и саморегуляции собственных действий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звитие социального  и эмоционального интеллекта, эмоциональной отзывчивости, сопереживания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формирование готовности к совместной деятельности со сверстниками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формирование уважительного отношения и чувства принадлежности к своей семье и сообществу детей и взрослых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Нижний колонтитул 5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6397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7c5c"/>
                </a:solidFill>
                <a:latin typeface="Georgia"/>
              </a:rPr>
              <a:t>Программа эмоционально - личностного развития детей старшего дошкольного возраста </a:t>
            </a:r>
            <a:r>
              <a:rPr b="1" lang="ru-RU" sz="2800" spc="-1" strike="noStrike">
                <a:solidFill>
                  <a:srgbClr val="8e7c5c"/>
                </a:solidFill>
                <a:latin typeface="Georgia"/>
              </a:rPr>
              <a:t>«Лесенка</a:t>
            </a:r>
            <a:r>
              <a:rPr b="1" lang="ru-RU" sz="2800" spc="-1" strike="noStrike">
                <a:solidFill>
                  <a:srgbClr val="8e7c5c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8e7c5c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8e7c5c"/>
                </a:solidFill>
                <a:latin typeface="Georgia"/>
              </a:rPr>
              <a:t> дружбы»</a:t>
            </a:r>
            <a:endParaRPr b="0" lang="en-US" sz="28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21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33A8-6C48-4786-B156-4A6AD95F382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6760"/>
            <a:ext cx="850428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Авторы - составител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: педагог-психолог Носова И. 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циальный педагог Толмачева Д.А 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Методическое сопровождение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тарший воспитатель  Шурова П. 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ограмма рассчитана на 2 года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 год обучения - программа эмоционального развития детей 5-6 лет «Ступеньки дружбы»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 год обучения - российско-норвежская программа «Друзья Зиппи»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e7c5c"/>
                </a:solidFill>
                <a:latin typeface="Georgia"/>
              </a:rPr>
              <a:t>Коммуникативные игры</a:t>
            </a:r>
            <a:endParaRPr b="0" lang="en-US" sz="28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25" name="Дата 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5F41-44D7-4882-A990-0A884F7D5F40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Нижний колонтитул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eorgia"/>
              </a:rPr>
              <a:t>Детский сад №25 ОАО "РЖД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9900"/>
                </a:solidFill>
                <a:uFillTx/>
                <a:latin typeface="Georgia"/>
                <a:hlinkClick r:id="rId1"/>
              </a:rPr>
              <a:t>Коммуникативная игра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–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то способ самовыражения, взаимного сотрудничества, где партнеры находятся в позиции «на равных», стараются учитывать особенности и интересы друг друг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Цель коммуникативных игр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звитие динамической стороны общения: легкости вступления в контакт, инициативности, готовности к общению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звитие эмпатии, сочувствия к партнеру, эмоциональности и  выразительности невербальных средств общени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звитие позитивного самоощущения, что связано с состоянием уверенности в себе, ощущением собственного эмоционального благополучия, своей значимости в детском коллективе, сформированной  положительной самооцен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6:35:33Z</dcterms:created>
  <dc:creator>802100</dc:creator>
  <dc:description/>
  <dc:language>en-US</dc:language>
  <cp:lastModifiedBy>802100</cp:lastModifiedBy>
  <dcterms:modified xsi:type="dcterms:W3CDTF">2017-01-25T09:38:50Z</dcterms:modified>
  <cp:revision>11</cp:revision>
  <dc:subject/>
  <dc:title>Социально-коммуникативное развитие детей дошкольного возраста  в условиях введения ФГОС</dc:title>
</cp:coreProperties>
</file>