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AAF-B344-448C-AB5B-2097BE64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6D5-392B-478D-A708-FC6E307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167E3-5A11-498D-8FEE-08DCA23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FA4CC-26B6-4F17-97AE-C69C3B5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D8E6E-7189-43A6-8106-D8D2E6A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2804F-DE8B-425E-8E9B-BFCCAC1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FCDDE-EAC8-4ABE-B260-FE30F32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ED812-65A6-4BB8-808E-16BDA2F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A951A-8423-44AA-9ACA-DCA6365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D2437-CC1C-4C07-96DF-63D74DA6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7638C-85FB-45BE-8B52-BC9B242C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FE20E-DBD3-48AF-B69E-2C4E85DC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1E5-3352-4CAB-B7E7-6B52CE68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DCE45-1E3B-4FEA-86E8-3FAB916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F0D9F-C7AB-450A-B713-F570A34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E2CFD-C53B-4673-96AB-D7487229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91023-5D7C-4ED7-BE03-6C2BBAA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CD25D-18DF-430D-A3A4-326A42A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8DF2E-010E-4E80-A2FC-BAE5F40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75F11-1F11-44D5-90D2-7B9E0E9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3AEA-95AF-419A-A123-8F3509F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BFF3B-C564-4693-87B0-5C7AF20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C18A5-8D9D-4162-9B71-1047BF3E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182-58BE-49D3-98E4-D6075DF4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DF16D-3CF7-4C73-A735-09038049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3F44D-3575-49B9-B574-4EE29943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C6B4-FE19-40DA-A144-106BD9F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244DE-6192-4670-91F7-F7E2567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D0EED-83B6-47AB-B36D-D81C6B1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4F60E-3443-4723-B810-D639734B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8527-07AE-41F0-9DD9-498C427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59505-B66B-4940-8AF4-884CBEFE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D397-9E63-4602-BFA1-CA24BF1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40948-2CB4-469D-BBFC-B2304A2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47F-B468-4D93-BA59-AA87EB4C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ACFA0-FFD1-450B-AB16-6B908F24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E0B7-82FF-4EB7-A31F-82665C87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4AF7-8709-47E7-AD84-85C6BEFF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41F1C-DEC4-46ED-AF09-E67881B8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F9468-B9F9-4C73-B54E-90A938DC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36F7A-115A-47F8-8747-2A81A50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C1E6C-A79B-49EE-B132-1B02F1C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A5454-55CC-40B8-AD2F-EA0ECFA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7957C-98BD-430F-B91F-B010B9D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94719-D70E-4A95-B790-1804587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9B7-16AD-41C9-B08B-3E541A06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9D13E-FDA5-45BA-A403-FFDD6A6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68DC2-8D0C-4B17-A322-95D8838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E7E09-2ADF-41EB-95D7-58EE78B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11DE8-9065-43FE-B805-86FEB42C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B092D-7E4D-425E-8DCD-3930CE6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9AD-FD26-4E66-A8BB-032B05A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96A4-9946-4647-8F6E-DCCC7DEC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6CFD-48CA-4FE3-BB7B-DD93E030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C600-8A5C-4089-8E06-52F0A14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5E3-ACFE-4941-82A9-D6EFC7B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793-658A-4422-A153-B6822757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56AF-B6B8-4BFB-966A-8063DA5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7FE-7933-47FF-B6B2-CAC5CAE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48E-64B3-430F-AFB2-56693C5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9516-160D-40EA-BBAE-22EA1C1F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926-E1D4-4715-8488-0A09DF90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14D4-A6D6-48DC-8BAB-743D0A15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B63D-9027-448B-B3F1-C43B3867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1499-5337-46FA-8AA5-0B78F71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309C-D234-42EB-AE20-D7E7CC1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CD1B-94B3-4C38-AA0E-839AE25D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3F8-D5C3-4B14-A37F-2D34164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414E-CC09-4841-B280-978551B2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AF5D-837A-4F50-A256-142F862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88A0-49FA-43BE-954C-829252C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FBA0-7555-468F-93E4-DAEC797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2066-8F9C-4C56-B0A7-A541C2B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4B26-5A5E-437B-B12C-0B7FAF91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8A71-FF4C-42BE-8553-14E67066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D3CB-89CD-4BA5-A89E-B5381FCA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2521-6A87-49BC-8EE0-8E780013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A6D2-6C24-43EA-8A37-F3187D7F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FE4-A671-46C0-9E2C-93E5AE2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6AEA-1EE1-4103-B9FD-8B48E3E7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8B36-01F2-4BE5-A2F8-CA923795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CF13-E44E-41A4-850B-C0ECCB0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B5E3-9BBD-446B-B830-3D2C3089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C688-8514-4017-BDBC-7A3CC4B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A939-8505-41A8-8C39-92BB6F7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1714-0FD2-4182-B671-7C5C991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DCB6-C9D8-4AE2-ADD2-847E8915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2EE1-F337-4A3A-91CA-F5F7ED82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243FA-F1AF-4BC3-A570-4B76BB6B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8C4-432C-42D8-AFE6-D40F0F8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0D36-71F0-4BB1-8BBC-4E0E71D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53FD-1F69-4863-AB1D-2D27345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C7D75-B2C2-43F6-83B7-3BC05F3A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82AC9-E01C-4090-9BA7-FE444E6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AB1B-8EC7-4B6E-A218-2A4045A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44B9-40F4-4251-BC1F-6EB63E88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1A55-CE83-4D4C-A6FA-C9B31C8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F8AB5-A9A1-40BE-9276-43C5E08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E7F5-02FF-4CB9-9C0E-ECACF36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617F-F2DE-4FD0-BCAC-A32E21FC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EA2-393A-4A88-B60E-432A65AA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85C9-AF05-4EDF-AE65-668BED03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F8F3-5AAE-4F4A-A1EA-2F7410D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BF88-59FF-49AD-968A-AFB5B692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049A5-ED1C-4E03-A315-2A77627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F8563-8180-446C-B30F-3CC5DD7E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001BD-6CD8-401C-AFCC-41824B3D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E6BB9-F8F3-4529-AD36-7DDB63A7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8595-65EA-4D45-8528-46B9D36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323D-EE80-4C06-9FE0-6BC0374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8059E-BB19-4DAC-95F6-14E25B1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365-839B-40B9-B23F-94FEB02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4DC7-8203-4498-BD6D-7212E69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9BD4-DE35-4086-BC9E-879E6BD4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0CF9-D36E-48E2-9644-44B81AAA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CE85-A6A2-476B-9EC3-99E7F7C3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2A55-0992-4726-B606-654CA0A8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C976-0A9C-404D-984B-FD4B583E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6A45-FABC-4401-9AFF-AC9CA6B0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8E29-0892-468D-9585-BA0E1B2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16F30-AB44-4209-955F-49D41555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356C-9361-4D09-A858-E03B263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66B-6B3F-48C9-84DE-F0A81E4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6FED-622F-4296-9737-802A2D8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2E4D-C189-44C4-8404-ACC0063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0513-DA40-41E7-9EED-A194DC2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AEF2-D28F-4AE4-8E47-598E3107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EE8B-C59F-4DF2-9711-F0FDD649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C50A-60BE-4403-96AC-FE281070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A8D75-123C-45A8-9E96-70A5C79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974A-900F-4AF8-9ACF-25F48D9C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7C5F4-ED2E-4300-9748-D1958CE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C6B7-C0D5-4EA2-BA14-81F8A567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860-A031-4D8C-A06C-DA46424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6A4B3-1EC1-4682-81F1-51C8064F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D9E0-4BE0-4546-8B85-53111FC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6E5F-E74B-4E12-910F-5917AAFD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6ACB-7A93-49E9-ACCF-C024F90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2A5C-3A90-4078-8FB1-7736EEA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3D196-B12B-41E9-92CA-718EC056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EAE3-FE42-4B38-8A73-E605BA0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F9265-2AE8-43A0-A3E4-2B1ABB16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9C32D-8E40-4ACF-889D-7B10FDF7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FBD33-B97B-4E69-9DB3-097EB94D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155-86A8-4057-A385-E3767B9FFE4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885-3292-48EF-B1D5-2D6F57C21625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F2F-B137-4D2B-BA0D-4000472CA99C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B294-C7DA-4B58-82CF-2EDF709228B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8C9D-A42D-40D0-B9DF-BF3939288FA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070-D602-4E8E-BC73-CAD490922430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A42-2250-4027-89F5-C906C3C74297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124-0D63-4ABE-8BB8-33248C7B7B9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635-9977-498D-BE69-F996AE4B3C9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672-4F7E-48D8-8EC5-5FCF70346F95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FF1-F79E-4A92-9EFB-4817EF90096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080-55C0-42EA-97BF-C2A596CCD5E3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CE2-E52D-4A44-B448-B4D4C00B8B3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79B4-DB0D-41E9-A930-09359EA9AE84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4F56-0D6D-4C19-AFF2-147BC08A086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5C8-F8EA-406B-AF37-315A91A395D5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2CD-AED5-465D-BDD9-D41FE42CC48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647-05AB-41C6-B975-49C7E98F2756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75C4-195C-4241-A4E0-60FA97062B9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B605-1D9B-489B-B8D0-2B9C05CFEE3B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4B0-A996-4EA4-9A40-A697A3548ED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0A6-5371-4F4B-A80D-69CC9E60851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127-9A68-41E7-A366-67572CA4AC73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6B2-8810-4193-B0AE-3EA25E74732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2;&#1086;&#1084;.&#1080;&#1075;&#1088;&#1099;.docx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Д.А. ТОЛМАЧЕ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СОЦИАЛЬНЫЙ ПЕДАГОГ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ДЕТСКИЙ САД №25 ОАО «РЖД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-360" y="54936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C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оциально</a:t>
            </a: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-</a:t>
            </a: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коммуникативное развитие детей дошкольного возраста </a:t>
            </a:r>
            <a:br>
              <a:rPr sz="2800"/>
            </a:b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в условиях введения ФГОС</a:t>
            </a:r>
            <a:br>
              <a:rPr sz="3800"/>
            </a:b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34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9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895-9386-44BE-8964-650F788B71C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ть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ри ошибк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бщении людей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ая — 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желание говорить прежд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чем нуж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торая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застенчив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е говорить когда это нуж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ретья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говорить, не наблюда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за вашим слушателем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уц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Нижний колонтитул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0920" y="32364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e7c5c"/>
                </a:solidFill>
                <a:latin typeface="Georgia"/>
              </a:rPr>
              <a:t>Федеральный закон </a:t>
            </a:r>
            <a:br>
              <a:rPr sz="2800"/>
            </a:br>
            <a:r>
              <a:rPr b="0" i="1" lang="ru-RU" sz="2800" spc="-1" strike="noStrike">
                <a:solidFill>
                  <a:srgbClr val="8e7c5c"/>
                </a:solidFill>
                <a:latin typeface="Georgia"/>
              </a:rPr>
              <a:t>«</a:t>
            </a: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Об образовании в РФ»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3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331-2370-4AA8-BEC3-3ABAE65B5CB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лава 2 ст.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Российской Федерации устанавливаются следующие уровни общего образовани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1) 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начально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) основно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) средне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Федеральный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Нижний колонтитул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7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40FC-DF40-4A1E-80EB-2EFA2435C88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6760"/>
            <a:ext cx="85042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ально-коммуникативное развити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правлен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: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своение норм и ценностей, принятых в обществе, включая моральные и нравственные  ценност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общения и взаимодействия ребёнка со взрослыми и  сверстникам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новление  самостоятельности, целенаправленности и саморегуляции собственных действий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социального  и эмоционального интеллекта, эмоциональной отзывчивости, сопереживан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готовности к совместной деятельности со сверстникам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уважительного отношения и чувства принадлежности к своей семье и сообществу детей и взрослы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Нижний колонтитул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6397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7c5c"/>
                </a:solidFill>
                <a:latin typeface="Georgia"/>
              </a:rPr>
              <a:t>Программа эмоционально - личностного развития детей старшего дошкольного возраста 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«Лесенка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 дружбы»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1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1408-88BC-4033-AEAC-6974371BF26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6760"/>
            <a:ext cx="850428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Авторы - составите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педагог-психолог Носова И. 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ый педагог Толмачева Д.А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етодическое сопровождени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рший воспитатель  Шурова П. 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грамма рассчитана на 2 год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год обучения - программа эмоционального развития детей 5-6 лет «Ступеньки дружбы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год обучения - российско-норвежская программа «Друзья Зиппи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Коммуникативные игры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5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994-213D-4C5C-AB35-98CD1774E9A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9900"/>
                </a:solidFill>
                <a:uFillTx/>
                <a:latin typeface="Georgia"/>
                <a:hlinkClick r:id="rId1"/>
              </a:rPr>
              <a:t>Коммуникативная игр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способ самовыражения, взаимного сотрудничества, где партнеры находятся в позиции «на равных», стараются учитывать особенности и интересы друг друг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Цель коммуникативных игр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динамической стороны общения: легкости вступления в контакт, инициативности, готовности к общен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эмпатии, сочувствия к партнеру, эмоциональности и  выразительности невербальных средств общ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позитивного самоощущения, что связано с состоянием уверенности в себе, ощущением собственного эмоционального благополучия, своей значимости в детском коллективе, сформированной  положительной самооцен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6:35:33Z</dcterms:created>
  <dc:creator>802100</dc:creator>
  <dc:description/>
  <dc:language>en-US</dc:language>
  <cp:lastModifiedBy>802100</cp:lastModifiedBy>
  <dcterms:modified xsi:type="dcterms:W3CDTF">2017-01-25T09:38:50Z</dcterms:modified>
  <cp:revision>11</cp:revision>
  <dc:subject/>
  <dc:title>Социально-коммуникативное развитие детей дошкольного возраста  в условиях введения ФГОС</dc:title>
</cp:coreProperties>
</file>