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C2F-CFBE-463B-8079-4679E913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4F3-5A77-4A4F-B7D7-3548D6E2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C09-E719-4EB9-B8B0-42706C7E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DB7-1B17-4935-A4D7-E9006D21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838-1B7C-461A-A2F4-3775963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7A7-F53B-4C60-B53F-EDD7FAD0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9D2-5C1A-4903-A9B0-EB7A485E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235-4F9E-48B3-8229-AF70EB1A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1E2-F132-48CE-8FDC-1F375DE4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761-3F73-461B-90F8-D8AC6E47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020-6622-430E-82E9-524392F1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B87-6F07-4646-8CE1-443752E9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66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5A22-9241-4D4B-972D-C34330437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Untitled1"/>
          <p:cNvPicPr/>
          <p:nvPr/>
        </p:nvPicPr>
        <p:blipFill>
          <a:blip r:embed="rId1"/>
          <a:stretch/>
        </p:blipFill>
        <p:spPr>
          <a:xfrm>
            <a:off x="4608360" y="0"/>
            <a:ext cx="39816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7 Дорожка 1.wma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468360" y="836640"/>
            <a:ext cx="417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Helver Bashkir"/>
              </a:rPr>
              <a:t>Баш</a:t>
            </a: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ҡортостандың халы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яҙыусыһ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шағирә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 </a:t>
            </a: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драматург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тәржемә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424720" cy="22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50920" y="620640"/>
            <a:ext cx="46814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_Helver Bashkir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a_Helver Bashkir"/>
              </a:rPr>
              <a:t>Биишева Зәйнәб Абдулла ҡыҙ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_Helver Bashkir"/>
              </a:rPr>
              <a:t>1908 йылдың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_Helver Bashkir"/>
              </a:rPr>
              <a:t>15 ғинуарында Күгәрсен районы Туйөмбәт ауылынд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уған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артизан малай» исемле беренсе китабы 1942 йылда баҫылып сы</a:t>
            </a: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ғ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Дом\Desktop\з.бии.jpg"/>
          <p:cNvPicPr/>
          <p:nvPr/>
        </p:nvPicPr>
        <p:blipFill>
          <a:blip r:embed="rId1"/>
          <a:stretch/>
        </p:blipFill>
        <p:spPr>
          <a:xfrm>
            <a:off x="4932360" y="1052640"/>
            <a:ext cx="4032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Untitled3"/>
          <p:cNvPicPr/>
          <p:nvPr/>
        </p:nvPicPr>
        <p:blipFill>
          <a:blip r:embed="rId1"/>
          <a:stretch/>
        </p:blipFill>
        <p:spPr>
          <a:xfrm>
            <a:off x="4255920" y="0"/>
            <a:ext cx="4875480" cy="6323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179280" y="620640"/>
            <a:ext cx="3961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68 йылда «Кәмһетелгәндәр», «Оло Эйек буйында» романдары өсөн Салауат Юлаев исемендә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мия бирелә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Untitled5"/>
          <p:cNvPicPr/>
          <p:nvPr/>
        </p:nvPicPr>
        <p:blipFill>
          <a:blip r:embed="rId1"/>
          <a:stretch/>
        </p:blipFill>
        <p:spPr>
          <a:xfrm>
            <a:off x="324000" y="534960"/>
            <a:ext cx="856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Untitled7"/>
          <p:cNvPicPr/>
          <p:nvPr/>
        </p:nvPicPr>
        <p:blipFill>
          <a:blip r:embed="rId1"/>
          <a:stretch/>
        </p:blipFill>
        <p:spPr>
          <a:xfrm>
            <a:off x="3419640" y="0"/>
            <a:ext cx="2604960" cy="381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Untitled6"/>
          <p:cNvPicPr/>
          <p:nvPr/>
        </p:nvPicPr>
        <p:blipFill>
          <a:blip r:embed="rId2"/>
          <a:stretch/>
        </p:blipFill>
        <p:spPr>
          <a:xfrm>
            <a:off x="6480" y="-33480"/>
            <a:ext cx="3135240" cy="422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Дом\Desktop\у большого ика.jpg"/>
          <p:cNvPicPr/>
          <p:nvPr/>
        </p:nvPicPr>
        <p:blipFill>
          <a:blip r:embed="rId3"/>
          <a:stretch/>
        </p:blipFill>
        <p:spPr>
          <a:xfrm>
            <a:off x="6156360" y="15840"/>
            <a:ext cx="2609640" cy="387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cs543405.vk.me/u236029986/video/l_b335aba8.jpg"/>
          <p:cNvPicPr/>
          <p:nvPr/>
        </p:nvPicPr>
        <p:blipFill>
          <a:blip r:embed="rId4"/>
          <a:stretch/>
        </p:blipFill>
        <p:spPr>
          <a:xfrm>
            <a:off x="108000" y="4149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http://baimaklib.ru/sites/default/files/812/z_biisheva_2.jpg"/>
          <p:cNvPicPr/>
          <p:nvPr/>
        </p:nvPicPr>
        <p:blipFill>
          <a:blip r:embed="rId5"/>
          <a:stretch/>
        </p:blipFill>
        <p:spPr>
          <a:xfrm>
            <a:off x="3492360" y="3505320"/>
            <a:ext cx="2459160" cy="3805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http://baimaklib.ru/sites/default/files/813/z_biisheva_1.jpg"/>
          <p:cNvPicPr/>
          <p:nvPr/>
        </p:nvPicPr>
        <p:blipFill>
          <a:blip r:embed="rId6"/>
          <a:stretch/>
        </p:blipFill>
        <p:spPr>
          <a:xfrm>
            <a:off x="6372360" y="3505320"/>
            <a:ext cx="23936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Untitled2"/>
          <p:cNvPicPr/>
          <p:nvPr/>
        </p:nvPicPr>
        <p:blipFill>
          <a:blip r:embed="rId1"/>
          <a:stretch/>
        </p:blipFill>
        <p:spPr>
          <a:xfrm>
            <a:off x="-50760" y="189000"/>
            <a:ext cx="42624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libex.ru/dimg/19392.jpg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27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Untitled1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71640" y="1557360"/>
            <a:ext cx="3699000" cy="530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Untitled11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79280" y="189000"/>
            <a:ext cx="8713800" cy="1079280"/>
          </a:xfrm>
          <a:prstGeom prst="rect">
            <a:avLst/>
          </a:prstGeom>
          <a:ln w="0">
            <a:noFill/>
          </a:ln>
        </p:spPr>
      </p:pic>
      <p:pic>
        <p:nvPicPr>
          <p:cNvPr id="64" name="09 Дорожка 2.wma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5:42:05Z</dcterms:created>
  <dc:creator>Айдар</dc:creator>
  <dc:description/>
  <dc:language>en-US</dc:language>
  <cp:lastModifiedBy>Дом</cp:lastModifiedBy>
  <dcterms:modified xsi:type="dcterms:W3CDTF">2016-08-18T17:01:30Z</dcterms:modified>
  <cp:revision>9</cp:revision>
  <dc:subject/>
  <dc:title>Слайд 1</dc:title>
</cp:coreProperties>
</file>