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2FEC-81C6-4421-9BE9-3DBBF2444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3723-8833-41EE-98A1-EA6FD750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A14E-3915-4E8A-BE87-306B02E5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5602-E1FD-42AA-A783-D81A7BC5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E14-FEAB-4DEF-B357-346AC933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90A-BB7D-4612-AB62-6E4D116CC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FBFE-67CE-4B65-959D-53BD561C4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A958-044A-4799-BB9E-EC999FCD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E02A-631A-4406-8D3B-AC10B129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83D4-9F4D-4974-9045-EF507331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DBCC-6D19-4AB7-99C7-83271E4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6A8-A253-4633-9733-50EC2A69E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33"/>
            </a:gs>
            <a:gs pos="50000">
              <a:srgbClr val="66ffff"/>
            </a:gs>
            <a:gs pos="100000">
              <a:srgbClr val="99ff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96DA-6AC0-4427-B57A-9CA17AE299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Untitled1"/>
          <p:cNvPicPr/>
          <p:nvPr/>
        </p:nvPicPr>
        <p:blipFill>
          <a:blip r:embed="rId1"/>
          <a:stretch/>
        </p:blipFill>
        <p:spPr>
          <a:xfrm>
            <a:off x="4608360" y="0"/>
            <a:ext cx="39816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07 Дорожка 1.wma" descr=""/>
          <p:cNvPicPr/>
          <p:nvPr/>
        </p:nvPicPr>
        <p:blipFill>
          <a:blip r:embed="rId2"/>
          <a:stretch/>
        </p:blipFill>
        <p:spPr>
          <a:xfrm>
            <a:off x="8459640" y="623736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2"/>
          <p:cNvSpPr/>
          <p:nvPr/>
        </p:nvSpPr>
        <p:spPr>
          <a:xfrm>
            <a:off x="468360" y="836640"/>
            <a:ext cx="4174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_Helver Bashkir"/>
              </a:rPr>
              <a:t>Баш</a:t>
            </a: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ҡортостандың халы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яҙыусыһы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шағирә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 </a:t>
            </a: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драматург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600" spc="-1" strike="noStrike">
                <a:solidFill>
                  <a:srgbClr val="000000"/>
                </a:solidFill>
                <a:latin typeface="a_Helver Bashkir"/>
              </a:rPr>
              <a:t>тәржемәс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395280" y="3886200"/>
            <a:ext cx="8424720" cy="22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250920" y="620640"/>
            <a:ext cx="4681440" cy="568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_Helver Bashkir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Биишева Зәйнәб Абдулла ҡыҙы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1908 йылдың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_Helver Bashkir"/>
              </a:rPr>
              <a:t>15 ғинуарында Күгәрсен районы Туйөмбәт ауылын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уған. 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артизан малай» исемле беренсе китабы 1942 йылда баҫылып сы</a:t>
            </a: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ға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C:\Users\Дом\Desktop\з.бии.jpg"/>
          <p:cNvPicPr/>
          <p:nvPr/>
        </p:nvPicPr>
        <p:blipFill>
          <a:blip r:embed="rId1"/>
          <a:stretch/>
        </p:blipFill>
        <p:spPr>
          <a:xfrm>
            <a:off x="4932360" y="1052640"/>
            <a:ext cx="403236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6" descr="Untitled3"/>
          <p:cNvPicPr/>
          <p:nvPr/>
        </p:nvPicPr>
        <p:blipFill>
          <a:blip r:embed="rId1"/>
          <a:stretch/>
        </p:blipFill>
        <p:spPr>
          <a:xfrm>
            <a:off x="4255920" y="0"/>
            <a:ext cx="4875480" cy="6323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179280" y="620640"/>
            <a:ext cx="3961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68 йылда «Кәмһетелгәндәр», «Оло Эйек буйында» романдары өсөн Салауат Юлаев исемендәг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мия бирелә.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Untitled5"/>
          <p:cNvPicPr/>
          <p:nvPr/>
        </p:nvPicPr>
        <p:blipFill>
          <a:blip r:embed="rId1"/>
          <a:stretch/>
        </p:blipFill>
        <p:spPr>
          <a:xfrm>
            <a:off x="324000" y="534960"/>
            <a:ext cx="85690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Untitled7"/>
          <p:cNvPicPr/>
          <p:nvPr/>
        </p:nvPicPr>
        <p:blipFill>
          <a:blip r:embed="rId1"/>
          <a:stretch/>
        </p:blipFill>
        <p:spPr>
          <a:xfrm>
            <a:off x="3419640" y="0"/>
            <a:ext cx="2604960" cy="3816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Untitled6"/>
          <p:cNvPicPr/>
          <p:nvPr/>
        </p:nvPicPr>
        <p:blipFill>
          <a:blip r:embed="rId2"/>
          <a:stretch/>
        </p:blipFill>
        <p:spPr>
          <a:xfrm>
            <a:off x="6480" y="-33480"/>
            <a:ext cx="3135240" cy="4221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C:\Users\Дом\Desktop\у большого ика.jpg"/>
          <p:cNvPicPr/>
          <p:nvPr/>
        </p:nvPicPr>
        <p:blipFill>
          <a:blip r:embed="rId3"/>
          <a:stretch/>
        </p:blipFill>
        <p:spPr>
          <a:xfrm>
            <a:off x="6156360" y="15840"/>
            <a:ext cx="2609640" cy="387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http://cs543405.vk.me/u236029986/video/l_b335aba8.jpg"/>
          <p:cNvPicPr/>
          <p:nvPr/>
        </p:nvPicPr>
        <p:blipFill>
          <a:blip r:embed="rId4"/>
          <a:stretch/>
        </p:blipFill>
        <p:spPr>
          <a:xfrm>
            <a:off x="108000" y="414972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http://baimaklib.ru/sites/default/files/812/z_biisheva_2.jpg"/>
          <p:cNvPicPr/>
          <p:nvPr/>
        </p:nvPicPr>
        <p:blipFill>
          <a:blip r:embed="rId5"/>
          <a:stretch/>
        </p:blipFill>
        <p:spPr>
          <a:xfrm>
            <a:off x="3492360" y="3505320"/>
            <a:ext cx="2459160" cy="3805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http://baimaklib.ru/sites/default/files/813/z_biisheva_1.jpg"/>
          <p:cNvPicPr/>
          <p:nvPr/>
        </p:nvPicPr>
        <p:blipFill>
          <a:blip r:embed="rId6"/>
          <a:stretch/>
        </p:blipFill>
        <p:spPr>
          <a:xfrm>
            <a:off x="6372360" y="3505320"/>
            <a:ext cx="239364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6" descr="Untitled2"/>
          <p:cNvPicPr/>
          <p:nvPr/>
        </p:nvPicPr>
        <p:blipFill>
          <a:blip r:embed="rId1"/>
          <a:stretch/>
        </p:blipFill>
        <p:spPr>
          <a:xfrm>
            <a:off x="-50760" y="189000"/>
            <a:ext cx="42624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www.libex.ru/dimg/19392.jpg"/>
          <p:cNvPicPr/>
          <p:nvPr/>
        </p:nvPicPr>
        <p:blipFill>
          <a:blip r:embed="rId2"/>
          <a:stretch/>
        </p:blipFill>
        <p:spPr>
          <a:xfrm>
            <a:off x="4211640" y="0"/>
            <a:ext cx="49323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027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Untitled10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71640" y="1557360"/>
            <a:ext cx="3699000" cy="5300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Untitled11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179280" y="189000"/>
            <a:ext cx="8713800" cy="1079280"/>
          </a:xfrm>
          <a:prstGeom prst="rect">
            <a:avLst/>
          </a:prstGeom>
          <a:ln w="0">
            <a:noFill/>
          </a:ln>
        </p:spPr>
      </p:pic>
      <p:pic>
        <p:nvPicPr>
          <p:cNvPr id="64" name="09 Дорожка 2.wma" descr=""/>
          <p:cNvPicPr/>
          <p:nvPr/>
        </p:nvPicPr>
        <p:blipFill>
          <a:blip r:embed="rId3"/>
          <a:stretch/>
        </p:blipFill>
        <p:spPr>
          <a:xfrm>
            <a:off x="853272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05:42:05Z</dcterms:created>
  <dc:creator>Айдар</dc:creator>
  <dc:description/>
  <dc:language>en-US</dc:language>
  <cp:lastModifiedBy>Дом</cp:lastModifiedBy>
  <dcterms:modified xsi:type="dcterms:W3CDTF">2016-08-18T17:01:30Z</dcterms:modified>
  <cp:revision>9</cp:revision>
  <dc:subject/>
  <dc:title>Слайд 1</dc:title>
</cp:coreProperties>
</file>