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328-3550-49D0-AFE6-712EDFF7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D11-F26A-4DC4-9E70-8AD7AA9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2FD-5631-4860-B300-AF1FD125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548-E768-4B3A-BF86-E4A7027C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694-72B9-410D-A966-27E86A83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1C4-CACC-47B7-BF0F-D59F94F0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4A5-79C0-48BD-891E-18F42AEE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8E7-3150-4963-9520-92C14F1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019-4465-4DE5-89F2-5A48AAF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F22-64C5-43E1-9237-750B0425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2EA-A0C3-4D66-9C47-FA2A4CD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0E8-A5A6-41C2-BCC5-17CED73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66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943-BEDD-44F0-BDCB-432D77F63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titled1"/>
          <p:cNvPicPr/>
          <p:nvPr/>
        </p:nvPicPr>
        <p:blipFill>
          <a:blip r:embed="rId1"/>
          <a:stretch/>
        </p:blipFill>
        <p:spPr>
          <a:xfrm>
            <a:off x="4608360" y="0"/>
            <a:ext cx="3981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7 Дорожка 1.wma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68360" y="836640"/>
            <a:ext cx="41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Helver Bashkir"/>
              </a:rPr>
              <a:t>Баш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ҡортостандың халы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яҙыусыһ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шағир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драматур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тәржемә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0920" y="620640"/>
            <a:ext cx="4681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_Helver Bashkir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Биишева Зәйнәб Абдулла ҡыҙ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908 йылдың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5 ғинуарында Күгәрсен районы Туйөмбәт ауылын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уған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артизан малай» исемле беренсе китабы 1942 йылда баҫылып сы</a:t>
            </a: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Дом\Desktop\з.бии.jpg"/>
          <p:cNvPicPr/>
          <p:nvPr/>
        </p:nvPicPr>
        <p:blipFill>
          <a:blip r:embed="rId1"/>
          <a:stretch/>
        </p:blipFill>
        <p:spPr>
          <a:xfrm>
            <a:off x="4932360" y="105264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Untitled3"/>
          <p:cNvPicPr/>
          <p:nvPr/>
        </p:nvPicPr>
        <p:blipFill>
          <a:blip r:embed="rId1"/>
          <a:stretch/>
        </p:blipFill>
        <p:spPr>
          <a:xfrm>
            <a:off x="4255920" y="0"/>
            <a:ext cx="4875480" cy="6323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79280" y="620640"/>
            <a:ext cx="396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8 йылда «Кәмһетелгәндәр», «Оло Эйек буйында» романдары өсөн Салауат Юлаев исемендә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ия бирелә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Untitled5"/>
          <p:cNvPicPr/>
          <p:nvPr/>
        </p:nvPicPr>
        <p:blipFill>
          <a:blip r:embed="rId1"/>
          <a:stretch/>
        </p:blipFill>
        <p:spPr>
          <a:xfrm>
            <a:off x="324000" y="5349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Untitled7"/>
          <p:cNvPicPr/>
          <p:nvPr/>
        </p:nvPicPr>
        <p:blipFill>
          <a:blip r:embed="rId1"/>
          <a:stretch/>
        </p:blipFill>
        <p:spPr>
          <a:xfrm>
            <a:off x="3419640" y="0"/>
            <a:ext cx="260496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Untitled6"/>
          <p:cNvPicPr/>
          <p:nvPr/>
        </p:nvPicPr>
        <p:blipFill>
          <a:blip r:embed="rId2"/>
          <a:stretch/>
        </p:blipFill>
        <p:spPr>
          <a:xfrm>
            <a:off x="6480" y="-33480"/>
            <a:ext cx="3135240" cy="422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Дом\Desktop\у большого ика.jpg"/>
          <p:cNvPicPr/>
          <p:nvPr/>
        </p:nvPicPr>
        <p:blipFill>
          <a:blip r:embed="rId3"/>
          <a:stretch/>
        </p:blipFill>
        <p:spPr>
          <a:xfrm>
            <a:off x="6156360" y="15840"/>
            <a:ext cx="2609640" cy="38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cs543405.vk.me/u236029986/video/l_b335aba8.jpg"/>
          <p:cNvPicPr/>
          <p:nvPr/>
        </p:nvPicPr>
        <p:blipFill>
          <a:blip r:embed="rId4"/>
          <a:stretch/>
        </p:blipFill>
        <p:spPr>
          <a:xfrm>
            <a:off x="108000" y="4149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baimaklib.ru/sites/default/files/812/z_biisheva_2.jpg"/>
          <p:cNvPicPr/>
          <p:nvPr/>
        </p:nvPicPr>
        <p:blipFill>
          <a:blip r:embed="rId5"/>
          <a:stretch/>
        </p:blipFill>
        <p:spPr>
          <a:xfrm>
            <a:off x="3492360" y="3505320"/>
            <a:ext cx="2459160" cy="380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baimaklib.ru/sites/default/files/813/z_biisheva_1.jpg"/>
          <p:cNvPicPr/>
          <p:nvPr/>
        </p:nvPicPr>
        <p:blipFill>
          <a:blip r:embed="rId6"/>
          <a:stretch/>
        </p:blipFill>
        <p:spPr>
          <a:xfrm>
            <a:off x="6372360" y="3505320"/>
            <a:ext cx="23936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Untitled2"/>
          <p:cNvPicPr/>
          <p:nvPr/>
        </p:nvPicPr>
        <p:blipFill>
          <a:blip r:embed="rId1"/>
          <a:stretch/>
        </p:blipFill>
        <p:spPr>
          <a:xfrm>
            <a:off x="-50760" y="189000"/>
            <a:ext cx="4262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libex.ru/dimg/19392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2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Untitled1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71640" y="1557360"/>
            <a:ext cx="369900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ntitled1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79280" y="189000"/>
            <a:ext cx="871380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09 Дорожка 2.wma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42:05Z</dcterms:created>
  <dc:creator>Айдар</dc:creator>
  <dc:description/>
  <dc:language>en-US</dc:language>
  <cp:lastModifiedBy>Дом</cp:lastModifiedBy>
  <dcterms:modified xsi:type="dcterms:W3CDTF">2016-08-18T17:01:30Z</dcterms:modified>
  <cp:revision>9</cp:revision>
  <dc:subject/>
  <dc:title>Слайд 1</dc:title>
</cp:coreProperties>
</file>