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C30CC-D5F3-46C8-8D65-053A6BE8D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00C3D-59B7-4011-8C54-ABCC7F9B8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2D8EF-35FC-49D6-A4A6-6B005AE92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D02E-52B0-433B-A81F-E619D9081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DCD48B-6802-4F9D-8032-3756571EC2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E57CD-6ECE-4F07-A657-726D59F23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72E73-7BCD-432C-A030-95B764B4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587D3-D44A-4371-A8D4-3054E3C3E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292773-FA5D-4EAC-8955-A9100101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4DF05-F2CC-4480-A02A-40C2E23BE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2654B-5DCE-4FCD-A9C9-A6994F496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25CE-9CE2-4DEB-BB43-A6A32156A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24FC1-03D2-451A-98D9-EE6CAD93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A8DAD3-26A4-434B-B472-7D93319E6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3B078-1675-4013-A61F-1E46AEAD4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78952-EEB7-46D8-AB70-D59EA8C35D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FA0F4-BFAF-4C46-874B-4DB60997D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43A0A-F3B0-45BD-80B8-1733A52B2F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DA9ED4-6791-4047-8FC7-9174D666D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244F87-250B-4F3B-9894-D6AA3742A0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B8150C-3470-460F-B5D6-7CDB7AE70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606D5E-2178-420E-9C9F-3F9A49638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B3DA-087D-452B-B067-E5805758C8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CAD945-9F5B-4A62-B406-02358B4EE9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A039A7-5339-4B8E-9204-5461C76FD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591CD0-52BA-4479-9A49-E88E0DD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98C2E0-33B8-4E63-9E6A-742DE7C0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834FAB-6562-4AE5-8A40-4B2F8806A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5B2D94-21E7-4A6B-9207-169163399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6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9E999E-1D6E-4F7A-9C23-BD70E4A06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770728-7774-4B6E-8EDA-82487E0E82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05A360-8A48-4AE6-949D-77C0A7DFE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7F1F0F-B2FF-4C95-9A0E-E73A8D2C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A9665-E22B-40F5-93D2-F311423A2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51300D-B75D-4C62-BAA7-83C47AE8D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96C8CC-67C5-4623-A742-07FC7FF6A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25847E-E979-4180-996E-9241DAB91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3B933A-FB0F-49C6-91A4-D5E3B3612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05C885-0991-4DC5-A342-BE821F6D3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2D64EA-A9BE-4B43-8985-FBEF7987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723CD-865B-4AAA-95BE-D9BF78561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F6548B6-29A8-4259-846A-968309013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275580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4902480" y="216036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60912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275580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4902480" y="4187880"/>
            <a:ext cx="204408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5C8F7-FE4C-431C-9433-E3903E477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24FF4-1B08-4DE6-AD52-0871654A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609120" y="609120"/>
            <a:ext cx="6348600" cy="612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D23F-1121-456C-97CF-A3C703A48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B9A81-D948-474B-89A5-9F361414E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62080" y="418788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BDDCD-91F8-4609-93D9-19368E3DE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12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862080" y="2160360"/>
            <a:ext cx="30978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120" y="4187880"/>
            <a:ext cx="634860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001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924D7-FF15-4264-A42F-6071B26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dt" idx="1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ftr" idx="2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sldNum" idx="3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0BAF5-7C0B-4C61-8645-5AD1AD8BDB27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53" name="Straight Connector 1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Straight Connector 1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18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19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Freeform 20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Freeform 21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Freeform 22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Freeform 23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Freeform 24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Freeform 28"/>
            <p:cNvSpPr/>
            <p:nvPr/>
          </p:nvSpPr>
          <p:spPr>
            <a:xfrm>
              <a:off x="-7920" y="-7920"/>
              <a:ext cx="863280" cy="5697360"/>
            </a:xfrm>
            <a:custGeom>
              <a:avLst/>
              <a:gdLst/>
              <a:ahLst/>
              <a:rect l="l" t="t" r="r" b="b"/>
              <a:pathLst>
                <a:path w="863600" h="5698067">
                  <a:moveTo>
                    <a:pt x="0" y="8467"/>
                  </a:moveTo>
                  <a:lnTo>
                    <a:pt x="863600" y="0"/>
                  </a:lnTo>
                  <a:lnTo>
                    <a:pt x="863600" y="16934"/>
                  </a:lnTo>
                  <a:lnTo>
                    <a:pt x="0" y="5698067"/>
                  </a:lnTo>
                  <a:lnTo>
                    <a:pt x="0" y="8467"/>
                  </a:lnTo>
                  <a:close/>
                </a:path>
              </a:pathLst>
            </a:custGeom>
            <a:solidFill>
              <a:srgbClr val="6c911d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D241D-5D5F-4488-849F-670F96FFD9BE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05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5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 type="dt" idx="7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 type="ftr" idx="8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 type="sldNum" idx="9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6E4C1-4B4E-4937-8B1F-57D1E9B6D5D5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c3c4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8" name="Group 16"/>
          <p:cNvGrpSpPr/>
          <p:nvPr/>
        </p:nvGrpSpPr>
        <p:grpSpPr>
          <a:xfrm>
            <a:off x="-7920" y="-7920"/>
            <a:ext cx="9169560" cy="6873840"/>
            <a:chOff x="-7920" y="-7920"/>
            <a:chExt cx="9169560" cy="6873840"/>
          </a:xfrm>
        </p:grpSpPr>
        <p:sp>
          <p:nvSpPr>
            <p:cNvPr id="159" name="Straight Connector 6"/>
            <p:cNvSpPr/>
            <p:nvPr/>
          </p:nvSpPr>
          <p:spPr>
            <a:xfrm flipV="1">
              <a:off x="5131440" y="4175640"/>
              <a:ext cx="4022280" cy="268200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Straight Connector 7"/>
            <p:cNvSpPr/>
            <p:nvPr/>
          </p:nvSpPr>
          <p:spPr>
            <a:xfrm>
              <a:off x="7043040" y="360"/>
              <a:ext cx="1218960" cy="6856920"/>
            </a:xfrm>
            <a:prstGeom prst="line">
              <a:avLst/>
            </a:prstGeom>
            <a:ln cap="rnd" w="9360">
              <a:solidFill>
                <a:srgbClr val="26262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Freeform 8"/>
            <p:cNvSpPr/>
            <p:nvPr/>
          </p:nvSpPr>
          <p:spPr>
            <a:xfrm>
              <a:off x="-7920" y="4013280"/>
              <a:ext cx="457200" cy="2852640"/>
            </a:xfrm>
            <a:custGeom>
              <a:avLst/>
              <a:gdLst/>
              <a:ahLst/>
              <a:rect l="l" t="t" r="r" b="b"/>
              <a:pathLst>
                <a:path w="457200" h="2853267">
                  <a:moveTo>
                    <a:pt x="0" y="0"/>
                  </a:moveTo>
                  <a:lnTo>
                    <a:pt x="457200" y="2853267"/>
                  </a:lnTo>
                  <a:lnTo>
                    <a:pt x="0" y="2844800"/>
                  </a:lnTo>
                  <a:cubicBezTo>
                    <a:pt x="2822" y="1905000"/>
                    <a:pt x="5645" y="965200"/>
                    <a:pt x="0" y="0"/>
                  </a:cubicBezTo>
                  <a:close/>
                </a:path>
              </a:pathLst>
            </a:custGeom>
            <a:solidFill>
              <a:srgbClr val="90c226">
                <a:alpha val="8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Freeform 9"/>
            <p:cNvSpPr/>
            <p:nvPr/>
          </p:nvSpPr>
          <p:spPr>
            <a:xfrm>
              <a:off x="6892200" y="360"/>
              <a:ext cx="2269440" cy="6865560"/>
            </a:xfrm>
            <a:custGeom>
              <a:avLst/>
              <a:gdLst/>
              <a:ahLst/>
              <a:rect l="l" t="t" r="r" b="b"/>
              <a:pathLst>
                <a:path w="2269442" h="6866466">
                  <a:moveTo>
                    <a:pt x="2023534" y="0"/>
                  </a:moveTo>
                  <a:lnTo>
                    <a:pt x="0" y="6858000"/>
                  </a:lnTo>
                  <a:lnTo>
                    <a:pt x="2269067" y="6866466"/>
                  </a:lnTo>
                  <a:cubicBezTo>
                    <a:pt x="2271889" y="4580466"/>
                    <a:pt x="2257778" y="2294466"/>
                    <a:pt x="2260600" y="8466"/>
                  </a:cubicBezTo>
                  <a:lnTo>
                    <a:pt x="2023534" y="0"/>
                  </a:lnTo>
                  <a:close/>
                </a:path>
              </a:pathLst>
            </a:custGeom>
            <a:solidFill>
              <a:srgbClr val="90c226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Freeform 10"/>
            <p:cNvSpPr/>
            <p:nvPr/>
          </p:nvSpPr>
          <p:spPr>
            <a:xfrm>
              <a:off x="7205760" y="-7560"/>
              <a:ext cx="1947960" cy="6865560"/>
            </a:xfrm>
            <a:custGeom>
              <a:avLst/>
              <a:gdLst/>
              <a:ahLst/>
              <a:rect l="l" t="t" r="r" b="b"/>
              <a:pathLst>
                <a:path w="1948147" h="6866467">
                  <a:moveTo>
                    <a:pt x="0" y="0"/>
                  </a:moveTo>
                  <a:lnTo>
                    <a:pt x="1202267" y="6866467"/>
                  </a:lnTo>
                  <a:lnTo>
                    <a:pt x="1947333" y="6866467"/>
                  </a:lnTo>
                  <a:cubicBezTo>
                    <a:pt x="1944511" y="4577645"/>
                    <a:pt x="1950155" y="2288822"/>
                    <a:pt x="1947333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Freeform 11"/>
            <p:cNvSpPr/>
            <p:nvPr/>
          </p:nvSpPr>
          <p:spPr>
            <a:xfrm>
              <a:off x="6638400" y="3920040"/>
              <a:ext cx="2513520" cy="2937600"/>
            </a:xfrm>
            <a:custGeom>
              <a:avLst/>
              <a:gdLst/>
              <a:ahLst/>
              <a:rect l="l" t="t" r="r" b="b"/>
              <a:pathLst>
                <a:path w="3259667" h="3810000">
                  <a:moveTo>
                    <a:pt x="0" y="3810000"/>
                  </a:moveTo>
                  <a:lnTo>
                    <a:pt x="3251200" y="0"/>
                  </a:lnTo>
                  <a:cubicBezTo>
                    <a:pt x="3254022" y="1270000"/>
                    <a:pt x="3256845" y="2540000"/>
                    <a:pt x="3259667" y="3810000"/>
                  </a:cubicBezTo>
                  <a:lnTo>
                    <a:pt x="0" y="3810000"/>
                  </a:lnTo>
                  <a:close/>
                </a:path>
              </a:pathLst>
            </a:custGeom>
            <a:solidFill>
              <a:srgbClr val="54a021">
                <a:alpha val="72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Freeform 12"/>
            <p:cNvSpPr/>
            <p:nvPr/>
          </p:nvSpPr>
          <p:spPr>
            <a:xfrm>
              <a:off x="7011000" y="-7560"/>
              <a:ext cx="2142720" cy="6865560"/>
            </a:xfrm>
            <a:custGeom>
              <a:avLst/>
              <a:gdLst/>
              <a:ahLst/>
              <a:rect l="l" t="t" r="r" b="b"/>
              <a:pathLst>
                <a:path w="2853267" h="6866467">
                  <a:moveTo>
                    <a:pt x="0" y="0"/>
                  </a:moveTo>
                  <a:lnTo>
                    <a:pt x="2472267" y="6866467"/>
                  </a:lnTo>
                  <a:lnTo>
                    <a:pt x="2853267" y="6858000"/>
                  </a:lnTo>
                  <a:lnTo>
                    <a:pt x="2853267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7819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Freeform 13"/>
            <p:cNvSpPr/>
            <p:nvPr/>
          </p:nvSpPr>
          <p:spPr>
            <a:xfrm>
              <a:off x="8296200" y="-7560"/>
              <a:ext cx="857520" cy="6865560"/>
            </a:xfrm>
            <a:custGeom>
              <a:avLst/>
              <a:gdLst/>
              <a:ahLst/>
              <a:rect l="l" t="t" r="r" b="b"/>
              <a:pathLst>
                <a:path w="1286933" h="6866467">
                  <a:moveTo>
                    <a:pt x="1016000" y="0"/>
                  </a:moveTo>
                  <a:lnTo>
                    <a:pt x="0" y="6866467"/>
                  </a:lnTo>
                  <a:lnTo>
                    <a:pt x="1286933" y="6866467"/>
                  </a:lnTo>
                  <a:cubicBezTo>
                    <a:pt x="1284111" y="4577645"/>
                    <a:pt x="1281288" y="2288822"/>
                    <a:pt x="1278466" y="0"/>
                  </a:cubicBezTo>
                  <a:lnTo>
                    <a:pt x="1016000" y="0"/>
                  </a:lnTo>
                  <a:close/>
                </a:path>
              </a:pathLst>
            </a:custGeom>
            <a:solidFill>
              <a:srgbClr val="c0e474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Freeform 14"/>
            <p:cNvSpPr/>
            <p:nvPr/>
          </p:nvSpPr>
          <p:spPr>
            <a:xfrm>
              <a:off x="8077680" y="-7920"/>
              <a:ext cx="1066680" cy="6865560"/>
            </a:xfrm>
            <a:custGeom>
              <a:avLst/>
              <a:gdLst/>
              <a:ahLst/>
              <a:rect l="l" t="t" r="r" b="b"/>
              <a:pathLst>
                <a:path w="1270244" h="6866467">
                  <a:moveTo>
                    <a:pt x="0" y="0"/>
                  </a:moveTo>
                  <a:lnTo>
                    <a:pt x="1117600" y="6866467"/>
                  </a:lnTo>
                  <a:lnTo>
                    <a:pt x="1270000" y="6866467"/>
                  </a:lnTo>
                  <a:cubicBezTo>
                    <a:pt x="1272822" y="4574822"/>
                    <a:pt x="1250245" y="2291645"/>
                    <a:pt x="1253067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90c226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Freeform 15"/>
            <p:cNvSpPr/>
            <p:nvPr/>
          </p:nvSpPr>
          <p:spPr>
            <a:xfrm>
              <a:off x="8060760" y="4893480"/>
              <a:ext cx="1094040" cy="1963800"/>
            </a:xfrm>
            <a:custGeom>
              <a:avLst/>
              <a:gdLst/>
              <a:ahLst/>
              <a:rect l="l" t="t" r="r" b="b"/>
              <a:pathLst>
                <a:path w="1820333" h="3268133">
                  <a:moveTo>
                    <a:pt x="0" y="3268133"/>
                  </a:moveTo>
                  <a:lnTo>
                    <a:pt x="1811866" y="0"/>
                  </a:lnTo>
                  <a:cubicBezTo>
                    <a:pt x="1814688" y="1086555"/>
                    <a:pt x="1817511" y="2173111"/>
                    <a:pt x="1820333" y="3259666"/>
                  </a:cubicBezTo>
                  <a:lnTo>
                    <a:pt x="0" y="3268133"/>
                  </a:lnTo>
                  <a:close/>
                </a:path>
              </a:pathLst>
            </a:custGeom>
            <a:solidFill>
              <a:srgbClr val="90c226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9" name="TextBox 17"/>
          <p:cNvSpPr/>
          <p:nvPr/>
        </p:nvSpPr>
        <p:spPr>
          <a:xfrm>
            <a:off x="482760" y="790560"/>
            <a:ext cx="457200" cy="58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“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TextBox 18"/>
          <p:cNvSpPr/>
          <p:nvPr/>
        </p:nvSpPr>
        <p:spPr>
          <a:xfrm>
            <a:off x="6748560" y="2886120"/>
            <a:ext cx="45720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90c226"/>
                </a:solidFill>
                <a:latin typeface="Arial"/>
              </a:rPr>
              <a:t>”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90c226"/>
                </a:solidFill>
                <a:latin typeface="Trebuchet MS"/>
              </a:rPr>
              <a:t>Click to edit the title text format</a:t>
            </a:r>
            <a:endParaRPr b="0" lang="en-US" sz="36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1" marL="743040" indent="-2858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2" marL="11430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4" marL="2057400" indent="-2286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5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6" marL="2057400" indent="-228600">
              <a:spcBef>
                <a:spcPts val="1001"/>
              </a:spcBef>
              <a:buClr>
                <a:srgbClr val="ffffff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5405040" y="6041520"/>
            <a:ext cx="6843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609120" y="6041520"/>
            <a:ext cx="462276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444720" y="6041520"/>
            <a:ext cx="513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900" spc="-1" strike="noStrike">
                <a:solidFill>
                  <a:srgbClr val="90c22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3ACC98-2010-43BD-9B85-037CC4BA073B}" type="slidenum">
              <a:rPr b="0" lang="ru-RU" sz="900" spc="-1" strike="noStrike">
                <a:solidFill>
                  <a:srgbClr val="90c226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30400" y="2404800"/>
            <a:ext cx="5827680" cy="164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3600" spc="-1" strike="noStrike">
                <a:solidFill>
                  <a:srgbClr val="90c226"/>
                </a:solidFill>
                <a:latin typeface="Trebuchet MS"/>
              </a:rPr>
              <a:t>Деловые документы: заявление,  автобиография.                 </a:t>
            </a:r>
            <a:r>
              <a:rPr b="0" lang="ru-RU" sz="1800" spc="-1" strike="noStrike">
                <a:solidFill>
                  <a:srgbClr val="90c226"/>
                </a:solidFill>
                <a:latin typeface="Trebuchet MS"/>
              </a:rPr>
              <a:t>Урок русского языка.9класс</a:t>
            </a:r>
            <a:r>
              <a:rPr b="0" lang="ru-RU" sz="3200" spc="-1" strike="noStrike">
                <a:solidFill>
                  <a:srgbClr val="90c226"/>
                </a:solidFill>
                <a:latin typeface="Trebuchet MS"/>
              </a:rPr>
              <a:t>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1130400" y="4051080"/>
            <a:ext cx="5827680" cy="109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Учитель русского языка и литературы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Киселева Ирина Олеговна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МОУ «Семинская основная школа»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3. Заголовок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(заявление, доверенность, заявка, объяснительная записка, докладная и т.д.) Заголовок пишется с маленькой буквы, после него ставится точка</a:t>
            </a:r>
            <a:r>
              <a:rPr b="0" lang="ru-RU" sz="1800" spc="-1" strike="noStrike">
                <a:solidFill>
                  <a:srgbClr val="ffffff"/>
                </a:solidFill>
                <a:latin typeface="Trebuchet MS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Trebuchet MS"/>
              </a:rPr>
              <a:t>4.Текст документа </a:t>
            </a: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(просьба, объяснение, сообщение и т.д.)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39480" indent="-3394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5.Дата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лева)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6. Подпись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права)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7.Адрес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если не написан сверху после фамилии).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  <a:p>
            <a:pPr marL="329040" indent="-32904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8.Приложения </a:t>
            </a: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(справки, документ об образовании, автобиография). Иногда в документе подробно излагается просьба, её причины, указывается подробный список приложений.</a:t>
            </a:r>
            <a:endParaRPr b="0" lang="en-US" sz="17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nodeType="clickEffect" fill="hold">
                      <p:stCondLst>
                        <p:cond delay="indefinite"/>
                      </p:stCondLst>
                      <p:childTnLst>
                        <p:par>
                          <p:cTn id="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900" spc="-1" strike="noStrike">
                <a:solidFill>
                  <a:srgbClr val="90c226"/>
                </a:solidFill>
                <a:latin typeface="Trebuchet MS"/>
              </a:rPr>
              <a:t>Образец заявления:</a:t>
            </a:r>
            <a:endParaRPr b="0" lang="en-US" sz="49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5" name=""/>
          <p:cNvSpPr txBox="1"/>
          <p:nvPr/>
        </p:nvSpPr>
        <p:spPr>
          <a:xfrm>
            <a:off x="609120" y="1773360"/>
            <a:ext cx="634860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Руководителю театрального кружка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«Театральный калейдоскоп»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Киселевой Ирине Олеговне от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ученицы 9 класса Подоговой Дарьи,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проживающей по адресу д. Семино…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                 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ул. ….. Дом….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                       </a:t>
            </a: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заявление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Прошу  принять меня в кружок «Театральный калейдоскоп»  с 1.09.2017 года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200" spc="-1" strike="noStrike">
                <a:solidFill>
                  <a:srgbClr val="ffffff"/>
                </a:solidFill>
                <a:latin typeface="Trebuchet MS"/>
              </a:rPr>
              <a:t>1.09. 2017г.                                    Подогова .</a:t>
            </a:r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  <a:p>
            <a:pPr marL="272880" indent="-2728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rebuchet MS"/>
              </a:rPr>
              <a:t>       </a:t>
            </a:r>
            <a:endParaRPr b="0" lang="en-US" sz="1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nodeType="clickEffect" fill="hold">
                      <p:stCondLst>
                        <p:cond delay="indefinite"/>
                      </p:stCondLst>
                      <p:childTnLst>
                        <p:par>
                          <p:cTn id="2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3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хема автобиографии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Заголовок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Автобиография.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После заголовка в виде связного текста пишутся следующие данные: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ФИО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Я, Иванова Юлия Сергеевна,…)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Дата рождения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Родители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их полное имя, чем занимаются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Образование;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Начало трудовой деятельности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место работы, должность,последующие перемещения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Указать ( если имеются) </a:t>
            </a: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поощрения, награждения;</a:t>
            </a:r>
            <a:endParaRPr b="0" lang="en-US" sz="21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Дата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слева);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rebuchet MS"/>
              </a:rPr>
              <a:t>Подпись</a:t>
            </a:r>
            <a:r>
              <a:rPr b="0" lang="ru-RU" sz="13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1300" spc="-1" strike="noStrike">
                <a:solidFill>
                  <a:srgbClr val="ffffff"/>
                </a:solidFill>
                <a:latin typeface="Trebuchet MS"/>
              </a:rPr>
              <a:t>( справа).</a:t>
            </a: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  <a:p>
            <a:pPr marL="261720" indent="-26172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" charset="2"/>
              <a:buChar char="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3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nodeType="clickEffect" fill="hold">
                      <p:stCondLst>
                        <p:cond delay="indefinite"/>
                      </p:stCondLst>
                      <p:childTnLst>
                        <p:par>
                          <p:cTn id="3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nodeType="clickEffect" fill="hold">
                      <p:stCondLst>
                        <p:cond delay="indefinite"/>
                      </p:stCondLst>
                      <p:childTnLst>
                        <p:par>
                          <p:cTn id="3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2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nodeType="clickEffect" fill="hold">
                      <p:stCondLst>
                        <p:cond delay="indefinite"/>
                      </p:stCondLst>
                      <p:childTnLst>
                        <p:par>
                          <p:cTn id="3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23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23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2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Домашнее задание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Напишите автобиографию, используя эту схему.Обратите внимание на употребление обособленных приложений в этом виде деловых бумаг.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Итог урока: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Чему учились на уроке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Где пригодятся  эти знания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700" spc="-1" strike="noStrike">
                <a:solidFill>
                  <a:srgbClr val="ffffff"/>
                </a:solidFill>
                <a:latin typeface="Trebuchet MS"/>
              </a:rPr>
              <a:t>О чём надо помнить при составлении деловых бумаг?</a:t>
            </a:r>
            <a:endParaRPr b="0" lang="en-US" sz="37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4" dur="indefinite" restart="never" nodeType="tmRoot">
          <p:childTnLst>
            <p:seq>
              <p:cTn id="365" dur="indefinite" nodeType="mainSeq">
                <p:childTnLst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2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nodeType="clickEffect" fill="hold">
                      <p:stCondLst>
                        <p:cond delay="indefinite"/>
                      </p:stCondLst>
                      <p:childTnLst>
                        <p:par>
                          <p:cTn id="3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24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nodeType="clickEffect" fill="hold">
                      <p:stCondLst>
                        <p:cond delay="indefinite"/>
                      </p:stCondLst>
                      <p:childTnLst>
                        <p:par>
                          <p:cTn id="3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2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Цель: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овторить общие признаки официально-делового стиля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научить школьников пользоваться деловой речью в определённой обстановке, в определённой жизненной ситуации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привить умения и навыки составления деловых бумаг;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rebuchet MS"/>
              </a:rPr>
              <a:t>воспитывать социально значимую личность, свободно чувствующую в повседневной жизни: в сфере правовых отношений, служебных, производственных.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Деловые бумаги: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оверенность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распис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объявление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протокол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инструкци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заявление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докладна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заявка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втобиография;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rebuchet MS"/>
              </a:rPr>
              <a:t>акт  и т.д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2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2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2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2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200" spc="-1" strike="noStrike">
                <a:solidFill>
                  <a:srgbClr val="90c226"/>
                </a:solidFill>
                <a:latin typeface="Trebuchet MS"/>
              </a:rPr>
              <a:t>Стиль языка- это его разновидность.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rebuchet MS"/>
              </a:rPr>
              <a:t>Стили русского литературного языка.</a:t>
            </a:r>
            <a:endParaRPr b="0" lang="en-US" sz="3200" spc="-1" strike="noStrike">
              <a:solidFill>
                <a:srgbClr val="90c226"/>
              </a:solidFill>
              <a:latin typeface="Trebuchet MS"/>
            </a:endParaRPr>
          </a:p>
        </p:txBody>
      </p:sp>
      <p:pic>
        <p:nvPicPr>
          <p:cNvPr id="219" name="Содержимое 12" descr=""/>
          <p:cNvPicPr/>
          <p:nvPr/>
        </p:nvPicPr>
        <p:blipFill>
          <a:blip r:embed="rId1"/>
          <a:stretch/>
        </p:blipFill>
        <p:spPr>
          <a:xfrm>
            <a:off x="609480" y="2146320"/>
            <a:ext cx="6345360" cy="39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Основные черты официально-делового стил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точность, краткость, ясность излагаемого материала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тандартизованность(обилие устойчивых оборотов, использование глаголов в неопределённой форме и др.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стандартность расположения частей текста или реквизитов(обязательных составных частей делового письма)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отсутствие эмоциональности;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325800" indent="-3258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rebuchet MS"/>
              </a:rPr>
              <a:t>единая внешняя форма.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5400" spc="-1" strike="noStrike">
                <a:solidFill>
                  <a:srgbClr val="90c226"/>
                </a:solidFill>
                <a:latin typeface="Trebuchet MS"/>
              </a:rPr>
              <a:t>Упражнение.</a:t>
            </a:r>
            <a:endParaRPr b="0" lang="en-US" sz="54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Брякнуться, оксид, в связи с отъездом, завсегда, явка, родненький, гипотенуза, ангидрит, ввиду того, вынести постановление, любезнейший, с уважением к вам, считать недействительным, доверяю получить, обязуюсь вернуть по первому требованию, золотые рук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6000" spc="-1" strike="noStrike">
                <a:solidFill>
                  <a:srgbClr val="90c226"/>
                </a:solidFill>
                <a:latin typeface="Trebuchet MS"/>
              </a:rPr>
              <a:t>Проверка.</a:t>
            </a:r>
            <a:endParaRPr b="0" lang="en-US" sz="6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 связи с отъездом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явка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виду того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вынести постановление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считать недействительным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доверяю получить;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100" spc="-1" strike="noStrike">
                <a:solidFill>
                  <a:srgbClr val="ffffff"/>
                </a:solidFill>
                <a:latin typeface="Trebuchet MS"/>
              </a:rPr>
              <a:t>обязуюсь получить по первому требованию.</a:t>
            </a:r>
            <a:endParaRPr b="0" lang="en-US" sz="31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2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nodeType="clickEffect" fill="hold">
                      <p:stCondLst>
                        <p:cond delay="indefinite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nodeType="clickEffect" fill="hold">
                      <p:stCondLst>
                        <p:cond delay="indefinite"/>
                      </p:stCondLst>
                      <p:childTnLst>
                        <p:par>
                          <p:cTn id="1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nodeType="clickEffect" fill="hold">
                      <p:stCondLst>
                        <p:cond delay="indefinite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nodeType="clickEffect" fill="hold">
                      <p:stCondLst>
                        <p:cond delay="indefinite"/>
                      </p:stCondLst>
                      <p:childTnLst>
                        <p:par>
                          <p:cTn id="1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800" spc="-1" strike="noStrike">
                <a:solidFill>
                  <a:srgbClr val="90c226"/>
                </a:solidFill>
                <a:latin typeface="Trebuchet MS"/>
              </a:rPr>
              <a:t>Словарная работа.</a:t>
            </a:r>
            <a:endParaRPr b="0" lang="en-US" sz="48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Заявление- 1) официальное сообщение в устной или письменной форме. Сделать заявление для печати. 2) письменная просьба о чём- нибудь. Написать заявление об отпуске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Trebuchet MS"/>
              </a:rPr>
              <a:t>Автобиография – описание своей жизни.</a:t>
            </a:r>
            <a:endParaRPr b="0" lang="en-US" sz="3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8" dur="indefinite" restart="never" nodeType="tmRoot">
          <p:childTnLst>
            <p:seq>
              <p:cTn id="179" dur="indefinite" nodeType="mainSeq">
                <p:childTnLst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120" y="609120"/>
            <a:ext cx="634860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4000" spc="-1" strike="noStrike">
                <a:solidFill>
                  <a:srgbClr val="90c226"/>
                </a:solidFill>
                <a:latin typeface="Trebuchet MS"/>
              </a:rPr>
              <a:t>Составные части заявления:</a:t>
            </a:r>
            <a:endParaRPr b="0" lang="en-US" sz="4000" spc="-1" strike="noStrike">
              <a:solidFill>
                <a:srgbClr val="90c226"/>
              </a:solidFill>
              <a:latin typeface="Trebuchet MS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609120" y="2160360"/>
            <a:ext cx="6348600" cy="38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1700" spc="-1" strike="noStrike">
                <a:solidFill>
                  <a:srgbClr val="ffffff"/>
                </a:solidFill>
                <a:latin typeface="Trebuchet MS"/>
              </a:rPr>
              <a:t>1</a:t>
            </a: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.Кому</a:t>
            </a:r>
            <a:r>
              <a:rPr b="0" lang="ru-RU" sz="1700" spc="-1" strike="noStrike">
                <a:solidFill>
                  <a:srgbClr val="ffffff"/>
                </a:solidFill>
                <a:latin typeface="Trebuchet MS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(название учреждения или должностного лица с указанием ФИО в Дат.п., а также должности).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  <a:p>
            <a:pPr marL="332640" indent="-332640">
              <a:lnSpc>
                <a:spcPct val="90000"/>
              </a:lnSpc>
              <a:spcBef>
                <a:spcPts val="1001"/>
              </a:spcBef>
              <a:buClr>
                <a:srgbClr val="90c226"/>
              </a:buClr>
              <a:buSzPct val="80000"/>
              <a:buFont typeface="Wingdings 3" charset="2"/>
              <a:buChar char="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2</a:t>
            </a:r>
            <a:r>
              <a:rPr b="1" lang="ru-RU" sz="4400" spc="-1" strike="noStrike">
                <a:solidFill>
                  <a:srgbClr val="ffffff"/>
                </a:solidFill>
                <a:latin typeface="Trebuchet MS"/>
              </a:rPr>
              <a:t>. От кого </a:t>
            </a:r>
            <a:r>
              <a:rPr b="1" lang="ru-RU" sz="2600" spc="-1" strike="noStrike">
                <a:solidFill>
                  <a:srgbClr val="ffffff"/>
                </a:solidFill>
                <a:latin typeface="Trebuchet MS"/>
              </a:rPr>
              <a:t>(ФИО в Род. п., а также должность и адрес.Предлог «от» желательно не употреблять.)</a:t>
            </a:r>
            <a:endParaRPr b="0" lang="en-US" sz="2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2" dur="indefinite" restart="never" nodeType="tmRoot">
          <p:childTnLst>
            <p:seq>
              <p:cTn id="193" dur="indefinite" nodeType="mainSeq">
                <p:childTnLst>
                  <p:par>
                    <p:cTn id="194" nodeType="clickEffect" fill="hold">
                      <p:stCondLst>
                        <p:cond delay="indefinite"/>
                      </p:stCondLst>
                      <p:childTnLst>
                        <p:par>
                          <p:cTn id="1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nodeType="clickEffect" fill="hold">
                      <p:stCondLst>
                        <p:cond delay="indefinite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13T07:03:19Z</dcterms:created>
  <dc:creator>Ирина</dc:creator>
  <dc:description/>
  <dc:language>en-US</dc:language>
  <cp:lastModifiedBy>1</cp:lastModifiedBy>
  <dcterms:modified xsi:type="dcterms:W3CDTF">2017-01-27T11:48:10Z</dcterms:modified>
  <cp:revision>26</cp:revision>
  <dc:subject/>
  <dc:title>Деловые документы: заявление,  автобиография.                 Урок русского языка.9класс.</dc:title>
</cp:coreProperties>
</file>