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0535B-93F1-496C-B53B-32D0F1933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8CC8-57EC-492C-AB2D-9B36CAE7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D86-5528-4823-87E8-12947D2B3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A19D-597F-4757-B76F-FD9E85F4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B3B0-1229-4217-8232-1746A405D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DCF13-2017-4B3C-B876-9AB13D5C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51F7C-F23D-448D-8810-E2A1C7163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84B93-A03B-44E4-BDEE-D39F6369B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8BB4F-89E3-488E-AAAF-CA09926DB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0D4EC-A684-44D3-9BA9-993D3039B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BFCE-632E-4444-A347-9AA8E50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4CB90-74A2-4683-BB27-0FA5B9E1D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1CFB-0C3E-4086-BB08-A2E1E52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43C20-5339-4217-88BE-4F7EFE8F3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2905B-4BCE-4092-BA2E-A51C5278F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21F2F-19EB-4B68-97AE-A2E138D7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0F571-F410-4899-9F62-DA2B50035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C8DBE-317C-4636-80C8-78FC402CD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9FC4-521A-4278-9234-AB8524F5F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C679E-D6E7-4D26-B51B-EAD44AF7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04157-A982-4E6A-8749-CF5FDF940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19BC6-A667-4FC8-A4AB-F999FF6C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969C-2524-4B4B-BE07-65473CE73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1E7E6-120C-4CED-A5CE-5685E4B1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424BA-A1A8-4C3D-96BE-EA81DDD6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7E36CA-2F09-472C-BEF1-9EB954FE6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29B94-D9FE-4360-AA86-8AD50A51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6EB59-3385-4149-BCA4-5DBB05E6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D3F72-FCC2-4D45-B0C7-BF04DB2B3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2FBC0-E874-4577-A3B4-AFB80E1C5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B0794-207C-40C6-8163-28700501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7FA7DF-88BB-44F1-87C3-9EE061E9A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8AE8F-942A-43F3-B054-C36A3660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D6AE9-B37C-4569-A880-6FECEEDDB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68C84-1D65-4435-88DE-9B87FA83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CFC93-B3A3-42BF-B28A-E234F91DA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40F02A-0CC7-418B-A109-99E96CD2A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08F740-B86D-45AF-9511-E8537478C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C79F30-E212-4E3C-9949-4A92FA8D7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3D4E1-6FC1-449E-B2AF-AE5C1635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42F177-AF2B-4043-9294-3B5AFC72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80008-599B-4805-A642-ADC3FC1B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1105-A294-4281-879C-A4C03C3EC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94B2-D73C-4F35-843E-626986E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1DDD-8B1C-4B82-A037-65A44BD26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A05-4C28-483D-8F1F-6F530956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71ED-9B9E-40C6-972B-100A4A62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63D7-798A-40C9-8691-032DB1D07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5C72-6BE7-41E1-934C-779C37200634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EA4D7-B345-48E3-992C-4D1273D9F883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6C6A5-988E-456F-ABBD-6DA6DE96378A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AD2EC-BE21-4DC4-B0E2-7E6DFE5BD5A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ловые документы: заявление,  автобиография.                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Урок русского языка.9класс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иселева Ирина Олеговн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ОУ «Семинская основная школ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3. Заголовок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(заявление, доверенность, заявка, объяснительная записка, докладная и т.д.) Заголовок пишется с маленькой буквы, после него ставится точка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4.Текст документа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(просьба, объяснение, сообщение и т.д.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5.Дата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лева)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6. Подпись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права)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7.Адрес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если не написан сверху после фамилии).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8.Приложения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правки, документ об образовании, автобиография). Иногда в документе подробно излагается просьба, её причины, указывается подробный список приложений.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90c226"/>
                </a:solidFill>
                <a:latin typeface="Trebuchet MS"/>
              </a:rPr>
              <a:t>Образец заявления: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177336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Руководителю театрального кружка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«Театральный калейдоскоп»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Киселевой Ирине Олеговне от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ученицы 9 класса Подоговой Дарьи,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проживающей по адресу д. Семино…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ул. ….. Дом….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заявление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Прошу  принять меня в кружок «Театральный калейдоскоп»  с 1.09.2017 года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1.09. 2017г.                                    Подогова 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хема автобиографии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Заголовок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Автобиография.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После заголовка в виде связного текста пишутся следующие данные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ФИО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Я, Иванова Юлия Сергеевна,…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Дата рождения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Родители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их полное имя, чем занимаются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Образование;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Начало трудовой деятельности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место работы, должность,последующие перемещения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Указать ( если имеются) </a:t>
            </a: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поощрения, награждения;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Дата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слева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Подпись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справа)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Напишите автобиографию, используя эту схему.Обратите внимание на употребление обособленных приложений в этом виде деловых бумаг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Итог урока: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Чему учились на уроке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Где пригодятся  эти знания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О чём надо помнить при составлении деловых бумаг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овторить общие признаки официально-делового стиля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аучить школьников пользоваться деловой речью в определённой обстановке, в определённой жизненной ситуа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ривить умения и навыки составления деловых бумаг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воспитывать социально значимую личность, свободно чувствующую в повседневной жизни: в сфере правовых отношений, служебных, производственных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Деловые бумаги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оверенность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распис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бъявление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отокол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инструкци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заявление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окладна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заяв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втобиографи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кт  и т.д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Стиль языка- это его разновидность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тили русского литературного языка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Содержимое 12" descr=""/>
          <p:cNvPicPr/>
          <p:nvPr/>
        </p:nvPicPr>
        <p:blipFill>
          <a:blip r:embed="rId1"/>
          <a:stretch/>
        </p:blipFill>
        <p:spPr>
          <a:xfrm>
            <a:off x="609480" y="2146320"/>
            <a:ext cx="6345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Основные черты официально-делового стил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точность, краткость, ясность излагаемого материала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тандартизованность(обилие устойчивых оборотов, использование глаголов в неопределённой форме и др.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тандартность расположения частей текста или реквизитов(обязательных составных частей делового письма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тсутствие эмоциональност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единая внешняя форм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Упражнение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Брякнуться, оксид, в связи с отъездом, завсегда, явка, родненький, гипотенуза, ангидрит, ввиду того, вынести постановление, любезнейший, с уважением к вам, считать недействительным, доверяю получить, обязуюсь вернуть по первому требованию, золотые рук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Проверка.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 связи с отъездом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явка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виду того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ынести постановление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считать недействительным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доверяю получить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обязуюсь получить по первому требованию.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90c226"/>
                </a:solidFill>
                <a:latin typeface="Trebuchet MS"/>
              </a:rPr>
              <a:t>Словарная работа.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Заявление- 1) официальное сообщение в устной или письменной форме. Сделать заявление для печати. 2) письменная просьба о чём- нибудь. Написать заявление об отпуск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Автобиография – описание своей жизн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.Кому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(название учреждения или должностного лица с указанием ФИО в Дат.п., а также должности)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. От кого </a:t>
            </a: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(ФИО в Род. п., а также должность и адрес.Предлог «от» желательно не употреблять.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7:03:19Z</dcterms:created>
  <dc:creator>Ирина</dc:creator>
  <dc:description/>
  <dc:language>en-US</dc:language>
  <cp:lastModifiedBy>1</cp:lastModifiedBy>
  <dcterms:modified xsi:type="dcterms:W3CDTF">2017-01-27T11:48:10Z</dcterms:modified>
  <cp:revision>26</cp:revision>
  <dc:subject/>
  <dc:title>Деловые документы: заявление,  автобиография.                 Урок русского языка.9класс.</dc:title>
</cp:coreProperties>
</file>