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6A29-D0A6-410D-BD6B-C697A5159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5A64-550E-4C44-85CF-B05AE1374C1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942-7FEC-48A0-819E-13563E13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5C7-F143-4E80-82D9-17003424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ADB-1E0D-4524-A13C-402E4841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469-005B-4132-A0C9-9676AB7F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236-32D3-4A10-B54A-235EC971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75B-89B3-416F-86EE-ADE1078D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29E-0737-40D8-A691-2B8CA573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C8B-8F45-4A68-AAD8-4182D297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455-DEC5-44C8-BE16-E925565B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2AF-D65E-4C9D-85F4-B9AD2023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385-44BA-417C-AD1E-F606C1C9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797-8635-456A-8F79-0D2DD5F1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7424-154B-4C0D-A1DD-F0D43B71E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Мои документы\Мои рисунки\предлог урок\e2b4d9581651t.jpg"/>
          <p:cNvPicPr/>
          <p:nvPr/>
        </p:nvPicPr>
        <p:blipFill>
          <a:blip r:embed="rId1"/>
          <a:srcRect l="11426" t="12028" r="11426" b="9773"/>
          <a:stretch/>
        </p:blipFill>
        <p:spPr>
          <a:xfrm>
            <a:off x="3500280" y="2786040"/>
            <a:ext cx="1928880" cy="18572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0" y="620640"/>
            <a:ext cx="9393120" cy="2219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221472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214200" y="27147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Admin\Мои документы\Мои рисунки\Организатор клипов (Microsoft)\j0436872.png"/>
          <p:cNvPicPr/>
          <p:nvPr/>
        </p:nvPicPr>
        <p:blipFill>
          <a:blip r:embed="rId5"/>
          <a:stretch/>
        </p:blipFill>
        <p:spPr>
          <a:xfrm>
            <a:off x="6643800" y="2500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Documents and Settings\Admin\Мои документы\Мои рисунки\Организатор клипов (Microsoft)\j0436872.png"/>
          <p:cNvPicPr/>
          <p:nvPr/>
        </p:nvPicPr>
        <p:blipFill>
          <a:blip r:embed="rId6"/>
          <a:stretch/>
        </p:blipFill>
        <p:spPr>
          <a:xfrm>
            <a:off x="5429160" y="49291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1"/>
          <a:stretch/>
        </p:blipFill>
        <p:spPr>
          <a:xfrm>
            <a:off x="0" y="55008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2"/>
          <a:stretch/>
        </p:blipFill>
        <p:spPr>
          <a:xfrm>
            <a:off x="7929720" y="563868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8072280" y="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0" y="35712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Admin\Мои документы\Мои рисунки\предлог урок\e2b4d9581651t.jpg"/>
          <p:cNvPicPr/>
          <p:nvPr/>
        </p:nvPicPr>
        <p:blipFill>
          <a:blip r:embed="rId5"/>
          <a:srcRect l="11426" t="12028" r="11426" b="9773"/>
          <a:stretch/>
        </p:blipFill>
        <p:spPr>
          <a:xfrm>
            <a:off x="285840" y="630360"/>
            <a:ext cx="114300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81198 -7.40741E-007 L 0.81198 0.7206 L -4.44444E-006 0.7206 L -4.44444E-006 -7.40741E-007 Z">
                                      <p:cBhvr>
                                        <p:cTn id="12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81198 -7.40741E-007 L 0.81198 0.7206 L -4.44444E-006 0.7206 L -4.44444E-006 -7.40741E-007 Z">
                                      <p:cBhvr>
                                        <p:cTn id="15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-4.44444E-006 0.7206 L 0.81112 -7.40741E-007 L -4.44444E-006 -7.40741E-007 Z">
                                      <p:cBhvr>
                                        <p:cTn id="18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41 -0.0463 C 0.34219 -0.20069 0.58837 -0.14907 0.68941 0.07593 C 0.79046 0.28843 0.73039 0.59144 0.53369 0.74167 C 0.35469 0.88588 0.12483 0.85718 0.03264 0.65671 C -0.04947 0.47222 -0.00398999999999999 0.21296 0.16441 0.08125 C 0.31771 -0.04005 0.5132 -0.01875 0.59306 0.14977 C 0.66476 0.30741 0.62674 0.52639 0.48507 0.63495 C 0.35851 0.7338 0.19428 0.72245 0.13282 0.58032 C 0.07257 0.4544 0.09948 0.27894 0.21355 0.18773 C 0.31667 0.10972 0.44705 0.1132 0.49619 0.22454 C 0.54115 0.32107 0.52344 0.45995 0.43681 0.52801 C 0.36146 0.58704 0.26702 0.58519 0.22848 0.50602 C 0.19636 0.44097 0.20261 0.34421 0.2625 0.29884 C 0.31042 0.2588 0.37379 0.2507 0.39966 0.29838 C 0.4158 0.34051 0.41928 0.39074 0.3882 0.4206 C 0.36702 0.43912 0.34254 0.44676 0.32605 0.43171 C 0.31858 0.42431 0.3158 0.4169 0.31511 0.4044 E">
                                      <p:cBhvr>
                                        <p:cTn id="21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37338 C -0.01475 0.12685 0.14358 -0.08657 0.35608 -0.10093 C 0.55903 -0.11944 0.74896 0.0456 0.76164 0.28519 C 0.77761 0.50556 0.64428 0.71181 0.454 0.72639 C 0.28004 0.7375 0.11494 0.60116 0.10244 0.3956 C 0.08976 0.20787 0.20087 0.03102 0.36216 0.01644 C 0.51112 0.00556 0.65105 0.11968 0.66025 0.29236 C 0.66962 0.44676 0.58108 0.59745 0.44792 0.60509 C 0.32744 0.61597 0.21355 0.52778 0.20365 0.38796 C 0.19757 0.26273 0.26407 0.14167 0.36875 0.13449 C 0.46059 0.12685 0.55244 0.19329 0.55903 0.29977 C 0.56511 0.3919 0.51789 0.48009 0.44132 0.4875 C 0.37796 0.49445 0.31146 0.4544 0.30816 0.38079 C 0.30209 0.32153 0.32744 0.25903 0.37466 0.25185 C 0.4132 0.25185 0.45122 0.26667 0.4573 0.30671 C 0.46059 0.3331 0.454 0.35857 0.43525 0.36945 C 0.42587 0.37338 0.41928 0.37338 0.4099 0.36945 E">
                                      <p:cBhvr>
                                        <p:cTn id="24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Admin\Мои документы\Мои рисунки\Организатор клипов (Microsoft)\j0436872.png"/>
          <p:cNvPicPr/>
          <p:nvPr/>
        </p:nvPicPr>
        <p:blipFill>
          <a:blip r:embed="rId1"/>
          <a:stretch/>
        </p:blipFill>
        <p:spPr>
          <a:xfrm>
            <a:off x="1071720" y="52149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2"/>
          <a:stretch/>
        </p:blipFill>
        <p:spPr>
          <a:xfrm>
            <a:off x="428760" y="27147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Admin\Мои документы\Мои рисунки\Организатор клипов (Microsoft)\j0436872.png"/>
          <p:cNvPicPr/>
          <p:nvPr/>
        </p:nvPicPr>
        <p:blipFill>
          <a:blip r:embed="rId3"/>
          <a:stretch/>
        </p:blipFill>
        <p:spPr>
          <a:xfrm>
            <a:off x="7429680" y="26431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Admin\Мои документы\Мои рисунки\Организатор клипов (Microsoft)\j0436872.png"/>
          <p:cNvPicPr/>
          <p:nvPr/>
        </p:nvPicPr>
        <p:blipFill>
          <a:blip r:embed="rId4"/>
          <a:stretch/>
        </p:blipFill>
        <p:spPr>
          <a:xfrm>
            <a:off x="6072120" y="51436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5"/>
          <a:stretch/>
        </p:blipFill>
        <p:spPr>
          <a:xfrm>
            <a:off x="1857240" y="214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Admin\Мои документы\Мои рисунки\Организатор клипов (Microsoft)\j0436872.png"/>
          <p:cNvPicPr/>
          <p:nvPr/>
        </p:nvPicPr>
        <p:blipFill>
          <a:blip r:embed="rId6"/>
          <a:stretch/>
        </p:blipFill>
        <p:spPr>
          <a:xfrm>
            <a:off x="614376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Admin\Мои документы\Мои рисунки\предлог урок\e2b4d9581651t.jpg"/>
          <p:cNvPicPr/>
          <p:nvPr/>
        </p:nvPicPr>
        <p:blipFill>
          <a:blip r:embed="rId7"/>
          <a:srcRect l="11426" t="12028" r="11426" b="9773"/>
          <a:stretch/>
        </p:blipFill>
        <p:spPr>
          <a:xfrm>
            <a:off x="3929040" y="2700360"/>
            <a:ext cx="1357200" cy="13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8.51852E-006 L -0.14966 -0.26251 E">
                                      <p:cBhvr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6 -0.26251 L 3.88889E-006 -0.01065 E">
                                      <p:cBhvr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9.62963E-006 L -0.27553 -9.62963E-006 E">
                                      <p:cBhvr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with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53 -1.48148E-006 L 0.00018 0.01064 E">
                                      <p:cBhvr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2963E-006 L -0.2047 0.24143 E">
                                      <p:cBhvr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47 0.24144 L -0.01581 0.02106 E">
                                      <p:cBhvr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6.2963E-006 L 0.15747 0.22059 E">
                                      <p:cBhvr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7 0.2206 L 0.01563 0.00022 E">
                                      <p:cBhvr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0.2441 -0.01042 E">
                                      <p:cBhvr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41 -0.01042 L 0.00782 0.01064 E">
                                      <p:cBhvr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14815E-006 L 0.17327 -0.30464 E">
                                      <p:cBhvr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27 -0.30463 L 0.0158 -0.02107 E">
                                      <p:cBhvr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6:37:02Z</dcterms:created>
  <dc:creator>Иринка</dc:creator>
  <dc:description/>
  <dc:language>en-US</dc:language>
  <cp:lastModifiedBy>Иринка</cp:lastModifiedBy>
  <dcterms:modified xsi:type="dcterms:W3CDTF">2012-03-14T17:13:10Z</dcterms:modified>
  <cp:revision>3</cp:revision>
  <dc:subject/>
  <dc:title>Слайд 1</dc:title>
</cp:coreProperties>
</file>