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A55D-EE16-41EC-BD42-A8019075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FDF6-48A4-460F-A6A5-F0520FC1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EAB-2B66-44F3-BA9A-9AC7ECE2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A72-7238-4A33-B5D5-6A2B79B1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B36F-BD0F-4030-BCDA-76ED97DD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E27A-A50E-4E21-B317-1F9BC75A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FD7C-8064-4AFF-80D8-EF6375CF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ECEE-CF9B-4B83-ACD1-D4B20AD5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3DFE-9945-45A7-9499-A3F1EDD7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6562-BE0C-4454-96CA-1330B105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B260-FC29-45BF-BA6F-6AB882A1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1C6-A5BD-481E-8581-7AFFBC14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3DF0-8C85-4BE3-80E3-6E7C67CB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C06F-8939-4893-A93C-AF8EC896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7F97-CF89-4876-AA4B-92BB58A4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BD1C-6070-4BA0-A510-2A9F3AFF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1989-CAF5-461A-819C-6AC52B12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DE2-7FFF-486B-91C8-CC1833D7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9D9-8619-4C1E-B888-632357BE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428-2DDD-403D-8F52-CCBD7B78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19B-1CD1-47FB-9E21-988E474D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31FD-2A9B-4BD3-94E1-6C48094A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270-023E-44EA-8E94-AF130AD7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C71-4573-4470-8978-0D03A57B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29A5-709C-47E9-A127-E7F386383D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1C99-3D0C-49DE-A499-2C1A390588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pedsovet.su/" TargetMode="External"/><Relationship Id="rId5" Type="http://schemas.openxmlformats.org/officeDocument/2006/relationships/hyperlink" Target="http://pedsovet.su/" TargetMode="External"/><Relationship Id="rId6" Type="http://schemas.openxmlformats.org/officeDocument/2006/relationships/hyperlink" Target="http://pedsovet.su/" TargetMode="External"/><Relationship Id="rId7" Type="http://schemas.openxmlformats.org/officeDocument/2006/relationships/hyperlink" Target="http://pedsovet.su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000" y="2492280"/>
            <a:ext cx="640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12 год — великий год России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Отечества достойные сыны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асилий Верещагин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7283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удожник-бата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и по запросу Василий Верещагин «В штыки! Ура! Ура! (Атака)»."/>
          <p:cNvPicPr/>
          <p:nvPr/>
        </p:nvPicPr>
        <p:blipFill>
          <a:blip r:embed="rId2"/>
          <a:stretch/>
        </p:blipFill>
        <p:spPr>
          <a:xfrm>
            <a:off x="2340000" y="2133720"/>
            <a:ext cx="2644920" cy="3671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В штыки Ура Ура (Атака). 1887-1895. Василий Васильевич Верещагин"/>
          <p:cNvPicPr/>
          <p:nvPr/>
        </p:nvPicPr>
        <p:blipFill>
          <a:blip r:embed="rId3"/>
          <a:stretch/>
        </p:blipFill>
        <p:spPr>
          <a:xfrm>
            <a:off x="5508720" y="2060640"/>
            <a:ext cx="2923920" cy="4006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пожар"/>
          <p:cNvPicPr/>
          <p:nvPr/>
        </p:nvPicPr>
        <p:blipFill>
          <a:blip r:embed="rId4"/>
          <a:stretch/>
        </p:blipFill>
        <p:spPr>
          <a:xfrm>
            <a:off x="5435640" y="2060640"/>
            <a:ext cx="3078000" cy="3959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отступление"/>
          <p:cNvPicPr/>
          <p:nvPr/>
        </p:nvPicPr>
        <p:blipFill>
          <a:blip r:embed="rId5"/>
          <a:stretch/>
        </p:blipFill>
        <p:spPr>
          <a:xfrm>
            <a:off x="2340000" y="1989000"/>
            <a:ext cx="611964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ины русской и французской арм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Похожее изображение"/>
          <p:cNvPicPr/>
          <p:nvPr/>
        </p:nvPicPr>
        <p:blipFill>
          <a:blip r:embed="rId2"/>
          <a:stretch/>
        </p:blipFill>
        <p:spPr>
          <a:xfrm>
            <a:off x="3564000" y="1557360"/>
            <a:ext cx="1387440" cy="4030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Похожее изображение"/>
          <p:cNvPicPr/>
          <p:nvPr/>
        </p:nvPicPr>
        <p:blipFill>
          <a:blip r:embed="rId3"/>
          <a:stretch/>
        </p:blipFill>
        <p:spPr>
          <a:xfrm>
            <a:off x="5435640" y="1628640"/>
            <a:ext cx="2971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64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чник шаблон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инина Светлана Александровн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муниципального образовательного учреждения средней общеобразовательной школы №43 г. Волгогр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йт: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edsovet.s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http://pedsovet.su/load/396-1-0-4320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шабл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12-20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23640" y="1341360"/>
            <a:ext cx="633564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июня 1812 года  –начало войны между Россией и Франци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Картинки по запросу 12 июня 1812 карта"/>
          <p:cNvPicPr/>
          <p:nvPr/>
        </p:nvPicPr>
        <p:blipFill>
          <a:blip r:embed="rId3"/>
          <a:stretch/>
        </p:blipFill>
        <p:spPr>
          <a:xfrm>
            <a:off x="3995640" y="2492280"/>
            <a:ext cx="431964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родинское сражение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 августа (7 сентября) 1812 го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Нажмите на изображение, чтобы его закрыть."/>
          <p:cNvPicPr/>
          <p:nvPr/>
        </p:nvPicPr>
        <p:blipFill>
          <a:blip r:embed="rId2"/>
          <a:stretch/>
        </p:blipFill>
        <p:spPr>
          <a:xfrm>
            <a:off x="3132000" y="1557360"/>
            <a:ext cx="525492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. В. Верещагин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«Наполеон I Бонапарт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бородинских высотах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788840"/>
            <a:ext cx="806436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568944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. Г. Шевченко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И вот нашли большое поле...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71640" y="1628640"/>
            <a:ext cx="568800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.Г.Шевченко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Забил снаряд я в пушку туго...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Вернуться"/>
          <p:cNvPicPr/>
          <p:nvPr/>
        </p:nvPicPr>
        <p:blipFill>
          <a:blip r:embed="rId2"/>
          <a:stretch/>
        </p:blipFill>
        <p:spPr>
          <a:xfrm>
            <a:off x="4500720" y="1268280"/>
            <a:ext cx="36795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. Г. Шевченко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Сверкнул за строем строй.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Картинки по запросу В. Г. Шевченко «Сверкнул за строем строй...»"/>
          <p:cNvPicPr/>
          <p:nvPr/>
        </p:nvPicPr>
        <p:blipFill>
          <a:blip r:embed="rId2"/>
          <a:stretch/>
        </p:blipFill>
        <p:spPr>
          <a:xfrm>
            <a:off x="2771640" y="1628640"/>
            <a:ext cx="56880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. Г. Шевченко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«Уж мы пойдем ломить стеною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Картинки по запросу . В. Г. Шевченко «Уж мы пойдем ломить стеною»"/>
          <p:cNvPicPr/>
          <p:nvPr/>
        </p:nvPicPr>
        <p:blipFill>
          <a:blip r:embed="rId2"/>
          <a:stretch/>
        </p:blipFill>
        <p:spPr>
          <a:xfrm>
            <a:off x="2556000" y="1413000"/>
            <a:ext cx="59054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тальный жан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16000" y="1413000"/>
            <a:ext cx="5770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т фр. bataille — битва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нр изобразительного искусства, посвященный тема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йны и военной жиз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Главное место в батальном жанре занимают сцены сухопутных, морски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аж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военн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ход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2:33:24Z</dcterms:created>
  <dc:creator>Agent</dc:creator>
  <dc:description/>
  <dc:language>en-US</dc:language>
  <cp:lastModifiedBy>Agent</cp:lastModifiedBy>
  <dcterms:modified xsi:type="dcterms:W3CDTF">2017-02-05T15:13:42Z</dcterms:modified>
  <cp:revision>3</cp:revision>
  <dc:subject/>
  <dc:title>1812 год — великий год России. «Отечества достойные сыны».</dc:title>
</cp:coreProperties>
</file>