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1B1-028B-49FC-9D51-172C0307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FEF-ED9C-4BD4-B713-4D5F52CB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99A-C3CA-4442-BB94-35983D7E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C62-633E-46D8-A030-C75D1AC8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1FE1-48B3-4DAD-8B6F-1418C1ED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7D5E-EF94-4E40-8A51-1243A3CC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9128-7C65-426D-863A-280A2081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2909-F50E-4C66-AF5B-126E288A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9291-148B-4490-8E4A-E6E81FA9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DA8E-91F8-4294-A48F-B58C28E0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6649-3570-4009-8841-9C8060CE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FFC-C9DA-47EC-81DF-0811F384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BEB7-DAF8-4FA1-BD4F-2BF66B81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EC7F-50B9-46F5-9148-25BB918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1663-AF40-4793-AA63-B4795879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F3DA-B41F-46F2-86E4-E707EBE5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77F4-E6CB-488C-9DA6-58784D9C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E2D-E3A7-4319-B861-07253EDD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229-D36A-44A2-B536-95F0FA84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E59-C75B-4761-8290-DE8C72ED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B59-1E6D-4E3C-9DBC-7A5A2491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1AE-F102-41E2-A89C-A2FCEC3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554-3873-477E-83F4-878250F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F8B-777F-4C32-874B-E6091E26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CCDC-2778-4EBF-904B-894DD0A1D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5A34-97BE-4CE8-AA82-E03A5E9E2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pedsovet.su/" TargetMode="External"/><Relationship Id="rId5" Type="http://schemas.openxmlformats.org/officeDocument/2006/relationships/hyperlink" Target="http://pedsovet.su/" TargetMode="External"/><Relationship Id="rId6" Type="http://schemas.openxmlformats.org/officeDocument/2006/relationships/hyperlink" Target="http://pedsovet.su/" TargetMode="External"/><Relationship Id="rId7" Type="http://schemas.openxmlformats.org/officeDocument/2006/relationships/hyperlink" Target="http://pedsovet.su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000" y="2492280"/>
            <a:ext cx="640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12 год — великий год России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Отечества достойные сыны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асилий Верещагин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283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удожник-бата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и по запросу Василий Верещагин «В штыки! Ура! Ура! (Атака)»."/>
          <p:cNvPicPr/>
          <p:nvPr/>
        </p:nvPicPr>
        <p:blipFill>
          <a:blip r:embed="rId2"/>
          <a:stretch/>
        </p:blipFill>
        <p:spPr>
          <a:xfrm>
            <a:off x="2340000" y="2133720"/>
            <a:ext cx="2644920" cy="367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В штыки Ура Ура (Атака). 1887-1895. Василий Васильевич Верещагин"/>
          <p:cNvPicPr/>
          <p:nvPr/>
        </p:nvPicPr>
        <p:blipFill>
          <a:blip r:embed="rId3"/>
          <a:stretch/>
        </p:blipFill>
        <p:spPr>
          <a:xfrm>
            <a:off x="5508720" y="2060640"/>
            <a:ext cx="2923920" cy="4006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пожар"/>
          <p:cNvPicPr/>
          <p:nvPr/>
        </p:nvPicPr>
        <p:blipFill>
          <a:blip r:embed="rId4"/>
          <a:stretch/>
        </p:blipFill>
        <p:spPr>
          <a:xfrm>
            <a:off x="5435640" y="2060640"/>
            <a:ext cx="3078000" cy="395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отступление"/>
          <p:cNvPicPr/>
          <p:nvPr/>
        </p:nvPicPr>
        <p:blipFill>
          <a:blip r:embed="rId5"/>
          <a:stretch/>
        </p:blipFill>
        <p:spPr>
          <a:xfrm>
            <a:off x="2340000" y="1989000"/>
            <a:ext cx="61196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ины русской и французской арм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3564000" y="1557360"/>
            <a:ext cx="1387440" cy="403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Похожее изображение"/>
          <p:cNvPicPr/>
          <p:nvPr/>
        </p:nvPicPr>
        <p:blipFill>
          <a:blip r:embed="rId3"/>
          <a:stretch/>
        </p:blipFill>
        <p:spPr>
          <a:xfrm>
            <a:off x="5435640" y="162864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чник шаблон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инина Светлана Александро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униципального образовательного учреждения средней общеобразовательной школы №43 г. Волгогр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йт: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edsovet.s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pedsovet.su/load/396-1-0-4320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12-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23640" y="1341360"/>
            <a:ext cx="633564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июня 1812 года  –начало войны между Россией и Фран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Картинки по запросу 12 июня 1812 карта"/>
          <p:cNvPicPr/>
          <p:nvPr/>
        </p:nvPicPr>
        <p:blipFill>
          <a:blip r:embed="rId3"/>
          <a:stretch/>
        </p:blipFill>
        <p:spPr>
          <a:xfrm>
            <a:off x="3995640" y="2492280"/>
            <a:ext cx="431964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родинское сражение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августа (7 сентября) 1812 г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Нажмите на изображение, чтобы его закрыть."/>
          <p:cNvPicPr/>
          <p:nvPr/>
        </p:nvPicPr>
        <p:blipFill>
          <a:blip r:embed="rId2"/>
          <a:stretch/>
        </p:blipFill>
        <p:spPr>
          <a:xfrm>
            <a:off x="3132000" y="1557360"/>
            <a:ext cx="525492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. В. Верещагин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«Наполеон I Бонапарт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бородинских высотах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788840"/>
            <a:ext cx="806436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56894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. Г. Шевченко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И вот нашли большое поле...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568800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Г.Шевченко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Забил снаряд я в пушку туго...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Вернуться"/>
          <p:cNvPicPr/>
          <p:nvPr/>
        </p:nvPicPr>
        <p:blipFill>
          <a:blip r:embed="rId2"/>
          <a:stretch/>
        </p:blipFill>
        <p:spPr>
          <a:xfrm>
            <a:off x="4500720" y="1268280"/>
            <a:ext cx="36795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Г. Шевченко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веркнул за строем строй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Картинки по запросу В. Г. Шевченко «Сверкнул за строем строй...»"/>
          <p:cNvPicPr/>
          <p:nvPr/>
        </p:nvPicPr>
        <p:blipFill>
          <a:blip r:embed="rId2"/>
          <a:stretch/>
        </p:blipFill>
        <p:spPr>
          <a:xfrm>
            <a:off x="2771640" y="1628640"/>
            <a:ext cx="56880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Г. Шевченк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Уж мы пойдем ломить стеною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и по запросу . В. Г. Шевченко «Уж мы пойдем ломить стеною»"/>
          <p:cNvPicPr/>
          <p:nvPr/>
        </p:nvPicPr>
        <p:blipFill>
          <a:blip r:embed="rId2"/>
          <a:stretch/>
        </p:blipFill>
        <p:spPr>
          <a:xfrm>
            <a:off x="2556000" y="1413000"/>
            <a:ext cx="59054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тальный жан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16000" y="1413000"/>
            <a:ext cx="5770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фр. bataille — битва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нр изобразительного искусства, посвященный тема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йны и во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Главное место в батальном жанре занимают сцены сухопутных, морски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ж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воен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ход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2:33:24Z</dcterms:created>
  <dc:creator>Agent</dc:creator>
  <dc:description/>
  <dc:language>en-US</dc:language>
  <cp:lastModifiedBy>Agent</cp:lastModifiedBy>
  <dcterms:modified xsi:type="dcterms:W3CDTF">2017-02-05T15:13:42Z</dcterms:modified>
  <cp:revision>3</cp:revision>
  <dc:subject/>
  <dc:title>1812 год — великий год России. «Отечества достойные сыны».</dc:title>
</cp:coreProperties>
</file>