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F40-80F2-4CE7-B921-F8ACA764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D23-CE6B-47BB-952A-041FA00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CAA-4490-439E-A812-7EF2F27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DD5-1328-459A-93CF-333F6C73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A7E-FAE1-4397-8497-4EF6A6D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FDA-F591-409E-97CF-D9CF80D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016-79F2-44E8-83D9-6922DB3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D4E-0289-4E5F-B330-4AE0EDB4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7EB-4520-44E1-A5A5-ACF48D93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BE5-2CAE-4BD5-AE89-FAC4992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DAB-2A39-4976-A8CE-A0D5245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138-F5E1-452D-B07D-C43A2E0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C5A1-631D-4116-853E-8865FC135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26920" y="1125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Электронная физминутка для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340000" y="2205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348000" y="5661000"/>
            <a:ext cx="755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Georgia"/>
              </a:rPr>
              <a:t>Автор: Земзюлин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Georgia"/>
              </a:rPr>
              <a:t>ГУ  Песчанская СОШ №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блако 37"/>
          <p:cNvGrpSpPr/>
          <p:nvPr/>
        </p:nvGrpSpPr>
        <p:grpSpPr>
          <a:xfrm>
            <a:off x="6126120" y="646200"/>
            <a:ext cx="2243160" cy="1395360"/>
            <a:chOff x="6126120" y="646200"/>
            <a:chExt cx="2243160" cy="1395360"/>
          </a:xfrm>
        </p:grpSpPr>
        <p:pic>
          <p:nvPicPr>
            <p:cNvPr id="53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26120" y="646200"/>
              <a:ext cx="2243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блако 38"/>
          <p:cNvGrpSpPr/>
          <p:nvPr/>
        </p:nvGrpSpPr>
        <p:grpSpPr>
          <a:xfrm>
            <a:off x="639720" y="566640"/>
            <a:ext cx="2243160" cy="1401840"/>
            <a:chOff x="639720" y="566640"/>
            <a:chExt cx="2243160" cy="1401840"/>
          </a:xfrm>
        </p:grpSpPr>
        <p:pic>
          <p:nvPicPr>
            <p:cNvPr id="56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39720" y="56664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блако 39"/>
          <p:cNvGrpSpPr/>
          <p:nvPr/>
        </p:nvGrpSpPr>
        <p:grpSpPr>
          <a:xfrm>
            <a:off x="3913200" y="1633680"/>
            <a:ext cx="2243160" cy="1401480"/>
            <a:chOff x="3913200" y="1633680"/>
            <a:chExt cx="2243160" cy="1401480"/>
          </a:xfrm>
        </p:grpSpPr>
        <p:pic>
          <p:nvPicPr>
            <p:cNvPr id="59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3200" y="1633680"/>
              <a:ext cx="224316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4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Олег</cp:lastModifiedBy>
  <dcterms:modified xsi:type="dcterms:W3CDTF">2012-02-03T20:30:22Z</dcterms:modified>
  <cp:revision>5</cp:revision>
  <dc:subject/>
  <dc:title>Слайд 1</dc:title>
</cp:coreProperties>
</file>