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wmf" ContentType="image/x-wmf"/>
  <Override PartName="/ppt/media/image13.jpeg" ContentType="image/jpe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364-5054-40A5-AB05-A30EA6AC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A44-6EBA-4289-8DFD-AC5877AE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EE9-C73E-41C5-A22F-E9B0745E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69F-D7AA-4D31-BB4B-4BA8C83D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0C0-7C09-4779-9721-26DBC18C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A5D-7DD0-4549-8741-197C48AB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46F-BF74-4313-B960-00B705A0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1BB-8D3E-4806-8141-435D7A8B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5F0-6D81-4022-87BA-042C561A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F87-1CDE-4C28-BA4D-0F530432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41C-18B1-4296-8595-7B4AF562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0DD-8DE5-4EA4-BE82-A2346FF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93CB-6976-47FE-B823-57B60752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E:\безопасность ребенка в интернете\119356.jpg"/>
          <p:cNvPicPr/>
          <p:nvPr/>
        </p:nvPicPr>
        <p:blipFill>
          <a:blip r:embed="rId2"/>
          <a:stretch/>
        </p:blipFill>
        <p:spPr>
          <a:xfrm>
            <a:off x="0" y="3357720"/>
            <a:ext cx="5148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57160" y="1428840"/>
            <a:ext cx="7715520" cy="17398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опасно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бенка в Интерне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000080" y="285840"/>
            <a:ext cx="750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19288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Win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ский контроль в D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ский контроль в Kaspersky Internet Security 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285920" y="42876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одительский 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*"/>
          <p:cNvPicPr/>
          <p:nvPr/>
        </p:nvPicPr>
        <p:blipFill>
          <a:blip r:embed="rId2"/>
          <a:stretch/>
        </p:blipFill>
        <p:spPr>
          <a:xfrm>
            <a:off x="0" y="1000080"/>
            <a:ext cx="7819920" cy="5857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*"/>
          <p:cNvPicPr/>
          <p:nvPr/>
        </p:nvPicPr>
        <p:blipFill>
          <a:blip r:embed="rId3"/>
          <a:stretch/>
        </p:blipFill>
        <p:spPr>
          <a:xfrm>
            <a:off x="0" y="928800"/>
            <a:ext cx="7453440" cy="5583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*"/>
          <p:cNvPicPr/>
          <p:nvPr/>
        </p:nvPicPr>
        <p:blipFill>
          <a:blip r:embed="rId4"/>
          <a:stretch/>
        </p:blipFill>
        <p:spPr>
          <a:xfrm>
            <a:off x="0" y="1071720"/>
            <a:ext cx="6910560" cy="55861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*"/>
          <p:cNvPicPr/>
          <p:nvPr/>
        </p:nvPicPr>
        <p:blipFill>
          <a:blip r:embed="rId5"/>
          <a:stretch/>
        </p:blipFill>
        <p:spPr>
          <a:xfrm>
            <a:off x="0" y="385920"/>
            <a:ext cx="7215120" cy="6472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2" descr="*"/>
          <p:cNvPicPr/>
          <p:nvPr/>
        </p:nvPicPr>
        <p:blipFill>
          <a:blip r:embed="rId6"/>
          <a:stretch/>
        </p:blipFill>
        <p:spPr>
          <a:xfrm>
            <a:off x="0" y="587520"/>
            <a:ext cx="84297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500120" y="1785960"/>
            <a:ext cx="642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0" y="165672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ть консультацию о том, как с помощью программного обеспечения Microsoft повысить безопасность детей и всей семьи при пользовании Интернетом, можно по телефо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  <a:ea typeface="Times New Roman"/>
              </a:rPr>
              <a:t>8-800-200-80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бесплатный номер для территории Ро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8"/>
          <p:cNvGraphicFramePr/>
          <p:nvPr/>
        </p:nvGraphicFramePr>
        <p:xfrm>
          <a:off x="-785880" y="928800"/>
          <a:ext cx="8501040" cy="42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85880" y="928800"/>
                    <a:ext cx="850104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11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-785880" y="1500120"/>
          <a:ext cx="8828280" cy="414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85880" y="1500120"/>
                    <a:ext cx="88282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2"/>
          <p:cNvGraphicFramePr/>
          <p:nvPr/>
        </p:nvGraphicFramePr>
        <p:xfrm>
          <a:off x="285840" y="1357200"/>
          <a:ext cx="7500960" cy="500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5840" y="1357200"/>
                    <a:ext cx="75009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4"/>
          <p:cNvSpPr/>
          <p:nvPr/>
        </p:nvSpPr>
        <p:spPr>
          <a:xfrm>
            <a:off x="5003640" y="414972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Есть ли у вас дома интер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каких целях чаще всего используете Интерн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ете ли вы о тех опасностях, которые могут встретиться вам в Интерн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785880" y="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анкетиров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5" descr=""/>
          <p:cNvPicPr/>
          <p:nvPr/>
        </p:nvPicPr>
        <p:blipFill>
          <a:blip r:embed="rId2"/>
          <a:stretch/>
        </p:blipFill>
        <p:spPr>
          <a:xfrm>
            <a:off x="0" y="1214280"/>
            <a:ext cx="9144000" cy="4100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4214880" y="4843440"/>
            <a:ext cx="52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ете ли вы, чем опасен Интернет для ваших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тересуетесь ли вы тем, что делает ваш ребенок в Интерн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ете ли вы, как уберечь своего ребенка от опасности работы в Интерн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85880" y="285840"/>
            <a:ext cx="72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 анкетировани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643120" y="285840"/>
            <a:ext cx="6286680" cy="265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649"/>
                </a:solidFill>
                <a:latin typeface="Arial"/>
              </a:rPr>
              <a:t>Мы хотели, чтобы наши дети умели работать в Интернете с шести лет – раньше, чем  научатся читать. Оказывается, они неплохо разбираются в сети уже в пятилетнем возрасте. Теперь встает вопрос – как же научить их чит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786720" y="31431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Джон К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:\безопасность ребенка в интернете\0b155fdeb2cb1846f506e21bfada9ec0.jpg"/>
          <p:cNvPicPr/>
          <p:nvPr/>
        </p:nvPicPr>
        <p:blipFill>
          <a:blip r:embed="rId2"/>
          <a:stretch/>
        </p:blipFill>
        <p:spPr>
          <a:xfrm>
            <a:off x="0" y="3322800"/>
            <a:ext cx="39639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E:\безопасность ребенка в интернете\25d89f770242.jpg"/>
          <p:cNvPicPr/>
          <p:nvPr/>
        </p:nvPicPr>
        <p:blipFill>
          <a:blip r:embed="rId2"/>
          <a:stretch/>
        </p:blipFill>
        <p:spPr>
          <a:xfrm>
            <a:off x="0" y="714240"/>
            <a:ext cx="7334280" cy="5500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E:\безопасность ребенка в интернете\2bd195bb783380add44514b30943a18abig.gif"/>
          <p:cNvPicPr/>
          <p:nvPr/>
        </p:nvPicPr>
        <p:blipFill>
          <a:blip r:embed="rId3"/>
          <a:stretch/>
        </p:blipFill>
        <p:spPr>
          <a:xfrm>
            <a:off x="0" y="476280"/>
            <a:ext cx="7572240" cy="6381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14200" y="857160"/>
            <a:ext cx="892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загрузка информац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 вытесняет другие, более полезные за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ий/умственный вред иногда приносят знакомства, которые подросток заводит в се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туп к нежелательному содержи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ся доступ к жестоким видеоиграм, агрессивным и жестоким видео-фотоматериа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 – торговы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ые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-357120" y="-28584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розы Интерн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E:\безопасность ребенка в интернете\PlanetSide-2-Announced----Return-Of-The-MMO-FPS.jpg"/>
          <p:cNvPicPr/>
          <p:nvPr/>
        </p:nvPicPr>
        <p:blipFill>
          <a:blip r:embed="rId4"/>
          <a:stretch/>
        </p:blipFill>
        <p:spPr>
          <a:xfrm>
            <a:off x="214200" y="100008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E:\безопасность ребенка в интернете\bezopasnii_internet.jpg"/>
          <p:cNvPicPr/>
          <p:nvPr/>
        </p:nvPicPr>
        <p:blipFill>
          <a:blip r:embed="rId5"/>
          <a:stretch/>
        </p:blipFill>
        <p:spPr>
          <a:xfrm>
            <a:off x="214200" y="857160"/>
            <a:ext cx="8358480" cy="590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E:\безопасность ребенка в интернете\x_ed16ca8a.jpg"/>
          <p:cNvPicPr/>
          <p:nvPr/>
        </p:nvPicPr>
        <p:blipFill>
          <a:blip r:embed="rId6"/>
          <a:stretch/>
        </p:blipFill>
        <p:spPr>
          <a:xfrm>
            <a:off x="0" y="571680"/>
            <a:ext cx="78818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857240" y="500040"/>
            <a:ext cx="59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преемлемые сай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187280" y="1989000"/>
            <a:ext cx="64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клам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естокие иг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ва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носайт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рекл"/>
          <p:cNvPicPr/>
          <p:nvPr/>
        </p:nvPicPr>
        <p:blipFill>
          <a:blip r:embed="rId2"/>
          <a:stretch/>
        </p:blipFill>
        <p:spPr>
          <a:xfrm>
            <a:off x="0" y="-4680"/>
            <a:ext cx="5796000" cy="470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товар"/>
          <p:cNvPicPr/>
          <p:nvPr/>
        </p:nvPicPr>
        <p:blipFill>
          <a:blip r:embed="rId3"/>
          <a:stretch/>
        </p:blipFill>
        <p:spPr>
          <a:xfrm>
            <a:off x="1763640" y="1600200"/>
            <a:ext cx="6248520" cy="50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жестокие игры"/>
          <p:cNvPicPr/>
          <p:nvPr/>
        </p:nvPicPr>
        <p:blipFill>
          <a:blip r:embed="rId4"/>
          <a:stretch/>
        </p:blipFill>
        <p:spPr>
          <a:xfrm>
            <a:off x="1071720" y="857160"/>
            <a:ext cx="6537240" cy="531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опасн сайты"/>
          <p:cNvPicPr/>
          <p:nvPr/>
        </p:nvPicPr>
        <p:blipFill>
          <a:blip r:embed="rId5"/>
          <a:stretch/>
        </p:blipFill>
        <p:spPr>
          <a:xfrm>
            <a:off x="2749680" y="1844640"/>
            <a:ext cx="6394320" cy="519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56"/>
          <p:cNvPicPr/>
          <p:nvPr/>
        </p:nvPicPr>
        <p:blipFill>
          <a:blip r:embed="rId6"/>
          <a:stretch/>
        </p:blipFill>
        <p:spPr>
          <a:xfrm>
            <a:off x="5572080" y="3002040"/>
            <a:ext cx="35719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286000" y="28584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нтроль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56880" y="1449000"/>
            <a:ext cx="8809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Ф позволяет блокировать   сайты, которые содержат информа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ную на пропаганду войны, разжиг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циональной ненависти и вра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агандирующую порнографию, насил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ю, антиобществен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щую публичные призывы к осуществл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орис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щую скрытые способы воздействия на подсознание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ы ЭВМ, приводящие к блокированию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щую клевету, оскорб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лама алкогольной   и табачн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плывающая рекл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йты по отправлению СМС-сообщ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заблокир"/>
          <p:cNvPicPr/>
          <p:nvPr/>
        </p:nvPicPr>
        <p:blipFill>
          <a:blip r:embed="rId2"/>
          <a:stretch/>
        </p:blipFill>
        <p:spPr>
          <a:xfrm>
            <a:off x="179280" y="773280"/>
            <a:ext cx="7488360" cy="60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спф1"/>
          <p:cNvPicPr/>
          <p:nvPr/>
        </p:nvPicPr>
        <p:blipFill>
          <a:blip r:embed="rId3"/>
          <a:stretch/>
        </p:blipFill>
        <p:spPr>
          <a:xfrm>
            <a:off x="1763640" y="1268280"/>
            <a:ext cx="7380360" cy="5550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286000" y="28584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нтроль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E:\безопасность ребенка в интернете\598272.jpg"/>
          <p:cNvPicPr/>
          <p:nvPr/>
        </p:nvPicPr>
        <p:blipFill>
          <a:blip r:embed="rId2"/>
          <a:stretch/>
        </p:blipFill>
        <p:spPr>
          <a:xfrm>
            <a:off x="6072120" y="4738680"/>
            <a:ext cx="3071880" cy="2119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-11880" y="1016640"/>
            <a:ext cx="9348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йте все, чтобы оградить их от дурного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тройте распорядок дня и недели детей таким образом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заменить нездоровые увлечения полезными занят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долевайте возмущение детей. Позже они вам скажут спас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аничьте самостоятельность вашего ребенка при использов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позволяйте своим детям создавать собственные учетные за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веб-страницах  с указанием личных данных (адрес, телефо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оздавайте семейные сайты с фотографиями детей. Иногда это дела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показать внуков бабушке, проживающей далек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ьмите за правило контролировать, на какие интернет-сай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ходят ваши дети (в адресной строке просматривайте адреса сай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2:43:55Z</dcterms:created>
  <dc:creator>Учитель</dc:creator>
  <dc:description/>
  <dc:language>en-US</dc:language>
  <cp:lastModifiedBy>User</cp:lastModifiedBy>
  <dcterms:modified xsi:type="dcterms:W3CDTF">2017-02-05T08:52:41Z</dcterms:modified>
  <cp:revision>36</cp:revision>
  <dc:subject/>
  <dc:title>Слайд 1</dc:title>
</cp:coreProperties>
</file>