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5.wmf" ContentType="image/x-wmf"/>
  <Override PartName="/ppt/media/image4.wmf" ContentType="image/x-wmf"/>
  <Override PartName="/ppt/media/image13.jpeg" ContentType="image/jpeg"/>
  <Override PartName="/ppt/media/image3.wmf" ContentType="image/x-wmf"/>
  <Override PartName="/ppt/media/image15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70AC-9E9A-4E88-90CC-E1178B429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3A6D-3187-4CC1-910E-25B785A9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54B3-C35D-41D9-99BA-9D801AEF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8B72-0254-449D-A16D-D8AB0BF7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06A5-49D2-4BE8-8944-67033E85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C0CF-DCA2-4721-B185-3CA81AE3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FBE0-B3B0-4D96-BD94-F1E59BD5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6D8-11ED-4CE9-B03C-BA0228C6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E3A6-96AC-4190-BA93-779AC570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84F3-1A54-49C4-8D51-EC109B9D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BB43-DA5E-4D25-A8AB-E06101AC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C1F8-B55E-489D-8A6B-85EECCEF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7F4D-9BFB-49BD-BFBF-320FD7211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E:\безопасность ребенка в интернете\119356.jpg"/>
          <p:cNvPicPr/>
          <p:nvPr/>
        </p:nvPicPr>
        <p:blipFill>
          <a:blip r:embed="rId2"/>
          <a:stretch/>
        </p:blipFill>
        <p:spPr>
          <a:xfrm>
            <a:off x="0" y="3357720"/>
            <a:ext cx="5148360" cy="350028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857160" y="1428840"/>
            <a:ext cx="7715520" cy="173988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зопаснос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бенка в Интернет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000080" y="285840"/>
            <a:ext cx="750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192888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 Winad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ерационная система Windows V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тельский контроль в Dr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тельский контроль в Kaspersky Internet Security 7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285920" y="428760"/>
            <a:ext cx="614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Родительский контро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5" descr="*"/>
          <p:cNvPicPr/>
          <p:nvPr/>
        </p:nvPicPr>
        <p:blipFill>
          <a:blip r:embed="rId2"/>
          <a:stretch/>
        </p:blipFill>
        <p:spPr>
          <a:xfrm>
            <a:off x="0" y="1000080"/>
            <a:ext cx="7819920" cy="58579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9" descr="*"/>
          <p:cNvPicPr/>
          <p:nvPr/>
        </p:nvPicPr>
        <p:blipFill>
          <a:blip r:embed="rId3"/>
          <a:stretch/>
        </p:blipFill>
        <p:spPr>
          <a:xfrm>
            <a:off x="0" y="928800"/>
            <a:ext cx="7453440" cy="55832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0" descr="*"/>
          <p:cNvPicPr/>
          <p:nvPr/>
        </p:nvPicPr>
        <p:blipFill>
          <a:blip r:embed="rId4"/>
          <a:stretch/>
        </p:blipFill>
        <p:spPr>
          <a:xfrm>
            <a:off x="0" y="1071720"/>
            <a:ext cx="6910560" cy="55861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1" descr="*"/>
          <p:cNvPicPr/>
          <p:nvPr/>
        </p:nvPicPr>
        <p:blipFill>
          <a:blip r:embed="rId5"/>
          <a:stretch/>
        </p:blipFill>
        <p:spPr>
          <a:xfrm>
            <a:off x="0" y="385920"/>
            <a:ext cx="7215120" cy="64720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2" descr="*"/>
          <p:cNvPicPr/>
          <p:nvPr/>
        </p:nvPicPr>
        <p:blipFill>
          <a:blip r:embed="rId6"/>
          <a:stretch/>
        </p:blipFill>
        <p:spPr>
          <a:xfrm>
            <a:off x="0" y="587520"/>
            <a:ext cx="842976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1500120" y="1785960"/>
            <a:ext cx="6429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0" y="1656720"/>
            <a:ext cx="91440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чить консультацию о том, как с помощью программного обеспечения Microsoft повысить безопасность детей и всей семьи при пользовании Интернетом, можно по телефо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00"/>
                </a:solidFill>
                <a:latin typeface="Arial"/>
                <a:ea typeface="Times New Roman"/>
              </a:rPr>
              <a:t>8-800-200-800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бесплатный номер для территории Росс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8"/>
          <p:cNvGraphicFramePr/>
          <p:nvPr/>
        </p:nvGraphicFramePr>
        <p:xfrm>
          <a:off x="-785880" y="928800"/>
          <a:ext cx="8501040" cy="424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85880" y="928800"/>
                    <a:ext cx="8501040" cy="42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11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0"/>
          <p:cNvGraphicFramePr/>
          <p:nvPr/>
        </p:nvGraphicFramePr>
        <p:xfrm>
          <a:off x="-785880" y="1500120"/>
          <a:ext cx="8828280" cy="414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785880" y="1500120"/>
                    <a:ext cx="882828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12"/>
          <p:cNvGraphicFramePr/>
          <p:nvPr/>
        </p:nvGraphicFramePr>
        <p:xfrm>
          <a:off x="285840" y="1357200"/>
          <a:ext cx="7500960" cy="5002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5840" y="1357200"/>
                    <a:ext cx="750096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14"/>
          <p:cNvSpPr/>
          <p:nvPr/>
        </p:nvSpPr>
        <p:spPr>
          <a:xfrm>
            <a:off x="5003640" y="4149720"/>
            <a:ext cx="41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Есть ли у вас дома интерн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 каких целях чаще всего используете Интерн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наете ли вы о тех опасностях, которые могут встретиться вам в Интерне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785880" y="0"/>
            <a:ext cx="757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 анкетирования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ject 5" descr=""/>
          <p:cNvPicPr/>
          <p:nvPr/>
        </p:nvPicPr>
        <p:blipFill>
          <a:blip r:embed="rId2"/>
          <a:stretch/>
        </p:blipFill>
        <p:spPr>
          <a:xfrm>
            <a:off x="0" y="1214280"/>
            <a:ext cx="9144000" cy="41007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4214880" y="4843440"/>
            <a:ext cx="525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наете ли вы, чем опасен Интернет для ваших дет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нтересуетесь ли вы тем, что делает ваш ребенок в Интерне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наете ли вы, как уберечь своего ребенка от опасности работы в Интернет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785880" y="285840"/>
            <a:ext cx="72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 анкетирования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643120" y="285840"/>
            <a:ext cx="6286680" cy="2654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4649"/>
                </a:solidFill>
                <a:latin typeface="Arial"/>
              </a:rPr>
              <a:t>Мы хотели, чтобы наши дети умели работать в Интернете с шести лет – раньше, чем  научатся читать. Оказывается, они неплохо разбираются в сети уже в пятилетнем возрасте. Теперь встает вопрос – как же научить их чит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786720" y="31431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649"/>
                </a:solidFill>
                <a:latin typeface="Arial"/>
              </a:rPr>
              <a:t>Джон К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E:\безопасность ребенка в интернете\0b155fdeb2cb1846f506e21bfada9ec0.jpg"/>
          <p:cNvPicPr/>
          <p:nvPr/>
        </p:nvPicPr>
        <p:blipFill>
          <a:blip r:embed="rId2"/>
          <a:stretch/>
        </p:blipFill>
        <p:spPr>
          <a:xfrm>
            <a:off x="0" y="3322800"/>
            <a:ext cx="396396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E:\безопасность ребенка в интернете\25d89f770242.jpg"/>
          <p:cNvPicPr/>
          <p:nvPr/>
        </p:nvPicPr>
        <p:blipFill>
          <a:blip r:embed="rId2"/>
          <a:stretch/>
        </p:blipFill>
        <p:spPr>
          <a:xfrm>
            <a:off x="0" y="714240"/>
            <a:ext cx="7334280" cy="5500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E:\безопасность ребенка в интернете\2bd195bb783380add44514b30943a18abig.gif"/>
          <p:cNvPicPr/>
          <p:nvPr/>
        </p:nvPicPr>
        <p:blipFill>
          <a:blip r:embed="rId3"/>
          <a:stretch/>
        </p:blipFill>
        <p:spPr>
          <a:xfrm>
            <a:off x="0" y="476280"/>
            <a:ext cx="7572240" cy="6381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214200" y="857160"/>
            <a:ext cx="8929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загрузка информаци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нет вытесняет другие, более полезные заня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ческий/умственный вред иногда приносят знакомства, которые подросток заводит в се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ступ к нежелательному содержим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еется доступ к жестоким видеоиграм, агрессивным и жестоким видео-фотоматериал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нет – торговый м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нет-завис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ьные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-357120" y="-28584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грозы Интерне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E:\безопасность ребенка в интернете\PlanetSide-2-Announced----Return-Of-The-MMO-FPS.jpg"/>
          <p:cNvPicPr/>
          <p:nvPr/>
        </p:nvPicPr>
        <p:blipFill>
          <a:blip r:embed="rId4"/>
          <a:stretch/>
        </p:blipFill>
        <p:spPr>
          <a:xfrm>
            <a:off x="214200" y="1000080"/>
            <a:ext cx="7620120" cy="4762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E:\безопасность ребенка в интернете\bezopasnii_internet.jpg"/>
          <p:cNvPicPr/>
          <p:nvPr/>
        </p:nvPicPr>
        <p:blipFill>
          <a:blip r:embed="rId5"/>
          <a:stretch/>
        </p:blipFill>
        <p:spPr>
          <a:xfrm>
            <a:off x="214200" y="857160"/>
            <a:ext cx="8358480" cy="5907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E:\безопасность ребенка в интернете\x_ed16ca8a.jpg"/>
          <p:cNvPicPr/>
          <p:nvPr/>
        </p:nvPicPr>
        <p:blipFill>
          <a:blip r:embed="rId6"/>
          <a:stretch/>
        </p:blipFill>
        <p:spPr>
          <a:xfrm>
            <a:off x="0" y="571680"/>
            <a:ext cx="788184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1857240" y="500040"/>
            <a:ext cx="592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епреемлемые сай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187280" y="1989000"/>
            <a:ext cx="640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клам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Жестокие игр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вар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рносайт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комств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рекл"/>
          <p:cNvPicPr/>
          <p:nvPr/>
        </p:nvPicPr>
        <p:blipFill>
          <a:blip r:embed="rId2"/>
          <a:stretch/>
        </p:blipFill>
        <p:spPr>
          <a:xfrm>
            <a:off x="0" y="-4680"/>
            <a:ext cx="5796000" cy="4709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товар"/>
          <p:cNvPicPr/>
          <p:nvPr/>
        </p:nvPicPr>
        <p:blipFill>
          <a:blip r:embed="rId3"/>
          <a:stretch/>
        </p:blipFill>
        <p:spPr>
          <a:xfrm>
            <a:off x="1763640" y="1600200"/>
            <a:ext cx="6248520" cy="507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жестокие игры"/>
          <p:cNvPicPr/>
          <p:nvPr/>
        </p:nvPicPr>
        <p:blipFill>
          <a:blip r:embed="rId4"/>
          <a:stretch/>
        </p:blipFill>
        <p:spPr>
          <a:xfrm>
            <a:off x="1071720" y="857160"/>
            <a:ext cx="6537240" cy="5311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опасн сайты"/>
          <p:cNvPicPr/>
          <p:nvPr/>
        </p:nvPicPr>
        <p:blipFill>
          <a:blip r:embed="rId5"/>
          <a:stretch/>
        </p:blipFill>
        <p:spPr>
          <a:xfrm>
            <a:off x="2749680" y="1844640"/>
            <a:ext cx="6394320" cy="5195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56"/>
          <p:cNvPicPr/>
          <p:nvPr/>
        </p:nvPicPr>
        <p:blipFill>
          <a:blip r:embed="rId6"/>
          <a:stretch/>
        </p:blipFill>
        <p:spPr>
          <a:xfrm>
            <a:off x="5572080" y="3002040"/>
            <a:ext cx="35719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2286000" y="28584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Контроль в шко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56880" y="1449000"/>
            <a:ext cx="8809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КФ позволяет блокировать   сайты, которые содержат информац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авленную на пропаганду войны, разжиг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циональной ненависти и враж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пагандирующую порнографию, насил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команию, антиобщественное по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держащую публичные призывы к осуществле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ористи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держащую скрытые способы воздействия на подсознание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граммы ЭВМ, приводящие к блокированию с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держащую клевету, оскорб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клама алкогольной   и табачной проду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плывающая рекл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пьютерн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айты по отправлению СМС-сообщ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заблокир"/>
          <p:cNvPicPr/>
          <p:nvPr/>
        </p:nvPicPr>
        <p:blipFill>
          <a:blip r:embed="rId2"/>
          <a:stretch/>
        </p:blipFill>
        <p:spPr>
          <a:xfrm>
            <a:off x="179280" y="773280"/>
            <a:ext cx="7488360" cy="6084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спф1"/>
          <p:cNvPicPr/>
          <p:nvPr/>
        </p:nvPicPr>
        <p:blipFill>
          <a:blip r:embed="rId3"/>
          <a:stretch/>
        </p:blipFill>
        <p:spPr>
          <a:xfrm>
            <a:off x="1763640" y="1268280"/>
            <a:ext cx="7380360" cy="555012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2286000" y="28584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Контроль в шко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92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E:\безопасность ребенка в интернете\598272.jpg"/>
          <p:cNvPicPr/>
          <p:nvPr/>
        </p:nvPicPr>
        <p:blipFill>
          <a:blip r:embed="rId2"/>
          <a:stretch/>
        </p:blipFill>
        <p:spPr>
          <a:xfrm>
            <a:off x="6072120" y="4738680"/>
            <a:ext cx="3071880" cy="21193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-11880" y="1016640"/>
            <a:ext cx="9348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елайте все, чтобы оградить их от дурного вли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стройте распорядок дня и недели детей таким образом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бы заменить нездоровые увлечения полезными занят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одолевайте возмущение детей. Позже они вам скажут спасиб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граничьте самостоятельность вашего ребенка при использова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пью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позволяйте своим детям создавать собственные учетные запи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веб-страницах  с указанием личных данных (адрес, телефон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создавайте семейные сайты с фотографиями детей. Иногда это делаю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бы показать внуков бабушке, проживающей далек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ьмите за правило контролировать, на какие интернет-сай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ходят ваши дети (в адресной строке просматривайте адреса сайт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2:43:55Z</dcterms:created>
  <dc:creator>Учитель</dc:creator>
  <dc:description/>
  <dc:language>en-US</dc:language>
  <cp:lastModifiedBy>User</cp:lastModifiedBy>
  <dcterms:modified xsi:type="dcterms:W3CDTF">2017-02-05T08:52:41Z</dcterms:modified>
  <cp:revision>36</cp:revision>
  <dc:subject/>
  <dc:title>Слайд 1</dc:title>
</cp:coreProperties>
</file>