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10E-CDE0-4349-81A6-F20ABC89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63D-8827-4BFA-B510-4E44573E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B73-8C50-4B86-B296-B661D0D9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968-EEE1-46FC-A209-B3F3C584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DE5-D2FA-4A77-8876-F55343D7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371-9C22-42A5-810D-49DB67A3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A4F-3DB8-401C-B104-B6A79F4D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40E-A13D-4D3A-AA6C-EE394F6D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2D8-8C58-46B4-BD85-C6D43A2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70E-EC1A-48DC-A856-2C0FE4C6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30B-8E4A-4D95-998C-11AEAD2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F31-A66E-4B67-8028-984DF46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DAAD-91D8-484E-B9AA-A16ED4DC06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720" y="333000"/>
            <a:ext cx="44164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БУДЬТЕ ВЕЖЛИВ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CA5OFQZR"/>
          <p:cNvPicPr/>
          <p:nvPr/>
        </p:nvPicPr>
        <p:blipFill>
          <a:blip r:embed="rId1"/>
          <a:stretch/>
        </p:blipFill>
        <p:spPr>
          <a:xfrm>
            <a:off x="179280" y="1197000"/>
            <a:ext cx="3816360" cy="3682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140360" y="1557360"/>
            <a:ext cx="4824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лонившись, мы друг другу сказа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тя были совсем незнак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особого тем самым мы друг другу сказал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на капельку солнца прибавилось в мир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на капельку радостней сделалась жизн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66"/>
                </a:solidFill>
                <a:latin typeface="Arial"/>
              </a:rPr>
              <a:t>Этикет – правила вежливого повед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мение правильно вести себя в обществе имеет очень большое значение: оно облегчает установление контактов, способствует достижению взаимопонимания, создает хорошие взаимоотнош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Этикет в школе. Как должен вести себя ученик в школе Мы подскажем.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мение управлять своими отрицательными эмоциями свидетельствует о воспитанности и хороших манерах. В соответствии с этикетом, лучшее средство победить в себе и в других раздражение и недовольство - это человеческая улыб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итча 'Все оставляет свой след'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буратино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Image-08.jpg"/>
          <p:cNvPicPr/>
          <p:nvPr/>
        </p:nvPicPr>
        <p:blipFill>
          <a:blip r:embed="rId1"/>
          <a:stretch/>
        </p:blipFill>
        <p:spPr>
          <a:xfrm>
            <a:off x="250920" y="549360"/>
            <a:ext cx="3717720" cy="5637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Image-05.jpg"/>
          <p:cNvPicPr/>
          <p:nvPr/>
        </p:nvPicPr>
        <p:blipFill>
          <a:blip r:embed="rId2"/>
          <a:stretch/>
        </p:blipFill>
        <p:spPr>
          <a:xfrm>
            <a:off x="4260960" y="260280"/>
            <a:ext cx="4722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Image-06.jpg"/>
          <p:cNvPicPr/>
          <p:nvPr/>
        </p:nvPicPr>
        <p:blipFill>
          <a:blip r:embed="rId1"/>
          <a:stretch/>
        </p:blipFill>
        <p:spPr>
          <a:xfrm>
            <a:off x="4140360" y="189000"/>
            <a:ext cx="4708440" cy="6453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Image-04.jpg"/>
          <p:cNvPicPr/>
          <p:nvPr/>
        </p:nvPicPr>
        <p:blipFill>
          <a:blip r:embed="rId2"/>
          <a:stretch/>
        </p:blipFill>
        <p:spPr>
          <a:xfrm>
            <a:off x="179280" y="404640"/>
            <a:ext cx="372744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age-02.jpg"/>
          <p:cNvPicPr/>
          <p:nvPr/>
        </p:nvPicPr>
        <p:blipFill>
          <a:blip r:embed="rId1"/>
          <a:stretch/>
        </p:blipFill>
        <p:spPr>
          <a:xfrm>
            <a:off x="4284720" y="189000"/>
            <a:ext cx="4621320" cy="6308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Поворот Image-09.jpg"/>
          <p:cNvPicPr/>
          <p:nvPr/>
        </p:nvPicPr>
        <p:blipFill>
          <a:blip r:embed="rId2"/>
          <a:stretch/>
        </p:blipFill>
        <p:spPr>
          <a:xfrm>
            <a:off x="179280" y="549360"/>
            <a:ext cx="3853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Поворот Image-03.jpg"/>
          <p:cNvPicPr/>
          <p:nvPr/>
        </p:nvPicPr>
        <p:blipFill>
          <a:blip r:embed="rId1"/>
          <a:stretch/>
        </p:blipFill>
        <p:spPr>
          <a:xfrm>
            <a:off x="4284720" y="189000"/>
            <a:ext cx="4680000" cy="6308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Image-10.jpg"/>
          <p:cNvPicPr/>
          <p:nvPr/>
        </p:nvPicPr>
        <p:blipFill>
          <a:blip r:embed="rId2"/>
          <a:stretch/>
        </p:blipFill>
        <p:spPr>
          <a:xfrm>
            <a:off x="250920" y="333360"/>
            <a:ext cx="3889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83628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ff66"/>
                </a:solidFill>
                <a:latin typeface="Elephant"/>
              </a:rPr>
              <a:t>У вежливости есть свои слов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Здравствуйте – значит, желать здоровь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Есть также другие слова: пожалуйста, спасибо, до свидания, извините, простите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К старшему человеку нужно обращаться на «Вы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К друзьям можно обращаться на «ты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Вежливость должна быть бескорыстно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6:00:27Z</dcterms:created>
  <dc:creator>Admin</dc:creator>
  <dc:description/>
  <dc:language>en-US</dc:language>
  <cp:lastModifiedBy>Anvar</cp:lastModifiedBy>
  <dcterms:modified xsi:type="dcterms:W3CDTF">2017-02-05T10:32:53Z</dcterms:modified>
  <cp:revision>16</cp:revision>
  <dc:subject/>
  <dc:title>Слайд 1</dc:title>
</cp:coreProperties>
</file>