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74A0-BD4D-41F3-8479-01F91DBF9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D577-6514-4CE7-9447-68464A541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55FF-5D41-4344-8E69-571A24659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9C98-9C28-4015-B07F-556592644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4AB7-DBB9-4454-84F2-71F0DB4BE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07D9-1A0E-4D5F-9EFC-B021E7C49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49E1-9FB1-4B6C-9932-E27DAB56A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1B20-4B01-4F33-9339-BF39A29BB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E553-0A7C-4A7D-80DF-B167684A4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21EB-084D-4271-AFAF-E3E185EA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EDFC-87F0-4048-923C-95ED4EA8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10BB-B40B-41BA-8FBE-1D5AD9A0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4F937-6AA4-476A-AE92-96A1D5FEC68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284720" y="333000"/>
            <a:ext cx="441648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БУДЬТЕ ВЕЖЛИВЫ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Picture 4" descr="CA5OFQZR"/>
          <p:cNvPicPr/>
          <p:nvPr/>
        </p:nvPicPr>
        <p:blipFill>
          <a:blip r:embed="rId1"/>
          <a:stretch/>
        </p:blipFill>
        <p:spPr>
          <a:xfrm>
            <a:off x="179280" y="1197000"/>
            <a:ext cx="3816360" cy="36828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4140360" y="1557360"/>
            <a:ext cx="48243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дравствуйте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клонившись, мы друг другу сказал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Хотя были совсем незнаком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дравствуйте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Что особого тем самым мы друг другу сказали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о на капельку солнца прибавилось в мире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 на капельку радостней сделалась жизнь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ff66"/>
                </a:solidFill>
                <a:latin typeface="Arial"/>
              </a:rPr>
              <a:t>Этикет – правила вежливого поведения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Умение правильно вести себя в обществе имеет очень большое значение: оно облегчает установление контактов, способствует достижению взаимопонимания, создает хорошие взаимоотношени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Этикет в школе. Как должен вести себя ученик в школе Мы подскажем..mp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1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357120"/>
            <a:ext cx="8229600" cy="56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Умение управлять своими отрицательными эмоциями свидетельствует о воспитанности и хороших манерах. В соответствии с этикетом, лучшее средство победить в себе и в других раздражение и недовольство - это человеческая улыбк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Притча 'Все оставляет свой след'.mp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9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буратино"/>
          <p:cNvPicPr/>
          <p:nvPr/>
        </p:nvPicPr>
        <p:blipFill>
          <a:blip r:embed="rId1"/>
          <a:stretch/>
        </p:blipFill>
        <p:spPr>
          <a:xfrm>
            <a:off x="468360" y="549360"/>
            <a:ext cx="813600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3" descr="Image-08.jpg"/>
          <p:cNvPicPr/>
          <p:nvPr/>
        </p:nvPicPr>
        <p:blipFill>
          <a:blip r:embed="rId1"/>
          <a:stretch/>
        </p:blipFill>
        <p:spPr>
          <a:xfrm>
            <a:off x="250920" y="549360"/>
            <a:ext cx="3717720" cy="563724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4" descr="Image-05.jpg"/>
          <p:cNvPicPr/>
          <p:nvPr/>
        </p:nvPicPr>
        <p:blipFill>
          <a:blip r:embed="rId2"/>
          <a:stretch/>
        </p:blipFill>
        <p:spPr>
          <a:xfrm>
            <a:off x="4260960" y="260280"/>
            <a:ext cx="472284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Содержимое 3" descr="Image-06.jpg"/>
          <p:cNvPicPr/>
          <p:nvPr/>
        </p:nvPicPr>
        <p:blipFill>
          <a:blip r:embed="rId1"/>
          <a:stretch/>
        </p:blipFill>
        <p:spPr>
          <a:xfrm>
            <a:off x="4140360" y="189000"/>
            <a:ext cx="4708440" cy="64530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4" descr="Image-04.jpg"/>
          <p:cNvPicPr/>
          <p:nvPr/>
        </p:nvPicPr>
        <p:blipFill>
          <a:blip r:embed="rId2"/>
          <a:stretch/>
        </p:blipFill>
        <p:spPr>
          <a:xfrm>
            <a:off x="179280" y="404640"/>
            <a:ext cx="3727440" cy="551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3" descr="Image-02.jpg"/>
          <p:cNvPicPr/>
          <p:nvPr/>
        </p:nvPicPr>
        <p:blipFill>
          <a:blip r:embed="rId1"/>
          <a:stretch/>
        </p:blipFill>
        <p:spPr>
          <a:xfrm>
            <a:off x="4284720" y="189000"/>
            <a:ext cx="4621320" cy="630864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4" descr="Поворот Image-09.jpg"/>
          <p:cNvPicPr/>
          <p:nvPr/>
        </p:nvPicPr>
        <p:blipFill>
          <a:blip r:embed="rId2"/>
          <a:stretch/>
        </p:blipFill>
        <p:spPr>
          <a:xfrm>
            <a:off x="179280" y="549360"/>
            <a:ext cx="385308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3" descr="Поворот Image-03.jpg"/>
          <p:cNvPicPr/>
          <p:nvPr/>
        </p:nvPicPr>
        <p:blipFill>
          <a:blip r:embed="rId1"/>
          <a:stretch/>
        </p:blipFill>
        <p:spPr>
          <a:xfrm>
            <a:off x="4284720" y="189000"/>
            <a:ext cx="4680000" cy="63086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4" descr="Image-10.jpg"/>
          <p:cNvPicPr/>
          <p:nvPr/>
        </p:nvPicPr>
        <p:blipFill>
          <a:blip r:embed="rId2"/>
          <a:stretch/>
        </p:blipFill>
        <p:spPr>
          <a:xfrm>
            <a:off x="250920" y="333360"/>
            <a:ext cx="388944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371600" y="836280"/>
            <a:ext cx="640080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ff66"/>
                </a:solidFill>
                <a:latin typeface="Elephant"/>
              </a:rPr>
              <a:t>У вежливости есть свои слова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Здравствуйте – значит, желать здоровь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Есть также другие слова: пожалуйста, спасибо, до свидания, извините, простите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66"/>
                </a:solidFill>
                <a:latin typeface="Arial"/>
              </a:rPr>
              <a:t>К старшему человеку нужно обращаться на «Вы»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66"/>
                </a:solidFill>
                <a:latin typeface="Arial"/>
              </a:rPr>
              <a:t>К друзьям можно обращаться на «ты»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66"/>
                </a:solidFill>
                <a:latin typeface="Arial"/>
              </a:rPr>
              <a:t>Вежливость должна быть бескорыстной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06:00:27Z</dcterms:created>
  <dc:creator>Admin</dc:creator>
  <dc:description/>
  <dc:language>en-US</dc:language>
  <cp:lastModifiedBy>Anvar</cp:lastModifiedBy>
  <dcterms:modified xsi:type="dcterms:W3CDTF">2017-02-05T10:32:53Z</dcterms:modified>
  <cp:revision>16</cp:revision>
  <dc:subject/>
  <dc:title>Слайд 1</dc:title>
</cp:coreProperties>
</file>