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0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21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0FAF-0DBF-4CA0-854B-E1BA88630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A864-B7FE-4F40-AD50-72336B26EE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AAB9-ED8E-4CA8-B64A-CCBF6C297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67F-0954-41D6-9130-D35AA54CC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5BF-4B50-4602-BB7C-680BFB0BF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7F57-4F26-4D0C-B6E5-D1735BF7E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0C8-1BE2-4BCA-8845-565A1886E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D080-1F1E-48A4-B325-ECC40D1FE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1B0-6BE8-41D2-A5DF-3BB1C92D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FD9-D540-4602-8763-2002420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A9A-AF28-4C82-A90A-C6C289E3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57B-DC9A-408A-AAFF-AB0A8CD3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F099-9A9D-4AA1-9B12-4760144F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228D-ADF8-4AFD-9238-446347D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A557-B9E9-4286-8695-2EA0F02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2644-39A0-48A4-AB56-30037E59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463-BEAB-4FA9-BE4C-9E42FF49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9F76-2866-49D6-B694-A28490F8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8B75-AD37-4CC3-AF34-DED9D29D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764-1FB9-448C-A790-46FD7128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BE65-96DE-4373-BA5E-E460FDC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DBA2-8470-4221-A6F0-5D25B24C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6DAC-A1B3-41D2-A5F9-8E71E97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8FF4-A5A9-4989-BE07-38C5159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014-CDA6-47CA-B243-CACABC7F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21D5-8400-43CB-BDBD-C3AB11BF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5EFB-4F86-4747-8414-D5E534E1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113A-3F9C-4472-941A-2CA01D0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143C6-0BF2-457C-B83A-1C19098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CC712-417E-419B-B601-D3D6D214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F58-B30F-4899-A7E8-966E653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D358-0FCD-40D3-A0CA-72663B35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9B67-CC06-4353-9608-3B56CCF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8206-53CB-4DD9-8E32-4AE8AAE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34E7-2869-4F71-8E15-E401D42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C7B5-A722-461A-8E5B-ECF9A83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461A-79C0-4C8D-96BF-88547428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31C5-1064-47E8-908C-DE78540C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F116-7915-427D-966E-602BF2EB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6E1B-232D-41BA-B515-409A1090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FE52-AD4E-42C7-A710-E52A0DA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F91-4BD4-4D96-970A-339DB69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C214-BBD2-4BF2-8B0E-C81BD78B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6CDB-DBEA-479E-9137-D0A3A3C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203B-9454-458E-9A72-654914D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1006-270D-41A5-96B4-9281527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D0F9-C3C8-4B82-885E-1FDC663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3C14-F870-4A50-BA35-3B460C4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FB54-C835-4515-A63E-7E022E82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1708-0A9E-4C24-805D-C7D7D9DF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54E5-C84D-45DB-A560-7B2614A2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26E9F-D41E-43C9-ABC1-B4C97E98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B03-BC52-4683-AD98-ADA0584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D4BCF-EA5E-48CA-9AEE-3F01BE2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567CA-B6D0-4139-9B6F-9A1B3EAA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B8E9-F529-4B2E-AFC6-947D9C48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521A-2ADB-439C-857F-168E7C84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B77A-5987-447A-9969-A49015C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3311B-CE2F-4518-9E3D-2500DB3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24248-F7CC-437B-AECC-94C875F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B894F-456A-4BDB-A4ED-C475037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5F857-A30A-462B-BC38-E8DF8CAE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5101-1B47-4036-85CD-E8763831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761-E595-4B6E-B96A-184E181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5F73-B479-4844-A2C1-85B6275A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BF1D1-4CCA-42C3-B640-62EDB1C4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F88DD-6656-49C4-AC30-077DB56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D0B02-6002-4BB9-ADE0-255DA19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04564-7221-43D3-8DD1-9A3BA0D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F85FD-4DAB-4714-92A5-5A028D3D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90257-C865-497A-8159-8F16928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D1987-0600-4E48-95AF-BFFF6A7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8220A-3C6C-47C6-9680-345F3EF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C8D6D-4A9D-458C-A3F8-7BEA517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FE9-83FF-4E40-8670-39DEBB6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10728-7986-410D-A68D-3872D7D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90047-835D-40BC-B80F-B06E965E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0FEE3-033B-41E8-82BD-A8F37A83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EF0-18D9-4C2D-A921-BCD8B9C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534-7E96-4D73-9DBE-90812EF0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D9C-9E4B-46AF-9019-575B4F3D9BE7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8DC3-65C5-40D3-8DD5-574339F3D0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FA70-A645-452C-8525-4DDAEA23769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E5E-189C-4346-869F-EDCC61827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2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99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A5F-1C1E-4971-8B34-183C4CE2CFBC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24B-26BC-4CED-82F2-AA374105DD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46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ABF-C61F-451A-94A1-CB0BB398A608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F55E-F699-4060-8F20-3A5A4D623D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1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6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0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2B0-8A1E-4C2A-82B3-E3D78B2BCF98}" type="datetime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EE19-3C80-4FED-8BCC-DDD8705104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8B1-B529-4D35-8A61-9B3B745181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DA6-0CAD-446F-870C-BEF605B73DF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Рисунок 7" descr="https://elims.org.ua/pritchi/files/2012/10/pritcha-dva-volka.jpg"/>
          <p:cNvPicPr/>
          <p:nvPr/>
        </p:nvPicPr>
        <p:blipFill>
          <a:blip r:embed="rId1"/>
          <a:stretch/>
        </p:blipFill>
        <p:spPr>
          <a:xfrm>
            <a:off x="571680" y="142920"/>
            <a:ext cx="7500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3300"/>
                </a:solidFill>
                <a:latin typeface="Arial"/>
              </a:rPr>
              <a:t>Порассуждай с родителями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18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ногда человек делает злые поступки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ть притчу «О добром самарянине». Как в ней отражаются понятия, изученные на уроке?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Rectangle 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9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0" rIns="342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TextBox 4"/>
          <p:cNvSpPr/>
          <p:nvPr/>
        </p:nvSpPr>
        <p:spPr>
          <a:xfrm>
            <a:off x="1071720" y="1214280"/>
            <a:ext cx="778644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Добро и зло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Понятие греха , раскаяния и воздаяния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1114200"/>
            <a:ext cx="800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 о б р о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равственная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ценн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которая относится к человеческой деятель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 л о 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тивоположность доб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214800" cy="400032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928800" y="1357200"/>
            <a:ext cx="392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удаизме спасение понимается как  последовательное исполнение предписаний Бога, следование его заповедя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 заповеди Бог даровал человечеству во время заключения завета (договора) на горе Сина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000240" cy="38577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857160" y="1000080"/>
            <a:ext cx="428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Благородном Коране Бог сказал: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“Если вы будете отклоняться от великих грехов, что запрещаются вам, Мы избавим вас от ваших злых деяний и введём вас благородным входом (в почетные Врата Рая)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ые дела, которые совершает человек, искреннее раскаяние искупают его грех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4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2806560" cy="3446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5"/>
          <p:cNvSpPr/>
          <p:nvPr/>
        </p:nvSpPr>
        <p:spPr>
          <a:xfrm>
            <a:off x="1143000" y="14288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гласно библейскому рассказу, Адам и Ева совершив грех –непослушания – были изгнаны из ра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 непослушание  человека Богу  стали называть  грехом, а первое нарушение заповеди – грехопад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D:\NadyaDoc\ОРК и СЭ\Наглядность\рам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1071720" y="1214280"/>
            <a:ext cx="35715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 Буддизме нет представления о Боге и грехе. Зло для буддистов – это страдание, которые сопровождают человека всю жизнь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Чтобы освободиться от страдания, нужно отказаться от суетного мира и желаний. Только так можно добиться состояния непреходящего покоя и умиротворения – нирваны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Рисунок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Rectangle 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18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0" rIns="342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" name=""/>
          <p:cNvSpPr txBox="1"/>
          <p:nvPr/>
        </p:nvSpPr>
        <p:spPr>
          <a:xfrm>
            <a:off x="1142640" y="1213920"/>
            <a:ext cx="7715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Добро и зло творит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Всегда во власти всех людей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Но зло творится без труда,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Добро творить трудней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571840" y="214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ОБСУДИМ  ВМЕСТ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8" descr="C:\Documents and Settings\Nadya\Рабочий стол\вопрос.jpg"/>
          <p:cNvPicPr/>
          <p:nvPr/>
        </p:nvPicPr>
        <p:blipFill>
          <a:blip r:embed="rId2"/>
          <a:stretch/>
        </p:blipFill>
        <p:spPr>
          <a:xfrm>
            <a:off x="142920" y="285840"/>
            <a:ext cx="9288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Шатилова_Кононова</dc:creator>
  <dc:description/>
  <dc:language>en-US</dc:language>
  <cp:lastModifiedBy>Марина</cp:lastModifiedBy>
  <cp:lastPrinted>1997-01-19T19:09:28Z</cp:lastPrinted>
  <dcterms:modified xsi:type="dcterms:W3CDTF">2016-11-01T04:43:02Z</dcterms:modified>
  <cp:revision>403</cp:revision>
  <dc:subject>Россия- наша Родина</dc:subject>
  <dc:title>Материалы для 1 урока</dc:title>
</cp:coreProperties>
</file>