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9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0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21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2B8C-74A2-40F1-8978-435405547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5FFB-2358-42F1-A5D0-72B2141AF8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AA09-A16B-41CD-ADCB-32938B769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223C-AD1F-461F-8CF6-8D7C2F49F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263-9480-47E1-84CB-05B823F51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B15B-3E20-4714-B7A0-A93A8A76D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08B7-AC1E-4C87-8DFE-6870ABA14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FCDA-2D07-42DB-8D43-7FC1E0324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26A-CE18-403B-AB14-1D6526DB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34B-7046-4412-A18A-79559519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772-BCD6-485F-840E-E79F94B3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15E-8214-46C6-BC34-27EF1AAD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685D-A4D1-45A0-AF09-F095A42B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5B05-13BF-442C-8FD9-ED34871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15F9-62F3-437B-B06B-7F81D31D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FDE5-3BC3-43D6-A1D8-C9B0F57C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5556-12F6-4B50-B6BD-F5D662FC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29E1-3443-46DA-864B-45D4646E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149F-797B-4BCB-8300-423BA9D7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19E-AA2C-48B3-A46A-27B70DAB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C475-5560-4786-97F5-3A54498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B73F-4D2E-45DD-B3E9-4D18899D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4F3A-D3F7-436B-B439-B43875C6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7EB8-8F67-472C-85B9-5F7290F2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2FDC-C586-4833-883A-D41EE57D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9520-0FCE-44D7-AEBD-0864FC3E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C9EC-0124-493E-B478-223A907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397B-9CDA-487E-9724-47708B74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4DFD-A36F-4731-BEF5-84424192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C4CA-EB33-4674-8E53-8153C2C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322-CB15-4429-9857-E9D16E7C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32BE-3941-4C8B-8758-A359CC5D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BB9F-7BB8-4016-839B-ED4CE15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184E4-36E6-4C1E-87E7-56C04111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3C7C-7668-42B6-BD68-4344EF3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C022-77E9-4332-8BEC-7120C5B3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F2819-142C-4785-B72B-C503BACD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91F3-EC41-47A8-8637-58EE679F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30A03-FEC6-41C4-A0A2-6A08810E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AEA3-81BD-47FA-839F-CC98D920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A959-38DA-4668-8548-70E72D8C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74B-4844-4621-8DD6-45D4CB23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65F67-C029-4D05-93DC-0AE6F0F2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A4DD-1FE0-427E-A7DF-19E6798C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8378-87A3-4A7E-AC55-2BF040D0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642A-2B76-4A62-8CAA-96930A0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D4BF-0572-457E-8156-173BBA2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1221-4BA8-4855-9C67-DC2BB2F4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AEA9-E7BC-46B1-AA35-34E1BBF1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11C31-9E3D-4C76-A95E-573E3760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5AD0-8190-437F-94A5-7789718E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919E-1412-4A3C-BC0E-5006296F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605-3DD1-4639-914F-B11B07EE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8C09-C9EF-4D65-B8B0-D46007D0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C361-0277-4E17-885E-13F79A7E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E6FE-76C1-4AF2-AF5C-27CF598F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D4D0-F9D7-4D67-8B74-DA37A5BB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8D18D-2B16-4125-B21E-D1062C9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0C625-CFB8-4945-80D7-84C9BD95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303E-B0B9-4904-8CE1-0272A616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E4281-C64D-4E19-B8DE-73C1CD7D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2C19-E989-4FCB-BA08-F40D3810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3A9C5-F033-4C9A-92ED-F6B00304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4C6-3F94-4635-B18D-5385880C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FE04F-2656-402A-9702-FC6675CC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CA12F-CE9E-4177-A5A9-1B72253A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5024A-4391-4559-B56E-664E99E5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4C86A-663B-4E76-888D-40E115BF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C207C-E253-4A84-A6B4-899C3C79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61ABA-2527-4A81-B2F6-FD85B739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C3824-28FD-4424-8E7E-EFA928A2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94FBB-F7C0-4DF0-AE71-14EE014D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FC9BD-BAC8-4231-A0BB-BA3FBFE6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A494E-89B8-4943-8CF9-D4CB56BB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6BC-9241-4E6D-9E79-0191E216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57CD7-8337-4858-8C65-53F355E8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8CA78-CB64-4EB6-A01E-3B388407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4989C-D7A0-445E-9795-242D56F1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4A4-4BD4-44E6-8F6C-989224BB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2F8-BB43-4E38-8999-CE546DC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1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A44-07F3-4F50-926B-5466A5ACA934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2A1F-3D12-4554-9624-FF2BA8C988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F33A-B3CD-4AC6-B9DE-2667B4C6A95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350-0382-4FEC-9DFC-62AE1F640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1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9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BCA0-7003-478D-9DE6-C955CD0D6300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83E0-A622-4FD9-BEB5-89F52CF089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1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6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AE4A-EB49-4B59-A201-C6F5E6C4A761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6A3E-EC2C-4727-AE3D-81DFA6D4C8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1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6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0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0513-A266-4396-9900-C50D672FA1E2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096F-127B-48C5-A01C-4810036ECC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0D5C-8ECD-4B9A-B07A-88695D03F2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A834-098B-4240-9B5F-E410E8779DA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Рисунок 7" descr="https://elims.org.ua/pritchi/files/2012/10/pritcha-dva-volka.jpg"/>
          <p:cNvPicPr/>
          <p:nvPr/>
        </p:nvPicPr>
        <p:blipFill>
          <a:blip r:embed="rId1"/>
          <a:stretch/>
        </p:blipFill>
        <p:spPr>
          <a:xfrm>
            <a:off x="571680" y="142920"/>
            <a:ext cx="75006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Порассуждай с родителями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818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ногда человек делает злые поступки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ть притчу «О добром самарянине». Как в ней отражаются понятия, изученные на уроке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Rectangle 2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9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0" rIns="342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TextBox 4"/>
          <p:cNvSpPr/>
          <p:nvPr/>
        </p:nvSpPr>
        <p:spPr>
          <a:xfrm>
            <a:off x="1071720" y="1214280"/>
            <a:ext cx="778644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Добро и зло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Понятие греха , раскаяния и воздаяния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000" y="1114200"/>
            <a:ext cx="800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 о б р о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равственная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ценнос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которая относится к человеческой деятельност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 л о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тивоположность доб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D:\NadyaDoc\ОРК и СЭ\Наглядность\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"/>
          <p:cNvPicPr/>
          <p:nvPr/>
        </p:nvPicPr>
        <p:blipFill>
          <a:blip r:embed="rId2"/>
          <a:stretch/>
        </p:blipFill>
        <p:spPr>
          <a:xfrm>
            <a:off x="4786200" y="1428840"/>
            <a:ext cx="3214800" cy="4000320"/>
          </a:xfrm>
          <a:prstGeom prst="rect">
            <a:avLst/>
          </a:prstGeom>
          <a:ln w="0">
            <a:noFill/>
          </a:ln>
        </p:spPr>
      </p:pic>
      <p:sp>
        <p:nvSpPr>
          <p:cNvPr id="307" name="TextBox 6"/>
          <p:cNvSpPr/>
          <p:nvPr/>
        </p:nvSpPr>
        <p:spPr>
          <a:xfrm>
            <a:off x="928800" y="1357200"/>
            <a:ext cx="392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иудаизме спасение понимается как  последовательное исполнение предписаний Бога, следование его заповедя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 заповеди Бог даровал человечеству во время заключения завета (договора) на горе Сина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NadyaDoc\ОРК и СЭ\Наглядность\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3000240" cy="38577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"/>
          <p:cNvSpPr/>
          <p:nvPr/>
        </p:nvSpPr>
        <p:spPr>
          <a:xfrm>
            <a:off x="857160" y="1000080"/>
            <a:ext cx="4286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Благородном Коране Бог сказал: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“Если вы будете отклоняться от великих грехов, что запрещаются вам, Мы избавим вас от ваших злых деяний и введём вас благородным входом (в почетные Врата Рая)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ые дела, которые совершает человек, искреннее раскаяние искупают его грех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D:\NadyaDoc\ОРК и СЭ\Наглядность\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4" descr=""/>
          <p:cNvPicPr/>
          <p:nvPr/>
        </p:nvPicPr>
        <p:blipFill>
          <a:blip r:embed="rId2"/>
          <a:stretch/>
        </p:blipFill>
        <p:spPr>
          <a:xfrm>
            <a:off x="4857840" y="1643040"/>
            <a:ext cx="2806560" cy="3446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5"/>
          <p:cNvSpPr/>
          <p:nvPr/>
        </p:nvSpPr>
        <p:spPr>
          <a:xfrm>
            <a:off x="1143000" y="1428840"/>
            <a:ext cx="357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гласно библейскому рассказу, Адам и Ева совершив грех –непослушания – были изгнаны из ра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 непослушание  человека Богу  стали называть  грехом, а первое нарушение заповеди – грехопад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D:\NadyaDoc\ОРК и СЭ\Наглядность\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1071720" y="1214280"/>
            <a:ext cx="35715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 Буддизме нет представления о Боге и грехе. Зло для буддистов – это страдание, которые сопровождают человека всю жизнь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Чтобы освободиться от страдания, нужно отказаться от суетного мира и желаний. Только так можно добиться состояния непреходящего покоя и умиротворения – нирваны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" name="Рисунок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143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Rectangle 2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18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0" rIns="342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" name=""/>
          <p:cNvSpPr txBox="1"/>
          <p:nvPr/>
        </p:nvSpPr>
        <p:spPr>
          <a:xfrm>
            <a:off x="1142640" y="1213920"/>
            <a:ext cx="7715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Добро и зло творит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Всегда во власти всех людей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Но зло творится без труда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Добро творить трудней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2571840" y="214200"/>
            <a:ext cx="50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ОБСУДИМ  ВМЕСТ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8" descr="C:\Documents and Settings\Nadya\Рабочий стол\вопрос.jpg"/>
          <p:cNvPicPr/>
          <p:nvPr/>
        </p:nvPicPr>
        <p:blipFill>
          <a:blip r:embed="rId2"/>
          <a:stretch/>
        </p:blipFill>
        <p:spPr>
          <a:xfrm>
            <a:off x="142920" y="285840"/>
            <a:ext cx="928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Шатилова_Кононова</dc:creator>
  <dc:description/>
  <dc:language>en-US</dc:language>
  <cp:lastModifiedBy>Марина</cp:lastModifiedBy>
  <cp:lastPrinted>1997-01-19T19:09:28Z</cp:lastPrinted>
  <dcterms:modified xsi:type="dcterms:W3CDTF">2016-11-01T04:43:02Z</dcterms:modified>
  <cp:revision>403</cp:revision>
  <dc:subject>Россия- наша Родина</dc:subject>
  <dc:title>Материалы для 1 урока</dc:title>
</cp:coreProperties>
</file>