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E34-C524-4A50-8326-EABB4255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7B5-093B-4552-BDF5-33BA0BCB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DA5-C22E-464D-A9AD-218C80C7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199-3AEA-4B79-95F6-46057BF3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C90-A451-4791-A33D-7A110EF5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CBC-66D1-4918-AAD1-BB4F38A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760-5248-4CD1-9A9E-8A4C3599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DC0-ADC7-4496-9556-F8A85E7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5E1-88FE-40E9-AF40-B444EC07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4FF-85F2-41D8-BB43-A93F4B3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97-7AB9-45D3-B5D5-779C169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048-58CD-4C69-90EE-B2BB18B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1188-EDE9-4866-93A3-B8EA257AE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63640" y="907920"/>
            <a:ext cx="531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.А. Сухомлинс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3906720" y="3213000"/>
            <a:ext cx="4560840" cy="309564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1628640"/>
            <a:ext cx="84358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ель анкетирования: </a:t>
            </a: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явление роли родителей в формировании здоровья детей и приобщении их к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3597120" y="3357720"/>
            <a:ext cx="450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Организация двигательной активности  в режиме д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ая иг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3059280" y="2841480"/>
            <a:ext cx="47988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692360" y="1268280"/>
            <a:ext cx="5616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движение себя самог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В здоровом теле здоровый …? (глаз, нос, ду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Пешком ходить – долго….? (идти, жить, жд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Трус не играет в…? (волейбол, хоккей, бадминт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6" descr=""/>
          <p:cNvPicPr/>
          <p:nvPr/>
        </p:nvPicPr>
        <p:blipFill>
          <a:blip r:embed="rId1"/>
          <a:stretch/>
        </p:blipFill>
        <p:spPr>
          <a:xfrm>
            <a:off x="6588000" y="3500280"/>
            <a:ext cx="1737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  дистанция   «Эрудиты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843280" y="1876320"/>
            <a:ext cx="3973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2  дистанц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 "Физкультурный калейдоскоп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3348000" y="2316240"/>
            <a:ext cx="3916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332000" y="765000"/>
            <a:ext cx="63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ксимально допустимая продолжительность непосредственно образовательной деятельности  в группе старшего дошкольного возраста с 5 – 6 л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15 минут; б) 25 минут; в) 30 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м знаменательна дата 7 апрел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день шофера; б) день здоровья; в) день матер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ука о правилах лечения  травам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хромотерапия; б) литотерапия; в) фитотерап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ение согласовывать движения различных частей те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кооперация, б) координация, в) корпор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узыкальная пау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3059280" y="2322360"/>
            <a:ext cx="36734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 дистанция   "Кроссворд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1187280" y="189000"/>
            <a:ext cx="763272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7201080" cy="71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187280" y="115920"/>
            <a:ext cx="558036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рмативно-прав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425"/>
              </a:spcAft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Закон РФ «Об образовании» (ст. 5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 санитарно-эпидемиологическом благополучии населен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А так же Указами Президента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 неотложных мерах по обеспечению здоровья населения РФ» 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«Об утверждении основных направлений государственной социальной политики по улучшению положения детей в РФ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4140360" y="3954600"/>
            <a:ext cx="38876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1908000" y="981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 дистанция  "Творческая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"/>
          <a:stretch/>
        </p:blipFill>
        <p:spPr>
          <a:xfrm>
            <a:off x="3780000" y="2852640"/>
            <a:ext cx="32400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268360" y="981000"/>
            <a:ext cx="495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здоров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ряд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бе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изкульту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лощ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42680" y="981000"/>
            <a:ext cx="53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 дистанция  «Черный ящ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28684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1763640" y="765000"/>
            <a:ext cx="60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сделать ребенка умным и рассудительным, сделайте его крепким и здоровым: пусть он работает, действует, бегает, кричит, пусть он находится в постоянном движени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н-Жак Рус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тоги тематической провер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2160360" cy="205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195640" y="1052640"/>
            <a:ext cx="457200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нализ состояния здоровья воспитанник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5"/>
          <p:cNvSpPr/>
          <p:nvPr/>
        </p:nvSpPr>
        <p:spPr>
          <a:xfrm>
            <a:off x="1908000" y="765000"/>
            <a:ext cx="49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совместной деятельности  воспитателя и родителей по организации оздоровительной работы с дет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7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4464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1583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хранение психологического здоровья дошкольников через профилактическую работу с семь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3203640" y="3897360"/>
            <a:ext cx="525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оэнергопластика как элемент здоровьесберегающих технолог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41371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ути и способы укрепления и сохранения здоровья дошкольников при реализации образовательной области «Музы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3492360" y="3141720"/>
            <a:ext cx="4440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зультаты  анкетирования родителей по теме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Сохранение и укрепление здоровья ребенка в сем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Owner</cp:lastModifiedBy>
  <dcterms:modified xsi:type="dcterms:W3CDTF">2013-11-28T16:04:02Z</dcterms:modified>
  <cp:revision>30</cp:revision>
  <dc:subject/>
  <dc:title>«Забота о здоровье – это важнейший труд воспитателя</dc:title>
</cp:coreProperties>
</file>