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5B1-9AAD-4485-8FAB-D9E49864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2E8-0DDE-4736-A63A-113C557E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147-6D82-484C-9702-FA1DFEF5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DC0-4D8E-42E6-822D-52EF18A9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9C8-C296-46BC-9C8C-556CF55A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9FD-39F7-4CA9-AEFD-36344A79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2DE-A0FB-4806-B017-A952DBA6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7AA-F7DA-47B8-BFD1-191A87DB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86B-D293-477C-A4D1-8F6634A4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FF4-EEF0-4B33-9CB7-9C69F51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93B-A938-4B72-98F4-17FCC4E5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D5A-741C-4D74-BC7C-A0E65BB4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6A30-97E5-482F-80B1-2F4D096FD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763640" y="907920"/>
            <a:ext cx="531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Забота о здоровье –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.А. Сухомлинс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"/>
          <p:cNvPicPr/>
          <p:nvPr/>
        </p:nvPicPr>
        <p:blipFill>
          <a:blip r:embed="rId1"/>
          <a:stretch/>
        </p:blipFill>
        <p:spPr>
          <a:xfrm>
            <a:off x="3906720" y="3213000"/>
            <a:ext cx="4560840" cy="3095640"/>
          </a:xfrm>
          <a:prstGeom prst="rect">
            <a:avLst/>
          </a:prstGeom>
          <a:ln w="0">
            <a:noFill/>
          </a:ln>
        </p:spPr>
      </p:pic>
      <p:sp>
        <p:nvSpPr>
          <p:cNvPr id="43" name="Скругленный прямоугольник 3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1628640"/>
            <a:ext cx="843588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ель анкетирования: </a:t>
            </a:r>
            <a:br>
              <a:rPr sz="1800"/>
            </a:br>
            <a:br>
              <a:rPr sz="18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явление роли родителей в формировании здоровья детей и приобщении их к здоровому образу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3597120" y="3357720"/>
            <a:ext cx="4500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Организация двигательной активности  в режиме дн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ловая иг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3059280" y="2841480"/>
            <a:ext cx="47988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ин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1692360" y="1268280"/>
            <a:ext cx="56163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Передвижение себя самог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В здоровом теле здоровый …? (глаз, нос, ду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Пешком ходить – долго….? (идти, жить, жда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Трус не играет в…? (волейбол, хоккей, бадминто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6" descr=""/>
          <p:cNvPicPr/>
          <p:nvPr/>
        </p:nvPicPr>
        <p:blipFill>
          <a:blip r:embed="rId1"/>
          <a:stretch/>
        </p:blipFill>
        <p:spPr>
          <a:xfrm>
            <a:off x="6588000" y="3500280"/>
            <a:ext cx="17370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  дистанция   «Эрудиты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2843280" y="1876320"/>
            <a:ext cx="39733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2  дистанц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 "Физкультурный калейдоскоп"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3348000" y="2316240"/>
            <a:ext cx="3916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1332000" y="765000"/>
            <a:ext cx="633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ксимально допустимая продолжительность непосредственно образовательной деятельности  в группе старшего дошкольного возраста с 5 – 6 л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15 минут; б) 25 минут; в) 30  мин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ем знаменательна дата 7 апрел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день шофера; б) день здоровья; в) день матер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ука о правилах лечения  травам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хромотерапия; б) литотерапия; в) фитотерап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мение согласовывать движения различных частей те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кооперация, б) координация, в) корпор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узыкальная пау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3059280" y="2322360"/>
            <a:ext cx="367344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 дистанция   "Кроссворд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4513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1187280" y="189000"/>
            <a:ext cx="763272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7201080" cy="71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1187280" y="115920"/>
            <a:ext cx="558036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lang="ru-RU" sz="20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ормативно-правовые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425"/>
              </a:spcAft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Закон РФ «Об образовании» (ст. 5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«О санитарно-эпидемиологическом благополучии населен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А так же Указами Президента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«О неотложных мерах по обеспечению здоровья населения РФ»  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«Об утверждении основных направлений государственной социальной политики по улучшению положения детей в РФ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4140360" y="3954600"/>
            <a:ext cx="38876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1908000" y="981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 дистанция  "Творческая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3780000" y="2852640"/>
            <a:ext cx="32400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268360" y="981000"/>
            <a:ext cx="495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здоровь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ряд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пор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бед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физкульту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лоща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542680" y="981000"/>
            <a:ext cx="53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 дистанция  «Черный ящи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4284720" y="2997360"/>
            <a:ext cx="28684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/>
          <p:cNvSpPr/>
          <p:nvPr/>
        </p:nvSpPr>
        <p:spPr>
          <a:xfrm>
            <a:off x="1763640" y="765000"/>
            <a:ext cx="60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бы сделать ребенка умным и рассудительным, сделайте его крепким и здоровым: пусть он работает, действует, бегает, кричит, пусть он находится в постоянном движени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ан-Жак Русс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тоги тематической провер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2160360" cy="2051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195640" y="1052640"/>
            <a:ext cx="4572000" cy="36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ализ состояния здоровья воспитанник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5"/>
          <p:cNvSpPr/>
          <p:nvPr/>
        </p:nvSpPr>
        <p:spPr>
          <a:xfrm>
            <a:off x="1908000" y="76500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 совместной деятельности  воспитателя и родителей по организации оздоровительной работы с дет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7" descr=""/>
          <p:cNvPicPr/>
          <p:nvPr/>
        </p:nvPicPr>
        <p:blipFill>
          <a:blip r:embed="rId1"/>
          <a:stretch/>
        </p:blipFill>
        <p:spPr>
          <a:xfrm>
            <a:off x="3708360" y="3429000"/>
            <a:ext cx="4464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1583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хранение психологического здоровья дошкольников через профилактическую работу с семь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3203640" y="3897360"/>
            <a:ext cx="5256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иоэнергопластика как элемент здоровьесберегающих технолог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41371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Пути и способы укрепления и сохранения здоровья дошкольников при реализации образовательной области «Музы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3492360" y="3141720"/>
            <a:ext cx="44402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езультаты  анкетирования родителей по теме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Сохранение и укрепление здоровья ребенка в семь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Owner</cp:lastModifiedBy>
  <dcterms:modified xsi:type="dcterms:W3CDTF">2013-11-28T16:04:02Z</dcterms:modified>
  <cp:revision>30</cp:revision>
  <dc:subject/>
  <dc:title>«Забота о здоровье – это важнейший труд воспитателя</dc:title>
</cp:coreProperties>
</file>