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DFBB-8CD1-442E-B0A8-F29F2B67F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6B98-2BB0-4C7A-933E-54FC6B9E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0907-3BEE-486C-8D8C-EC173F39A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1C43-609E-4773-920A-5E7463426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43E2B-DAB8-4667-9478-2A6BED853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DA90C-207D-4385-B980-F5A97EDA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A703F-12A3-4333-AF99-204E01CA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1191C-6B2E-48D4-992E-1EB2CA58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E82F7-6070-4C93-95F4-2EBA0012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75966-6D4E-4297-B571-50B79C48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93FC4-8C33-4A3E-97E8-2A925C44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4B26-A717-49A1-A2D8-C39005BC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D434EA-2849-40B2-B0FD-85527F54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69A32-F318-4B5D-979A-387A5712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1A4C84-4FFF-4C68-956E-A9D56CD8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E6F1D-F999-475F-A94C-2D71A9A1A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CE080-802C-48F1-AD76-D47B34F37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3849C-3534-4F3E-9B12-F859FCF77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F1337-DDCA-44FA-990F-12319159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72010-BD58-46FF-9D2A-4E9B6FB1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83709-68CD-40D5-9C29-54CEB2F5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FDF46-8736-4747-8E51-301CF6EE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CAD3-35FC-4E24-B0FB-DDE770A9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B83D8-F0E0-4C44-8F07-6D8BA383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ECF09-DE44-426B-9C16-1F5248DA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352C8-6FAD-4D38-92C1-9CB7B303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968E6-FA43-4CE3-A3E5-C2E336E4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4867A-FE1F-44FA-8A7A-4B78A5AE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33353-09C6-4896-953B-C0353896B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B680F-84DD-42AF-AD02-098492F37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904A35-4381-4C61-B518-BA832069B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742E83-4498-4F62-8A25-C48274E0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D0EC8A-5DF9-4099-9BC1-68F832D0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BB96-F46D-4A94-864C-DDABF9AC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A9CE4A-46A4-454C-B8F3-6C5B8022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AC8D50-31BE-41AD-B68B-B197AB21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2781E8-4D34-4145-9988-36DD9E3D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BEBE58-F7DC-4A3D-B4DF-771DE54E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CB393E-D724-42B0-AB76-CA913CEC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EAC679-0352-4DDB-9BDC-1E4FCDD0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C81D05-BD70-48C1-AFEE-ED08FE6E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43F427-5075-4AC9-A48A-6EEDBA8A2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94AB37-6C82-4699-9018-8C8EF5E91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9258-F072-4D18-A2E3-ECB1017F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EFF8-1883-499E-AEA2-03724ACD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30F8-6C2C-437B-A86A-04F1B1EC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E141-776A-42D5-9BA1-73AB9BDC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459B-15F0-49DB-93B2-BC2C39FE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E837-7CB7-4E2E-82B3-8685126DE794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7F51-C984-405C-AD66-743FFFF7D35A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9938-D03B-49EF-A952-E064ACD5C6AB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C2E3-D600-47F5-8F5B-3C2A5053EA70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00720" y="5877000"/>
            <a:ext cx="4464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efac9"/>
                </a:solidFill>
                <a:latin typeface="Constantia"/>
              </a:rPr>
              <a:t>Воспитатель: Даминова З.С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Rectangle 2" descr=""/>
          <p:cNvPicPr/>
          <p:nvPr/>
        </p:nvPicPr>
        <p:blipFill>
          <a:blip r:embed="rId1"/>
          <a:stretch/>
        </p:blipFill>
        <p:spPr>
          <a:xfrm>
            <a:off x="609480" y="334800"/>
            <a:ext cx="7772400" cy="237204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5"/>
          <p:cNvSpPr/>
          <p:nvPr/>
        </p:nvSpPr>
        <p:spPr>
          <a:xfrm>
            <a:off x="2286000" y="301788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8" descr=""/>
          <p:cNvPicPr/>
          <p:nvPr/>
        </p:nvPicPr>
        <p:blipFill>
          <a:blip r:embed="rId2"/>
          <a:srcRect l="12831" t="4651" r="16354" b="2877"/>
          <a:stretch/>
        </p:blipFill>
        <p:spPr>
          <a:xfrm>
            <a:off x="324000" y="260280"/>
            <a:ext cx="6624360" cy="5423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Rectangle 5" descr=""/>
          <p:cNvPicPr/>
          <p:nvPr/>
        </p:nvPicPr>
        <p:blipFill>
          <a:blip r:embed="rId1"/>
          <a:stretch/>
        </p:blipFill>
        <p:spPr>
          <a:xfrm>
            <a:off x="457200" y="291960"/>
            <a:ext cx="8229600" cy="1384560"/>
          </a:xfrm>
          <a:prstGeom prst="rect">
            <a:avLst/>
          </a:prstGeom>
          <a:ln w="0">
            <a:noFill/>
          </a:ln>
        </p:spPr>
      </p:pic>
      <p:grpSp>
        <p:nvGrpSpPr>
          <p:cNvPr id="209" name="Organization Chart 8"/>
          <p:cNvGrpSpPr/>
          <p:nvPr/>
        </p:nvGrpSpPr>
        <p:grpSpPr>
          <a:xfrm>
            <a:off x="431640" y="836640"/>
            <a:ext cx="8208360" cy="5131080"/>
            <a:chOff x="431640" y="836640"/>
            <a:chExt cx="8208360" cy="5131080"/>
          </a:xfrm>
        </p:grpSpPr>
        <p:cxnSp>
          <p:nvCxnSpPr>
            <p:cNvPr id="210" name="_s3076"/>
            <p:cNvCxnSpPr>
              <a:stCxn id="211" idx="0"/>
              <a:endCxn id="212" idx="2"/>
            </p:cNvCxnSpPr>
            <p:nvPr/>
          </p:nvCxnSpPr>
          <p:spPr>
            <a:xfrm flipV="1" rot="16200000">
              <a:off x="5459040" y="1964880"/>
              <a:ext cx="1026720" cy="2873520"/>
            </a:xfrm>
            <a:prstGeom prst="bentConnector3">
              <a:avLst>
                <a:gd name="adj1" fmla="val 1392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13" name="_s3077"/>
            <p:cNvCxnSpPr>
              <a:stCxn id="214" idx="0"/>
              <a:endCxn id="212" idx="2"/>
            </p:cNvCxnSpPr>
            <p:nvPr/>
          </p:nvCxnSpPr>
          <p:spPr>
            <a:xfrm flipV="1">
              <a:off x="4536000" y="2888640"/>
              <a:ext cx="3600" cy="1026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15" name="_s3078"/>
            <p:cNvCxnSpPr>
              <a:stCxn id="216" idx="0"/>
              <a:endCxn id="212" idx="2"/>
            </p:cNvCxnSpPr>
            <p:nvPr/>
          </p:nvCxnSpPr>
          <p:spPr>
            <a:xfrm flipH="1" flipV="1" rot="5400000">
              <a:off x="2585880" y="1965240"/>
              <a:ext cx="1026720" cy="2873520"/>
            </a:xfrm>
            <a:prstGeom prst="bentConnector3">
              <a:avLst>
                <a:gd name="adj1" fmla="val 13924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12" name="_s3079"/>
            <p:cNvSpPr/>
            <p:nvPr/>
          </p:nvSpPr>
          <p:spPr>
            <a:xfrm>
              <a:off x="3304440" y="836640"/>
              <a:ext cx="2462400" cy="2052360"/>
            </a:xfrm>
            <a:prstGeom prst="roundRect">
              <a:avLst>
                <a:gd name="adj" fmla="val 16667"/>
              </a:avLst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Продолжительность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6" name="_s3080"/>
            <p:cNvSpPr/>
            <p:nvPr/>
          </p:nvSpPr>
          <p:spPr>
            <a:xfrm>
              <a:off x="431640" y="3915360"/>
              <a:ext cx="2462400" cy="2052360"/>
            </a:xfrm>
            <a:prstGeom prst="roundRect">
              <a:avLst>
                <a:gd name="adj" fmla="val 16667"/>
              </a:avLst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Краткосрочный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Несколько занятий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1-2 недели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4" name="_s3081"/>
            <p:cNvSpPr/>
            <p:nvPr/>
          </p:nvSpPr>
          <p:spPr>
            <a:xfrm>
              <a:off x="3304440" y="3915360"/>
              <a:ext cx="2462400" cy="2052360"/>
            </a:xfrm>
            <a:prstGeom prst="roundRect">
              <a:avLst>
                <a:gd name="adj" fmla="val 16667"/>
              </a:avLst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Средней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продолжительности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1 -3 месяца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_s3082"/>
            <p:cNvSpPr/>
            <p:nvPr/>
          </p:nvSpPr>
          <p:spPr>
            <a:xfrm>
              <a:off x="6177600" y="3915360"/>
              <a:ext cx="2462400" cy="2052360"/>
            </a:xfrm>
            <a:prstGeom prst="roundRect">
              <a:avLst>
                <a:gd name="adj" fmla="val 16667"/>
              </a:avLst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Долгосрочный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До года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395280" y="549360"/>
          <a:ext cx="8229600" cy="6148440"/>
        </p:xfrm>
        <a:graphic>
          <a:graphicData uri="http://schemas.openxmlformats.org/drawingml/2006/table">
            <a:tbl>
              <a:tblPr/>
              <a:tblGrid>
                <a:gridCol w="442800"/>
                <a:gridCol w="36720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тап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держ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бор темы прое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довлетворение интересов и потребностей ребёнка, запросов родителей, воспитатель инициато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ланиро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Модель трёх вопросов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Что знаем? Что хотим узнать? Как узнать?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ставление «Паутинки» (виды деятельности, направленные на реализацию проект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ланирование проектов (конечный продукт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лендарное планир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ализация прое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дача воспитателя: Организация деятельности детей в центрах (образовательных областях), оснащение оборудованием и материалами в соответствии с темой проек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вершение прое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езентация конечно продук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8" name="Rectangle 2" descr=""/>
          <p:cNvPicPr/>
          <p:nvPr/>
        </p:nvPicPr>
        <p:blipFill>
          <a:blip r:embed="rId1"/>
          <a:stretch/>
        </p:blipFill>
        <p:spPr>
          <a:xfrm>
            <a:off x="0" y="0"/>
            <a:ext cx="8229600" cy="646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Rectangle 5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94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0" name=""/>
          <p:cNvGraphicFramePr/>
          <p:nvPr/>
        </p:nvGraphicFramePr>
        <p:xfrm>
          <a:off x="457200" y="836640"/>
          <a:ext cx="8229600" cy="5735520"/>
        </p:xfrm>
        <a:graphic>
          <a:graphicData uri="http://schemas.openxmlformats.org/drawingml/2006/table">
            <a:tbl>
              <a:tblPr/>
              <a:tblGrid>
                <a:gridCol w="658800"/>
                <a:gridCol w="3743280"/>
                <a:gridCol w="3827520"/>
              </a:tblGrid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тапы проек-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ятельность педагог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ятельность дет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04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эта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Формирует проблему (цель)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и постановке цели определяется и продукт проек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Вводит в игровую ситуаци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Формулирует задач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Вхождение в проблем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Вживание в игровую ситуаци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Принятие задач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Дополнение задач проек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10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 эта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 Помогает в решении задач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Помогает спланировать       дея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Организует дея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 Объединение детей в рабочие групп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 Распределение амплу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 эта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 Практическая  помощь (по необходимости)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.Напрвавляет и контролирует осуществление проекта   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Формирование специфических знаний, умений, навык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9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 эта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.Подготовка к презентаци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езентац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.Продукт деятельности готовят к презент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.Представляют (зрителям  или экспертам) продукт деятель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2" descr=""/>
          <p:cNvPicPr/>
          <p:nvPr/>
        </p:nvPicPr>
        <p:blipFill>
          <a:blip r:embed="rId1"/>
          <a:stretch/>
        </p:blipFill>
        <p:spPr>
          <a:xfrm>
            <a:off x="365040" y="291960"/>
            <a:ext cx="8321760" cy="15242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4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nstantia"/>
              </a:rPr>
              <a:t>На основе изученных проблем детей поставить цель проекта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nstantia"/>
              </a:rPr>
              <a:t>Разработка плана достижения цели (обсуждение с родителями)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nstantia"/>
              </a:rPr>
              <a:t>Привлечение специалистов к осуществлению соответствующих разделов проекта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nstantia"/>
              </a:rPr>
              <a:t>Составление плана- схемы проекта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nstantia"/>
              </a:rPr>
              <a:t>Сбор, накопление материала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nstantia"/>
              </a:rPr>
              <a:t>Включение в план-схему проекта различных видов детской деятельности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nstantia"/>
              </a:rPr>
              <a:t>Домашние задания для самостоятельного выполнения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nstantia"/>
              </a:rPr>
              <a:t>Презентация проекта, открытое мероприятие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40384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468360" y="333360"/>
          <a:ext cx="8424720" cy="643104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блем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лное наименование проек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ип проек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Цель проек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разовательные обла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риод (продолжительность) и этапы реализации проек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жидаемые конечные результаты, важнейшие целевые показатели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8e58b6"/>
                        </a:buClr>
                        <a:buSzPct val="12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ля дет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8e58b6"/>
                        </a:buClr>
                        <a:buSzPct val="12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ля педагог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8e58b6"/>
                        </a:buClr>
                        <a:buSzPct val="12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ля родител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8e58b6"/>
                        </a:buClr>
                        <a:buSzPct val="12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ля ДО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частники проек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рганизация и продуманность системы оценивания (поэтапная и конечная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езентация проек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5" name="Rectangle 4" descr=""/>
          <p:cNvPicPr/>
          <p:nvPr/>
        </p:nvPicPr>
        <p:blipFill>
          <a:blip r:embed="rId1"/>
          <a:stretch/>
        </p:blipFill>
        <p:spPr>
          <a:xfrm>
            <a:off x="0" y="-19080"/>
            <a:ext cx="8229600" cy="433440"/>
          </a:xfrm>
          <a:prstGeom prst="rect">
            <a:avLst/>
          </a:prstGeom>
          <a:ln w="0">
            <a:noFill/>
          </a:ln>
        </p:spPr>
      </p:pic>
      <p:sp>
        <p:nvSpPr>
          <p:cNvPr id="226" name="Line 52"/>
          <p:cNvSpPr/>
          <p:nvPr/>
        </p:nvSpPr>
        <p:spPr>
          <a:xfrm flipV="1">
            <a:off x="468360" y="404640"/>
            <a:ext cx="0" cy="662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457200" y="620640"/>
          <a:ext cx="8229600" cy="5827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201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зн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ведущая деятельность –познавательно -исследовательская) указать фор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тение художественной литератур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ведущая деятельность – чтение) указать фор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ммуникац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ведущая деятельность – коммуникативная) указать фор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6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циализац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ведущая деятельность – игровая) указать фор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рудова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ведущая деятельность – трудовая) указать фор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езопас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интеграция разных видов деятельности) указать фор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6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доровь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интеграция разных видов деятельности) указать фор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изическая культу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ведущая деятельность – двигательная) указать фор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удожественное творче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ведущая деятельность – продуктивная) указать фор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6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узы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ведущая деятельность – музыкально-художественная) указать фор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ормы взаимодействия с семьёй и социальными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артнёрами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указать фор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жимные момен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интеграция разных видов деятельности) указать фор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8" name="Rectangle 4" descr=""/>
          <p:cNvPicPr/>
          <p:nvPr/>
        </p:nvPicPr>
        <p:blipFill>
          <a:blip r:embed="rId1"/>
          <a:stretch/>
        </p:blipFill>
        <p:spPr>
          <a:xfrm>
            <a:off x="0" y="115920"/>
            <a:ext cx="8229600" cy="438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469800" y="-244440"/>
            <a:ext cx="8229600" cy="101916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ru-RU" sz="6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en-US" sz="600" spc="-1" strike="noStrike">
                <a:solidFill>
                  <a:srgbClr val="ffffff"/>
                </a:solidFill>
                <a:latin typeface="Constantia"/>
              </a:rPr>
              <a:t>           </a:t>
            </a:r>
            <a:r>
              <a:rPr b="1" lang="ru-RU" sz="1500" spc="-1" strike="noStrike">
                <a:solidFill>
                  <a:srgbClr val="ffffff"/>
                </a:solidFill>
                <a:latin typeface="Constantia"/>
              </a:rPr>
              <a:t>Использование метода проектов – показатель высокой квалификации педагога, его прогрессивной методики обучения и развития детей. Недаром эти технологии относят к технологиям  ХХ</a:t>
            </a:r>
            <a:r>
              <a:rPr b="1" lang="en-US" sz="1500" spc="-1" strike="noStrike">
                <a:solidFill>
                  <a:srgbClr val="ffffff"/>
                </a:solidFill>
                <a:latin typeface="Constantia"/>
              </a:rPr>
              <a:t>I</a:t>
            </a:r>
            <a:r>
              <a:rPr b="1" lang="ru-RU" sz="1500" spc="-1" strike="noStrike">
                <a:solidFill>
                  <a:srgbClr val="ffffff"/>
                </a:solidFill>
                <a:latin typeface="Constantia"/>
              </a:rPr>
              <a:t> века, предусматривающим, прежде всего, умение адаптироваться к стремительно изменяющимся условиям жизни человека. Интенсивное изменение окружающей жизни, активное проникновение научно-технического прогресса во все её сферы диктуют педагогу необходимость выбирать более эффективные средства обучения и воспитания на основе интегрированных технологий, каковой является проектный метод. Он направлен на развитие личности ребёнка, его познавательных и творческих способностей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Constantia"/>
              </a:rPr>
              <a:t>   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nstantia"/>
              </a:rPr>
              <a:t>            </a:t>
            </a:r>
            <a:r>
              <a:rPr b="1" lang="ru-RU" sz="1500" spc="-1" strike="noStrike">
                <a:solidFill>
                  <a:srgbClr val="ffffff"/>
                </a:solidFill>
                <a:latin typeface="Constantia"/>
              </a:rPr>
              <a:t>В последние десятилетия наметились новые подходы к педагогическому взаимодействию детского сада и семьи. Признание приоритета семейного воспитания требует иных взаимоотношений семьи и детского сада, а именно сотрудничества, взаимодействия и доверительности. Детский сад и семья должны стремиться к созданию единого пространства развития ребёнка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40384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004760" indent="-228600">
              <a:lnSpc>
                <a:spcPct val="9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.С.Близнецова «Руководство Проектной деятельностью педагогов ДОУ» Журнал «Справочник старшего воспитателя» №9 2009 год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9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Л.Л. Тимофеева «Проектный метод в детском саду. Мультфильм своими руками» СПб.: Детство-Пресс, 2011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9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Т.В.Хабарова «Педагогические технологии в дошкольном образовании» СПб.: Детство-Пресс, 2011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9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О.Д. Смирнова «Метод проектирования в детском саду. Образовательная область «Чтение художественной литературы» М.: «Скрипторий 2003»,  2011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9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Методическое пособие «Проектная деятельность детей и установление партнёрских отношений с семьями воспитанников» СПб.: АНО ОЦ  «Гелиос», 2009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3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3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Rectangle 2" descr=""/>
          <p:cNvPicPr/>
          <p:nvPr/>
        </p:nvPicPr>
        <p:blipFill>
          <a:blip r:embed="rId1"/>
          <a:stretch/>
        </p:blipFill>
        <p:spPr>
          <a:xfrm>
            <a:off x="-109440" y="42840"/>
            <a:ext cx="8302680" cy="2760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569080" cy="619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Rectangle 4" descr=""/>
          <p:cNvPicPr/>
          <p:nvPr/>
        </p:nvPicPr>
        <p:blipFill>
          <a:blip r:embed="rId1"/>
          <a:stretch/>
        </p:blipFill>
        <p:spPr>
          <a:xfrm>
            <a:off x="401760" y="401760"/>
            <a:ext cx="8334360" cy="5730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148392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создание условий раскрывающих творческий и интеллектуальный потенциал дошкольников, ориентированных на диалогическое взаимодействие детей, взрослых и педагогов, способствующих самопознанию и саморазвитию всех участников процесс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9" name="Заголовок 1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125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ffcc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- обеспечить психологическое благополучие и здоровье детей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fcc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- создать необходимые условия для саморазвития, развития способностей ребенка-дошкольника; возможности реализации индивидуальных потребностей, соотнесение их с социальными и общекультурными нормами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fcc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- активизировать интерес к познанию, любознательность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fcc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- формировать ценностные ориентации у ребенка на образцах позитивного социального поведения человека, о нормах, правилах поведения, народных обычаях и традициях, сложившихся в казахстанском обществе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fcc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- развивать познавательные способност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1" name="Заголовок 1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279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1412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418680"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- создание условий для стимулирования интересов детей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418680"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- выстраивание отношений с ребенком на соучастии и сотворчестве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418680"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- мотивация деятельности детей, используя игровые методы и приемы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418680"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- учет возрастных особенностей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418680"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- системность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418680"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- сезонность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418680"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- учет личности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418680"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- взаимодействие с ребенком в условиях детского сада и семьи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4186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3" name="Заголовок 1" descr=""/>
          <p:cNvPicPr/>
          <p:nvPr/>
        </p:nvPicPr>
        <p:blipFill>
          <a:blip r:embed="rId1"/>
          <a:stretch/>
        </p:blipFill>
        <p:spPr>
          <a:xfrm>
            <a:off x="274680" y="291960"/>
            <a:ext cx="8412120" cy="12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Rectangle 2" descr=""/>
          <p:cNvPicPr/>
          <p:nvPr/>
        </p:nvPicPr>
        <p:blipFill>
          <a:blip r:embed="rId1"/>
          <a:stretch/>
        </p:blipFill>
        <p:spPr>
          <a:xfrm>
            <a:off x="549360" y="317520"/>
            <a:ext cx="8289720" cy="1492200"/>
          </a:xfrm>
          <a:prstGeom prst="rect">
            <a:avLst/>
          </a:prstGeom>
          <a:ln w="0">
            <a:noFill/>
          </a:ln>
        </p:spPr>
      </p:pic>
      <p:grpSp>
        <p:nvGrpSpPr>
          <p:cNvPr id="185" name="Organization Chart 15"/>
          <p:cNvGrpSpPr/>
          <p:nvPr/>
        </p:nvGrpSpPr>
        <p:grpSpPr>
          <a:xfrm>
            <a:off x="179280" y="1628640"/>
            <a:ext cx="8208720" cy="4607280"/>
            <a:chOff x="179280" y="1628640"/>
            <a:chExt cx="8208720" cy="4607280"/>
          </a:xfrm>
        </p:grpSpPr>
        <p:cxnSp>
          <p:nvCxnSpPr>
            <p:cNvPr id="186" name="_s1028"/>
            <p:cNvCxnSpPr>
              <a:stCxn id="187" idx="0"/>
              <a:endCxn id="188" idx="2"/>
            </p:cNvCxnSpPr>
            <p:nvPr/>
          </p:nvCxnSpPr>
          <p:spPr>
            <a:xfrm flipV="1" rot="16200000">
              <a:off x="5418720" y="2335320"/>
              <a:ext cx="921960" cy="3192840"/>
            </a:xfrm>
            <a:prstGeom prst="bentConnector3">
              <a:avLst>
                <a:gd name="adj1" fmla="val 123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89" name="_s1029"/>
            <p:cNvCxnSpPr>
              <a:stCxn id="190" idx="0"/>
              <a:endCxn id="188" idx="2"/>
            </p:cNvCxnSpPr>
            <p:nvPr/>
          </p:nvCxnSpPr>
          <p:spPr>
            <a:xfrm flipV="1" rot="16200000">
              <a:off x="4354560" y="3399480"/>
              <a:ext cx="921960" cy="1064520"/>
            </a:xfrm>
            <a:prstGeom prst="bentConnector3">
              <a:avLst>
                <a:gd name="adj1" fmla="val 123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1" name="_s1030"/>
            <p:cNvCxnSpPr>
              <a:stCxn id="192" idx="0"/>
              <a:endCxn id="188" idx="2"/>
            </p:cNvCxnSpPr>
            <p:nvPr/>
          </p:nvCxnSpPr>
          <p:spPr>
            <a:xfrm flipH="1" flipV="1" rot="5400000">
              <a:off x="3291840" y="3400560"/>
              <a:ext cx="921960" cy="1062360"/>
            </a:xfrm>
            <a:prstGeom prst="bentConnector3">
              <a:avLst>
                <a:gd name="adj1" fmla="val 123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3" name="_s1031"/>
            <p:cNvCxnSpPr>
              <a:stCxn id="194" idx="0"/>
              <a:endCxn id="188" idx="2"/>
            </p:cNvCxnSpPr>
            <p:nvPr/>
          </p:nvCxnSpPr>
          <p:spPr>
            <a:xfrm flipH="1" flipV="1" rot="5400000">
              <a:off x="2226600" y="2335320"/>
              <a:ext cx="921960" cy="3193200"/>
            </a:xfrm>
            <a:prstGeom prst="bentConnector3">
              <a:avLst>
                <a:gd name="adj1" fmla="val 123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88" name="_s1032"/>
            <p:cNvSpPr/>
            <p:nvPr/>
          </p:nvSpPr>
          <p:spPr>
            <a:xfrm>
              <a:off x="3371760" y="1628640"/>
              <a:ext cx="1824120" cy="1842840"/>
            </a:xfrm>
            <a:custGeom>
              <a:avLst/>
              <a:gdLst>
                <a:gd name="textAreaLeft" fmla="*/ 88920 w 1824120"/>
                <a:gd name="textAreaRight" fmla="*/ 1735200 w 1824120"/>
                <a:gd name="textAreaTop" fmla="*/ 88920 h 1842840"/>
                <a:gd name="textAreaBottom" fmla="*/ 1753920 h 1842840"/>
              </a:gdLst>
              <a:ahLst/>
              <a:rect l="textAreaLeft" t="textAreaTop" r="textAreaRight" b="textAreaBottom"/>
              <a:pathLst>
                <a:path w="21600" h="21822">
                  <a:moveTo>
                    <a:pt x="3600" y="0"/>
                  </a:moveTo>
                  <a:arcTo wR="3600" hR="3600" stAng="16200000" swAng="-5400000"/>
                  <a:lnTo>
                    <a:pt x="0" y="18222"/>
                  </a:lnTo>
                  <a:arcTo wR="3600" hR="3600" stAng="10800000" swAng="-5400000"/>
                  <a:lnTo>
                    <a:pt x="18000" y="218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Классификация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проектов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_s1033"/>
            <p:cNvSpPr/>
            <p:nvPr/>
          </p:nvSpPr>
          <p:spPr>
            <a:xfrm>
              <a:off x="179280" y="4393080"/>
              <a:ext cx="1824120" cy="1842840"/>
            </a:xfrm>
            <a:custGeom>
              <a:avLst/>
              <a:gdLst>
                <a:gd name="textAreaLeft" fmla="*/ 88920 w 1824120"/>
                <a:gd name="textAreaRight" fmla="*/ 1735200 w 1824120"/>
                <a:gd name="textAreaTop" fmla="*/ 88920 h 1842840"/>
                <a:gd name="textAreaBottom" fmla="*/ 1753920 h 1842840"/>
              </a:gdLst>
              <a:ahLst/>
              <a:rect l="textAreaLeft" t="textAreaTop" r="textAreaRight" b="textAreaBottom"/>
              <a:pathLst>
                <a:path w="21600" h="21822">
                  <a:moveTo>
                    <a:pt x="3600" y="0"/>
                  </a:moveTo>
                  <a:arcTo wR="3600" hR="3600" stAng="16200000" swAng="-5400000"/>
                  <a:lnTo>
                    <a:pt x="0" y="18222"/>
                  </a:lnTo>
                  <a:arcTo wR="3600" hR="3600" stAng="10800000" swAng="-5400000"/>
                  <a:lnTo>
                    <a:pt x="18000" y="218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Исследовательско-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Творческие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Результат-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творческий продукт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газета,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драматизация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2" name="_s1034"/>
            <p:cNvSpPr/>
            <p:nvPr/>
          </p:nvSpPr>
          <p:spPr>
            <a:xfrm>
              <a:off x="2307240" y="4393080"/>
              <a:ext cx="1824120" cy="1842840"/>
            </a:xfrm>
            <a:custGeom>
              <a:avLst/>
              <a:gdLst>
                <a:gd name="textAreaLeft" fmla="*/ 88920 w 1824120"/>
                <a:gd name="textAreaRight" fmla="*/ 1735200 w 1824120"/>
                <a:gd name="textAreaTop" fmla="*/ 88920 h 1842840"/>
                <a:gd name="textAreaBottom" fmla="*/ 1753920 h 1842840"/>
              </a:gdLst>
              <a:ahLst/>
              <a:rect l="textAreaLeft" t="textAreaTop" r="textAreaRight" b="textAreaBottom"/>
              <a:pathLst>
                <a:path w="21600" h="21822">
                  <a:moveTo>
                    <a:pt x="3600" y="0"/>
                  </a:moveTo>
                  <a:arcTo wR="3600" hR="3600" stAng="16200000" swAng="-5400000"/>
                  <a:lnTo>
                    <a:pt x="0" y="18222"/>
                  </a:lnTo>
                  <a:arcTo wR="3600" hR="3600" stAng="10800000" swAng="-5400000"/>
                  <a:lnTo>
                    <a:pt x="18000" y="218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Ролево-игровые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Проект с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элементами 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творческих игр, 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когда дети входят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В образ персонажей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И по своему решают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Поставленные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проблемы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0" name="_s1035"/>
            <p:cNvSpPr/>
            <p:nvPr/>
          </p:nvSpPr>
          <p:spPr>
            <a:xfrm>
              <a:off x="4435560" y="4393080"/>
              <a:ext cx="1824120" cy="1842840"/>
            </a:xfrm>
            <a:custGeom>
              <a:avLst/>
              <a:gdLst>
                <a:gd name="textAreaLeft" fmla="*/ 88920 w 1824120"/>
                <a:gd name="textAreaRight" fmla="*/ 1735200 w 1824120"/>
                <a:gd name="textAreaTop" fmla="*/ 88920 h 1842840"/>
                <a:gd name="textAreaBottom" fmla="*/ 1753920 h 1842840"/>
              </a:gdLst>
              <a:ahLst/>
              <a:rect l="textAreaLeft" t="textAreaTop" r="textAreaRight" b="textAreaBottom"/>
              <a:pathLst>
                <a:path w="21600" h="21822">
                  <a:moveTo>
                    <a:pt x="3600" y="0"/>
                  </a:moveTo>
                  <a:arcTo wR="3600" hR="3600" stAng="16200000" swAng="-5400000"/>
                  <a:lnTo>
                    <a:pt x="0" y="18222"/>
                  </a:lnTo>
                  <a:arcTo wR="3600" hR="3600" stAng="10800000" swAng="-5400000"/>
                  <a:lnTo>
                    <a:pt x="18000" y="218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Tahoma"/>
                </a:rPr>
                <a:t>Информационно-практико-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Tahoma"/>
                </a:rPr>
                <a:t>ориентированные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Tahoma"/>
                </a:rPr>
                <a:t>Дети собирают информацию о 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Tahoma"/>
                </a:rPr>
                <a:t>каком- то объекте,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Tahoma"/>
                </a:rPr>
                <a:t>явлении из разных источников.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Tahoma"/>
                </a:rPr>
                <a:t>Реализуют её, ориентируясь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Tahoma"/>
                </a:rPr>
                <a:t>на социальные интересы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Tahoma"/>
                </a:rPr>
                <a:t>Оформление  и дизайн группы, 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Tahoma"/>
                </a:rPr>
                <a:t>витражи и др.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7" name="_s1036"/>
            <p:cNvSpPr/>
            <p:nvPr/>
          </p:nvSpPr>
          <p:spPr>
            <a:xfrm>
              <a:off x="6563880" y="4393080"/>
              <a:ext cx="1824120" cy="1842840"/>
            </a:xfrm>
            <a:custGeom>
              <a:avLst/>
              <a:gdLst>
                <a:gd name="textAreaLeft" fmla="*/ 88920 w 1824120"/>
                <a:gd name="textAreaRight" fmla="*/ 1735200 w 1824120"/>
                <a:gd name="textAreaTop" fmla="*/ 88920 h 1842840"/>
                <a:gd name="textAreaBottom" fmla="*/ 1753920 h 1842840"/>
              </a:gdLst>
              <a:ahLst/>
              <a:rect l="textAreaLeft" t="textAreaTop" r="textAreaRight" b="textAreaBottom"/>
              <a:pathLst>
                <a:path w="21600" h="21822">
                  <a:moveTo>
                    <a:pt x="3600" y="0"/>
                  </a:moveTo>
                  <a:arcTo wR="3600" hR="3600" stAng="16200000" swAng="-5400000"/>
                  <a:lnTo>
                    <a:pt x="0" y="18222"/>
                  </a:lnTo>
                  <a:arcTo wR="3600" hR="3600" stAng="10800000" swAng="-5400000"/>
                  <a:lnTo>
                    <a:pt x="18000" y="218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Творческие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Как правило, не имеют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детально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проработанной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структуры совместной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деятельности участников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Результат оформляется в 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виде детского праздника,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выставки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4" descr=""/>
          <p:cNvPicPr/>
          <p:nvPr/>
        </p:nvPicPr>
        <p:blipFill>
          <a:blip r:embed="rId1"/>
          <a:stretch/>
        </p:blipFill>
        <p:spPr>
          <a:xfrm>
            <a:off x="396720" y="291960"/>
            <a:ext cx="8290080" cy="1384560"/>
          </a:xfrm>
          <a:prstGeom prst="rect">
            <a:avLst/>
          </a:prstGeom>
          <a:ln w="0">
            <a:noFill/>
          </a:ln>
        </p:spPr>
      </p:pic>
      <p:grpSp>
        <p:nvGrpSpPr>
          <p:cNvPr id="196" name="Organization Chart 23"/>
          <p:cNvGrpSpPr/>
          <p:nvPr/>
        </p:nvGrpSpPr>
        <p:grpSpPr>
          <a:xfrm>
            <a:off x="431640" y="1197000"/>
            <a:ext cx="8208720" cy="4770720"/>
            <a:chOff x="431640" y="1197000"/>
            <a:chExt cx="8208720" cy="4770720"/>
          </a:xfrm>
        </p:grpSpPr>
        <p:cxnSp>
          <p:nvCxnSpPr>
            <p:cNvPr id="197" name="_s2052"/>
            <p:cNvCxnSpPr>
              <a:stCxn id="198" idx="0"/>
              <a:endCxn id="199" idx="2"/>
            </p:cNvCxnSpPr>
            <p:nvPr/>
          </p:nvCxnSpPr>
          <p:spPr>
            <a:xfrm flipH="1" flipV="1" rot="5400000">
              <a:off x="3213360" y="2737080"/>
              <a:ext cx="954720" cy="1690560"/>
            </a:xfrm>
            <a:prstGeom prst="bentConnector3">
              <a:avLst>
                <a:gd name="adj1" fmla="val 1391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00" name="_s2053"/>
            <p:cNvCxnSpPr>
              <a:stCxn id="201" idx="0"/>
              <a:endCxn id="199" idx="2"/>
            </p:cNvCxnSpPr>
            <p:nvPr/>
          </p:nvCxnSpPr>
          <p:spPr>
            <a:xfrm flipV="1" rot="16200000">
              <a:off x="5748480" y="1891800"/>
              <a:ext cx="954720" cy="3380760"/>
            </a:xfrm>
            <a:prstGeom prst="bentConnector3">
              <a:avLst>
                <a:gd name="adj1" fmla="val 1391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02" name="_s2054"/>
            <p:cNvCxnSpPr>
              <a:stCxn id="203" idx="0"/>
              <a:endCxn id="199" idx="2"/>
            </p:cNvCxnSpPr>
            <p:nvPr/>
          </p:nvCxnSpPr>
          <p:spPr>
            <a:xfrm flipV="1" rot="16200000">
              <a:off x="4903560" y="2736720"/>
              <a:ext cx="954720" cy="1690560"/>
            </a:xfrm>
            <a:prstGeom prst="bentConnector3">
              <a:avLst>
                <a:gd name="adj1" fmla="val 1391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04" name="_s2055"/>
            <p:cNvCxnSpPr>
              <a:stCxn id="205" idx="0"/>
              <a:endCxn id="199" idx="2"/>
            </p:cNvCxnSpPr>
            <p:nvPr/>
          </p:nvCxnSpPr>
          <p:spPr>
            <a:xfrm flipV="1">
              <a:off x="4535640" y="3105000"/>
              <a:ext cx="2520" cy="954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06" name="_s2056"/>
            <p:cNvCxnSpPr>
              <a:stCxn id="207" idx="0"/>
              <a:endCxn id="199" idx="2"/>
            </p:cNvCxnSpPr>
            <p:nvPr/>
          </p:nvCxnSpPr>
          <p:spPr>
            <a:xfrm flipH="1" flipV="1" rot="5400000">
              <a:off x="2369520" y="1892880"/>
              <a:ext cx="954720" cy="3378960"/>
            </a:xfrm>
            <a:prstGeom prst="bentConnector3">
              <a:avLst>
                <a:gd name="adj1" fmla="val 13919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99" name="_s2057"/>
            <p:cNvSpPr/>
            <p:nvPr/>
          </p:nvSpPr>
          <p:spPr>
            <a:xfrm>
              <a:off x="3811680" y="1197000"/>
              <a:ext cx="1448640" cy="1908360"/>
            </a:xfrm>
            <a:custGeom>
              <a:avLst/>
              <a:gdLst>
                <a:gd name="textAreaLeft" fmla="*/ 70560 w 1448640"/>
                <a:gd name="textAreaRight" fmla="*/ 1378080 w 1448640"/>
                <a:gd name="textAreaTop" fmla="*/ 70560 h 1908360"/>
                <a:gd name="textAreaBottom" fmla="*/ 1837800 h 1908360"/>
              </a:gdLst>
              <a:ahLst/>
              <a:rect l="textAreaLeft" t="textAreaTop" r="textAreaRight" b="textAreaBottom"/>
              <a:pathLst>
                <a:path w="21600" h="28453">
                  <a:moveTo>
                    <a:pt x="3600" y="0"/>
                  </a:moveTo>
                  <a:arcTo wR="3600" hR="3600" stAng="16200000" swAng="-5400000"/>
                  <a:lnTo>
                    <a:pt x="0" y="24853"/>
                  </a:lnTo>
                  <a:arcTo wR="3600" hR="3600" stAng="10800000" swAng="-5400000"/>
                  <a:lnTo>
                    <a:pt x="18000" y="284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Состав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участников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_s2058"/>
            <p:cNvSpPr/>
            <p:nvPr/>
          </p:nvSpPr>
          <p:spPr>
            <a:xfrm>
              <a:off x="431640" y="4059360"/>
              <a:ext cx="1448640" cy="1908360"/>
            </a:xfrm>
            <a:custGeom>
              <a:avLst/>
              <a:gdLst>
                <a:gd name="textAreaLeft" fmla="*/ 70560 w 1448640"/>
                <a:gd name="textAreaRight" fmla="*/ 1378080 w 1448640"/>
                <a:gd name="textAreaTop" fmla="*/ 70560 h 1908360"/>
                <a:gd name="textAreaBottom" fmla="*/ 1837800 h 1908360"/>
              </a:gdLst>
              <a:ahLst/>
              <a:rect l="textAreaLeft" t="textAreaTop" r="textAreaRight" b="textAreaBottom"/>
              <a:pathLst>
                <a:path w="21600" h="28453">
                  <a:moveTo>
                    <a:pt x="3600" y="0"/>
                  </a:moveTo>
                  <a:arcTo wR="3600" hR="3600" stAng="16200000" swAng="-5400000"/>
                  <a:lnTo>
                    <a:pt x="0" y="24853"/>
                  </a:lnTo>
                  <a:arcTo wR="3600" hR="3600" stAng="10800000" swAng="-5400000"/>
                  <a:lnTo>
                    <a:pt x="18000" y="284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Групповой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_s2059"/>
            <p:cNvSpPr/>
            <p:nvPr/>
          </p:nvSpPr>
          <p:spPr>
            <a:xfrm>
              <a:off x="3811680" y="4059360"/>
              <a:ext cx="1448640" cy="1908360"/>
            </a:xfrm>
            <a:custGeom>
              <a:avLst/>
              <a:gdLst>
                <a:gd name="textAreaLeft" fmla="*/ 70560 w 1448640"/>
                <a:gd name="textAreaRight" fmla="*/ 1378080 w 1448640"/>
                <a:gd name="textAreaTop" fmla="*/ 70560 h 1908360"/>
                <a:gd name="textAreaBottom" fmla="*/ 1837800 h 1908360"/>
              </a:gdLst>
              <a:ahLst/>
              <a:rect l="textAreaLeft" t="textAreaTop" r="textAreaRight" b="textAreaBottom"/>
              <a:pathLst>
                <a:path w="21600" h="28453">
                  <a:moveTo>
                    <a:pt x="3600" y="0"/>
                  </a:moveTo>
                  <a:arcTo wR="3600" hR="3600" stAng="16200000" swAng="-5400000"/>
                  <a:lnTo>
                    <a:pt x="0" y="24853"/>
                  </a:lnTo>
                  <a:arcTo wR="3600" hR="3600" stAng="10800000" swAng="-5400000"/>
                  <a:lnTo>
                    <a:pt x="18000" y="284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Личный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_s2060"/>
            <p:cNvSpPr/>
            <p:nvPr/>
          </p:nvSpPr>
          <p:spPr>
            <a:xfrm>
              <a:off x="5501880" y="4059360"/>
              <a:ext cx="1448640" cy="1908360"/>
            </a:xfrm>
            <a:custGeom>
              <a:avLst/>
              <a:gdLst>
                <a:gd name="textAreaLeft" fmla="*/ 70560 w 1448640"/>
                <a:gd name="textAreaRight" fmla="*/ 1378080 w 1448640"/>
                <a:gd name="textAreaTop" fmla="*/ 70560 h 1908360"/>
                <a:gd name="textAreaBottom" fmla="*/ 1837800 h 1908360"/>
              </a:gdLst>
              <a:ahLst/>
              <a:rect l="textAreaLeft" t="textAreaTop" r="textAreaRight" b="textAreaBottom"/>
              <a:pathLst>
                <a:path w="21600" h="28453">
                  <a:moveTo>
                    <a:pt x="3600" y="0"/>
                  </a:moveTo>
                  <a:arcTo wR="3600" hR="3600" stAng="16200000" swAng="-5400000"/>
                  <a:lnTo>
                    <a:pt x="0" y="24853"/>
                  </a:lnTo>
                  <a:arcTo wR="3600" hR="3600" stAng="10800000" swAng="-5400000"/>
                  <a:lnTo>
                    <a:pt x="18000" y="284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Семейный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" name="_s2061"/>
            <p:cNvSpPr/>
            <p:nvPr/>
          </p:nvSpPr>
          <p:spPr>
            <a:xfrm>
              <a:off x="7191720" y="4059360"/>
              <a:ext cx="1448640" cy="1908360"/>
            </a:xfrm>
            <a:custGeom>
              <a:avLst/>
              <a:gdLst>
                <a:gd name="textAreaLeft" fmla="*/ 70560 w 1448640"/>
                <a:gd name="textAreaRight" fmla="*/ 1378080 w 1448640"/>
                <a:gd name="textAreaTop" fmla="*/ 70560 h 1908360"/>
                <a:gd name="textAreaBottom" fmla="*/ 1837800 h 1908360"/>
              </a:gdLst>
              <a:ahLst/>
              <a:rect l="textAreaLeft" t="textAreaTop" r="textAreaRight" b="textAreaBottom"/>
              <a:pathLst>
                <a:path w="21600" h="28453">
                  <a:moveTo>
                    <a:pt x="3600" y="0"/>
                  </a:moveTo>
                  <a:arcTo wR="3600" hR="3600" stAng="16200000" swAng="-5400000"/>
                  <a:lnTo>
                    <a:pt x="0" y="24853"/>
                  </a:lnTo>
                  <a:arcTo wR="3600" hR="3600" stAng="10800000" swAng="-5400000"/>
                  <a:lnTo>
                    <a:pt x="18000" y="284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Парный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_s2062"/>
            <p:cNvSpPr/>
            <p:nvPr/>
          </p:nvSpPr>
          <p:spPr>
            <a:xfrm>
              <a:off x="2121480" y="4059360"/>
              <a:ext cx="1448640" cy="1908360"/>
            </a:xfrm>
            <a:custGeom>
              <a:avLst/>
              <a:gdLst>
                <a:gd name="textAreaLeft" fmla="*/ 70560 w 1448640"/>
                <a:gd name="textAreaRight" fmla="*/ 1378080 w 1448640"/>
                <a:gd name="textAreaTop" fmla="*/ 70560 h 1908360"/>
                <a:gd name="textAreaBottom" fmla="*/ 1837800 h 1908360"/>
              </a:gdLst>
              <a:ahLst/>
              <a:rect l="textAreaLeft" t="textAreaTop" r="textAreaRight" b="textAreaBottom"/>
              <a:pathLst>
                <a:path w="21600" h="28453">
                  <a:moveTo>
                    <a:pt x="3600" y="0"/>
                  </a:moveTo>
                  <a:arcTo wR="3600" hR="3600" stAng="16200000" swAng="-5400000"/>
                  <a:lnTo>
                    <a:pt x="0" y="24853"/>
                  </a:lnTo>
                  <a:arcTo wR="3600" hR="3600" stAng="10800000" swAng="-5400000"/>
                  <a:lnTo>
                    <a:pt x="18000" y="284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Под-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групповой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11:31:32Z</dcterms:created>
  <dc:creator>Админ</dc:creator>
  <dc:description/>
  <dc:language>en-US</dc:language>
  <cp:lastModifiedBy>Пользователь</cp:lastModifiedBy>
  <dcterms:modified xsi:type="dcterms:W3CDTF">2017-02-05T14:09:41Z</dcterms:modified>
  <cp:revision>58</cp:revision>
  <dc:subject/>
  <dc:title>Использование технологии проектирования в детском саду</dc:title>
</cp:coreProperties>
</file>