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EB57-4FD1-4BDC-8413-CB3DC22B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7811-1C2A-44D8-AB21-72C9FCA6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C721-A659-44AE-8D39-949279B7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872-8354-482D-87B1-0B7FBECE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BEFBF-DFF0-40C0-81F4-C705FE25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5659B-18CF-481A-9128-740C00A0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98463-4D9C-4B40-85F2-133E7BAE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17400-1281-4FFF-A864-5D6CB239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B01A9-D83D-4ED7-8082-9A4855FA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B99D2-1CA7-4D5C-AE4D-3F6276C3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DD5E2-E9AB-442D-8A64-CFDF5908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845A-8885-47C8-8C08-F3C36B6C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C8BB8-0499-445E-974E-FF3682A8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4896D-BCBB-4DC8-9FFA-2AD3F950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C99B3-52F4-4E3E-A659-C24226B1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68ABF-6A7C-49E0-A45B-72BA8DF5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7CDE1-F20D-483B-A614-C2C22620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A4CF2-348C-4127-BD3E-91AC5028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C077A-96C3-4EC1-B9F4-C0AB2066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20173-3424-462D-9DFE-422A961C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FBDBB-2DB5-4D1F-8A03-A73F9FB6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28132-6DF6-4FBE-8C22-90F8A6B9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2E2-DE37-4E80-BA86-DD3D926F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7DEB9-B29C-4322-8172-5C2E3D14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61365-EB4E-4660-AD9B-2E7DA9D1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F555D-528C-4CD0-9185-0071D76F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8DE6C-8897-475A-AF25-24985364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CF2DE-3F26-443F-A887-B233B8E2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DE7E2-C431-48A2-9EB2-3D11889C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864A8-8BA8-49EA-9411-878CDE55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48A64B-95D7-4580-9B37-EBA4BF09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4D0E4A-3F0F-453C-95F5-2F844CA8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D0A23C-7891-4877-BE4E-0D6CFADD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0768-9DE6-4E9B-8F98-70EA7355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728B6E-FDA9-409D-994C-F2509E7D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C47DBF-F0F3-4A1A-AB12-B10E3B0F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00343B-97B5-482D-927F-35D3D6DF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9F79F1-3A62-4728-877C-0D81F775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EC47A0-1CF4-4033-8E3E-8BDB7941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FD0F28-6F54-49B0-A361-86AAF99B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43EFF5-B357-41DA-A2C2-9BF83CC5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9BE13D-DE5C-4372-8B3D-6DA5A355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B883F-C5E9-4641-AA1D-70C44772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96B0-4C50-4830-82F1-0EFA87DF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FB5-9A30-4019-9E2F-3CE7F88D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ABD0-3DF7-47B6-A418-C2CE2881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8B7D-DA12-4BA9-A362-E31D454F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EACA-0659-4CEA-9A2E-B4715A03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01BC-0A7D-48AF-A37B-4EC4A1CE455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CDB6-1967-40A4-AED3-7135CD8DC02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DAD0-9569-4708-8F23-2FA168E6481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0EFE-0F4A-4E15-9885-645D97E131C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00720" y="5877000"/>
            <a:ext cx="4464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ac9"/>
                </a:solidFill>
                <a:latin typeface="Constantia"/>
              </a:rPr>
              <a:t>Воспитатель: Даминова З.С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609480" y="334800"/>
            <a:ext cx="7772400" cy="23720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2286000" y="301788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2"/>
          <a:srcRect l="12831" t="4651" r="16354" b="2877"/>
          <a:stretch/>
        </p:blipFill>
        <p:spPr>
          <a:xfrm>
            <a:off x="324000" y="260280"/>
            <a:ext cx="6624360" cy="542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Rectangle 5" descr=""/>
          <p:cNvPicPr/>
          <p:nvPr/>
        </p:nvPicPr>
        <p:blipFill>
          <a:blip r:embed="rId1"/>
          <a:stretch/>
        </p:blipFill>
        <p:spPr>
          <a:xfrm>
            <a:off x="457200" y="291960"/>
            <a:ext cx="8229600" cy="1384560"/>
          </a:xfrm>
          <a:prstGeom prst="rect">
            <a:avLst/>
          </a:prstGeom>
          <a:ln w="0">
            <a:noFill/>
          </a:ln>
        </p:spPr>
      </p:pic>
      <p:grpSp>
        <p:nvGrpSpPr>
          <p:cNvPr id="209" name="Organization Chart 8"/>
          <p:cNvGrpSpPr/>
          <p:nvPr/>
        </p:nvGrpSpPr>
        <p:grpSpPr>
          <a:xfrm>
            <a:off x="431640" y="836640"/>
            <a:ext cx="8208360" cy="5131080"/>
            <a:chOff x="431640" y="836640"/>
            <a:chExt cx="8208360" cy="5131080"/>
          </a:xfrm>
        </p:grpSpPr>
        <p:cxnSp>
          <p:nvCxnSpPr>
            <p:cNvPr id="210" name="_s3076"/>
            <p:cNvCxnSpPr>
              <a:stCxn id="211" idx="0"/>
              <a:endCxn id="212" idx="2"/>
            </p:cNvCxnSpPr>
            <p:nvPr/>
          </p:nvCxnSpPr>
          <p:spPr>
            <a:xfrm flipV="1" rot="16200000">
              <a:off x="5459040" y="1964880"/>
              <a:ext cx="1026720" cy="2873520"/>
            </a:xfrm>
            <a:prstGeom prst="bentConnector3">
              <a:avLst>
                <a:gd name="adj1" fmla="val 139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3" name="_s3077"/>
            <p:cNvCxnSpPr>
              <a:stCxn id="214" idx="0"/>
              <a:endCxn id="212" idx="2"/>
            </p:cNvCxnSpPr>
            <p:nvPr/>
          </p:nvCxnSpPr>
          <p:spPr>
            <a:xfrm flipV="1">
              <a:off x="4536000" y="2888640"/>
              <a:ext cx="3600" cy="1026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5" name="_s3078"/>
            <p:cNvCxnSpPr>
              <a:stCxn id="216" idx="0"/>
              <a:endCxn id="212" idx="2"/>
            </p:cNvCxnSpPr>
            <p:nvPr/>
          </p:nvCxnSpPr>
          <p:spPr>
            <a:xfrm flipH="1" flipV="1" rot="5400000">
              <a:off x="2585880" y="1965240"/>
              <a:ext cx="1026720" cy="2873520"/>
            </a:xfrm>
            <a:prstGeom prst="bentConnector3">
              <a:avLst>
                <a:gd name="adj1" fmla="val 139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2" name="_s3079"/>
            <p:cNvSpPr/>
            <p:nvPr/>
          </p:nvSpPr>
          <p:spPr>
            <a:xfrm>
              <a:off x="3304440" y="836640"/>
              <a:ext cx="2462400" cy="205236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Продолжительност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_s3080"/>
            <p:cNvSpPr/>
            <p:nvPr/>
          </p:nvSpPr>
          <p:spPr>
            <a:xfrm>
              <a:off x="431640" y="3915360"/>
              <a:ext cx="2462400" cy="205236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Краткосрочны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Несколько заняти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-2 недел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_s3081"/>
            <p:cNvSpPr/>
            <p:nvPr/>
          </p:nvSpPr>
          <p:spPr>
            <a:xfrm>
              <a:off x="3304440" y="3915360"/>
              <a:ext cx="2462400" cy="205236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Средне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продолжительност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 -3 месяц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_s3082"/>
            <p:cNvSpPr/>
            <p:nvPr/>
          </p:nvSpPr>
          <p:spPr>
            <a:xfrm>
              <a:off x="6177600" y="3915360"/>
              <a:ext cx="2462400" cy="205236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Долгосрочны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До год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95280" y="549360"/>
          <a:ext cx="8229600" cy="6148440"/>
        </p:xfrm>
        <a:graphic>
          <a:graphicData uri="http://schemas.openxmlformats.org/drawingml/2006/table">
            <a:tbl>
              <a:tblPr/>
              <a:tblGrid>
                <a:gridCol w="442800"/>
                <a:gridCol w="36720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бор темы про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довлетворение интересов и потребностей ребёнка, запросов родителей, воспитатель инициа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анир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Модель трёх вопросов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Что знаем? Что хотим узнать? Как узнать?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ставление «Паутинки» (виды деятельности, направленные на реализацию проект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ланирование проектов (конечный продукт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лендарное план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ализация про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ча воспитателя: Организация деятельности детей в центрах (образовательных областях), оснащение оборудованием и материалами в соответствии с темой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вершение про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зентация конечно проду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8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8229600" cy="646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ctangle 5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4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457200" y="836640"/>
          <a:ext cx="8229600" cy="5735520"/>
        </p:xfrm>
        <a:graphic>
          <a:graphicData uri="http://schemas.openxmlformats.org/drawingml/2006/table">
            <a:tbl>
              <a:tblPr/>
              <a:tblGrid>
                <a:gridCol w="658800"/>
                <a:gridCol w="3743280"/>
                <a:gridCol w="3827520"/>
              </a:tblGrid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тапы проек-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ятельность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4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эта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Формирует проблему (цель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 постановке цели определяется и продукт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Вводит в игровую ситуаци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Формулирует задач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Вхождение в проблем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Вживание в игровую ситуаци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Принятие задач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Дополнение задач про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0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эта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Помогает в решении задач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Помогает спланировать      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Организует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Объединение детей в рабочие групп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Распределение амплу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эта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 Практическая  помощь (по необходимости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Напрвавляет и контролирует осуществление проекта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Формирование специфических знаний, умений, навы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эта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Подготовка к презентаци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зент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Продукт деятельности готовят к презент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Представляют (зрителям  или экспертам) продукт деятель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365040" y="291960"/>
            <a:ext cx="8321760" cy="1524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nstantia"/>
              </a:rPr>
              <a:t>На основе изученных проблем детей поставить цель проекта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nstantia"/>
              </a:rPr>
              <a:t>Разработка плана достижения цели (обсуждение с родителями)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nstantia"/>
              </a:rPr>
              <a:t>Привлечение специалистов к осуществлению соответствующих разделов проекта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nstantia"/>
              </a:rPr>
              <a:t>Составление плана- схемы проекта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nstantia"/>
              </a:rPr>
              <a:t>Сбор, накопление материала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nstantia"/>
              </a:rPr>
              <a:t>Включение в план-схему проекта различных видов детской деятельности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nstantia"/>
              </a:rPr>
              <a:t>Домашние задания для самостоятельного выполнения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nstantia"/>
              </a:rPr>
              <a:t>Презентация проекта, открытое мероприятие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68360" y="333360"/>
          <a:ext cx="8424720" cy="643104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бле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ное наименование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ль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разовательные обла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риод (продолжительность) и этапы реализации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жидаемые конечные результаты, важнейшие целевые показатели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8e58b6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ля дет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8e58b6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ля педагог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8e58b6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ля роди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8e58b6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ля ДО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астники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рганизация и продуманность системы оценивания (поэтапная и конечна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зентация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5" name="Rectangle 4" descr=""/>
          <p:cNvPicPr/>
          <p:nvPr/>
        </p:nvPicPr>
        <p:blipFill>
          <a:blip r:embed="rId1"/>
          <a:stretch/>
        </p:blipFill>
        <p:spPr>
          <a:xfrm>
            <a:off x="0" y="-19080"/>
            <a:ext cx="8229600" cy="433440"/>
          </a:xfrm>
          <a:prstGeom prst="rect">
            <a:avLst/>
          </a:prstGeom>
          <a:ln w="0">
            <a:noFill/>
          </a:ln>
        </p:spPr>
      </p:pic>
      <p:sp>
        <p:nvSpPr>
          <p:cNvPr id="226" name="Line 52"/>
          <p:cNvSpPr/>
          <p:nvPr/>
        </p:nvSpPr>
        <p:spPr>
          <a:xfrm flipV="1">
            <a:off x="468360" y="404640"/>
            <a:ext cx="0" cy="662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620640"/>
          <a:ext cx="8229600" cy="5827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0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зн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едущая деятельность –познавательно -исследовательская)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ение художественной литерату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едущая деятельность – чтение)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ммуника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едущая деятельность – коммуникативная)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6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ализац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едущая деятельность – игровая)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удова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едущая деятельность – трудовая)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зопас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интеграция разных видов деятельности)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6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доровь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интеграция разных видов деятельности)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ическая культу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едущая деятельность – двигательная)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удожественное твор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едущая деятельность – продуктивная)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6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зы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едущая деятельность – музыкально-художественная)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рмы взаимодействия с семьёй и социальными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ртнёрами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ные момен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интеграция разных видов деятельности) указать фор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8" name="Rectangle 4" descr=""/>
          <p:cNvPicPr/>
          <p:nvPr/>
        </p:nvPicPr>
        <p:blipFill>
          <a:blip r:embed="rId1"/>
          <a:stretch/>
        </p:blipFill>
        <p:spPr>
          <a:xfrm>
            <a:off x="0" y="115920"/>
            <a:ext cx="8229600" cy="43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469800" y="-244440"/>
            <a:ext cx="8229600" cy="10191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6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1" lang="ru-RU" sz="1500" spc="-1" strike="noStrike">
                <a:solidFill>
                  <a:srgbClr val="ffffff"/>
                </a:solidFill>
                <a:latin typeface="Constantia"/>
              </a:rPr>
              <a:t>Использование метода проектов – показатель высокой квалификации педагога, его прогрессивной методики обучения и развития детей. Недаром эти технологии относят к технологиям  ХХ</a:t>
            </a:r>
            <a:r>
              <a:rPr b="1" lang="en-US" sz="1500" spc="-1" strike="noStrike">
                <a:solidFill>
                  <a:srgbClr val="ffffff"/>
                </a:solidFill>
                <a:latin typeface="Constantia"/>
              </a:rPr>
              <a:t>I</a:t>
            </a:r>
            <a:r>
              <a:rPr b="1" lang="ru-RU" sz="1500" spc="-1" strike="noStrike">
                <a:solidFill>
                  <a:srgbClr val="ffffff"/>
                </a:solidFill>
                <a:latin typeface="Constantia"/>
              </a:rPr>
              <a:t> века, предусматривающим, прежде всего, умение адаптироваться к стремительно изменяющимся условиям жизни человека. Интенсивное изменение окружающей жизни, активное проникновение научно-технического прогресса во все её сферы диктуют педагогу необходимость выбирать более эффективные средства обучения и воспитания на основе интегрированных технологий, каковой является проектный метод. Он направлен на развитие личности ребёнка, его познавательных и творческих способностей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nstantia"/>
              </a:rPr>
              <a:t>            </a:t>
            </a:r>
            <a:r>
              <a:rPr b="1" lang="ru-RU" sz="1500" spc="-1" strike="noStrike">
                <a:solidFill>
                  <a:srgbClr val="ffffff"/>
                </a:solidFill>
                <a:latin typeface="Constantia"/>
              </a:rPr>
              <a:t>В последние десятилетия наметились новые подходы к педагогическому взаимодействию детского сада и семьи. Признание приоритета семейного воспитания требует иных взаимоотношений семьи и детского сада, а именно сотрудничества, взаимодействия и доверительности. Детский сад и семья должны стремиться к созданию единого пространства развития ребёнка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04760" indent="-228600">
              <a:lnSpc>
                <a:spcPct val="9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С.Близнецова «Руководство Проектной деятельностью педагогов ДОУ» Журнал «Справочник старшего воспитателя» №9 2009 год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9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Л.Л. Тимофеева «Проектный метод в детском саду. Мультфильм своими руками» СПб.: Детство-Пресс, 2011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9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.В.Хабарова «Педагогические технологии в дошкольном образовании» СПб.: Детство-Пресс, 2011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9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.Д. Смирнова «Метод проектирования в детском саду. Образовательная область «Чтение художественной литературы» М.: «Скрипторий 2003»,  2011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9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етодическое пособие «Проектная деятельность детей и установление партнёрских отношений с семьями воспитанников» СПб.: АНО ОЦ  «Гелиос», 2009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2" descr=""/>
          <p:cNvPicPr/>
          <p:nvPr/>
        </p:nvPicPr>
        <p:blipFill>
          <a:blip r:embed="rId1"/>
          <a:stretch/>
        </p:blipFill>
        <p:spPr>
          <a:xfrm>
            <a:off x="-109440" y="42840"/>
            <a:ext cx="8302680" cy="2760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56908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4" descr=""/>
          <p:cNvPicPr/>
          <p:nvPr/>
        </p:nvPicPr>
        <p:blipFill>
          <a:blip r:embed="rId1"/>
          <a:stretch/>
        </p:blipFill>
        <p:spPr>
          <a:xfrm>
            <a:off x="401760" y="401760"/>
            <a:ext cx="8334360" cy="5730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483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оздание условий раскрывающих творческий и интеллектуальный потенциал дошкольников, ориентированных на диалогическое взаимодействие детей, взрослых и педагогов, способствующих самопознанию и саморазвитию всех участников процесс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Заголовок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12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fcc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обеспечить психологическое благополучие и здоровье детей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fcc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создать необходимые условия для саморазвития, развития способностей ребенка-дошкольника; возможности реализации индивидуальных потребностей, соотнесение их с социальными и общекультурными нормам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fcc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активизировать интерес к познанию, любознательность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fcc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формировать ценностные ориентации у ребенка на образцах позитивного социального поведения человека, о нормах, правилах поведения, народных обычаях и традициях, сложившихся в казахстанском обществе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fcc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развивать познавательные способност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279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412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418680"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создание условий для стимулирования интересов детей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418680"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выстраивание отношений с ребенком на соучастии и сотворчеств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418680"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мотивация деятельности детей, используя игровые методы и приемы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418680"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учет возрастных особенностей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418680"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системность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418680"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сезонность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418680"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учет личност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418680"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- взаимодействие с ребенком в условиях детского сада и семь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418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Заголовок 1" descr=""/>
          <p:cNvPicPr/>
          <p:nvPr/>
        </p:nvPicPr>
        <p:blipFill>
          <a:blip r:embed="rId1"/>
          <a:stretch/>
        </p:blipFill>
        <p:spPr>
          <a:xfrm>
            <a:off x="274680" y="291960"/>
            <a:ext cx="841212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549360" y="317520"/>
            <a:ext cx="8289720" cy="1492200"/>
          </a:xfrm>
          <a:prstGeom prst="rect">
            <a:avLst/>
          </a:prstGeom>
          <a:ln w="0">
            <a:noFill/>
          </a:ln>
        </p:spPr>
      </p:pic>
      <p:grpSp>
        <p:nvGrpSpPr>
          <p:cNvPr id="185" name="Organization Chart 15"/>
          <p:cNvGrpSpPr/>
          <p:nvPr/>
        </p:nvGrpSpPr>
        <p:grpSpPr>
          <a:xfrm>
            <a:off x="179280" y="1628640"/>
            <a:ext cx="8208720" cy="4607280"/>
            <a:chOff x="179280" y="1628640"/>
            <a:chExt cx="8208720" cy="4607280"/>
          </a:xfrm>
        </p:grpSpPr>
        <p:cxnSp>
          <p:nvCxnSpPr>
            <p:cNvPr id="186" name="_s1028"/>
            <p:cNvCxnSpPr>
              <a:stCxn id="187" idx="0"/>
              <a:endCxn id="188" idx="2"/>
            </p:cNvCxnSpPr>
            <p:nvPr/>
          </p:nvCxnSpPr>
          <p:spPr>
            <a:xfrm flipV="1" rot="16200000">
              <a:off x="5418720" y="2335320"/>
              <a:ext cx="921960" cy="3192840"/>
            </a:xfrm>
            <a:prstGeom prst="bentConnector3">
              <a:avLst>
                <a:gd name="adj1" fmla="val 123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9" name="_s1029"/>
            <p:cNvCxnSpPr>
              <a:stCxn id="190" idx="0"/>
              <a:endCxn id="188" idx="2"/>
            </p:cNvCxnSpPr>
            <p:nvPr/>
          </p:nvCxnSpPr>
          <p:spPr>
            <a:xfrm flipV="1" rot="16200000">
              <a:off x="4354560" y="3399480"/>
              <a:ext cx="921960" cy="1064520"/>
            </a:xfrm>
            <a:prstGeom prst="bentConnector3">
              <a:avLst>
                <a:gd name="adj1" fmla="val 123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1" name="_s1030"/>
            <p:cNvCxnSpPr>
              <a:stCxn id="192" idx="0"/>
              <a:endCxn id="188" idx="2"/>
            </p:cNvCxnSpPr>
            <p:nvPr/>
          </p:nvCxnSpPr>
          <p:spPr>
            <a:xfrm flipH="1" flipV="1" rot="5400000">
              <a:off x="3291840" y="3400560"/>
              <a:ext cx="921960" cy="1062360"/>
            </a:xfrm>
            <a:prstGeom prst="bentConnector3">
              <a:avLst>
                <a:gd name="adj1" fmla="val 123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3" name="_s1031"/>
            <p:cNvCxnSpPr>
              <a:stCxn id="194" idx="0"/>
              <a:endCxn id="188" idx="2"/>
            </p:cNvCxnSpPr>
            <p:nvPr/>
          </p:nvCxnSpPr>
          <p:spPr>
            <a:xfrm flipH="1" flipV="1" rot="5400000">
              <a:off x="2226600" y="2335320"/>
              <a:ext cx="921960" cy="3193200"/>
            </a:xfrm>
            <a:prstGeom prst="bentConnector3">
              <a:avLst>
                <a:gd name="adj1" fmla="val 123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88" name="_s1032"/>
            <p:cNvSpPr/>
            <p:nvPr/>
          </p:nvSpPr>
          <p:spPr>
            <a:xfrm>
              <a:off x="3371760" y="1628640"/>
              <a:ext cx="1824120" cy="184284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1842840"/>
                <a:gd name="textAreaBottom" fmla="*/ 1753920 h 1842840"/>
              </a:gdLst>
              <a:ahLst/>
              <a:rect l="textAreaLeft" t="textAreaTop" r="textAreaRight" b="textAreaBottom"/>
              <a:pathLst>
                <a:path w="21600" h="21822">
                  <a:moveTo>
                    <a:pt x="3600" y="0"/>
                  </a:moveTo>
                  <a:arcTo wR="3600" hR="3600" stAng="16200000" swAng="-5400000"/>
                  <a:lnTo>
                    <a:pt x="0" y="18222"/>
                  </a:lnTo>
                  <a:arcTo wR="3600" hR="3600" stAng="10800000" swAng="-5400000"/>
                  <a:lnTo>
                    <a:pt x="18000" y="218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Классификация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проектов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_s1033"/>
            <p:cNvSpPr/>
            <p:nvPr/>
          </p:nvSpPr>
          <p:spPr>
            <a:xfrm>
              <a:off x="179280" y="4393080"/>
              <a:ext cx="1824120" cy="184284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1842840"/>
                <a:gd name="textAreaBottom" fmla="*/ 1753920 h 1842840"/>
              </a:gdLst>
              <a:ahLst/>
              <a:rect l="textAreaLeft" t="textAreaTop" r="textAreaRight" b="textAreaBottom"/>
              <a:pathLst>
                <a:path w="21600" h="21822">
                  <a:moveTo>
                    <a:pt x="3600" y="0"/>
                  </a:moveTo>
                  <a:arcTo wR="3600" hR="3600" stAng="16200000" swAng="-5400000"/>
                  <a:lnTo>
                    <a:pt x="0" y="18222"/>
                  </a:lnTo>
                  <a:arcTo wR="3600" hR="3600" stAng="10800000" swAng="-5400000"/>
                  <a:lnTo>
                    <a:pt x="18000" y="218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Исследовательско-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Творчески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Результат-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творческий продукт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газета,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драматизаци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_s1034"/>
            <p:cNvSpPr/>
            <p:nvPr/>
          </p:nvSpPr>
          <p:spPr>
            <a:xfrm>
              <a:off x="2307240" y="4393080"/>
              <a:ext cx="1824120" cy="184284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1842840"/>
                <a:gd name="textAreaBottom" fmla="*/ 1753920 h 1842840"/>
              </a:gdLst>
              <a:ahLst/>
              <a:rect l="textAreaLeft" t="textAreaTop" r="textAreaRight" b="textAreaBottom"/>
              <a:pathLst>
                <a:path w="21600" h="21822">
                  <a:moveTo>
                    <a:pt x="3600" y="0"/>
                  </a:moveTo>
                  <a:arcTo wR="3600" hR="3600" stAng="16200000" swAng="-5400000"/>
                  <a:lnTo>
                    <a:pt x="0" y="18222"/>
                  </a:lnTo>
                  <a:arcTo wR="3600" hR="3600" stAng="10800000" swAng="-5400000"/>
                  <a:lnTo>
                    <a:pt x="18000" y="218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Ролево-игровы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Проект с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элементами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творческих игр,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когда дети входят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В образ персонажей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И по своему решают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Поставленны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проблемы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_s1035"/>
            <p:cNvSpPr/>
            <p:nvPr/>
          </p:nvSpPr>
          <p:spPr>
            <a:xfrm>
              <a:off x="4435560" y="4393080"/>
              <a:ext cx="1824120" cy="184284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1842840"/>
                <a:gd name="textAreaBottom" fmla="*/ 1753920 h 1842840"/>
              </a:gdLst>
              <a:ahLst/>
              <a:rect l="textAreaLeft" t="textAreaTop" r="textAreaRight" b="textAreaBottom"/>
              <a:pathLst>
                <a:path w="21600" h="21822">
                  <a:moveTo>
                    <a:pt x="3600" y="0"/>
                  </a:moveTo>
                  <a:arcTo wR="3600" hR="3600" stAng="16200000" swAng="-5400000"/>
                  <a:lnTo>
                    <a:pt x="0" y="18222"/>
                  </a:lnTo>
                  <a:arcTo wR="3600" hR="3600" stAng="10800000" swAng="-5400000"/>
                  <a:lnTo>
                    <a:pt x="18000" y="218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Информационно-практико-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ориентированные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Дети собирают информацию о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каком- то объекте,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явлении из разных источников.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Реализуют её, ориентируясь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на социальные интересы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Оформление  и дизайн группы,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витражи и др.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_s1036"/>
            <p:cNvSpPr/>
            <p:nvPr/>
          </p:nvSpPr>
          <p:spPr>
            <a:xfrm>
              <a:off x="6563880" y="4393080"/>
              <a:ext cx="1824120" cy="184284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1842840"/>
                <a:gd name="textAreaBottom" fmla="*/ 1753920 h 1842840"/>
              </a:gdLst>
              <a:ahLst/>
              <a:rect l="textAreaLeft" t="textAreaTop" r="textAreaRight" b="textAreaBottom"/>
              <a:pathLst>
                <a:path w="21600" h="21822">
                  <a:moveTo>
                    <a:pt x="3600" y="0"/>
                  </a:moveTo>
                  <a:arcTo wR="3600" hR="3600" stAng="16200000" swAng="-5400000"/>
                  <a:lnTo>
                    <a:pt x="0" y="18222"/>
                  </a:lnTo>
                  <a:arcTo wR="3600" hR="3600" stAng="10800000" swAng="-5400000"/>
                  <a:lnTo>
                    <a:pt x="18000" y="218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Творчески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Как правило, не имеют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детально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проработанной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структуры совместной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деятельности участников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Результат оформляется в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виде детского праздника,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выставки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4" descr=""/>
          <p:cNvPicPr/>
          <p:nvPr/>
        </p:nvPicPr>
        <p:blipFill>
          <a:blip r:embed="rId1"/>
          <a:stretch/>
        </p:blipFill>
        <p:spPr>
          <a:xfrm>
            <a:off x="396720" y="291960"/>
            <a:ext cx="8290080" cy="1384560"/>
          </a:xfrm>
          <a:prstGeom prst="rect">
            <a:avLst/>
          </a:prstGeom>
          <a:ln w="0">
            <a:noFill/>
          </a:ln>
        </p:spPr>
      </p:pic>
      <p:grpSp>
        <p:nvGrpSpPr>
          <p:cNvPr id="196" name="Organization Chart 23"/>
          <p:cNvGrpSpPr/>
          <p:nvPr/>
        </p:nvGrpSpPr>
        <p:grpSpPr>
          <a:xfrm>
            <a:off x="431640" y="1197000"/>
            <a:ext cx="8208720" cy="4770720"/>
            <a:chOff x="431640" y="1197000"/>
            <a:chExt cx="8208720" cy="4770720"/>
          </a:xfrm>
        </p:grpSpPr>
        <p:cxnSp>
          <p:nvCxnSpPr>
            <p:cNvPr id="197" name="_s2052"/>
            <p:cNvCxnSpPr>
              <a:stCxn id="198" idx="0"/>
              <a:endCxn id="199" idx="2"/>
            </p:cNvCxnSpPr>
            <p:nvPr/>
          </p:nvCxnSpPr>
          <p:spPr>
            <a:xfrm flipH="1" flipV="1" rot="5400000">
              <a:off x="3213360" y="2737080"/>
              <a:ext cx="954720" cy="1690560"/>
            </a:xfrm>
            <a:prstGeom prst="bentConnector3">
              <a:avLst>
                <a:gd name="adj1" fmla="val 1391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0" name="_s2053"/>
            <p:cNvCxnSpPr>
              <a:stCxn id="201" idx="0"/>
              <a:endCxn id="199" idx="2"/>
            </p:cNvCxnSpPr>
            <p:nvPr/>
          </p:nvCxnSpPr>
          <p:spPr>
            <a:xfrm flipV="1" rot="16200000">
              <a:off x="5748480" y="1891800"/>
              <a:ext cx="954720" cy="3380760"/>
            </a:xfrm>
            <a:prstGeom prst="bentConnector3">
              <a:avLst>
                <a:gd name="adj1" fmla="val 1391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2" name="_s2054"/>
            <p:cNvCxnSpPr>
              <a:stCxn id="203" idx="0"/>
              <a:endCxn id="199" idx="2"/>
            </p:cNvCxnSpPr>
            <p:nvPr/>
          </p:nvCxnSpPr>
          <p:spPr>
            <a:xfrm flipV="1" rot="16200000">
              <a:off x="4903560" y="2736720"/>
              <a:ext cx="954720" cy="1690560"/>
            </a:xfrm>
            <a:prstGeom prst="bentConnector3">
              <a:avLst>
                <a:gd name="adj1" fmla="val 1391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4" name="_s2055"/>
            <p:cNvCxnSpPr>
              <a:stCxn id="205" idx="0"/>
              <a:endCxn id="199" idx="2"/>
            </p:cNvCxnSpPr>
            <p:nvPr/>
          </p:nvCxnSpPr>
          <p:spPr>
            <a:xfrm flipV="1">
              <a:off x="4535640" y="3105000"/>
              <a:ext cx="2520" cy="954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6" name="_s2056"/>
            <p:cNvCxnSpPr>
              <a:stCxn id="207" idx="0"/>
              <a:endCxn id="199" idx="2"/>
            </p:cNvCxnSpPr>
            <p:nvPr/>
          </p:nvCxnSpPr>
          <p:spPr>
            <a:xfrm flipH="1" flipV="1" rot="5400000">
              <a:off x="2369520" y="1892880"/>
              <a:ext cx="954720" cy="3378960"/>
            </a:xfrm>
            <a:prstGeom prst="bentConnector3">
              <a:avLst>
                <a:gd name="adj1" fmla="val 1391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9" name="_s2057"/>
            <p:cNvSpPr/>
            <p:nvPr/>
          </p:nvSpPr>
          <p:spPr>
            <a:xfrm>
              <a:off x="3811680" y="1197000"/>
              <a:ext cx="1448640" cy="190836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908360"/>
                <a:gd name="textAreaBottom" fmla="*/ 1837800 h 1908360"/>
              </a:gdLst>
              <a:ahLst/>
              <a:rect l="textAreaLeft" t="textAreaTop" r="textAreaRight" b="textAreaBottom"/>
              <a:pathLst>
                <a:path w="21600" h="28453">
                  <a:moveTo>
                    <a:pt x="3600" y="0"/>
                  </a:moveTo>
                  <a:arcTo wR="3600" hR="3600" stAng="16200000" swAng="-5400000"/>
                  <a:lnTo>
                    <a:pt x="0" y="24853"/>
                  </a:lnTo>
                  <a:arcTo wR="3600" hR="3600" stAng="10800000" swAng="-5400000"/>
                  <a:lnTo>
                    <a:pt x="18000" y="284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Состав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участников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_s2058"/>
            <p:cNvSpPr/>
            <p:nvPr/>
          </p:nvSpPr>
          <p:spPr>
            <a:xfrm>
              <a:off x="431640" y="4059360"/>
              <a:ext cx="1448640" cy="190836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908360"/>
                <a:gd name="textAreaBottom" fmla="*/ 1837800 h 1908360"/>
              </a:gdLst>
              <a:ahLst/>
              <a:rect l="textAreaLeft" t="textAreaTop" r="textAreaRight" b="textAreaBottom"/>
              <a:pathLst>
                <a:path w="21600" h="28453">
                  <a:moveTo>
                    <a:pt x="3600" y="0"/>
                  </a:moveTo>
                  <a:arcTo wR="3600" hR="3600" stAng="16200000" swAng="-5400000"/>
                  <a:lnTo>
                    <a:pt x="0" y="24853"/>
                  </a:lnTo>
                  <a:arcTo wR="3600" hR="3600" stAng="10800000" swAng="-5400000"/>
                  <a:lnTo>
                    <a:pt x="18000" y="284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Группово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_s2059"/>
            <p:cNvSpPr/>
            <p:nvPr/>
          </p:nvSpPr>
          <p:spPr>
            <a:xfrm>
              <a:off x="3811680" y="4059360"/>
              <a:ext cx="1448640" cy="190836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908360"/>
                <a:gd name="textAreaBottom" fmla="*/ 1837800 h 1908360"/>
              </a:gdLst>
              <a:ahLst/>
              <a:rect l="textAreaLeft" t="textAreaTop" r="textAreaRight" b="textAreaBottom"/>
              <a:pathLst>
                <a:path w="21600" h="28453">
                  <a:moveTo>
                    <a:pt x="3600" y="0"/>
                  </a:moveTo>
                  <a:arcTo wR="3600" hR="3600" stAng="16200000" swAng="-5400000"/>
                  <a:lnTo>
                    <a:pt x="0" y="24853"/>
                  </a:lnTo>
                  <a:arcTo wR="3600" hR="3600" stAng="10800000" swAng="-5400000"/>
                  <a:lnTo>
                    <a:pt x="18000" y="284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Личны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_s2060"/>
            <p:cNvSpPr/>
            <p:nvPr/>
          </p:nvSpPr>
          <p:spPr>
            <a:xfrm>
              <a:off x="5501880" y="4059360"/>
              <a:ext cx="1448640" cy="190836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908360"/>
                <a:gd name="textAreaBottom" fmla="*/ 1837800 h 1908360"/>
              </a:gdLst>
              <a:ahLst/>
              <a:rect l="textAreaLeft" t="textAreaTop" r="textAreaRight" b="textAreaBottom"/>
              <a:pathLst>
                <a:path w="21600" h="28453">
                  <a:moveTo>
                    <a:pt x="3600" y="0"/>
                  </a:moveTo>
                  <a:arcTo wR="3600" hR="3600" stAng="16200000" swAng="-5400000"/>
                  <a:lnTo>
                    <a:pt x="0" y="24853"/>
                  </a:lnTo>
                  <a:arcTo wR="3600" hR="3600" stAng="10800000" swAng="-5400000"/>
                  <a:lnTo>
                    <a:pt x="18000" y="284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Семейны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_s2061"/>
            <p:cNvSpPr/>
            <p:nvPr/>
          </p:nvSpPr>
          <p:spPr>
            <a:xfrm>
              <a:off x="7191720" y="4059360"/>
              <a:ext cx="1448640" cy="190836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908360"/>
                <a:gd name="textAreaBottom" fmla="*/ 1837800 h 1908360"/>
              </a:gdLst>
              <a:ahLst/>
              <a:rect l="textAreaLeft" t="textAreaTop" r="textAreaRight" b="textAreaBottom"/>
              <a:pathLst>
                <a:path w="21600" h="28453">
                  <a:moveTo>
                    <a:pt x="3600" y="0"/>
                  </a:moveTo>
                  <a:arcTo wR="3600" hR="3600" stAng="16200000" swAng="-5400000"/>
                  <a:lnTo>
                    <a:pt x="0" y="24853"/>
                  </a:lnTo>
                  <a:arcTo wR="3600" hR="3600" stAng="10800000" swAng="-5400000"/>
                  <a:lnTo>
                    <a:pt x="18000" y="284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Парны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_s2062"/>
            <p:cNvSpPr/>
            <p:nvPr/>
          </p:nvSpPr>
          <p:spPr>
            <a:xfrm>
              <a:off x="2121480" y="4059360"/>
              <a:ext cx="1448640" cy="1908360"/>
            </a:xfrm>
            <a:custGeom>
              <a:avLst/>
              <a:gdLst>
                <a:gd name="textAreaLeft" fmla="*/ 70560 w 1448640"/>
                <a:gd name="textAreaRight" fmla="*/ 1378080 w 1448640"/>
                <a:gd name="textAreaTop" fmla="*/ 70560 h 1908360"/>
                <a:gd name="textAreaBottom" fmla="*/ 1837800 h 1908360"/>
              </a:gdLst>
              <a:ahLst/>
              <a:rect l="textAreaLeft" t="textAreaTop" r="textAreaRight" b="textAreaBottom"/>
              <a:pathLst>
                <a:path w="21600" h="28453">
                  <a:moveTo>
                    <a:pt x="3600" y="0"/>
                  </a:moveTo>
                  <a:arcTo wR="3600" hR="3600" stAng="16200000" swAng="-5400000"/>
                  <a:lnTo>
                    <a:pt x="0" y="24853"/>
                  </a:lnTo>
                  <a:arcTo wR="3600" hR="3600" stAng="10800000" swAng="-5400000"/>
                  <a:lnTo>
                    <a:pt x="18000" y="284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Под-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группово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1:31:32Z</dcterms:created>
  <dc:creator>Админ</dc:creator>
  <dc:description/>
  <dc:language>en-US</dc:language>
  <cp:lastModifiedBy>Пользователь</cp:lastModifiedBy>
  <dcterms:modified xsi:type="dcterms:W3CDTF">2017-02-05T14:09:41Z</dcterms:modified>
  <cp:revision>58</cp:revision>
  <dc:subject/>
  <dc:title>Использование технологии проектирования в детском саду</dc:title>
</cp:coreProperties>
</file>