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6697-D68C-451A-812C-420A1F34B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27B8-96EE-4653-BB71-E63C3BA70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ое резное узорочье с символами солнца как бы рисует космическую картину: солнце только начинает подниматься над землей. Об этом говорит конек, и резная полурозетка в виде веера, расположенная на границе земли и неба. В Нижегородской области узкое и прямое полотно доски без расширения к концу очень часто украшала рельефная резьб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D6C8-2777-410D-847C-7FAEE522E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8B9-4CD8-480C-96F5-A3048DAF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A83-1F94-4EAA-9045-EB97ABDA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103-DC10-46E0-AAA3-C219700A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D8A-6FFD-4B02-9E3D-2D8C3658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C54-F0CB-4BA9-BAAA-F6E154E4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9CAF-8277-4013-A94B-921C285E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EB1E-C5C9-43B2-9158-EEA7294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F36-9178-410E-ACAC-EB76C5EF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FBF8-833F-4BAF-9821-5B177ACE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C7C-6375-4DBC-8476-DC27FEC9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0E46-B37F-4E68-B296-1B352ED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0CA-D137-463E-9EEF-B7B3765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3161-5778-44FA-BFCA-BF6D1D17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507A-1F34-4D8C-AA43-AADC22C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9854-BB7D-47AB-BA0B-AB92DDA4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933-2D87-4C2C-B669-F7DA84BA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FD62-F403-4996-8AAC-63E0092B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C574-57FB-4316-A3DB-59D79C94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21F1-2C1C-4223-9095-6AA0FFB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A7DB-3C1C-4701-91A9-3746F54B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8742-405C-47F3-A1CD-2F30AF93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3759-F29F-4D3A-AC13-A031DA27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C97-AB2C-41CC-80AC-AF003F97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C9B6-F061-47DD-80A2-E61EFBC5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2052-9E2C-449F-AA5C-37839F84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3EE7-7C67-4715-AC01-4B0B752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17D7-6E29-42E4-9223-F530499E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D1E9-C8D8-4EF5-AE62-E0279CE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4D00-6168-4B1E-A4E9-4C9847F7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EEC6-8E69-4E5E-B40C-8A47BE51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649-8CA7-4DFA-ACB6-33F3BDC5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815-CBF1-43BB-B6A0-E5C341B3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DC6-154E-42EC-AB75-2558D4C8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A99-73DB-4A31-8557-69482F1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240-7FA6-4595-A013-A4923E7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EC3-B63E-4954-8481-1D634A8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D87-E2B2-4BF8-A5CD-87A871DE90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4D3-B431-46CE-8E00-6FAC6C0D6E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C91-1167-4D46-84BD-2C2E8535EF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рукция, декор предметов народного быта и тр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апкина Надежда Николаевн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З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школа № 35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зержинс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городская обл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537372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 или коробья  изготавливался из липового луба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обах хранили одежду, ткани, посуду, съестные припас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короба использовались для хранения денег и ценных вещ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C:\Users\germanich-o\Desktop\Рисунок7.png"/>
          <p:cNvPicPr/>
          <p:nvPr/>
        </p:nvPicPr>
        <p:blipFill>
          <a:blip r:embed="rId1"/>
          <a:stretch/>
        </p:blipFill>
        <p:spPr>
          <a:xfrm>
            <a:off x="2268360" y="981000"/>
            <a:ext cx="47865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630920" cy="4105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тена с напряденными нитками (мочками )  пряхи складывали в специальную коробку. Отсюда название коробки — мочесник. Городецкие художники расписывали стенки мочесника нарядно, празднич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глядят вальки,  которыми женщины выколачивали при стирке белье на реке.  Широкая, чуть изогнутая поверхность валька с удобной ручкой хорошо приспособлена к ударам по мокрому белью. Резной декор с подкраской на вальке из деревни Савино Городецкого района смотрится как нарядная одеж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547640" y="692280"/>
            <a:ext cx="6243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предмета крестьянки разглаживали льняные увлажненные холсты. Он называется рубель. Конструкция рубеля решена с учетом трудового процесса. Декор рубеля диктовался конструктивными особенностями предм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1187280" y="836640"/>
            <a:ext cx="7035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луй, ни одно орудие крестьянского труда не украша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ногообразно, любовно, как прялка. Сколько солнечных розеток в резном декоре прялок Русского Севера!  Мотив солнца пронизывает не только орнамент, но и саму конструкцию прялки.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692360" y="692280"/>
            <a:ext cx="5967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Горяева О.В. Островск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-прикладное искусство в жизни человека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кон веку славилась Русская земля своими мастерами. Весь быт крестьянина был овеян сказочностью. Вместе с яркой росписью, вышивкой, резьб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лище крестьянина входило солнце и лето даже в темный зимний день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1116000" y="476280"/>
            <a:ext cx="7132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чное цветение росписи, резные узоры, вышивка не только радовали глаз, но и были знаком добродеяния. Так на детской люльке было принято изображать цветы, как пожелание вырасти сильным, добрым, счастлив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763640" y="692280"/>
            <a:ext cx="56847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ковш-скобкарь. В нем подавали квас, медовух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ковшам часто придавали облик плывущей птицы – утицы, или ладь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копкаря очень проста и красива. Высокие тонкие стенки и скруглённая внутренняя часть сосуда придают ему большую вместимость, а рукоять и головы коней служат удобными ручками. Ковши с конскими головами резались в Тверской губернии и назывались конюх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C:\Users\germanich-o\Desktop\Рисунок5.png"/>
          <p:cNvPicPr/>
          <p:nvPr/>
        </p:nvPicPr>
        <p:blipFill>
          <a:blip r:embed="rId1"/>
          <a:stretch/>
        </p:blipFill>
        <p:spPr>
          <a:xfrm>
            <a:off x="1908000" y="836640"/>
            <a:ext cx="5540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551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омная круглая чаша  с носиком для разлива напитков – ендова также предназначалась для праздничных сто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1619280" y="981000"/>
            <a:ext cx="62658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м быту XIX века большое внимание придавалось убранству стола, декору праздничной посуды. Центральное место на нем всегда занимала солоница. «Без соли, без хлеба – худая беседа»,-говорили в народ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C:\Users\germanich-o\Desktop\Рисунок8.jpg"/>
          <p:cNvPicPr/>
          <p:nvPr/>
        </p:nvPicPr>
        <p:blipFill>
          <a:blip r:embed="rId1"/>
          <a:stretch/>
        </p:blipFill>
        <p:spPr>
          <a:xfrm>
            <a:off x="1332000" y="620640"/>
            <a:ext cx="6838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зднично украшена хлебница! Красный цвет в сочетании с зеленым и золотисто-желтым торжествует на белой поверхности. Нарядная хлебница служила приданным для дочери, и смысл росписи заключался в пожелании счастья, достатка и благополуч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germanich-o\Desktop\Рисунок11.png"/>
          <p:cNvPicPr/>
          <p:nvPr/>
        </p:nvPicPr>
        <p:blipFill>
          <a:blip r:embed="rId1"/>
          <a:stretch/>
        </p:blipFill>
        <p:spPr>
          <a:xfrm>
            <a:off x="1763640" y="620640"/>
            <a:ext cx="58816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небольшой сосуд из бересты, называется туес или  бурак. Он имеет простую и мудрую конструкцию. Крестьяне хорошо знают, что вода, молоко или квас долго остаются в нем холодными, а горячая вода, наоборот, долго не сты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C:\Users\germanich-o\Desktop\Рисунок12.png"/>
          <p:cNvPicPr/>
          <p:nvPr/>
        </p:nvPicPr>
        <p:blipFill>
          <a:blip r:embed="rId1"/>
          <a:stretch/>
        </p:blipFill>
        <p:spPr>
          <a:xfrm>
            <a:off x="1305000" y="476280"/>
            <a:ext cx="653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3:39:53Z</dcterms:created>
  <dc:creator>User</dc:creator>
  <dc:description/>
  <dc:language>en-US</dc:language>
  <cp:lastModifiedBy>germanich-o</cp:lastModifiedBy>
  <dcterms:modified xsi:type="dcterms:W3CDTF">2017-02-05T09:26:32Z</dcterms:modified>
  <cp:revision>40</cp:revision>
  <dc:subject/>
  <dc:title>Конструкция, декор предметов народного быта и труда</dc:title>
</cp:coreProperties>
</file>