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68F2-8EFE-417D-A26F-0818721DEB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D0B7-FDB2-4F4F-9394-C6284B95EF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ое резное узорочье с символами солнца как бы рисует космическую картину: солнце только начинает подниматься над землей. Об этом говорит конек, и резная полурозетка в виде веера, расположенная на границе земли и неба. В Нижегородской области узкое и прямое полотно доски без расширения к концу очень часто украшала рельефная резьб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EF91-5BA0-4B5D-A780-654B5705B2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627-CDE7-48BA-B1C2-E97E105F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0BB-A44F-4402-AFD3-10D7806B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2A1-AC75-4E3C-A41E-2EAA11BE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E4F-B0E6-4842-8590-B8DE2A3F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5C50-4E8B-4452-81A1-46A70279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DD3D-6C86-4902-AC92-7570A932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F255-3301-43C6-8F8C-E0B2494B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D224-2BB4-4AD1-A95F-E02AD168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C6B6-6605-4432-830E-CD493DE3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E38E-E7C5-4CDD-9A67-59EA9EAA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C257-85E7-4FEC-A68B-716552C9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CD2-D6BA-443B-8A08-DF6385FE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51F0-D119-43C2-A547-1F7B2EEE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F2DF-C106-4B91-B379-2BEFD398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0AB6-27F2-4148-AAE2-89C2D978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BE6B-1EAF-4E9F-AF1B-50EF38FA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8BE8-A4E3-44B8-881C-A1F9BFAB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8A53B-5FB0-48D0-8079-0A802714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212CD-143E-49A2-B9C3-D33B8F8D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9B2D-600F-450D-AC1B-116FF863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4869-A90B-4599-B353-3D7BB9BE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4E2B2-E36C-41D7-A441-DA40CDAD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018-7B59-4E96-8C0C-BE410A37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C4EBE-6FAF-4A23-95D2-1CA47327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20BC9-51BD-4634-9C50-340CE4B9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2D06C-E75F-43E8-9B03-20BCA60F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E7216-A35C-426A-B934-D82B41DC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98BA-BBA8-4309-BC69-8A91FC3A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DC432-D3C8-41D9-A452-9D08D093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F7BFB-E8BD-44A4-94BF-346DA3F9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01A-4FBA-4513-A643-11F88052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133-2FFB-4AE0-970A-3703DEE4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4DA-0CFE-4622-AD2F-F05CB6B9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1D2-C3CE-44B9-A2DB-48C3BC40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4BC-6E66-4066-8338-F1F52C1F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C3F-BB3E-4CB6-AAA3-0F74FAE7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F86C-C87C-4C60-936B-E2EB618A9A6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B3BE-BFC8-4249-8C77-BD18A338021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1041-51F0-4DE5-97E1-22DB1C974A9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рукция, декор предметов народного быта и тру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апкина Надежда Николаевн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З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школа № 35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зержинс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егородская обл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5373720"/>
            <a:ext cx="8208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б или коробья  изготавливался из липового луба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обах хранили одежду, ткани, посуду, съестные припас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короба использовались для хранения денег и ценных вещ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C:\Users\germanich-o\Desktop\Рисунок7.png"/>
          <p:cNvPicPr/>
          <p:nvPr/>
        </p:nvPicPr>
        <p:blipFill>
          <a:blip r:embed="rId1"/>
          <a:stretch/>
        </p:blipFill>
        <p:spPr>
          <a:xfrm>
            <a:off x="2268360" y="981000"/>
            <a:ext cx="47865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630920" cy="4105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етена с напряденными нитками (мочками )  пряхи складывали в специальную коробку. Отсюда название коробки — мочесник. Городецкие художники расписывали стенки мочесника нарядно, празднич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ыглядят вальки,  которыми женщины выколачивали при стирке белье на реке.  Широкая, чуть изогнутая поверхность валька с удобной ручкой хорошо приспособлена к ударам по мокрому белью. Резной декор с подкраской на вальке из деревни Савино Городецкого района смотрится как нарядная одеж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1547640" y="692280"/>
            <a:ext cx="62438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522900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этого предмета крестьянки разглаживали льняные увлажненные холсты. Он называется рубель. Конструкция рубеля решена с учетом трудового процесса. Декор рубеля диктовался конструктивными особенностями предме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C:\Users\germanich-o\Desktop\Рисунок10.png"/>
          <p:cNvPicPr/>
          <p:nvPr/>
        </p:nvPicPr>
        <p:blipFill>
          <a:blip r:embed="rId1"/>
          <a:stretch/>
        </p:blipFill>
        <p:spPr>
          <a:xfrm>
            <a:off x="1187280" y="836640"/>
            <a:ext cx="7035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55893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луй, ни одно орудие крестьянского труда не украша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многообразно, любовно, как прялка. Сколько солнечных розеток в резном декоре прялок Русского Севера!  Мотив солнца пронизывает не только орнамент, но и саму конструкцию прялки. 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C:\Users\germanich-o\Desktop\Рисунок6.png"/>
          <p:cNvPicPr/>
          <p:nvPr/>
        </p:nvPicPr>
        <p:blipFill>
          <a:blip r:embed="rId1"/>
          <a:stretch/>
        </p:blipFill>
        <p:spPr>
          <a:xfrm>
            <a:off x="1692360" y="692280"/>
            <a:ext cx="5967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1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А. Горяева О.В. Островск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ативно-прикладное искусство в жизни человека</a:t>
            </a: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кон веку славилась Русская земля своими мастерами. Весь быт крестьянина был овеян сказочностью. Вместе с яркой росписью, вышивкой, резьб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лище крестьянина входило солнце и лето даже в темный зимний день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C:\Users\germanich-o\Desktop\Рисунок2.png"/>
          <p:cNvPicPr/>
          <p:nvPr/>
        </p:nvPicPr>
        <p:blipFill>
          <a:blip r:embed="rId1"/>
          <a:stretch/>
        </p:blipFill>
        <p:spPr>
          <a:xfrm>
            <a:off x="1116000" y="476280"/>
            <a:ext cx="71326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очное цветение росписи, резные узоры, вышивка не только радовали глаз, но и были знаком добродеяния. Так на детской люльке было принято изображать цветы, как пожелание вырасти сильным, добрым, счастлив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C:\Users\germanich-o\Desktop\Рисунок3.png"/>
          <p:cNvPicPr/>
          <p:nvPr/>
        </p:nvPicPr>
        <p:blipFill>
          <a:blip r:embed="rId1"/>
          <a:stretch/>
        </p:blipFill>
        <p:spPr>
          <a:xfrm>
            <a:off x="1763640" y="692280"/>
            <a:ext cx="568476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9640" y="501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 ковш-скобкарь. В нем подавали квас, медовух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ковшам часто придавали облик плывущей птицы – утицы, или ладь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C:\Users\germanich-o\Desktop\Рисунок4.png"/>
          <p:cNvPicPr/>
          <p:nvPr/>
        </p:nvPicPr>
        <p:blipFill>
          <a:blip r:embed="rId1"/>
          <a:stretch/>
        </p:blipFill>
        <p:spPr>
          <a:xfrm>
            <a:off x="1403280" y="549360"/>
            <a:ext cx="6705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скопкаря очень проста и красива. Высокие тонкие стенки и скруглённая внутренняя часть сосуда придают ему большую вместимость, а рукоять и головы коней служат удобными ручками. Ковши с конскими головами резались в Тверской губернии и назывались конюх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C:\Users\germanich-o\Desktop\Рисунок5.png"/>
          <p:cNvPicPr/>
          <p:nvPr/>
        </p:nvPicPr>
        <p:blipFill>
          <a:blip r:embed="rId1"/>
          <a:stretch/>
        </p:blipFill>
        <p:spPr>
          <a:xfrm>
            <a:off x="1908000" y="836640"/>
            <a:ext cx="55404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5516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омная круглая чаша  с носиком для разлива напитков – ендова также предназначалась для праздничных стол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C:\Users\germanich-o\Desktop\Рисунок2.png"/>
          <p:cNvPicPr/>
          <p:nvPr/>
        </p:nvPicPr>
        <p:blipFill>
          <a:blip r:embed="rId1"/>
          <a:stretch/>
        </p:blipFill>
        <p:spPr>
          <a:xfrm>
            <a:off x="1619280" y="981000"/>
            <a:ext cx="62658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5516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естьянском быту XIX века большое внимание придавалось убранству стола, декору праздничной посуды. Центральное место на нем всегда занимала солоница. «Без соли, без хлеба – худая беседа»,-говорили в народ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C:\Users\germanich-o\Desktop\Рисунок8.jpg"/>
          <p:cNvPicPr/>
          <p:nvPr/>
        </p:nvPicPr>
        <p:blipFill>
          <a:blip r:embed="rId1"/>
          <a:stretch/>
        </p:blipFill>
        <p:spPr>
          <a:xfrm>
            <a:off x="1332000" y="620640"/>
            <a:ext cx="6838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зднично украшена хлебница! Красный цвет в сочетании с зеленым и золотисто-желтым торжествует на белой поверхности. Нарядная хлебница служила приданным для дочери, и смысл росписи заключался в пожелании счастья, достатка и благополуч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germanich-o\Desktop\Рисунок11.png"/>
          <p:cNvPicPr/>
          <p:nvPr/>
        </p:nvPicPr>
        <p:blipFill>
          <a:blip r:embed="rId1"/>
          <a:stretch/>
        </p:blipFill>
        <p:spPr>
          <a:xfrm>
            <a:off x="1763640" y="620640"/>
            <a:ext cx="58816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небольшой сосуд из бересты, называется туес или  бурак. Он имеет простую и мудрую конструкцию. Крестьяне хорошо знают, что вода, молоко или квас долго остаются в нем холодными, а горячая вода, наоборот, долго не стын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C:\Users\germanich-o\Desktop\Рисунок12.png"/>
          <p:cNvPicPr/>
          <p:nvPr/>
        </p:nvPicPr>
        <p:blipFill>
          <a:blip r:embed="rId1"/>
          <a:stretch/>
        </p:blipFill>
        <p:spPr>
          <a:xfrm>
            <a:off x="1305000" y="476280"/>
            <a:ext cx="653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3:39:53Z</dcterms:created>
  <dc:creator>User</dc:creator>
  <dc:description/>
  <dc:language>en-US</dc:language>
  <cp:lastModifiedBy>germanich-o</cp:lastModifiedBy>
  <dcterms:modified xsi:type="dcterms:W3CDTF">2017-02-05T09:26:32Z</dcterms:modified>
  <cp:revision>40</cp:revision>
  <dc:subject/>
  <dc:title>Конструкция, декор предметов народного быта и труда</dc:title>
</cp:coreProperties>
</file>