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xmas-Hershey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xmas-Hershey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00"/>
                </a:solidFill>
                <a:latin typeface="Impact"/>
              </a:rPr>
              <a:t>Новороссийск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cc00"/>
              </a:solidFill>
              <a:latin typeface="Impact"/>
              <a:ea typeface="Impact"/>
            </a:endParaRPr>
          </a:p>
        </p:txBody>
      </p:sp>
      <p:sp>
        <p:nvSpPr>
          <p:cNvPr id="37" name=""/>
          <p:cNvSpPr/>
          <p:nvPr/>
        </p:nvSpPr>
        <p:spPr>
          <a:xfrm>
            <a:off x="1066680" y="1143000"/>
            <a:ext cx="70981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Arial"/>
              </a:rPr>
              <a:t>Добро  пожаловать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1445040" y="5638680"/>
            <a:ext cx="6292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Arial"/>
              </a:rPr>
              <a:t>Крестики-Нолики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xmas-Hershe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5394240"/>
            <a:ext cx="7639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В каком году Новороссийск был освобожден от немецких захватчиков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75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8720" y="5818320"/>
            <a:ext cx="763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В 1943 год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75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5486400"/>
            <a:ext cx="763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ак называется бухта, на берегах которой расположен Новороссийск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75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Цемесская бух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5486400"/>
            <a:ext cx="763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ак в 19 веке назывался район «стандарта» в Новороссийске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75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5410080"/>
            <a:ext cx="763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Французская деревня», «Французский городок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75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410080"/>
            <a:ext cx="7638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ак называлась дорога Новороссийск-Сухуми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75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Голодная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75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5486400"/>
            <a:ext cx="7638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акой писатель принимал активное участие в жизни Новороссийска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7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. В. Глад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7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5394240"/>
            <a:ext cx="7638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ак называлась турецкая крепость, стоявшая на территории Новороссийска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уджук-Кал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75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685800" y="152280"/>
            <a:ext cx="7647120" cy="6858000"/>
            <a:chOff x="685800" y="152280"/>
            <a:chExt cx="7647120" cy="6858000"/>
          </a:xfrm>
        </p:grpSpPr>
        <p:sp>
          <p:nvSpPr>
            <p:cNvPr id="204" name=""/>
            <p:cNvSpPr txBox="1"/>
            <p:nvPr/>
          </p:nvSpPr>
          <p:spPr>
            <a:xfrm>
              <a:off x="685800" y="129528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2438280" y="15238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4419720" y="15228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1828800" y="3808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4800600" y="495288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5943600" y="647676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6400800" y="426708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4343400" y="647676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7620120" y="5943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3048120" y="556236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6248520" y="137160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7467480" y="53316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16" name=""/>
          <p:cNvSpPr txBox="1"/>
          <p:nvPr/>
        </p:nvSpPr>
        <p:spPr>
          <a:xfrm>
            <a:off x="914400" y="1143000"/>
            <a:ext cx="79246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праздником, любимый город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6044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Сче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игрываю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ес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игрываю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л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546880"/>
            <a:ext cx="763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В каком году был основан Новороссийск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8720" y="5818320"/>
            <a:ext cx="763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В 1838 год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7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5791320"/>
            <a:ext cx="7858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ак назывался корабль, на котором вошел в бухту М.П.Лазарев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7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8720" y="5818320"/>
            <a:ext cx="763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«Силистрия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7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2708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5562720"/>
            <a:ext cx="763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Фамилия профессора химии, который обнаружил залежи мергел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75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уче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75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Ирина</cp:lastModifiedBy>
  <dcterms:modified xsi:type="dcterms:W3CDTF">2008-09-15T23:55:40Z</dcterms:modified>
  <cp:revision>39</cp:revision>
  <dc:subject/>
  <dc:title>No Slide Title</dc:title>
</cp:coreProperties>
</file>