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D19A-A55F-41D6-9247-9FF8B80F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E650-A772-45C2-A786-307B3D23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7B3E-2169-426A-9F73-A2DC90090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F4E8-CC3A-4774-AF7A-D45D03464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1B4F-B6AA-4B28-AAD9-2A79038F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843C-E7D0-44A5-A544-CFC5BFCE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2F63-B52E-4932-926B-42EC37DB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99D3-DE8D-4317-841B-8F813C0A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33E7-AE5C-4511-B502-F4E03713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89AE-D4E7-4CC4-9381-AFD4997B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F6E9-8C2A-4A7E-95DC-DFA2E741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66CE-7114-46A2-BFE6-C0251EE0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B9B6-789D-4392-B1D2-C833773ACDF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inmoment.ru/holidays/st-anastasia.html" TargetMode="External"/><Relationship Id="rId2" Type="http://schemas.openxmlformats.org/officeDocument/2006/relationships/hyperlink" Target="http://www.astromeridian.ru/imya/anastasija.html" TargetMode="External"/><Relationship Id="rId3" Type="http://schemas.openxmlformats.org/officeDocument/2006/relationships/hyperlink" Target="http://dic.academic.ru/dic.nsf/personal_names/201/&#1040;&#1085;&#1072;&#1089;&#1090;&#1072;&#1089;&#1080;&#1103;" TargetMode="External"/><Relationship Id="rId4" Type="http://schemas.openxmlformats.org/officeDocument/2006/relationships/hyperlink" Target="http://dic.academic.ru/dic.nsf/personal_names/201/&#1040;&#1085;&#1072;&#1089;&#1090;&#1072;&#1089;&#1080;&#1103;" TargetMode="External"/><Relationship Id="rId5" Type="http://schemas.openxmlformats.org/officeDocument/2006/relationships/hyperlink" Target="https://yandex.ru/images/search?text=&#1040;&#1085;&#1072;&#1089;&#1090;&#1072;&#1089;&#1080;&#1103;%20&#1045;&#1088;&#1084;&#1072;&#1082;&#1086;&#1074;&#1072;&amp;stype=image&amp;lr=213&amp;noreask=1&amp;parent-reqid=1481688711154641-12675584530220786288105486-man1-3933&amp;source=wiz" TargetMode="External"/><Relationship Id="rId6" Type="http://schemas.openxmlformats.org/officeDocument/2006/relationships/hyperlink" Target="https://yandex.ru/images/search?text=&#1040;&#1085;&#1072;&#1089;&#1090;&#1072;&#1089;&#1080;&#1103;%20&#1045;&#1088;&#1084;&#1072;&#1082;&#1086;&#1074;&#1072;&amp;stype=image&amp;lr=213&amp;noreask=1&amp;parent-reqid=1481688711154641-12675584530220786288105486-man1-3933&amp;source=wiz" TargetMode="External"/><Relationship Id="rId7" Type="http://schemas.openxmlformats.org/officeDocument/2006/relationships/hyperlink" Target="https://yandex.ru/images/search?text=&#1040;&#1085;&#1072;&#1089;&#1090;&#1072;&#1089;&#1080;&#1103;%20&#1045;&#1088;&#1084;&#1072;&#1082;&#1086;&#1074;&#1072;&amp;stype=image&amp;lr=213&amp;noreask=1&amp;parent-reqid=1481688711154641-12675584530220786288105486-man1-3933&amp;source=wiz" TargetMode="External"/><Relationship Id="rId8" Type="http://schemas.openxmlformats.org/officeDocument/2006/relationships/hyperlink" Target="https://yandex.ru/images/search?text=&#1040;&#1085;&#1072;&#1089;&#1090;&#1072;&#1089;&#1080;&#1103;%20&#1045;&#1088;&#1084;&#1072;&#1082;&#1086;&#1074;&#1072;&amp;stype=image&amp;lr=213&amp;noreask=1&amp;parent-reqid=1481688711154641-12675584530220786288105486-man1-3933&amp;source=wiz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я « Анастас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1125000"/>
            <a:ext cx="756144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стя в сказка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Насти аналитический у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а настойчива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на приспосабливаться к жизненным обстоятельства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удолюбив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ликие люди с именем «Анастаси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астасия Ермакова - 4х-кратная олимпийская чемпионка по синхронному плаван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Объект 4" descr=""/>
          <p:cNvPicPr/>
          <p:nvPr/>
        </p:nvPicPr>
        <p:blipFill>
          <a:blip r:embed="rId1"/>
          <a:stretch/>
        </p:blipFill>
        <p:spPr>
          <a:xfrm>
            <a:off x="4427640" y="1341360"/>
            <a:ext cx="4032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астасия Волочкова - российская балер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Объект 4" descr=""/>
          <p:cNvPicPr/>
          <p:nvPr/>
        </p:nvPicPr>
        <p:blipFill>
          <a:blip r:embed="rId1"/>
          <a:stretch/>
        </p:blipFill>
        <p:spPr>
          <a:xfrm>
            <a:off x="4788000" y="1600200"/>
            <a:ext cx="3531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стя Каменских- певиц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Объект 4" descr=""/>
          <p:cNvPicPr/>
          <p:nvPr/>
        </p:nvPicPr>
        <p:blipFill>
          <a:blip r:embed="rId1"/>
          <a:stretch/>
        </p:blipFill>
        <p:spPr>
          <a:xfrm>
            <a:off x="4716360" y="1700280"/>
            <a:ext cx="3240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астасия Люкина- российская гимнаст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Объект 4" descr=""/>
          <p:cNvPicPr/>
          <p:nvPr/>
        </p:nvPicPr>
        <p:blipFill>
          <a:blip r:embed="rId1"/>
          <a:stretch/>
        </p:blipFill>
        <p:spPr>
          <a:xfrm>
            <a:off x="4932360" y="1557360"/>
            <a:ext cx="3672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формац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nmoment.ru/holidays/st-anastasia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astromeridian.ru/imya/anastasija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dic.academic.ru/dic.nsf/personal_names/201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Анастас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s://yandex.ru/images/search?text=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Анастасия%20Ермакова&amp;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stype=image&amp;lr=213&amp;noreask=1&amp;parent-reqid=1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81688711154641-12675584530220786288105486-man1-3933&amp;source=wiz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s://yandex.ru/search/?text=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стенька%20и%20солдат&amp;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r=213&amp;clid=1985550-217&amp;win=22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infoniac.ru/news/Anastasiya-znachenie-imeni-proishozhdenie-harakteristiki-goroskop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то дал имя? Почем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Имя « Анастасия» мне дал папа. Как он сказал- это имя ему очень понравилось. В его понимании- это чисто русское им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 имени Анаста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Мое имя Наст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4788000" y="3789360"/>
            <a:ext cx="435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выпол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ашкина Анастасия Дмитрие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ца 6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– Сукромен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 Потемкина Екатерина Николаевна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, литератур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означает им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557000"/>
            <a:ext cx="6400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чение имени Анастасия — «воскресшая» (греч.) Настенька — имя из русских сказок. Девочке с таким именем как бы предопределено быть самой красивой, самой умной, самой нежно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изводное имени « Анастаси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сюта.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ся.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стюня.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стюха.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стюша.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та.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ся.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стена.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юся.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ас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рубежный анало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1989000"/>
            <a:ext cx="640080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89898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астейши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sty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stas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астач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нестЕж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менины святой Анастаси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ои именины празднуются 11 ноября. Анастасия празднует именины 11 ноября (святая Анастасия Римская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 святой Анаста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ставительницы прекрасного пола, исповедующие православное христианство, особо почитают так называемых женских святых. Матрона Московская, Ксения Петербургская, великомученица Екатерина, Параскева, великомученица Варвара – их очень много, но каждая из таких заступниц способна походатайствовать за обратившуюся к ней заблудшую душу перед Богом. К этому сонму, безусловно, относится и святая Анастасия. Ей также молятся о даровании замужества, материнства, исцелении болезней. Но прежде всего эта святая является покровительницей заключенных обоих полов, так как еще при жизни оказывала узникам бескорыстную помощь. Посему и получила подвижница красивое, символичное дополнение к имени – Узорешительниц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усские сказки, где героиня Наст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Объект 5" descr=""/>
          <p:cNvPicPr/>
          <p:nvPr/>
        </p:nvPicPr>
        <p:blipFill>
          <a:blip r:embed="rId1"/>
          <a:stretch/>
        </p:blipFill>
        <p:spPr>
          <a:xfrm>
            <a:off x="457200" y="1557360"/>
            <a:ext cx="4038480" cy="3825720"/>
          </a:xfrm>
          <a:prstGeom prst="rect">
            <a:avLst/>
          </a:prstGeom>
          <a:ln w="0">
            <a:noFill/>
          </a:ln>
        </p:spPr>
      </p:pic>
      <p:pic>
        <p:nvPicPr>
          <p:cNvPr id="60" name="Объект 4" descr=""/>
          <p:cNvPicPr/>
          <p:nvPr/>
        </p:nvPicPr>
        <p:blipFill>
          <a:blip r:embed="rId2"/>
          <a:stretch/>
        </p:blipFill>
        <p:spPr>
          <a:xfrm>
            <a:off x="4648320" y="1557360"/>
            <a:ext cx="4038480" cy="381960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395280" y="558972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тенька из сказки «Морозко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4788000" y="5732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тенька из сказки «Аленький цветочек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7-01-30T13:47:09Z</dcterms:modified>
  <cp:revision>37</cp:revision>
  <dc:subject/>
  <dc:title>Слайд 1</dc:title>
</cp:coreProperties>
</file>