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792-411D-4E9C-9433-BB7CF5E3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B42-D019-42F7-AC24-ADAD2034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EE5-C8A2-4B7C-A4B2-AC76577B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372-F54E-49B1-8931-24FA67F3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468-AE89-4482-8CDE-84D55E0E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688-A605-41AA-9ABC-09261CC2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92F-D12C-4FC8-A5A9-5C05BA98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269-FAD7-436D-9266-C2A1F583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031-CCFE-4918-AF2F-F722B754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EF9-9D20-4318-91FF-E1EB971D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08B-E8A0-45F1-B704-5656D142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13A-F221-4634-B8B2-5C2ACDC7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D13C-A813-44C9-A539-CCC3407A88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nmoment.ru/holidays/st-anastasia.html" TargetMode="External"/><Relationship Id="rId2" Type="http://schemas.openxmlformats.org/officeDocument/2006/relationships/hyperlink" Target="http://www.astromeridian.ru/imya/anastasija.html" TargetMode="External"/><Relationship Id="rId3" Type="http://schemas.openxmlformats.org/officeDocument/2006/relationships/hyperlink" Target="http://dic.academic.ru/dic.nsf/personal_names/201/&#1040;&#1085;&#1072;&#1089;&#1090;&#1072;&#1089;&#1080;&#1103;" TargetMode="External"/><Relationship Id="rId4" Type="http://schemas.openxmlformats.org/officeDocument/2006/relationships/hyperlink" Target="http://dic.academic.ru/dic.nsf/personal_names/201/&#1040;&#1085;&#1072;&#1089;&#1090;&#1072;&#1089;&#1080;&#1103;" TargetMode="External"/><Relationship Id="rId5" Type="http://schemas.openxmlformats.org/officeDocument/2006/relationships/hyperlink" Target="https://yandex.ru/images/search?text=&#1040;&#1085;&#1072;&#1089;&#1090;&#1072;&#1089;&#1080;&#1103;%20&#1045;&#1088;&#1084;&#1072;&#1082;&#1086;&#1074;&#1072;&amp;stype=image&amp;lr=213&amp;noreask=1&amp;parent-reqid=1481688711154641-12675584530220786288105486-man1-3933&amp;source=wiz" TargetMode="External"/><Relationship Id="rId6" Type="http://schemas.openxmlformats.org/officeDocument/2006/relationships/hyperlink" Target="https://yandex.ru/images/search?text=&#1040;&#1085;&#1072;&#1089;&#1090;&#1072;&#1089;&#1080;&#1103;%20&#1045;&#1088;&#1084;&#1072;&#1082;&#1086;&#1074;&#1072;&amp;stype=image&amp;lr=213&amp;noreask=1&amp;parent-reqid=1481688711154641-12675584530220786288105486-man1-3933&amp;source=wiz" TargetMode="External"/><Relationship Id="rId7" Type="http://schemas.openxmlformats.org/officeDocument/2006/relationships/hyperlink" Target="https://yandex.ru/images/search?text=&#1040;&#1085;&#1072;&#1089;&#1090;&#1072;&#1089;&#1080;&#1103;%20&#1045;&#1088;&#1084;&#1072;&#1082;&#1086;&#1074;&#1072;&amp;stype=image&amp;lr=213&amp;noreask=1&amp;parent-reqid=1481688711154641-12675584530220786288105486-man1-3933&amp;source=wiz" TargetMode="External"/><Relationship Id="rId8" Type="http://schemas.openxmlformats.org/officeDocument/2006/relationships/hyperlink" Target="https://yandex.ru/images/search?text=&#1040;&#1085;&#1072;&#1089;&#1090;&#1072;&#1089;&#1080;&#1103;%20&#1045;&#1088;&#1084;&#1072;&#1082;&#1086;&#1074;&#1072;&amp;stype=image&amp;lr=213&amp;noreask=1&amp;parent-reqid=1481688711154641-12675584530220786288105486-man1-3933&amp;source=wiz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я « Анастас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125000"/>
            <a:ext cx="75614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тя в сказ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асти аналитический у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настойчив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а приспосабливаться к жизненным обстоятельств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олюби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икие люди с именем «Анастас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стасия Ермакова - 4х-кратная олимпийская чемпионка по синхронному плав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4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03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стасия Волочкова - российская бале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4" descr=""/>
          <p:cNvPicPr/>
          <p:nvPr/>
        </p:nvPicPr>
        <p:blipFill>
          <a:blip r:embed="rId1"/>
          <a:stretch/>
        </p:blipFill>
        <p:spPr>
          <a:xfrm>
            <a:off x="4788000" y="1600200"/>
            <a:ext cx="353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я Каменских- пев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4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24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стасия Люкина- российская гимнаст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4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67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moment.ru/holidays/st-anastasi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stromeridian.ru/imya/anastasij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dic.academic.ru/dic.nsf/personal_names/201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наста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yandex.ru/images/search?text=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Анастасия%20Ермакова&amp;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stype=image&amp;lr=213&amp;noreask=1&amp;parent-reqid=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81688711154641-12675584530220786288105486-man1-3933&amp;source=wiz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yandex.ru/search/?text=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тенька%20и%20солдат&amp;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r=213&amp;clid=1985550-217&amp;win=22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infoniac.ru/news/Anastasiya-znachenie-imeni-proishozhdenie-harakteristiki-goroskop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дал имя? Поч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мя « Анастасия» мне дал папа. Как он сказал- это имя ему очень понравилось. В его понимании- это чисто русское им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 имени Анаста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ое имя Наст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788000" y="3789360"/>
            <a:ext cx="43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ашкина Анастасия Дмитри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6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– Сукроме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Потемкина Екатерина Николаевна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, литератур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означает им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имени Анастасия — «воскресшая» (греч.) Настенька — имя из русских сказок. Девочке с таким именем как бы предопределено быть самой красивой, самой умной, самой неж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ное имени « Анастас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сют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ся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тюня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тюх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тюш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т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я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тен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юся.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убежный анало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89898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стейш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ty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ta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стач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естЕж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менины святой Анастас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и именины празднуются 11 ноября. Анастасия празднует именины 11 ноября (святая Анастасия Римская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святой Анаста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ьницы прекрасного пола, исповедующие православное христианство, особо почитают так называемых женских святых. Матрона Московская, Ксения Петербургская, великомученица Екатерина, Параскева, великомученица Варвара – их очень много, но каждая из таких заступниц способна походатайствовать за обратившуюся к ней заблудшую душу перед Богом. К этому сонму, безусловно, относится и святая Анастасия. Ей также молятся о даровании замужества, материнства, исцелении болезней. Но прежде всего эта святая является покровительницей заключенных обоих полов, так как еще при жизни оказывала узникам бескорыстную помощь. Посему и получила подвижница красивое, символичное дополнение к имени – Узорешительниц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сские сказки, где героиня Наст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4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038480" cy="38196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95280" y="5589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енька из сказки «Морозк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788000" y="5732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енька из сказки «Аленький цветоче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1-30T13:47:09Z</dcterms:modified>
  <cp:revision>37</cp:revision>
  <dc:subject/>
  <dc:title>Слайд 1</dc:title>
</cp:coreProperties>
</file>