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8FA-95F7-477D-901D-61F5F9B20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530-B996-4292-86D4-5149D80E7F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6187-1D94-4F94-A7D8-24EAFFA938A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C69-C21D-4A48-9778-6E9A01D6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584-263A-4B9B-A65C-C9023E9A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2F3-AAA8-4C9F-A238-91CED701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738-8230-4179-975C-3AE81090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3682-A4E9-498A-8A9D-82165BD1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D1A8-33A0-4B5E-ABE5-202C982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466A-3979-46D1-8B28-37E7DC95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CA33-6656-42C7-ACA3-407250E6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9B5-A6EE-429E-8ABD-29BAA76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7CBD-8C46-4085-8069-47C443B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468C-BFE3-4446-8DD7-39498B5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7D7-5328-460F-A1A1-E11523A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393-0E8D-4E8A-A77A-7845354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6667-9702-4B23-93E0-8CB03DC2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DDF6-213F-4F66-A771-2E5FFF43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5313-FE28-481E-ADA6-FC1F9092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A7DB-5A09-48E7-A5C7-10F04F83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CE85-055D-4CF2-B24B-D5990E40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F2E5-B43A-4B14-A559-29D647FA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9087-638E-437A-8570-49C07DAD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6049-5B8F-486E-8E45-7D68383C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8CD0-FFCB-4A04-9F2C-3B80D85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108-E37C-4544-9F91-633C6329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3F943-2686-4A0E-8F5C-69F530B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1EFC-A9AD-4EC2-87D9-8990B8A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A341-A27F-42AF-BBBC-249B2937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BF13-69C7-47AE-9BBE-51F395F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BEDD-3F17-4572-9F22-6C3D728B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2C50-3E2E-4085-A74A-40A05F32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B6B4-B5AD-41C5-9C8D-D2AC965E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B0FF-05C6-4BF8-AC12-EF0E2A4C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C307-FF20-4A67-B89E-B3557C6E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CBBC-3CBA-4785-B96B-D1E65A08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F4D-19FF-49FE-BF5C-FA81CD1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F150-A604-4BDF-8CDA-BA9F3204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06B0-440D-4CC3-B397-035A93C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C787-F784-4422-81F6-E5F54681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8EFB-1DDB-4B7F-857E-1C8C5CA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51E5-22F5-4303-82F8-08E6607F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EA43-E8BB-432E-AF68-7ABB0E6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2B494-1BE3-47A2-99F9-AB58ECF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4FC6-E250-4757-AD99-A37C743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A972-BCB3-421C-8BF0-B7FC8418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7188-9C89-4C50-8B32-8D9DA195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5EF-3133-4E57-88C0-0877BCE3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EEC6-4AEF-4600-8136-E853FF3F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A6AB8-A600-4926-87FA-A9A10E3F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7915-B151-40F5-8B80-E368242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01AE-3AE7-43AE-9381-638E7290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7660A-6793-40F8-B0DE-E7FE4680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6E11-1408-4900-8D60-25A1407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614B-BD32-4481-B0E7-8E1B8E1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454F-9200-458C-B626-28C720C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508C-4D28-4246-8411-5EF1607A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87DB-8C9B-4E0F-AE52-C22937FE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C29-88E8-49A9-B495-7EA2A2A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5D63-C1BA-4BA2-8B32-9A6114D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A3E-3CD4-4B1C-BCB1-4706EC9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233-B705-42FA-ABE4-86244E5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773-662D-48D3-9F9B-FC9D6B0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010-0AF3-40CE-BD90-8002FC205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3D35-3477-407B-9391-B73FBE5B1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CE7-0F99-4B88-9B56-E6B2D464D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07B-9E95-486B-BAEA-E51F46526B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3"/>
          <a:stretch/>
        </p:blipFill>
        <p:spPr>
          <a:xfrm>
            <a:off x="0" y="3421080"/>
            <a:ext cx="3348000" cy="3436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EE11-40F3-4D69-B9D6-3B824E6E76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3"/>
          <p:cNvSpPr/>
          <p:nvPr/>
        </p:nvSpPr>
        <p:spPr>
          <a:xfrm>
            <a:off x="3130560" y="2109960"/>
            <a:ext cx="5535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286000" y="1058760"/>
            <a:ext cx="6472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Прямоугольник 2"/>
          <p:cNvGrpSpPr/>
          <p:nvPr/>
        </p:nvGrpSpPr>
        <p:grpSpPr>
          <a:xfrm>
            <a:off x="1944720" y="152280"/>
            <a:ext cx="7229520" cy="6613560"/>
            <a:chOff x="1944720" y="152280"/>
            <a:chExt cx="7229520" cy="6613560"/>
          </a:xfrm>
        </p:grpSpPr>
        <p:pic>
          <p:nvPicPr>
            <p:cNvPr id="225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944720" y="152280"/>
              <a:ext cx="7229520" cy="66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362320" y="189000"/>
              <a:ext cx="6781680" cy="61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Государственное бюджетное общеобразовательное учрежд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редняя общеобразовательная школа №1 «Образовательный цент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п.г.т. Стройкера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м.р. Волж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амарской обл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Школьная научно-практическая конфер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Секция «Русский язык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Тема: «Как нужно писать сочинение на ЕГЭ по русскому языку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Автор: Настюкова Анаста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учащаяся 11 Б клас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Научный руководитель: Залив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4f271c"/>
                  </a:solidFill>
                  <a:latin typeface="Times New Roman"/>
                  <a:ea typeface="Times New Roman"/>
                </a:rPr>
                <a:t>Оксана Алексеев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формулировать пробл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57200" y="1682640"/>
            <a:ext cx="82296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пробле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69120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44" name="Группа 4"/>
          <p:cNvGrpSpPr/>
          <p:nvPr/>
        </p:nvGrpSpPr>
        <p:grpSpPr>
          <a:xfrm>
            <a:off x="6315120" y="3341520"/>
            <a:ext cx="1390680" cy="1613160"/>
            <a:chOff x="6315120" y="3341520"/>
            <a:chExt cx="1390680" cy="1613160"/>
          </a:xfrm>
        </p:grpSpPr>
        <p:sp>
          <p:nvSpPr>
            <p:cNvPr id="245" name="Прямоугольник 5"/>
            <p:cNvSpPr/>
            <p:nvPr/>
          </p:nvSpPr>
          <p:spPr>
            <a:xfrm>
              <a:off x="6315120" y="3341520"/>
              <a:ext cx="1390680" cy="1613160"/>
            </a:xfrm>
            <a:prstGeom prst="rect">
              <a:avLst/>
            </a:prstGeom>
            <a:solidFill>
              <a:srgbClr val="b6df8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оугольник 6"/>
            <p:cNvSpPr/>
            <p:nvPr/>
          </p:nvSpPr>
          <p:spPr>
            <a:xfrm>
              <a:off x="6315120" y="3341520"/>
              <a:ext cx="1390680" cy="16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кологиче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112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может бы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Текстуальны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.е  объясняем проблему, следуя за автором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онцепционным, т.е., опираясь на понимание проблемы, размышляем над поставленным вопросом, пытаясь объяснить, почему автор из множества проблем выбрал именно э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мментарии не должно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ересказа исходного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рассуждения по поводу всех проблем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общих рассуждений о тек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4</a:t>
            </a:r>
            <a:br>
              <a:rPr sz="4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ав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87520" y="1566720"/>
          <a:ext cx="8229600" cy="4616640"/>
        </p:xfrm>
        <a:graphic>
          <a:graphicData uri="http://schemas.openxmlformats.org/drawingml/2006/table">
            <a:tbl>
              <a:tblPr/>
              <a:tblGrid>
                <a:gridCol w="4049640"/>
                <a:gridCol w="4179960"/>
              </a:tblGrid>
              <a:tr h="4616640">
                <a:tc>
                  <a:txBody>
                    <a:bodyPr lIns="90000" rIns="90000" anchor="t">
                      <a:noAutofit/>
                    </a:bodyPr>
                    <a:p>
                      <a:pPr marL="2728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екстах официальноделового, научного и публицистического сти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текстах художествен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удожественно-публицистичес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текста и позиция автора, как правило, выражаются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пря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текста и позиция автора, как правило,выражаются косвенно( в подтекст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1" name="AutoShape 12"/>
          <p:cNvGrpSpPr/>
          <p:nvPr/>
        </p:nvGrpSpPr>
        <p:grpSpPr>
          <a:xfrm>
            <a:off x="4017960" y="1182600"/>
            <a:ext cx="5668920" cy="3548160"/>
            <a:chOff x="4017960" y="1182600"/>
            <a:chExt cx="5668920" cy="3548160"/>
          </a:xfrm>
        </p:grpSpPr>
        <p:pic>
          <p:nvPicPr>
            <p:cNvPr id="252" name="AutoShape 12" descr=""/>
            <p:cNvPicPr/>
            <p:nvPr/>
          </p:nvPicPr>
          <p:blipFill>
            <a:blip r:embed="rId1"/>
            <a:stretch/>
          </p:blipFill>
          <p:spPr>
            <a:xfrm>
              <a:off x="4017960" y="118260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160880" y="2878200"/>
              <a:ext cx="969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12"/>
          <p:cNvGrpSpPr/>
          <p:nvPr/>
        </p:nvGrpSpPr>
        <p:grpSpPr>
          <a:xfrm>
            <a:off x="3865680" y="3151080"/>
            <a:ext cx="5668920" cy="3548160"/>
            <a:chOff x="3865680" y="3151080"/>
            <a:chExt cx="5668920" cy="3548160"/>
          </a:xfrm>
        </p:grpSpPr>
        <p:pic>
          <p:nvPicPr>
            <p:cNvPr id="255" name="AutoShape 12" descr=""/>
            <p:cNvPicPr/>
            <p:nvPr/>
          </p:nvPicPr>
          <p:blipFill>
            <a:blip r:embed="rId2"/>
            <a:stretch/>
          </p:blipFill>
          <p:spPr>
            <a:xfrm>
              <a:off x="3865680" y="315108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08600" y="4846680"/>
              <a:ext cx="96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ажение собственного отношения к данной проб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выразить свои мысли на данну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у, так же подтвердить и обосновать илиопровергнуть и обосновать авторскую позиц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гр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азывая, приводим 2 аргумента, обращаясь к примерам из читательского или жизненного опыта. Покопайтесь в памяти, вспомните, что читали об этом, какие литературные ассоциации у вас вызывает. Очень важно, чтобы ваши аргументы подтверждали, доказывали вашу точку зрения, а не были просто иллюстрацией на ту же тему. Поэтому при каждом аргументе формулируйте, что вы доказываете приведенным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7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Должно быть органично связано с текстом, с его проблематикой, с предыдущим из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олжно завершить сочинение, еще раз обратив внимание эксперта на самое глав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Должно быть логическим завершением рассуждений по поводу проблем, поставленных ав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Может отражать личное отношение к теме текста, его героям,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Может представлять собой развернутую или логически завершенную мысль, высказанную во вступ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362240" y="0"/>
            <a:ext cx="77817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Объект 3" descr=""/>
          <p:cNvPicPr/>
          <p:nvPr/>
        </p:nvPicPr>
        <p:blipFill>
          <a:blip r:embed="rId1"/>
          <a:stretch/>
        </p:blipFill>
        <p:spPr>
          <a:xfrm>
            <a:off x="1338120" y="0"/>
            <a:ext cx="78058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5" descr=""/>
          <p:cNvPicPr/>
          <p:nvPr/>
        </p:nvPicPr>
        <p:blipFill>
          <a:blip r:embed="rId1"/>
          <a:stretch/>
        </p:blipFill>
        <p:spPr>
          <a:xfrm>
            <a:off x="1338120" y="33480"/>
            <a:ext cx="7805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2090880" y="985680"/>
            <a:ext cx="56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к сочинению-  рассуждению по исходному тек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С,  ЕГЭ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Объект 5" descr=""/>
          <p:cNvPicPr/>
          <p:nvPr/>
        </p:nvPicPr>
        <p:blipFill>
          <a:blip r:embed="rId1"/>
          <a:stretch/>
        </p:blipFill>
        <p:spPr>
          <a:xfrm>
            <a:off x="1414440" y="0"/>
            <a:ext cx="77295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Объект 5" descr=""/>
          <p:cNvPicPr/>
          <p:nvPr/>
        </p:nvPicPr>
        <p:blipFill>
          <a:blip r:embed="rId1"/>
          <a:stretch/>
        </p:blipFill>
        <p:spPr>
          <a:xfrm>
            <a:off x="1349280" y="0"/>
            <a:ext cx="77947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17936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ершили работу тем, что обработали окончательные результаты, обсудили с учителем всю проделанную работу с целью выработки шагов по созданию проектного продукта – учебного пособия-презентации «Как правильно писать школьное сочин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мы сделали попытку максимально упростить процесс написания сочинения, чтобы высвободившееся время было использовано на более детальную проработку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155600"/>
            <a:ext cx="9144000" cy="57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гина Н. С., Розенталь Д. Э., Фомина М. И. Современный русский язык / Под ред. Валгиной: Учебник для вузов. – М.: Логос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ская Л. А. Риторика и культура речи / Л. А. Введенская, Л. Г. Павлова. – Ростов-на-Дону: Изд-во «Феникс»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язнова А. Т. Язык и стиль очерка А. Ф. Писемского «Питерщик» / А. Т. Грязнова // Русский язык в школе. – 2001 – №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кина А. Д. Человек. Язык. Искусство: по итогам Всероссийской научно-практической конференции в МГПУ / А. Д. Дейкина // Русский язык в школе. – 2001. –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ин А. Б. Как самостоятельно написать сочинение: учебное пособие / под ред. С. Я.      Долининой. М.: Издательство «Экзамен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улов Ю. Н. РуДубинина Е. В. Пейзажная зарисовка. Подготовка к сочинению-описанию / Е. В. Дубинина // Русский язык в школе. – 2001. –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ганова Т. А. Сочинения разных жанров в старших классах. – М.: Просвещение, 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8.  Русский язык: Энциклопедия. – М.: «Большая Российская энциклопедия»,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210960" y="835200"/>
            <a:ext cx="873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2286000" y="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2460600" y="631800"/>
            <a:ext cx="58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заключается в определении основных путей при написании школьного сочинения как показателя творческого развития уче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систематизировать свой опыт написания сочи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 провести эксперимент в своём классе и построить диаграммы, чтобы отследить динамику написания сочинения поэтап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подвести итог проделанной работы и с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оказать практическую помощь в написании сочи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ая мысль теряет всю свою ценность, если она дурно выраж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90680" y="76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авила и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писанию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лежит форм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= ТЕЗИС + АРГУМЕ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каждом из этапов относительно расположения частей сочинения друг к дру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написания сочинения, состоящий из шести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1 – анализ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2 – формулировка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3 – комментари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4 – позиция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5 –собственн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6 – аргумент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 7 – 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ление может быть написано в фор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рического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яда риторических вопросов, созвучных теме     (идее, проблем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иалога с воображаемым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Ряда назывных предложений, создающих образную картину, возникающую по ассоциациям в связи с проблематикой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начинаться с цитаты, пословицы, погов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Может начинаться с ключевого слова текс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кста начинаем с выявления темы (о чем текст). Для этого выделяем ключевые слова (слова, относящиеся к одной теме, синонимичные слова и выра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ировка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текста – это вопрос, над которым размышля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т вопрос может не иметь однозначного ответа.  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смысл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красо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ой может быть некоторое противореч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ликт между какими-либо группами людей, их взглядами на жизнь (проблема «отцов» и «детей»)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User</dc:creator>
  <dc:description/>
  <dc:language>en-US</dc:language>
  <cp:lastModifiedBy>светлана</cp:lastModifiedBy>
  <dcterms:modified xsi:type="dcterms:W3CDTF">2016-01-26T08:02:58Z</dcterms:modified>
  <cp:revision>53</cp:revision>
  <dc:subject/>
  <dc:title>Слайд 1</dc:title>
</cp:coreProperties>
</file>