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94A1-E917-4A1F-8775-383352BA27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81DA-52D5-460F-ACDE-E9343418A70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BAC9-B565-4EE1-8776-1101F40B672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0F7-2605-42FE-AC3F-A86FB247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4639-0A7B-4E94-90AB-BD2CC722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CC5-8EB4-4098-B378-E7875CD9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73D-EF37-4515-89EF-2F8E8730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B1B6-FC71-4BE1-97CC-71B4FF6E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8B2C-3E00-4D20-9497-4AF1F47F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449F-9598-4278-8E44-9C759C46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FEB6-4B4A-418E-A701-0B75D21B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2D86-5186-4DDB-96C6-E8EB664E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B8FD-1217-4E34-A8DC-557E24A3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53CA-45C2-420E-AB01-BFC30276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681-80E0-456F-AF0B-AE605C28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6932-0DD4-4F06-9466-32288492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1C09-DB91-450A-8C79-4480E9AD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8F71-C8B8-41F6-A1EB-B6F5D2AF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6B48-97FD-468B-932B-65F22DFB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169A-FA1E-406E-AA6C-C9C1F24D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945A0-FDA6-4068-B555-C26903C6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A7FF8-2AAC-4727-A05B-4A3F03C7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2767E-893F-4DC5-BDDF-18F25AC0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E19B5-21E4-4DD5-8162-6C4C1EBD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764A1-91E1-4CFF-B2C6-FBD9A490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B7BF-772F-493E-AB36-4233F085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AB9A-4C65-4D77-8970-92C9022D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E35FF-ED1F-4008-B9AA-D9884E06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A44C3-CEA1-4A20-BC6D-9D8730CC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1DFB1-B2BE-4831-B261-3F6A958B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6C9CD-D199-4045-9B94-0644A997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A6DC3-76B7-48CC-9CEC-C19EA008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A61E6-A277-493D-8524-1EC5EF03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B0F9B-B7B6-4C54-B4B6-485C47A9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B2D64-057E-465E-98D2-E69D8F79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800E1-A76E-4916-8770-1B9A41BE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8E0D-FCFB-4444-BFAC-AD8252E9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5E8ED-6A2F-4481-B1F2-B17C8957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18816-39D8-4569-BC3F-04E02FF7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9312B-B4FD-4F3D-81BA-6B7EB25E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FD2B6-92F2-48A0-912E-2203EE57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4BDDF-2DA3-4372-AC98-A7114472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21ADB-619D-4820-A1AE-5E40D53B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18112-9D66-4D8B-83A1-03EE6B35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E7643-64F3-4461-8956-D3873732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A1CCD-4D55-4AF1-9C30-8135788E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95811-2F59-4DE3-995C-FC3DB23C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7AA7-A4CC-4B54-8EEC-ABFA140E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583DE-6A39-4EF2-879E-50ACC205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7691D-0CC2-47D4-9902-A442ED3C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FF141-5497-4866-9097-64DB7D09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567AB-F4A9-4BD9-99B4-92EE7CCE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2E64F-B516-4FA5-ADB5-44C273C9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324B4-244F-4A1A-AD24-7880A6CB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749D3-2B08-4D8C-868E-ED88676A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CE477-BB8A-4C38-9AEF-64117E44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9C01D-7FF8-452D-B4A9-F485AE92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D6671-A382-4F7F-9D16-76CBD7CC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BF3-B8B1-4E0A-8C60-3F4A0C23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FA5AD-5EBB-4EF9-B897-00EB69D9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C13-9244-486A-B0DC-A62816ED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DB8-B5F8-45DD-97FD-EBD783AD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431C-BFEB-4437-AF22-186D67D9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A637-862A-4523-BA53-AA744D49F1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DB0A-7924-46B3-A0E7-AFC8A05F66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F425-195A-4D02-86E1-B0FAD6F66C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529B-3955-44A5-B8C0-F3A205C7D9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3"/>
          <a:stretch/>
        </p:blipFill>
        <p:spPr>
          <a:xfrm>
            <a:off x="0" y="3421080"/>
            <a:ext cx="3348000" cy="34369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4016-205F-4A84-8DCA-FC85AD046A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3"/>
          <p:cNvSpPr/>
          <p:nvPr/>
        </p:nvSpPr>
        <p:spPr>
          <a:xfrm>
            <a:off x="3130560" y="2109960"/>
            <a:ext cx="55357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2286000" y="1058760"/>
            <a:ext cx="647208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Прямоугольник 2"/>
          <p:cNvGrpSpPr/>
          <p:nvPr/>
        </p:nvGrpSpPr>
        <p:grpSpPr>
          <a:xfrm>
            <a:off x="1944720" y="152280"/>
            <a:ext cx="7229520" cy="6613560"/>
            <a:chOff x="1944720" y="152280"/>
            <a:chExt cx="7229520" cy="6613560"/>
          </a:xfrm>
        </p:grpSpPr>
        <p:pic>
          <p:nvPicPr>
            <p:cNvPr id="225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944720" y="152280"/>
              <a:ext cx="7229520" cy="661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362320" y="189000"/>
              <a:ext cx="6781680" cy="61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Государственное бюджетное общеобразовательное учрежде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Средняя общеобразовательная школа №1 «Образовательный центр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п.г.т. Стройкерам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м.р. Волж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Самарской обла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Школьная научно-практическая конферен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Секция «Русский язык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Тема: «Как нужно писать сочинение на ЕГЭ по русскому языку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Автор: Настюкова Анастас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учащаяся 11 Б класс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Научный руководитель: Заливе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Оксана Алексеев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формулировать пробл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457200" y="1682640"/>
            <a:ext cx="822960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ывают проблем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69120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44" name="Группа 4"/>
          <p:cNvGrpSpPr/>
          <p:nvPr/>
        </p:nvGrpSpPr>
        <p:grpSpPr>
          <a:xfrm>
            <a:off x="6315120" y="3341520"/>
            <a:ext cx="1390680" cy="1613160"/>
            <a:chOff x="6315120" y="3341520"/>
            <a:chExt cx="1390680" cy="1613160"/>
          </a:xfrm>
        </p:grpSpPr>
        <p:sp>
          <p:nvSpPr>
            <p:cNvPr id="245" name="Прямоугольник 5"/>
            <p:cNvSpPr/>
            <p:nvPr/>
          </p:nvSpPr>
          <p:spPr>
            <a:xfrm>
              <a:off x="6315120" y="3341520"/>
              <a:ext cx="1390680" cy="1613160"/>
            </a:xfrm>
            <a:prstGeom prst="rect">
              <a:avLst/>
            </a:prstGeom>
            <a:solidFill>
              <a:srgbClr val="b6df8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Прямоугольник 6"/>
            <p:cNvSpPr/>
            <p:nvPr/>
          </p:nvSpPr>
          <p:spPr>
            <a:xfrm>
              <a:off x="6315120" y="3341520"/>
              <a:ext cx="1390680" cy="16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Экологиче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1120" y="-1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ментарий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ментарий может быть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Текстуальным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т.е  объясняем проблему, следуя за автором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Концепционным, т.е., опираясь на понимание проблемы, размышляем над поставленным вопросом, пытаясь объяснить, почему автор из множества проблем выбрал именно э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комментарии не должно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пересказа исходного тек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рассуждения по поводу всех проблем тек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общих рассуждений о тек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4</a:t>
            </a:r>
            <a:br>
              <a:rPr sz="44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я ав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87520" y="1566720"/>
          <a:ext cx="8229600" cy="4616640"/>
        </p:xfrm>
        <a:graphic>
          <a:graphicData uri="http://schemas.openxmlformats.org/drawingml/2006/table">
            <a:tbl>
              <a:tblPr/>
              <a:tblGrid>
                <a:gridCol w="4049640"/>
                <a:gridCol w="4179960"/>
              </a:tblGrid>
              <a:tr h="4616640">
                <a:tc>
                  <a:txBody>
                    <a:bodyPr lIns="90000" rIns="90000" anchor="t">
                      <a:noAutofit/>
                    </a:bodyPr>
                    <a:p>
                      <a:pPr marL="2728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текстах официальноделового, научного и публицистического сти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 текстах художественн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художественно-публицистическ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дея текста и позиция автора, как правило, выражаются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прям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текста и позиция автора, как правило,выражаются косвенно( в подтексте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1" name="AutoShape 12"/>
          <p:cNvGrpSpPr/>
          <p:nvPr/>
        </p:nvGrpSpPr>
        <p:grpSpPr>
          <a:xfrm>
            <a:off x="4017960" y="1182600"/>
            <a:ext cx="5668920" cy="3548160"/>
            <a:chOff x="4017960" y="1182600"/>
            <a:chExt cx="5668920" cy="3548160"/>
          </a:xfrm>
        </p:grpSpPr>
        <p:pic>
          <p:nvPicPr>
            <p:cNvPr id="252" name="AutoShape 12" descr=""/>
            <p:cNvPicPr/>
            <p:nvPr/>
          </p:nvPicPr>
          <p:blipFill>
            <a:blip r:embed="rId1"/>
            <a:stretch/>
          </p:blipFill>
          <p:spPr>
            <a:xfrm>
              <a:off x="4017960" y="1182600"/>
              <a:ext cx="5668920" cy="35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160880" y="2878200"/>
              <a:ext cx="969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AutoShape 12"/>
          <p:cNvGrpSpPr/>
          <p:nvPr/>
        </p:nvGrpSpPr>
        <p:grpSpPr>
          <a:xfrm>
            <a:off x="3865680" y="3151080"/>
            <a:ext cx="5668920" cy="3548160"/>
            <a:chOff x="3865680" y="3151080"/>
            <a:chExt cx="5668920" cy="3548160"/>
          </a:xfrm>
        </p:grpSpPr>
        <p:pic>
          <p:nvPicPr>
            <p:cNvPr id="255" name="AutoShape 12" descr=""/>
            <p:cNvPicPr/>
            <p:nvPr/>
          </p:nvPicPr>
          <p:blipFill>
            <a:blip r:embed="rId2"/>
            <a:stretch/>
          </p:blipFill>
          <p:spPr>
            <a:xfrm>
              <a:off x="3865680" y="3151080"/>
              <a:ext cx="5668920" cy="35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008600" y="4846680"/>
              <a:ext cx="969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6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ражение собственного отношения к данной пробл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 выразить свои мысли на данну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у, так же подтвердить и обосновать илиопровергнуть и обосновать авторскую позицию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гру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казывая, приводим 2 аргумента, обращаясь к примерам из читательского или жизненного опыта. Покопайтесь в памяти, вспомните, что читали об этом, какие литературные ассоциации у вас вызывает. Очень важно, чтобы ваши аргументы подтверждали, доказывали вашу точку зрения, а не были просто иллюстрацией на ту же тему. Поэтому при каждом аргументе формулируйте, что вы доказываете приведенным приме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7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Должно быть органично связано с текстом, с его проблематикой, с предыдущим изло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Должно завершить сочинение, еще раз обратив внимание эксперта на самое глав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Должно быть логическим завершением рассуждений по поводу проблем, поставленных авт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Может отражать личное отношение к теме текста, его героям, пробл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Может представлять собой развернутую или логически завершенную мысль, высказанную во вступл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1362240" y="0"/>
            <a:ext cx="778176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Объект 3" descr=""/>
          <p:cNvPicPr/>
          <p:nvPr/>
        </p:nvPicPr>
        <p:blipFill>
          <a:blip r:embed="rId1"/>
          <a:stretch/>
        </p:blipFill>
        <p:spPr>
          <a:xfrm>
            <a:off x="1338120" y="0"/>
            <a:ext cx="780588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Объект 5" descr=""/>
          <p:cNvPicPr/>
          <p:nvPr/>
        </p:nvPicPr>
        <p:blipFill>
          <a:blip r:embed="rId1"/>
          <a:stretch/>
        </p:blipFill>
        <p:spPr>
          <a:xfrm>
            <a:off x="1338120" y="33480"/>
            <a:ext cx="780588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4"/>
          <p:cNvSpPr/>
          <p:nvPr/>
        </p:nvSpPr>
        <p:spPr>
          <a:xfrm>
            <a:off x="2090880" y="985680"/>
            <a:ext cx="5648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 к сочинению-  рассуждению по исходному текс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асть С,  ЕГЭ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Объект 5" descr=""/>
          <p:cNvPicPr/>
          <p:nvPr/>
        </p:nvPicPr>
        <p:blipFill>
          <a:blip r:embed="rId1"/>
          <a:stretch/>
        </p:blipFill>
        <p:spPr>
          <a:xfrm>
            <a:off x="1414440" y="0"/>
            <a:ext cx="772956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Объект 5" descr=""/>
          <p:cNvPicPr/>
          <p:nvPr/>
        </p:nvPicPr>
        <p:blipFill>
          <a:blip r:embed="rId1"/>
          <a:stretch/>
        </p:blipFill>
        <p:spPr>
          <a:xfrm>
            <a:off x="1349280" y="0"/>
            <a:ext cx="779472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Объект 3" descr=""/>
          <p:cNvPicPr/>
          <p:nvPr/>
        </p:nvPicPr>
        <p:blipFill>
          <a:blip r:embed="rId1"/>
          <a:stretch/>
        </p:blipFill>
        <p:spPr>
          <a:xfrm>
            <a:off x="1295280" y="0"/>
            <a:ext cx="784872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лючение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17936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вершили работу тем, что обработали окончательные результаты, обсудили с учителем всю проделанную работу с целью выработки шагов по созданию проектного продукта – учебного пособия-презентации «Как правильно писать школьное сочинени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ей работе мы сделали попытку максимально упростить процесс написания сочинения, чтобы высвободившееся время было использовано на более детальную проработку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155600"/>
            <a:ext cx="9144000" cy="57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гина Н. С., Розенталь Д. Э., Фомина М. И. Современный русский язык / Под ред. Валгиной: Учебник для вузов. – М.: Логос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ская Л. А. Риторика и культура речи / Л. А. Введенская, Л. Г. Павлова. – Ростов-на-Дону: Изд-во «Феникс»,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язнова А. Т. Язык и стиль очерка А. Ф. Писемского «Питерщик» / А. Т. Грязнова // Русский язык в школе. – 2001 – №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кина А. Д. Человек. Язык. Искусство: по итогам Всероссийской научно-практической конференции в МГПУ / А. Д. Дейкина // Русский язык в школе. – 2001. – №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ин А. Б. Как самостоятельно написать сочинение: учебное пособие / под ред. С. Я.      Долининой. М.: Издательство «Экзамен»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улов Ю. Н. РуДубинина Е. В. Пейзажная зарисовка. Подготовка к сочинению-описанию / Е. В. Дубинина // Русский язык в школе. – 2001. – №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ганова Т. А. Сочинения разных жанров в старших классах. – М.: Просвещение, 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8.  Русский язык: Энциклопедия. – М.: «Большая Российская энциклопедия», 200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6"/>
          <p:cNvSpPr/>
          <p:nvPr/>
        </p:nvSpPr>
        <p:spPr>
          <a:xfrm>
            <a:off x="210960" y="835200"/>
            <a:ext cx="8736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5"/>
          <p:cNvSpPr/>
          <p:nvPr/>
        </p:nvSpPr>
        <p:spPr>
          <a:xfrm>
            <a:off x="2286000" y="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"/>
          <p:cNvSpPr/>
          <p:nvPr/>
        </p:nvSpPr>
        <p:spPr>
          <a:xfrm>
            <a:off x="2460600" y="631800"/>
            <a:ext cx="588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 заключается в определении основных путей при написании школьного сочинения как показателя творческого развития уче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)  систематизировать свой опыт написания сочин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 провести эксперимент в своём классе и построить диаграммы, чтобы отследить динамику написания сочинения поэтап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)  подвести итог проделанной работы и сделать выв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)  оказать практическую помощь в написании сочи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расная мысль теряет всю свою ценность, если она дурно выраж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ь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90680" y="76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авила и треб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написанию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лежит форм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 = ТЕЗИС + АРГУМЕН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на каждом из этапов относительно расположения частей сочинения друг к друг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написания сочинения, состоящий из шести этап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 1 – анализ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 2 – формулировка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 3 – комментарий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 4 – позиция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 5 –собственное м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 6 – аргумент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 7 – заклю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ление может быть написано в фор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Лирического раз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Ряда риторических вопросов, созвучных теме     (идее, проблем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Диалога с воображаемым собесед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Ряда назывных предложений, создающих образную картину, возникающую по ассоциациям в связи с проблематикой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Может начинаться с цитаты, пословицы, погово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Может начинаться с ключевого слова текст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5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тек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текста начинаем с выявления темы (о чем текст). Для этого выделяем ключевые слова (слова, относящиеся к одной теме, синонимичные слова и выраж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улировка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блема текста – это вопрос, над которым размышляет ав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т вопрос может не иметь однозначного ответа.  Наприме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чем смысл жиз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такое красо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блемой может быть некоторое противореч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фликт между какими-либо группами людей, их взглядами на жизнь (проблема «отцов» и «детей»)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User</dc:creator>
  <dc:description/>
  <dc:language>en-US</dc:language>
  <cp:lastModifiedBy>светлана</cp:lastModifiedBy>
  <dcterms:modified xsi:type="dcterms:W3CDTF">2016-01-26T08:02:58Z</dcterms:modified>
  <cp:revision>53</cp:revision>
  <dc:subject/>
  <dc:title>Слайд 1</dc:title>
</cp:coreProperties>
</file>