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F83E-C48A-4C10-B22F-1FA44A802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DADE-37D8-439B-9A28-10944228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496D-5C58-4335-A2E5-0BBCBBA87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EBF5-C585-4927-809D-2EDD24E87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DE1395-F05B-409D-88FB-D291DCEAC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E28B74-11CC-4DE1-B99D-210C2060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51178-3AE2-4CA3-BC22-699C9DFF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BF24D9-011E-4D7C-8E94-98548D71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4D09A-702D-4C3F-A7B0-688E9CDD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3D5E3-84E3-4176-980B-05566819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CC1DD-7E1F-4D54-AB62-1B943A88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B3F0-901F-4473-9666-B81F0F75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FEA64-F04D-44A0-AF39-E213658C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7FAE2-7439-4AE8-8D35-978340C6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F2A93-7E10-4BAF-92AD-BE607195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54561B-010E-4BB3-82FF-181069E0A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51A1B5-B032-4ABD-9F2E-8330D261B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47D5-D1EF-47BC-8258-2C631600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45A5-EEC0-4E0F-B073-9E317638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20CF-FEFE-41D5-8DB6-744E1B10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4FD3-E071-4A95-88C5-B734E4B9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F286-DF72-47C1-B78D-2D217686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5F9C-6109-4993-8574-7F449C6A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1EC2-CF51-4ED0-8C33-B04D3AF0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A408-E1F4-4341-B859-A66B83C77C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D721-5E35-4C41-9C6F-B005EB70B7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2565360"/>
            <a:ext cx="777240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0066"/>
                </a:solidFill>
                <a:latin typeface="Ravie"/>
              </a:rPr>
              <a:t>Особенности формирования мотивации у детей подросткового возраст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76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дагог-психоло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Шитякова В.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Внешние и внутренние цели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124000" y="1628640"/>
            <a:ext cx="45356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Этапы формирования мотивации у подростк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314136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Этап вызывания исходной мотив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Этап подкрепления и усиления возникшей мотивац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Этап завершени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Основные факторы, влияющие на развитие мотивации у подрост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2852280"/>
            <a:ext cx="8229600" cy="31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Уровень самооцен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Чувство взросл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Межличностное общ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Уровни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мотивац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Высокий уровень мотив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Хорошая мотивац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оложительное отношение к чему-либо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Низкая мотивац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Негативное отношение к чему-либ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Зависимость уровня мотивации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от количества мотивов, которые побуждают деятельност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от актуализации ситуативных фактор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от побуждающей силы каждого из этих мотив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Причины</a:t>
            </a: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 спада мотивации у подростков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У подростков наблюдается «гормональный взрыв» и нечетко сформировано чувство будущег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Нарушение межличностного обще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Личная значимость предмет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Умственное развити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Продуктивность деятель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Непонимание цел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Страх перед чем-либо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Условия формирования мотивации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Формирование синдрома достиж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Самоанализ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Формирование стремления и навыков ставить перед собой высокие, но адекватные цел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Межличностная поддерж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Развитие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мотивации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Через усвоение подростком общественного смысла уч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Через саму деятельность, которая должна чем-то заинтересовать его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Что такое цель?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Цель - это осознанный, запланированный результат деятельности, субъективный образ, модель будущего продукта деятельности. Иными словами, цель - это то, чего мы стремимся достич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Цель1       Цель2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Цель3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Конечная це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Успех1       Успех2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Успех3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Успех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                                                       </a:t>
            </a: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окончатель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3789360"/>
            <a:ext cx="360360" cy="144360"/>
          </a:xfrm>
          <a:custGeom>
            <a:avLst/>
            <a:gdLst>
              <a:gd name="textAreaLeft" fmla="*/ 45000 w 360360"/>
              <a:gd name="textAreaRight" fmla="*/ 315360 w 36036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32000" y="3789360"/>
            <a:ext cx="360360" cy="144360"/>
          </a:xfrm>
          <a:custGeom>
            <a:avLst/>
            <a:gdLst>
              <a:gd name="textAreaLeft" fmla="*/ 45000 w 360360"/>
              <a:gd name="textAreaRight" fmla="*/ 315360 w 36036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16360" y="3789360"/>
            <a:ext cx="360360" cy="144360"/>
          </a:xfrm>
          <a:custGeom>
            <a:avLst/>
            <a:gdLst>
              <a:gd name="textAreaLeft" fmla="*/ 45000 w 360360"/>
              <a:gd name="textAreaRight" fmla="*/ 315360 w 36036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64000" y="4221000"/>
            <a:ext cx="914400" cy="1429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64000" y="4581360"/>
            <a:ext cx="914400" cy="1429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63640" y="5084640"/>
            <a:ext cx="360360" cy="144720"/>
          </a:xfrm>
          <a:custGeom>
            <a:avLst/>
            <a:gdLst>
              <a:gd name="textAreaLeft" fmla="*/ 45000 w 360360"/>
              <a:gd name="textAreaRight" fmla="*/ 315360 w 36036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19640" y="5084640"/>
            <a:ext cx="360360" cy="144720"/>
          </a:xfrm>
          <a:custGeom>
            <a:avLst/>
            <a:gdLst>
              <a:gd name="textAreaLeft" fmla="*/ 45000 w 360360"/>
              <a:gd name="textAreaRight" fmla="*/ 315360 w 36036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03640" y="5084640"/>
            <a:ext cx="360360" cy="144720"/>
          </a:xfrm>
          <a:custGeom>
            <a:avLst/>
            <a:gdLst>
              <a:gd name="textAreaLeft" fmla="*/ 45000 w 360360"/>
              <a:gd name="textAreaRight" fmla="*/ 315360 w 36036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Отношение между мотивом и целью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835280" y="2708280"/>
            <a:ext cx="564804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12:03:06Z</dcterms:created>
  <dc:creator>Lerko</dc:creator>
  <dc:description/>
  <dc:language>en-US</dc:language>
  <cp:lastModifiedBy>Lerko</cp:lastModifiedBy>
  <dcterms:modified xsi:type="dcterms:W3CDTF">2009-11-06T13:46:57Z</dcterms:modified>
  <cp:revision>4</cp:revision>
  <dc:subject/>
  <dc:title>Слайд 1</dc:title>
</cp:coreProperties>
</file>