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EF5-01FB-4EA9-A78B-5A6E51E1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2C6-0D67-4194-AC3F-03445C9C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455-77BA-40AF-93A6-69848595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86D-F5B8-473C-9CF2-7932C72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6BC3-D726-489F-9B3E-D5C9CDD4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EEAE6-CF2D-4599-BB11-BE583071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F4AB4-4D83-414E-9ED9-B444BC5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D3C3-B26F-4BB1-B3D2-27504557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8D11-037F-4CB7-8106-F5D0F5A5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2865-50EF-439F-A6F4-3B10D70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44C1B-7D1C-47E5-9D9E-4787091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DDAD-929A-4F58-9074-81057D81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D6D8-2545-48FC-A0BB-3D1924E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07A6-5ADD-4AF5-A7BE-A16788D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A02D2-FACE-4453-911D-09FCD8C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2CC3C-CCF6-4614-ABFF-EBE1DBF4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43BF-F2BC-4913-A7FB-BDFEDF7F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57C-A804-4921-BC88-810A714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7C1-A9BD-4ABD-AFA1-DC827F1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677-B14B-4A56-8E72-1FD4237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BD8-074B-4105-B0AB-3F1DBCC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CF3-953F-44B5-95E7-11FBA67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972-4F18-40F6-8D13-F9EA680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977-9A0A-4944-8C00-D8B6445E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4C5-FFC3-45EB-87C4-3F0D1D8AD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579-FC94-48A0-AE03-175E9C373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Ravie"/>
              </a:rPr>
              <a:t>Особенности формирования мотивации у детей подросткового возрас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-психо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тякова В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Внешние и внутренние цел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53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Этапы формирования мотивации у подрост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вызывания исходной мотив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подкрепления и усиления возникшей мотив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ап заверш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Основные факторы, влияющие на развитие мотивации у подрост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1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ровень самооц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увство взросл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жличностное об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ровни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отив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сокий уровень мотив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Хорошая мотив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ожительное отношение к чему-либ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изкая мотива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гативное отношение к чему-ли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Зависимость уровня мотивац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количества мотивов, которые побуждают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актуализации ситуативных факт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побуждающей силы каждого из этих мотив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ичины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спада мотивации у подростков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 подростков наблюдается «гормональный взрыв» и нечетко сформировано чувство будуще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рушение межличностного общ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ичная значимость предм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мственное развит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дуктивность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понимание ц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рах перед чем-либо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Условия формирования мотивац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ормирование синдрома достиж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амоанали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ормирование стремления и навыков ставить перед собой высокие, но адекватные ц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жличностная поддерж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звити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отивации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ерез усвоение подростком общественного смысла у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ерез саму деятельность, которая должна чем-то заинтересовать ег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Что такое цель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ль - это осознанный, запланированный результат деятельности, субъективный образ, модель будущего продукта деятельности. Иными словами, цель - это то, чего мы стремимся достич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Цель1       Цель2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Цель3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Конечная 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1       Успех2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3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Успе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конч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789360"/>
            <a:ext cx="360360" cy="14436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4221000"/>
            <a:ext cx="9144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4581360"/>
            <a:ext cx="9144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5084640"/>
            <a:ext cx="360360" cy="144720"/>
          </a:xfrm>
          <a:custGeom>
            <a:avLst/>
            <a:gdLst>
              <a:gd name="textAreaLeft" fmla="*/ 45000 w 360360"/>
              <a:gd name="textAreaRight" fmla="*/ 315360 w 36036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Отношение между мотивом и целью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56480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2:03:06Z</dcterms:created>
  <dc:creator>Lerko</dc:creator>
  <dc:description/>
  <dc:language>en-US</dc:language>
  <cp:lastModifiedBy>Lerko</cp:lastModifiedBy>
  <dcterms:modified xsi:type="dcterms:W3CDTF">2009-11-06T13:46:57Z</dcterms:modified>
  <cp:revision>4</cp:revision>
  <dc:subject/>
  <dc:title>Слайд 1</dc:title>
</cp:coreProperties>
</file>