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846-6C41-422D-A4D1-95810572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025-657D-4DC4-B965-A0BAF196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8AE5-6B1E-4323-A58D-98D91D3E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B1C1-290F-480B-9BBD-6627EEC4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ABCCB-190F-44B1-8E4F-E489B91A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BB7DD-B9AE-4EA2-86EB-608FD8B5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7556B-A53C-45B8-B47E-A733E423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990F9-C9F8-45B1-957B-253CBD69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A6E2E-FCB8-46F6-B3A9-DBEA654A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9856E-13AB-4B31-8689-5E871F3B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7732A-9110-42C0-94C9-B4514A4B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9B3-8871-42E9-AFA4-189FFCF5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34758-36FD-46A9-ADCD-EE4249B4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FC825-160D-4FCF-9AE5-99BA48C8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91721-3BC8-4F80-B0D2-7109456B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980CF-CB7C-4B38-8A15-80647189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AED3D-B8D4-4A8B-B85D-C5058209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1D2-46CC-4492-823A-6620122D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90A-0615-495D-B802-21BAE15F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43E-41F7-4D35-9AF7-3B9CDAAC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D16-F5A5-40D8-BC2C-246F26EF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B3F-9226-4E0F-929B-D5E43460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7ED-BC7C-45F5-8A6E-418A0E28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F26-51D6-442C-A6E3-C382E136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20D7-8286-4D1C-B775-A8E19E84185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8E2C-CB9A-4BDB-9B2C-95496F0D58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Здоровье в саду </a:t>
            </a:r>
            <a:br>
              <a:rPr sz="5400"/>
            </a:br>
            <a:r>
              <a:rPr b="0" lang="ru-RU" sz="5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и на грядке.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вательный проек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орков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75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ковь полезна при заболеваниях почек, печени, гипертонии, отложениях солей и запор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ковь улучшает аппетит, пищеварение и структуру зуб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ковь, также, является прекрасным заживляющим средством при язве желудка и двенадцатиперстной киш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е сок повышает сопротивляемость организма к инфекционным заболеваниям. Он укрепляет нервную систему и, пожалуй, не знает себе равных для повышения энерг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тому же этот сок крайне необходим нашим глазам для улучшения зр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забудьте: каротин, которым так ценна морковь, усваивается организмом только вместе с жир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carrots1"/>
          <p:cNvPicPr/>
          <p:nvPr/>
        </p:nvPicPr>
        <p:blipFill>
          <a:blip r:embed="rId1"/>
          <a:stretch/>
        </p:blipFill>
        <p:spPr>
          <a:xfrm>
            <a:off x="4859280" y="1413000"/>
            <a:ext cx="2952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гурц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4788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гурце содержатся витамины (С, B1, B2, PP), сахар, минеральные соли. Кроме того, огуречный сок очищает организм, выводит шлаки и токси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лий, имеющийся в огурцах нормализует кровяное давление, оказывает благоприятное воздействие на работу сердца, способствует выведению жидкости из организ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Йод, присутствующий в огурцах в легкоусвояемой форме, необходим для нормального функционирования щитовидной желез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а, содержащаяся в огурцах, улучшает состояние зубов, ногтей и волос человека. В огурцах наличествуют: соединения фтора, цинка, молибдена, а также железо и алюми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оме того, в огурцах обнаружен фермент, близкий по своей природе к инсулину. Это обстоятельство немаловажно для людей, страдающих диабе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kalorijnost-ogurca"/>
          <p:cNvPicPr/>
          <p:nvPr/>
        </p:nvPicPr>
        <p:blipFill>
          <a:blip r:embed="rId1"/>
          <a:stretch/>
        </p:blipFill>
        <p:spPr>
          <a:xfrm>
            <a:off x="4788000" y="1557360"/>
            <a:ext cx="302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етруш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езные свойства петрушки — способность сгонять отеки при водянке, оказывать потогонное и желчегонное действие, облегчать состояние при почечнокаменной болезни, цистите, гипертонии, полиартрите и других заболевани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трушка полезна при мочекаменной болезни, но при острых заболеваниях почек ее надо из рациона исключи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9" descr="1259849107_parsley"/>
          <p:cNvPicPr/>
          <p:nvPr/>
        </p:nvPicPr>
        <p:blipFill>
          <a:blip r:embed="rId1"/>
          <a:stretch/>
        </p:blipFill>
        <p:spPr>
          <a:xfrm>
            <a:off x="4930920" y="1625760"/>
            <a:ext cx="316836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3e3ff"/>
                </a:solidFill>
                <a:latin typeface="Arial"/>
              </a:rPr>
              <a:t>Фрукты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3000" y="3074760"/>
            <a:ext cx="7715160" cy="14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езные свой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Бан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5113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этих замечательных фруктах, содержится в больших количествах такое вещество как серотонин, в простонародье его называют гормоном радости. Этот гормон получается из белка триптофана, который содержится непосредственно в бана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также полезные свойства банана ещё заключаются в очищении организма от шлаков, укреплении иммунитета, избавление от отёков, снижении уровня холестерина в кров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это ещё не всё, бананы могут придти на помощь человеку курящему, который хочет избавиться от этой губительной привычки. Вы спросите как? Да очень просто, справиться с никотином, бананы могут помочь организму человека за счёт содержания в них калия, магния, витаминов В6, а также В1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банан"/>
          <p:cNvPicPr/>
          <p:nvPr/>
        </p:nvPicPr>
        <p:blipFill>
          <a:blip r:embed="rId1"/>
          <a:stretch/>
        </p:blipFill>
        <p:spPr>
          <a:xfrm>
            <a:off x="5265720" y="1625760"/>
            <a:ext cx="3365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Хурм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824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содержанию полезных микроэлементов и пищевых волокон, хурма в два раза превосходит ябло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урма богата большим количеством калия, кальция, фосфора, магния, железа, а также в плодах содержатся витамины А, С и 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урма может служить замечательным бактерицидным средством в отношении палочки кишечной и сенной, а также к золотистому стафилококку. Свежий, выжатый сок спелой хурмы, прекрасно подходит для лечения просту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урма обладает хорошими общеукрепляющими действиями, к примеру, она; тонизирует, повышает работоспособность, аппетит, в то же время успокаивает нервную систему. Крайне полезный чай, приготовленный из листьев хур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7" descr="хурма"/>
          <p:cNvPicPr/>
          <p:nvPr/>
        </p:nvPicPr>
        <p:blipFill>
          <a:blip r:embed="rId1"/>
          <a:stretch/>
        </p:blipFill>
        <p:spPr>
          <a:xfrm>
            <a:off x="4967280" y="1600200"/>
            <a:ext cx="3397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ив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8920" y="620280"/>
            <a:ext cx="475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личие в нем витаминов РР, Е. а особенно киви ценен за витамин С. Витамин С способствует лучшему усвоению железа в детском организме, а это, как правило, профилактика анем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этом фрукте практически нет растительных жиров, и он малокалорий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т фрукт, улучшает иммунит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став киви входит большое количество витамина С, он богат калием и маг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лий, как известно, восстанавливает баланс минеральных веществ в организме, а так же способствует стабилизации давл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гний же, отвечает за стабильную работу сердца, а так же укрепляет соединительные ткани, вены и артерии нашего организма. Зеленый пигмент, который преобладает в киви, так же бога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киви"/>
          <p:cNvPicPr/>
          <p:nvPr/>
        </p:nvPicPr>
        <p:blipFill>
          <a:blip r:embed="rId1"/>
          <a:stretch/>
        </p:blipFill>
        <p:spPr>
          <a:xfrm>
            <a:off x="4859280" y="1341360"/>
            <a:ext cx="4140360" cy="42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нана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42372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ологические вещества, которые содержаться в ананасе делают его целебным продукт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улучшает пищеварение, санирует кишечник, понижает вязкость крови, снижает артериальное давление, не даёт развиться атеросклероз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ую популярность ананасу в последнее время принёс содержащийся в нём бромелайн. Бромелайн это особая смесь ферментов, которая способна расщеплять бел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езные свойства ананаса также заключаются в витаминах В1, В2,В12,РР которые так же содержатся в нем, делая его незаменимым источником питательных веществ так необходимых для организма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7" descr="ананас"/>
          <p:cNvPicPr/>
          <p:nvPr/>
        </p:nvPicPr>
        <p:blipFill>
          <a:blip r:embed="rId1"/>
          <a:stretch/>
        </p:blipFill>
        <p:spPr>
          <a:xfrm>
            <a:off x="5205240" y="1913040"/>
            <a:ext cx="292608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пельси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пельсин – это кладовая витаминов, в нём содержатся такие витамины: А, В1, В2,Р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мимо этого, полезные свойства апельсина заключаются в таких микроэлементах, как: магний, фосфор, калий, кальций и желез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отя главным достоинством апельсина считают содержание в нём витамина С. Достаточно скушать всего 150 грамм мякоти апельсина, чтобы получить суточную норму, а именно 80 мг аскорбиновой кислот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пельсин прекрасно утоляет жажду, а также возбуждает аппети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соке апельсина содержатся фитонциды, поэтому он обладает противовоспалительным и противомикробным действие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пельсин способствует быстрому заживлению ран и нарыв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апельсин"/>
          <p:cNvPicPr/>
          <p:nvPr/>
        </p:nvPicPr>
        <p:blipFill>
          <a:blip r:embed="rId1"/>
          <a:stretch/>
        </p:blipFill>
        <p:spPr>
          <a:xfrm>
            <a:off x="4435560" y="1774800"/>
            <a:ext cx="4194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900000" y="836640"/>
            <a:ext cx="66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етологи советуют съедать каждый день по крайней мере 5 порций различных овощей и фру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й порцией считается, например, яблоко или апельсин, чашка таких мелких ягод, как виноград или малина, 2 или больше столовых ложек с верхом приготовленных овощей, стакан натурального фруктового сока или вместительная тарелка сала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ьза овощей и фруктов заключается в их способности предотвращать болезни и поддерживать хорошее здоровье в течение долгого време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и являются ценным источником клетчатки, минеральных веществ и витаминов, особенно антиоксидантов – бет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отина (одна из форм витамина А) и витамина С, которые, и это доказано научными исследованиями, защищают клетки от старения и болез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5600" y="1503360"/>
            <a:ext cx="77738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e3e3ff"/>
                </a:solidFill>
                <a:latin typeface="Arial"/>
              </a:rPr>
              <a:t>Овощи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320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лезные свой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векл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езные свойства свеклы обусловлены наличием в корнеплодах различных витаминов (С, группы В, РР, и др.), бетаина, минеральных веществ (йода, магния, калия, кальция, железа, и др.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отребляется как общеукрепляющее, улучшающее пищеварение и обмен веществ сред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кла помогает организму усваивать витамин В, и сама со держит много витамин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свекла"/>
          <p:cNvPicPr/>
          <p:nvPr/>
        </p:nvPicPr>
        <p:blipFill>
          <a:blip r:embed="rId1"/>
          <a:stretch/>
        </p:blipFill>
        <p:spPr>
          <a:xfrm>
            <a:off x="5257800" y="1913040"/>
            <a:ext cx="32702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ди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дис улучшает пищеварение. Не рекомендуется при язвенной болезни, гастрите, заболеваниях печени и почек, подагре (так как способствует отложению солей). То же самое можно сказать и о редь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редис"/>
          <p:cNvPicPr/>
          <p:nvPr/>
        </p:nvPicPr>
        <p:blipFill>
          <a:blip r:embed="rId1"/>
          <a:stretch/>
        </p:blipFill>
        <p:spPr>
          <a:xfrm>
            <a:off x="4641840" y="2314440"/>
            <a:ext cx="404496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Баклажан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клажаны снижают содержание холестерина в крови. Если у вас атеросклероз - ешьте баклажаны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и также полезны при заболеваниях печени, почек и при подаг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баклажаны"/>
          <p:cNvPicPr/>
          <p:nvPr/>
        </p:nvPicPr>
        <p:blipFill>
          <a:blip r:embed="rId1"/>
          <a:stretch/>
        </p:blipFill>
        <p:spPr>
          <a:xfrm>
            <a:off x="4641840" y="2517840"/>
            <a:ext cx="404496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ом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и содержат калий (полезен для сердца,), магний (помогает телу адаптироваться к холоду), железо (рекомендуется при анемии), цинк (необходим для роста клеток кожи, волос и заживления ран), кальций (укрепляет кости), фосфор (участвует в обменных процессах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маты содержат большое количество органических кислот, которые необходимы нашему организму для нормальной рабо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маты содержат (а разных количествах) довольно много витаминов — В1, В2, В3, В6, В9, Е, но больше всего в них витамина 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томаты"/>
          <p:cNvPicPr/>
          <p:nvPr/>
        </p:nvPicPr>
        <p:blipFill>
          <a:blip r:embed="rId1"/>
          <a:stretch/>
        </p:blipFill>
        <p:spPr>
          <a:xfrm>
            <a:off x="4930920" y="2344680"/>
            <a:ext cx="35985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артофел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Картофель содержит все необходимые нашему организму вещества — углеводы, аминокислоты, витамины и соли многих металлов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 медицине сок свежего картофеля используется как средство при лечении гастрита, язвы желудка и двенадцатиперстной кишки, запоров. Пьют его и при головных болях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Печеный картофель способствует снижению кровяного давления, только есть его надо вместе с корочкой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Картофельным соком рекомендуется полоскать полость рта и глотку при воспалительных процессах. А при ангине и сильном кашле картофель используют для ингаляций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картофель"/>
          <p:cNvPicPr/>
          <p:nvPr/>
        </p:nvPicPr>
        <p:blipFill>
          <a:blip r:embed="rId1"/>
          <a:stretch/>
        </p:blipFill>
        <p:spPr>
          <a:xfrm>
            <a:off x="4500720" y="1557360"/>
            <a:ext cx="329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у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4237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к богат калием, витамином С, серой. В нем содержится до 10% сахаров, а также белковые вещества, клетчатка, соли кальция, фосфора, некоторые микроэлементы и эфирные мас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 луковице, так и в пере лука обнаружены провитамин А, витамины В1, В2, РР. Более того, все эти витаминные богатства сохраняются в значительных количествах даже после тепловой обработ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0 г зеленого лука полностью удовлетворяют суточную потребность организма в аскорбиновой кисл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onion2"/>
          <p:cNvPicPr/>
          <p:nvPr/>
        </p:nvPicPr>
        <p:blipFill>
          <a:blip r:embed="rId1"/>
          <a:stretch/>
        </p:blipFill>
        <p:spPr>
          <a:xfrm>
            <a:off x="4425840" y="1776240"/>
            <a:ext cx="3389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8:27:44Z</dcterms:created>
  <dc:creator>Customer</dc:creator>
  <dc:description/>
  <dc:language>en-US</dc:language>
  <cp:lastModifiedBy>Admin</cp:lastModifiedBy>
  <dcterms:modified xsi:type="dcterms:W3CDTF">2011-04-04T18:37:14Z</dcterms:modified>
  <cp:revision>5</cp:revision>
  <dc:subject/>
  <dc:title>Слайд 1</dc:title>
</cp:coreProperties>
</file>