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D5F-1444-4CAC-B810-912281A9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F39-8B77-40C3-BDFB-1CAD9B8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505-56A1-4F0A-8A75-8585B5C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735-CEDF-41B7-BBBD-2C33029E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DBD33-C3C6-4934-B023-35913E30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503A0-C3A3-4279-8A5F-B285FC7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55BCE-6E81-4823-97B6-8DA8F15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C4C7E-088A-42F0-9A4B-0D5F8B7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3D2BE-59FC-4E0F-894E-ECF46879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34BF-1773-43D9-A2FC-45CE791B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BDD8D-111A-4070-B574-13B5591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FD-6561-4BB9-8F13-5A79BAC8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B41E-0B93-4528-AF79-2DE04DD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70CE-AED8-47E9-9F41-FBA555B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4B895-74FB-45C6-A60B-C6DB01D7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57449-DD23-4D76-8819-47916E75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C6836-7305-4D1B-98BB-8AA23E56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143-CF62-4FF9-9022-3B8FCB20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0D4-84A5-419A-B039-3A00ED8F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70D-3D27-4373-A5F3-AD8DE9F7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576-2902-4F7B-92A3-16987647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B85-2802-4A5B-A3B2-96A2642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572-9FC7-4C76-AE66-6967C49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A08-1C88-48BF-B984-753B953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C9C3-E5A4-4624-9427-99078F5E69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CC8-3E2A-43DD-9E76-2BCDDFBE45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Здоровье в саду 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и на грядке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й проек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рков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75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 полезна при заболеваниях почек, печени, гипертонии, отложениях солей и запо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 улучшает аппетит, пищеварение и структуру зуб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, также, является прекрасным заживляющим средством при язве желудка и двенадцатиперстной ки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е сок повышает сопротивляемость организма к инфекционным заболеваниям. Он укрепляет нервную систему и, пожалуй, не знает себе равных для повышения энерг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тому же этот сок крайне необходим нашим глазам для улучшения зр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удьте: каротин, которым так ценна морковь, усваивается организмом только вместе с жи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carrots1"/>
          <p:cNvPicPr/>
          <p:nvPr/>
        </p:nvPicPr>
        <p:blipFill>
          <a:blip r:embed="rId1"/>
          <a:stretch/>
        </p:blipFill>
        <p:spPr>
          <a:xfrm>
            <a:off x="4859280" y="141300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гурц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гурце содержатся витамины (С, B1, B2, PP), сахар, минеральные соли. Кроме того, огуречный сок очищает организм, выводит шлаки и токс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й, имеющийся в огурцах нормализует кровяное давление, оказывает благоприятное воздействие на работу сердца, способствует выведению жидкости из организ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од, присутствующий в огурцах в легкоусвояемой форме, необходим для нормального функционирования щитовидной желез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а, содержащаяся в огурцах, улучшает состояние зубов, ногтей и волос человека. В огурцах наличествуют: соединения фтора, цинка, молибдена, а также железо и алюми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в огурцах обнаружен фермент, близкий по своей природе к инсулину. Это обстоятельство немаловажно для людей, страдающих диаб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kalorijnost-ogurca"/>
          <p:cNvPicPr/>
          <p:nvPr/>
        </p:nvPicPr>
        <p:blipFill>
          <a:blip r:embed="rId1"/>
          <a:stretch/>
        </p:blipFill>
        <p:spPr>
          <a:xfrm>
            <a:off x="4788000" y="1557360"/>
            <a:ext cx="302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етруш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е свойства петрушки — способность сгонять отеки при водянке, оказывать потогонное и желчегонное действие, облегчать состояние при почечнокаменной болезни, цистите, гипертонии, полиартрите и других заболеван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ушка полезна при мочекаменной болезни, но при острых заболеваниях почек ее надо из рациона исклю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1259849107_parsley"/>
          <p:cNvPicPr/>
          <p:nvPr/>
        </p:nvPicPr>
        <p:blipFill>
          <a:blip r:embed="rId1"/>
          <a:stretch/>
        </p:blipFill>
        <p:spPr>
          <a:xfrm>
            <a:off x="4930920" y="1625760"/>
            <a:ext cx="31683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3e3ff"/>
                </a:solidFill>
                <a:latin typeface="Arial"/>
              </a:rPr>
              <a:t>Фрукты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3000" y="3074760"/>
            <a:ext cx="77151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свой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ан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113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их замечательных фруктах, содержится в больших количествах такое вещество как серотонин, в простонародье его называют гормоном радости. Этот гормон получается из белка триптофана, который содержится непосредственно в бан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же полезные свойства банана ещё заключаются в очищении организма от шлаков, укреплении иммунитета, избавление от отёков, снижении уровня холестерина в кров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это ещё не всё, бананы могут придти на помощь человеку курящему, который хочет избавиться от этой губительной привычки. Вы спросите как? Да очень просто, справиться с никотином, бананы могут помочь организму человека за счёт содержания в них калия, магния, витаминов В6, а также В1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банан"/>
          <p:cNvPicPr/>
          <p:nvPr/>
        </p:nvPicPr>
        <p:blipFill>
          <a:blip r:embed="rId1"/>
          <a:stretch/>
        </p:blipFill>
        <p:spPr>
          <a:xfrm>
            <a:off x="5265720" y="1625760"/>
            <a:ext cx="3365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Хур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одержанию полезных микроэлементов и пищевых волокон, хурма в два раза превосходит ябло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богата большим количеством калия, кальция, фосфора, магния, железа, а также в плодах содержатся витамины А, С и 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может служить замечательным бактерицидным средством в отношении палочки кишечной и сенной, а также к золотистому стафилококку. Свежий, выжатый сок спелой хурмы, прекрасно подходит для лечения просту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обладает хорошими общеукрепляющими действиями, к примеру, она; тонизирует, повышает работоспособность, аппетит, в то же время успокаивает нервную систему. Крайне полезный чай, приготовленный из листьев ху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хурма"/>
          <p:cNvPicPr/>
          <p:nvPr/>
        </p:nvPicPr>
        <p:blipFill>
          <a:blip r:embed="rId1"/>
          <a:stretch/>
        </p:blipFill>
        <p:spPr>
          <a:xfrm>
            <a:off x="4967280" y="1600200"/>
            <a:ext cx="339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ив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620280"/>
            <a:ext cx="475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личие в нем витаминов РР, Е. а особенно киви ценен за витамин С. Витамин С способствует лучшему усвоению железа в детском организме, а это, как правило, профилактика анем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ом фрукте практически нет растительных жиров, и он малокалорий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т фрукт, улучшает иммуни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став киви входит большое количество витамина С, он богат калием и маг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й, как известно, восстанавливает баланс минеральных веществ в организме, а так же способствует стабилизации дав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ний же, отвечает за стабильную работу сердца, а так же укрепляет соединительные ткани, вены и артерии нашего организма. Зеленый пигмент, который преобладает в киви, так же бога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киви"/>
          <p:cNvPicPr/>
          <p:nvPr/>
        </p:nvPicPr>
        <p:blipFill>
          <a:blip r:embed="rId1"/>
          <a:stretch/>
        </p:blipFill>
        <p:spPr>
          <a:xfrm>
            <a:off x="4859280" y="1341360"/>
            <a:ext cx="4140360" cy="42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на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42372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ие вещества, которые содержаться в ананасе делают его целебным продук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улучшает пищеварение, санирует кишечник, понижает вязкость крови, снижает артериальное давление, не даёт развиться атеросклероз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ую популярность ананасу в последнее время принёс содержащийся в нём бромелайн. Бромелайн это особая смесь ферментов, которая способна расщеплять бел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езные свойства ананаса также заключаются в витаминах В1, В2,В12,РР которые так же содержатся в нем, делая его незаменимым источником питательных веществ так необходимых для организма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ананас"/>
          <p:cNvPicPr/>
          <p:nvPr/>
        </p:nvPicPr>
        <p:blipFill>
          <a:blip r:embed="rId1"/>
          <a:stretch/>
        </p:blipFill>
        <p:spPr>
          <a:xfrm>
            <a:off x="5205240" y="1913040"/>
            <a:ext cx="29260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пельси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– это кладовая витаминов, в нём содержатся такие витамины: А, В1, В2,Р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мимо этого, полезные свойства апельсина заключаются в таких микроэлементах, как: магний, фосфор, калий, кальций и желез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тя главным достоинством апельсина считают содержание в нём витамина С. Достаточно скушать всего 150 грамм мякоти апельсина, чтобы получить суточную норму, а именно 80 мг аскорбиновой кисло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прекрасно утоляет жажду, а также возбуждает аппет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ке апельсина содержатся фитонциды, поэтому он обладает противовоспалительным и противомикробным действ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способствует быстрому заживлению ран и нарыв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апельсин"/>
          <p:cNvPicPr/>
          <p:nvPr/>
        </p:nvPicPr>
        <p:blipFill>
          <a:blip r:embed="rId1"/>
          <a:stretch/>
        </p:blipFill>
        <p:spPr>
          <a:xfrm>
            <a:off x="4435560" y="1774800"/>
            <a:ext cx="4194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900000" y="836640"/>
            <a:ext cx="66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етологи советуют съедать каждый день по крайней мере 5 порций различных овощей и фр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порцией считается, например, яблоко или апельсин, чашка таких мелких ягод, как виноград или малина, 2 или больше столовых ложек с верхом приготовленных овощей, стакан натурального фруктового сока или вместительная тарелка сал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а овощей и фруктов заключается в их способности предотвращать болезни и поддерживать хорошее здоровье в течение долго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являются ценным источником клетчатки, минеральных веществ и витаминов, особенно антиоксидантов – бе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а (одна из форм витамина А) и витамина С, которые, и это доказано научными исследованиями, защищают клетки от старения и болез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1503360"/>
            <a:ext cx="77738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e3e3ff"/>
                </a:solidFill>
                <a:latin typeface="Arial"/>
              </a:rPr>
              <a:t>Овощи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езные свой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векл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е свойства свеклы обусловлены наличием в корнеплодах различных витаминов (С, группы В, РР, и др.), бетаина, минеральных веществ (йода, магния, калия, кальция, железа, и др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отребляется как общеукрепляющее, улучшающее пищеварение и обмен веществ сред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кла помогает организму усваивать витамин В, и сама со держит много витами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свекла"/>
          <p:cNvPicPr/>
          <p:nvPr/>
        </p:nvPicPr>
        <p:blipFill>
          <a:blip r:embed="rId1"/>
          <a:stretch/>
        </p:blipFill>
        <p:spPr>
          <a:xfrm>
            <a:off x="5257800" y="1913040"/>
            <a:ext cx="32702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д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ис улучшает пищеварение. Не рекомендуется при язвенной болезни, гастрите, заболеваниях печени и почек, подагре (так как способствует отложению солей). То же самое можно сказать и о редь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редис"/>
          <p:cNvPicPr/>
          <p:nvPr/>
        </p:nvPicPr>
        <p:blipFill>
          <a:blip r:embed="rId1"/>
          <a:stretch/>
        </p:blipFill>
        <p:spPr>
          <a:xfrm>
            <a:off x="4641840" y="2314440"/>
            <a:ext cx="40449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аклажан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клажаны снижают содержание холестерина в крови. Если у вас атеросклероз - ешьте баклажаны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также полезны при заболеваниях печени, почек и при подаг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баклажаны"/>
          <p:cNvPicPr/>
          <p:nvPr/>
        </p:nvPicPr>
        <p:blipFill>
          <a:blip r:embed="rId1"/>
          <a:stretch/>
        </p:blipFill>
        <p:spPr>
          <a:xfrm>
            <a:off x="4641840" y="2517840"/>
            <a:ext cx="40449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м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содержат калий (полезен для сердца,), магний (помогает телу адаптироваться к холоду), железо (рекомендуется при анемии), цинк (необходим для роста клеток кожи, волос и заживления ран), кальций (укрепляет кости), фосфор (участвует в обменных процессах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маты содержат большое количество органических кислот, которые необходимы нашему организму для нормальной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маты содержат (а разных количествах) довольно много витаминов — В1, В2, В3, В6, В9, Е, но больше всего в них витамина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томаты"/>
          <p:cNvPicPr/>
          <p:nvPr/>
        </p:nvPicPr>
        <p:blipFill>
          <a:blip r:embed="rId1"/>
          <a:stretch/>
        </p:blipFill>
        <p:spPr>
          <a:xfrm>
            <a:off x="4930920" y="2344680"/>
            <a:ext cx="3598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артофель содержит все необходимые нашему организму вещества — углеводы, аминокислоты, витамины и соли многих металлов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медицине сок свежего картофеля используется как средство при лечении гастрита, язвы желудка и двенадцатиперстной кишки, запоров. Пьют его и при головных болях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еченый картофель способствует снижению кровяного давления, только есть его надо вместе с корочко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артофельным соком рекомендуется полоскать полость рта и глотку при воспалительных процессах. А при ангине и сильном кашле картофель используют для ингаляц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картофель"/>
          <p:cNvPicPr/>
          <p:nvPr/>
        </p:nvPicPr>
        <p:blipFill>
          <a:blip r:embed="rId1"/>
          <a:stretch/>
        </p:blipFill>
        <p:spPr>
          <a:xfrm>
            <a:off x="4500720" y="1557360"/>
            <a:ext cx="329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у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4237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к богат калием, витамином С, серой. В нем содержится до 10% сахаров, а также белковые вещества, клетчатка, соли кальция, фосфора, некоторые микроэлементы и эфирные мас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 луковице, так и в пере лука обнаружены провитамин А, витамины В1, В2, РР. Более того, все эти витаминные богатства сохраняются в значительных количествах даже после тепловой обрабо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 г зеленого лука полностью удовлетворяют суточную потребность организма в аскорбиновой кисл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onion2"/>
          <p:cNvPicPr/>
          <p:nvPr/>
        </p:nvPicPr>
        <p:blipFill>
          <a:blip r:embed="rId1"/>
          <a:stretch/>
        </p:blipFill>
        <p:spPr>
          <a:xfrm>
            <a:off x="4425840" y="1776240"/>
            <a:ext cx="338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8:27:44Z</dcterms:created>
  <dc:creator>Customer</dc:creator>
  <dc:description/>
  <dc:language>en-US</dc:language>
  <cp:lastModifiedBy>Admin</cp:lastModifiedBy>
  <dcterms:modified xsi:type="dcterms:W3CDTF">2011-04-04T18:37:14Z</dcterms:modified>
  <cp:revision>5</cp:revision>
  <dc:subject/>
  <dc:title>Слайд 1</dc:title>
</cp:coreProperties>
</file>