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4D5-A70B-40D6-811C-F8B1D51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78D-A823-4E10-98F9-8F5CDFD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48A-21E8-4B61-8460-66489D70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2A3-893D-447D-BC73-309D58D9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34D-B39D-478A-A80E-85D4356E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5CE5-D9C5-4891-A355-7FFA09F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E37-8746-42F2-A03F-B965147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F37-6CC1-44B3-95AE-48B5018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CCF3-398A-4BBF-AF5F-E1F27207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8E81-74B6-4977-91AE-249A284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CF8B-B487-44D8-A1E8-0F7BBE9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0AD-E1F1-40FB-A5EF-43422DA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B2CB-CA6D-4F6D-9615-9CF6D2D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891-4FED-4348-B6CA-C10D620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F8A8-DD2C-45B5-9ECF-AB9CBB3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2BA8-7F91-49AA-924A-F34AEA63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17D-CB66-4E4F-8E63-FDF04EF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BE5-5D90-42B9-BA25-868FDA23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87C-1993-49B6-8AEA-ABDDC3F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31F-C61F-4D40-A774-5B58565A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BC3-2537-484A-BAE4-EE77335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EA6-74D7-4117-A758-403E372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7DC-C58B-49AF-9C76-FEEE9D5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089-9751-4552-9EA9-C12404C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5AC-B4D8-4779-A2C0-CEB2AB1CD9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26D-B96A-48A6-9820-94127697B08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2916360" y="620640"/>
            <a:ext cx="532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ставление 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843280" y="198900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ятия по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>
                    <a:alpha val="9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урочной деятельности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>
                  <a:alpha val="9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4284720" y="3284640"/>
            <a:ext cx="237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5d58a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ФГОС НОО</a:t>
            </a:r>
            <a:endParaRPr b="0" lang="en-US" sz="1800" spc="1" strike="noStrike">
              <a:ln w="9360">
                <a:solidFill>
                  <a:srgbClr val="e5d58a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87520" y="4653000"/>
            <a:ext cx="72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Подготовила учитель изобразительного искусства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МБОУ Катынской СШ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1 квалификационной категор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тепанькова Светлана Александров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Users\Светлана\Pictures\Скриншоты\богатырь 10.JPG"/>
          <p:cNvPicPr/>
          <p:nvPr/>
        </p:nvPicPr>
        <p:blipFill>
          <a:blip r:embed="rId1"/>
          <a:stretch/>
        </p:blipFill>
        <p:spPr>
          <a:xfrm>
            <a:off x="5207040" y="3598920"/>
            <a:ext cx="3384360" cy="2894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Светлана\Pictures\Скриншоты\богатырь7.JPG"/>
          <p:cNvPicPr/>
          <p:nvPr/>
        </p:nvPicPr>
        <p:blipFill>
          <a:blip r:embed="rId2"/>
          <a:stretch/>
        </p:blipFill>
        <p:spPr>
          <a:xfrm>
            <a:off x="1471680" y="450720"/>
            <a:ext cx="3460680" cy="2946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Users\Светлана\Pictures\Скриншоты\боеатырь 8.JPG"/>
          <p:cNvPicPr/>
          <p:nvPr/>
        </p:nvPicPr>
        <p:blipFill>
          <a:blip r:embed="rId3"/>
          <a:stretch/>
        </p:blipFill>
        <p:spPr>
          <a:xfrm>
            <a:off x="1500120" y="3645000"/>
            <a:ext cx="3478320" cy="2801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Светлана\Pictures\Скриншоты\Снимок.JPG"/>
          <p:cNvPicPr/>
          <p:nvPr/>
        </p:nvPicPr>
        <p:blipFill>
          <a:blip r:embed="rId4"/>
          <a:stretch/>
        </p:blipFill>
        <p:spPr>
          <a:xfrm>
            <a:off x="5207040" y="446040"/>
            <a:ext cx="3105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84360" y="47628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уховно – нравственный портрет ребёнк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Честный и справедливы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Добрый, не причиняющий зла живому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Любящий и заботли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рудолюбивый и настойчи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ворящий и оберегающий красоту мир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мелый и решитель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вободолюбивый и ответствен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Самостоятельный и законопослуш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Чувствующий свою связь со своим народом, страной, культуро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Патриотичный (готовый поступиться своими интересами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99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33"/>
                </a:solidFill>
                <a:latin typeface="Times New Roman"/>
              </a:rPr>
              <a:t>Терпимый (уважающий других, не похожих на него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3" descr="i"/>
          <p:cNvPicPr/>
          <p:nvPr/>
        </p:nvPicPr>
        <p:blipFill>
          <a:blip r:embed="rId1"/>
          <a:stretch/>
        </p:blipFill>
        <p:spPr>
          <a:xfrm>
            <a:off x="1547640" y="476280"/>
            <a:ext cx="839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2004480" y="1628640"/>
            <a:ext cx="628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692360" y="1557360"/>
            <a:ext cx="698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«Психологические особенности детей младшего школьного  возраста, их природная любознательность, расположенность к усвоению нового создают благоприятные условия для развития у них познавательного интереса». «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Ребенок младшего школьного возраста наиболее восприимчив к эмоционально-ценностному, духовно-нравственному развитию, гражданскому воспитанию. В то же время недостатки развития и воспитания в этот период жизни трудно восполнить в последующие годы»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953080" y="260280"/>
            <a:ext cx="61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Концепция духовно – нравственного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развития и воспита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8" name="Picture 7" descr="ол"/>
          <p:cNvPicPr/>
          <p:nvPr/>
        </p:nvPicPr>
        <p:blipFill>
          <a:blip r:embed="rId1"/>
          <a:stretch/>
        </p:blipFill>
        <p:spPr>
          <a:xfrm>
            <a:off x="1547640" y="333360"/>
            <a:ext cx="1079640" cy="1063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70720" y="260280"/>
            <a:ext cx="61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Концепция духовно – нравственного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развития и воспитания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403280" y="549360"/>
            <a:ext cx="55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Надо помочь ребёнку через искусство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глубже осознать свои мысли и чувства,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яснее мыслить и глубже чувствовать…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Н.К. Крупская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403280" y="2205000"/>
            <a:ext cx="676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Актуальным в наше время является духовно-нравственное развитие и воспитание личности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Оно определяется в соответствии с базовыми национальными ценностями и приобретает определенный характер и направление в зависимости от того, какие ценности общество разделяет, как организована их передача от поколения к поколению. Поэтому мною была разработана программа внеурочной деятельности для 1-2 классов</a:t>
            </a:r>
            <a:r>
              <a:rPr b="1" lang="en-US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6633"/>
                </a:solidFill>
                <a:latin typeface="Times New Roman"/>
              </a:rPr>
              <a:t>по художественному труду, которая содержит  основные концепции духовно-нравственного развития и воспитания личности.</a:t>
            </a:r>
            <a:r>
              <a:rPr b="0" lang="ru-RU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Picture 5" descr="MCj04300490000[1]"/>
          <p:cNvPicPr/>
          <p:nvPr/>
        </p:nvPicPr>
        <p:blipFill>
          <a:blip r:embed="rId1"/>
          <a:stretch/>
        </p:blipFill>
        <p:spPr>
          <a:xfrm>
            <a:off x="6948360" y="476280"/>
            <a:ext cx="15843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8"/>
          <p:cNvSpPr/>
          <p:nvPr/>
        </p:nvSpPr>
        <p:spPr>
          <a:xfrm>
            <a:off x="2392200" y="314280"/>
            <a:ext cx="5769000" cy="21301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66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omic Sans MS"/>
              </a:rPr>
              <a:t>Программа внеурочной деятельности «Золотые   ручки»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уховно-нравственное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общекультурное направлен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27600" y="26370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Базовые ценн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1763640" y="537372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труд и творчество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1619280" y="378936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AutoShape 29"/>
          <p:cNvSpPr/>
          <p:nvPr/>
        </p:nvSpPr>
        <p:spPr>
          <a:xfrm>
            <a:off x="6156360" y="5157720"/>
            <a:ext cx="2519280" cy="792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здоровь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6877080" y="386064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природ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>
            <a:off x="4211640" y="4005360"/>
            <a:ext cx="2160720" cy="792000"/>
          </a:xfrm>
          <a:prstGeom prst="roundRect">
            <a:avLst>
              <a:gd name="adj" fmla="val 1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6633"/>
                </a:solidFill>
                <a:uFillTx/>
                <a:latin typeface="Times New Roman"/>
              </a:rPr>
              <a:t>семь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Line 35"/>
          <p:cNvSpPr/>
          <p:nvPr/>
        </p:nvSpPr>
        <p:spPr>
          <a:xfrm flipH="1">
            <a:off x="3059280" y="2997360"/>
            <a:ext cx="144144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 flipH="1">
            <a:off x="3276360" y="2997360"/>
            <a:ext cx="1439640" cy="2376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5219640" y="2997360"/>
            <a:ext cx="0" cy="1008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6084720" y="2997360"/>
            <a:ext cx="935280" cy="21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6300720" y="2997360"/>
            <a:ext cx="1366920" cy="86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Line 40"/>
          <p:cNvSpPr/>
          <p:nvPr/>
        </p:nvSpPr>
        <p:spPr>
          <a:xfrm>
            <a:off x="5148360" y="2349360"/>
            <a:ext cx="0" cy="358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763640" y="33336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Тема занятия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«Богатыри»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Тип занятия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развивающе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Класс: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03280" y="1413000"/>
            <a:ext cx="748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Цели: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создание условий для формирования у обучающихся основ духовно – нравственного воспитания через формирование понятий «любовь к Родине», «чувство гордости за богатырскую Силу России», «уважение к русским воинам», «защитники Земли Русской»;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развивать зрительный контроль действия рук; формировать навыки создания единого художественного образа в конструктивном оформлении предмета; нравственных чувств и этического сознания в процессе коммуникативной деятельности,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выполнение творческой работы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Picture 6" descr="2614369-85f46727ad865aa3"/>
          <p:cNvPicPr/>
          <p:nvPr/>
        </p:nvPicPr>
        <p:blipFill>
          <a:blip r:embed="rId1"/>
          <a:stretch/>
        </p:blipFill>
        <p:spPr>
          <a:xfrm>
            <a:off x="7380360" y="189000"/>
            <a:ext cx="996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383480" y="260280"/>
            <a:ext cx="643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Cambria"/>
              </a:rPr>
              <a:t>Методы обучения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Поисков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Словесный (беседа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Наглядно – иллюстративный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Метод контроля и коррекции знани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учащихс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Практический (творческая работа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908000" y="2832120"/>
            <a:ext cx="597564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Cambria"/>
              </a:rPr>
              <a:t>Педагогические технологии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Информационно – коммуникативны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Здоровьесберегающи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Игровые технологи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Технология сотрудничеств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625040" y="5030640"/>
            <a:ext cx="543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Средства обучения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аудио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компьютерная презентация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изобразительные наглядные пособ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2" name="Picture 7" descr="normal_Education 315"/>
          <p:cNvPicPr/>
          <p:nvPr/>
        </p:nvPicPr>
        <p:blipFill>
          <a:blip r:embed="rId1"/>
          <a:srcRect l="6299" t="0" r="3150" b="3770"/>
          <a:stretch/>
        </p:blipFill>
        <p:spPr>
          <a:xfrm>
            <a:off x="6804000" y="260280"/>
            <a:ext cx="1657440" cy="1176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1835280" y="18900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На уроке были созданы оптимальные психолого-педагогические условия, способствующие формированию способности обучающихся к саморазвитию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308600" y="1773360"/>
            <a:ext cx="77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положительная мотивац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обеспечение творческой, эмоционально-насыщенной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атмосфер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элемент игр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субъект - субъектный тип взаимодействия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работа в парах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беспечение рефлексивной позиции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бучающихс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учет возрастных и индивидуальных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Cambria"/>
              </a:rPr>
              <a:t>особенностей обучающихс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5" name="Picture 9" descr="8Vi_Rk_h8P"/>
          <p:cNvPicPr/>
          <p:nvPr/>
        </p:nvPicPr>
        <p:blipFill>
          <a:blip r:embed="rId1"/>
          <a:stretch/>
        </p:blipFill>
        <p:spPr>
          <a:xfrm>
            <a:off x="7977240" y="5694480"/>
            <a:ext cx="741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Светлана\Pictures\Скриншоты\богатырь1.JPG"/>
          <p:cNvPicPr/>
          <p:nvPr/>
        </p:nvPicPr>
        <p:blipFill>
          <a:blip r:embed="rId1"/>
          <a:stretch/>
        </p:blipFill>
        <p:spPr>
          <a:xfrm>
            <a:off x="1355760" y="3573360"/>
            <a:ext cx="3730680" cy="297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Pictures\Скриншоты\богатырь2.JPG"/>
          <p:cNvPicPr/>
          <p:nvPr/>
        </p:nvPicPr>
        <p:blipFill>
          <a:blip r:embed="rId2"/>
          <a:stretch/>
        </p:blipFill>
        <p:spPr>
          <a:xfrm>
            <a:off x="5435640" y="3611520"/>
            <a:ext cx="3203640" cy="291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Pictures\Скриншоты\богатырь6.JPG"/>
          <p:cNvPicPr/>
          <p:nvPr/>
        </p:nvPicPr>
        <p:blipFill>
          <a:blip r:embed="rId3"/>
          <a:stretch/>
        </p:blipFill>
        <p:spPr>
          <a:xfrm>
            <a:off x="1365120" y="476280"/>
            <a:ext cx="3735360" cy="273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:\Users\Светлана\Pictures\Скриншоты\богатырь5.JPG"/>
          <p:cNvPicPr/>
          <p:nvPr/>
        </p:nvPicPr>
        <p:blipFill>
          <a:blip r:embed="rId4"/>
          <a:srcRect l="0" t="0" r="213" b="5222"/>
          <a:stretch/>
        </p:blipFill>
        <p:spPr>
          <a:xfrm>
            <a:off x="5435640" y="287280"/>
            <a:ext cx="320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1928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692360" y="112536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Результативность занятия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наличие продукта деятельности обучающихс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достижение цели занятия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Times New Roman"/>
              </a:rPr>
              <a:t>совместный с обучающимися рефлексивный анализ осуществленной деятельн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Picture 7" descr="i (19)"/>
          <p:cNvPicPr/>
          <p:nvPr/>
        </p:nvPicPr>
        <p:blipFill>
          <a:blip r:embed="rId1"/>
          <a:stretch/>
        </p:blipFill>
        <p:spPr>
          <a:xfrm>
            <a:off x="7164360" y="5013360"/>
            <a:ext cx="122400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4:19:34Z</dcterms:created>
  <dc:creator>Admin</dc:creator>
  <dc:description/>
  <dc:language>en-US</dc:language>
  <cp:lastModifiedBy>Светлана</cp:lastModifiedBy>
  <dcterms:modified xsi:type="dcterms:W3CDTF">2017-02-05T13:37:16Z</dcterms:modified>
  <cp:revision>25</cp:revision>
  <dc:subject/>
  <dc:title>Слайд 1</dc:title>
</cp:coreProperties>
</file>