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ACA-4CE1-4DE4-825C-2BDFB62B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329-1A40-4D58-BF37-5F651586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8D1-8180-471C-9CE2-C35B7134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611-FA33-48A1-8D0B-9A4689A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13CE-8888-4A38-96C0-5B6599E9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388-0B8E-412A-B3F2-B7B0840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9B59-8526-4100-AF84-02E6C437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3D3A-2E1B-429A-880E-5BA31DE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B092-562C-470D-887B-93176171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8FFA-48D5-4C97-9A5D-D3F3B9C2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46C-F95C-47A0-A877-A8972C2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F6B-4702-4705-83FB-D9DBE9BA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1EAE-2C08-42E8-BB9B-C606120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C5F-C07E-4C33-BCC9-8B673FF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812C-1CA0-4386-BF84-3E35D2F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B6E-35D4-4807-9F28-081A4A2E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A4A5-ACBB-4DE4-8554-E270622B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45D-3D53-44E6-BCEF-AB60FF8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CAD-07FE-4617-8297-15CA3FF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847-68C0-4006-A1AB-BD22C63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225-7D2F-46AF-87D5-41BD7D0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E46-2FE0-43AF-A601-602BEBD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F7F-1C9C-4DF3-B5D7-CFB0EC1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379-F704-4340-9D26-8BE10A5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E2B2-4DED-4881-9C39-C2A997F646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2398-B92C-40B6-8166-12B58D1BB16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2916360" y="620640"/>
            <a:ext cx="532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ставление 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843280" y="198900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ятия по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урочной деятельности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4284720" y="3284640"/>
            <a:ext cx="237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ФГОС НОО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87520" y="4653000"/>
            <a:ext cx="72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Подготовила учитель изобразительного искусства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МБОУ Катынской СШ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1 квалификационной категор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тепанькова Светлана Александров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Светлана\Pictures\Скриншоты\богатырь 10.JPG"/>
          <p:cNvPicPr/>
          <p:nvPr/>
        </p:nvPicPr>
        <p:blipFill>
          <a:blip r:embed="rId1"/>
          <a:stretch/>
        </p:blipFill>
        <p:spPr>
          <a:xfrm>
            <a:off x="5207040" y="3598920"/>
            <a:ext cx="3384360" cy="2894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Светлана\Pictures\Скриншоты\богатырь7.JPG"/>
          <p:cNvPicPr/>
          <p:nvPr/>
        </p:nvPicPr>
        <p:blipFill>
          <a:blip r:embed="rId2"/>
          <a:stretch/>
        </p:blipFill>
        <p:spPr>
          <a:xfrm>
            <a:off x="1471680" y="450720"/>
            <a:ext cx="3460680" cy="294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Светлана\Pictures\Скриншоты\боеатырь 8.JPG"/>
          <p:cNvPicPr/>
          <p:nvPr/>
        </p:nvPicPr>
        <p:blipFill>
          <a:blip r:embed="rId3"/>
          <a:stretch/>
        </p:blipFill>
        <p:spPr>
          <a:xfrm>
            <a:off x="1500120" y="3645000"/>
            <a:ext cx="3478320" cy="280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Светлана\Pictures\Скриншоты\Снимок.JPG"/>
          <p:cNvPicPr/>
          <p:nvPr/>
        </p:nvPicPr>
        <p:blipFill>
          <a:blip r:embed="rId4"/>
          <a:stretch/>
        </p:blipFill>
        <p:spPr>
          <a:xfrm>
            <a:off x="5207040" y="446040"/>
            <a:ext cx="3105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84360" y="47628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уховно – нравственный портрет ребёнк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Честный и справедливы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Добрый, не причиняющий зла живому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Любящий и заботли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рудолюбивый и настойчи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ворящий и оберегающий красоту мир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мелый и решитель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вободолюбивый и ответствен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амостоятельный и законопослуш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Чувствующий свою связь со своим народом, страной, культуро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Патриотичный (готовый поступиться своими интересами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ерпимый (уважающий других, не похожих на него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3" descr="i"/>
          <p:cNvPicPr/>
          <p:nvPr/>
        </p:nvPicPr>
        <p:blipFill>
          <a:blip r:embed="rId1"/>
          <a:stretch/>
        </p:blipFill>
        <p:spPr>
          <a:xfrm>
            <a:off x="1547640" y="476280"/>
            <a:ext cx="839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2004480" y="1628640"/>
            <a:ext cx="628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692360" y="1557360"/>
            <a:ext cx="698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«Психологические особенности детей младшего школьного  возраста, их природная любознательность, расположенность к усвоению нового создают благоприятные условия для развития у них познавательного интереса». «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Ребенок младшего школьного возраста наиболее восприимчив к эмоционально-ценностному, духовно-нравственному развитию, гражданскому воспитанию. В то же время недостатки развития и воспитания в этот период жизни трудно восполнить в последующие годы»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953080" y="260280"/>
            <a:ext cx="61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Концепция духовно – нравственного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развития и воспита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8" name="Picture 7" descr="ол"/>
          <p:cNvPicPr/>
          <p:nvPr/>
        </p:nvPicPr>
        <p:blipFill>
          <a:blip r:embed="rId1"/>
          <a:stretch/>
        </p:blipFill>
        <p:spPr>
          <a:xfrm>
            <a:off x="1547640" y="333360"/>
            <a:ext cx="1079640" cy="1063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70720" y="260280"/>
            <a:ext cx="61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Концепция духовно – нравственного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развития и воспита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403280" y="549360"/>
            <a:ext cx="55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Надо помочь ребёнку через искусство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глубже осознать свои мысли и чувства,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яснее мыслить и глубже чувствовать…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Н.К. Крупская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403280" y="2205000"/>
            <a:ext cx="676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ктуальным в наше время является духовно-нравственное развитие и воспитание личности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Оно определяется в соответствии с базовыми национальными ценностями и приобретает определенный характер и направление в зависимости от того, какие ценности общество разделяет, как организована их передача от поколения к поколению. Поэтому мною была разработана программа внеурочной деятельности для 1-2 классов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по художественному труду, которая содержит  основные концепции духовно-нравственного развития и воспитания личности.</a:t>
            </a:r>
            <a:r>
              <a:rPr b="0" lang="ru-RU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Picture 5" descr="MCj04300490000[1]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8"/>
          <p:cNvSpPr/>
          <p:nvPr/>
        </p:nvSpPr>
        <p:spPr>
          <a:xfrm>
            <a:off x="2392200" y="314280"/>
            <a:ext cx="5769000" cy="21301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omic Sans MS"/>
              </a:rPr>
              <a:t>Программа внеурочной деятельности «Золотые   ручки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уховно-нравственное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общекультурное направлен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27600" y="26370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Базовые ценн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1763640" y="537372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труд и творчество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1619280" y="378936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AutoShape 29"/>
          <p:cNvSpPr/>
          <p:nvPr/>
        </p:nvSpPr>
        <p:spPr>
          <a:xfrm>
            <a:off x="6156360" y="5157720"/>
            <a:ext cx="2519280" cy="792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здоровь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6877080" y="386064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природ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>
            <a:off x="4211640" y="400536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семь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Line 35"/>
          <p:cNvSpPr/>
          <p:nvPr/>
        </p:nvSpPr>
        <p:spPr>
          <a:xfrm flipH="1">
            <a:off x="3059280" y="2997360"/>
            <a:ext cx="144144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 flipH="1">
            <a:off x="3276360" y="2997360"/>
            <a:ext cx="1439640" cy="2376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5219640" y="2997360"/>
            <a:ext cx="0" cy="1008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6084720" y="2997360"/>
            <a:ext cx="935280" cy="21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6300720" y="2997360"/>
            <a:ext cx="1366920" cy="86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Line 40"/>
          <p:cNvSpPr/>
          <p:nvPr/>
        </p:nvSpPr>
        <p:spPr>
          <a:xfrm>
            <a:off x="5148360" y="2349360"/>
            <a:ext cx="0" cy="358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763640" y="33336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Тема занятия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«Богатыри»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Тип занятия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развивающе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Класс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03280" y="1413000"/>
            <a:ext cx="748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Цели: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создание условий для формирования у обучающихся основ духовно – нравственного воспитания через формирование понятий «любовь к Родине», «чувство гордости за богатырскую Силу России», «уважение к русским воинам», «защитники Земли Русской»;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развивать зрительный контроль действия рук; формировать навыки создания единого художественного образа в конструктивном оформлении предмета; нравственных чувств и этического сознания в процессе коммуникативной деятельности,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выполнение творческой работы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Picture 6" descr="2614369-85f46727ad865aa3"/>
          <p:cNvPicPr/>
          <p:nvPr/>
        </p:nvPicPr>
        <p:blipFill>
          <a:blip r:embed="rId1"/>
          <a:stretch/>
        </p:blipFill>
        <p:spPr>
          <a:xfrm>
            <a:off x="7380360" y="189000"/>
            <a:ext cx="996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383480" y="260280"/>
            <a:ext cx="643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Cambria"/>
              </a:rPr>
              <a:t>Методы обучения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Поиско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Словесный (беседа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Наглядно – иллюстратив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Метод контроля и коррекции знани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учащихс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Практический (творческая работа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908000" y="2832120"/>
            <a:ext cx="597564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Cambria"/>
              </a:rPr>
              <a:t>Педагогические технологии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Информационно – коммуникативны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Здоровьесберегающ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Игровые технолог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Технология сотрудничеств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625040" y="5030640"/>
            <a:ext cx="543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Средства обучения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аудио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компьютерная презентация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изобразительные наглядные пособ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2" name="Picture 7" descr="normal_Education 315"/>
          <p:cNvPicPr/>
          <p:nvPr/>
        </p:nvPicPr>
        <p:blipFill>
          <a:blip r:embed="rId1"/>
          <a:srcRect l="6299" t="0" r="3150" b="3770"/>
          <a:stretch/>
        </p:blipFill>
        <p:spPr>
          <a:xfrm>
            <a:off x="6804000" y="260280"/>
            <a:ext cx="1657440" cy="1176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1835280" y="18900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 уроке были созданы оптимальные психолого-педагогические условия, способствующие формированию способности обучающихся к саморазвитию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308600" y="1773360"/>
            <a:ext cx="77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положительная мотивац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обеспечение творческой, эмоционально-насыщенно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атмосфер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элемент игр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субъект - субъектный тип взаимодействия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работа в парах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беспечение рефлексивной позиции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бучающихс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учет возрастных и индивидуальных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собенностей обучающихс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5" name="Picture 9" descr="8Vi_Rk_h8P"/>
          <p:cNvPicPr/>
          <p:nvPr/>
        </p:nvPicPr>
        <p:blipFill>
          <a:blip r:embed="rId1"/>
          <a:stretch/>
        </p:blipFill>
        <p:spPr>
          <a:xfrm>
            <a:off x="7977240" y="5694480"/>
            <a:ext cx="741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Светлана\Pictures\Скриншоты\богатырь1.JPG"/>
          <p:cNvPicPr/>
          <p:nvPr/>
        </p:nvPicPr>
        <p:blipFill>
          <a:blip r:embed="rId1"/>
          <a:stretch/>
        </p:blipFill>
        <p:spPr>
          <a:xfrm>
            <a:off x="1355760" y="3573360"/>
            <a:ext cx="3730680" cy="297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Pictures\Скриншоты\богатырь2.JPG"/>
          <p:cNvPicPr/>
          <p:nvPr/>
        </p:nvPicPr>
        <p:blipFill>
          <a:blip r:embed="rId2"/>
          <a:stretch/>
        </p:blipFill>
        <p:spPr>
          <a:xfrm>
            <a:off x="5435640" y="3611520"/>
            <a:ext cx="3203640" cy="291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Pictures\Скриншоты\богатырь6.JPG"/>
          <p:cNvPicPr/>
          <p:nvPr/>
        </p:nvPicPr>
        <p:blipFill>
          <a:blip r:embed="rId3"/>
          <a:stretch/>
        </p:blipFill>
        <p:spPr>
          <a:xfrm>
            <a:off x="1365120" y="476280"/>
            <a:ext cx="3735360" cy="273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:\Users\Светлана\Pictures\Скриншоты\богатырь5.JPG"/>
          <p:cNvPicPr/>
          <p:nvPr/>
        </p:nvPicPr>
        <p:blipFill>
          <a:blip r:embed="rId4"/>
          <a:srcRect l="0" t="0" r="213" b="5222"/>
          <a:stretch/>
        </p:blipFill>
        <p:spPr>
          <a:xfrm>
            <a:off x="5435640" y="287280"/>
            <a:ext cx="320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1928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692360" y="112536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Результативность занятия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наличие продукта деятельности обучающихс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остижение цели занят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совместный с обучающимися рефлексивный анализ осуществленной деятельн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Picture 7" descr="i (19)"/>
          <p:cNvPicPr/>
          <p:nvPr/>
        </p:nvPicPr>
        <p:blipFill>
          <a:blip r:embed="rId1"/>
          <a:stretch/>
        </p:blipFill>
        <p:spPr>
          <a:xfrm>
            <a:off x="7164360" y="5013360"/>
            <a:ext cx="122400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4:19:34Z</dcterms:created>
  <dc:creator>Admin</dc:creator>
  <dc:description/>
  <dc:language>en-US</dc:language>
  <cp:lastModifiedBy>Светлана</cp:lastModifiedBy>
  <dcterms:modified xsi:type="dcterms:W3CDTF">2017-02-05T13:37:16Z</dcterms:modified>
  <cp:revision>25</cp:revision>
  <dc:subject/>
  <dc:title>Слайд 1</dc:title>
</cp:coreProperties>
</file>