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chimes.wav" ContentType="audio/x-wav"/>
  <Override PartName="/ppt/media/image6.jpeg" ContentType="image/jpeg"/>
  <Override PartName="/ppt/media/applause.wav" ContentType="audio/x-wav"/>
  <Override PartName="/ppt/media/image4.wmf" ContentType="image/x-wmf"/>
  <Override PartName="/ppt/media/image7.jpeg" ContentType="image/jpeg"/>
  <Override PartName="/ppt/media/image11.png" ContentType="image/png"/>
  <Override PartName="/ppt/media/image9.gif" ContentType="image/gif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B89-5070-416B-9669-FC05E7AC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3F9-4403-4651-90CE-52E77A34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034-8A11-49CB-A631-09F4C321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032-EE9E-4122-92C5-317D62CF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06BE-B08F-46BF-BB67-B0D41A02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ECEE-77AE-42C4-8EBC-C4E709E6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1EF4-EBED-4A57-8F21-56C67D91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F78C-CE4D-4BCD-8C62-7F06A9E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E70D-3CEA-476C-9DF5-886EDC11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417C-BC68-4829-9AE1-A0B54F47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27EA-08EC-4FEB-BFEB-8AA3F3BB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839-F01E-4071-87E9-DF70A644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212F-86E6-479A-AD7B-9DB220E6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88AD-3857-40A7-8213-9F3312F9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0D07-F619-41FB-910D-368FA70F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545C-9463-4DD9-A69F-20EDC9D4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516F-6A42-4EA3-ACF3-E2B8F909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63F-72AD-4445-BBFD-9DEEF1CF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D92-D541-46C1-971D-74F6A3B1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60F-D7AB-4A66-963A-1B95880A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D8E-D5AE-41C2-B5B5-49004601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3CB-E94E-496D-9797-54304A77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91A-F401-43A9-8FAD-B359FD44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9B8-4393-4E48-815B-977C095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15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615a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615a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615a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615a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615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615a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615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BA09-22FB-40A2-8AD4-CA3C5BB9B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15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615a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615a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615a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615a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615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615a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615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75AA-CAF3-4925-8963-5449E98CEE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0.jpeg"/><Relationship Id="rId23" Type="http://schemas.openxmlformats.org/officeDocument/2006/relationships/image" Target="../media/image10.jpeg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Рисунок1"/>
          <p:cNvPicPr/>
          <p:nvPr/>
        </p:nvPicPr>
        <p:blipFill>
          <a:blip r:embed="rId1"/>
          <a:stretch/>
        </p:blipFill>
        <p:spPr>
          <a:xfrm>
            <a:off x="2367000" y="1913040"/>
            <a:ext cx="4186080" cy="3136680"/>
          </a:xfrm>
          <a:prstGeom prst="rect">
            <a:avLst/>
          </a:prstGeom>
          <a:ln w="0">
            <a:noFill/>
          </a:ln>
        </p:spPr>
      </p:pic>
      <p:cxnSp>
        <p:nvCxnSpPr>
          <p:cNvPr id="212" name="Соединительная линия уступом 5"/>
          <p:cNvCxnSpPr/>
          <p:nvPr/>
        </p:nvCxnSpPr>
        <p:spPr>
          <a:xfrm>
            <a:off x="3149640" y="3873600"/>
            <a:ext cx="915120" cy="915120"/>
          </a:xfrm>
          <a:prstGeom prst="bentConnector3">
            <a:avLst>
              <a:gd name="adj1" fmla="val 49980"/>
            </a:avLst>
          </a:prstGeom>
          <a:ln w="0">
            <a:noFill/>
          </a:ln>
        </p:spPr>
      </p:cxn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PRAV31"/>
          <p:cNvPicPr/>
          <p:nvPr/>
        </p:nvPicPr>
        <p:blipFill>
          <a:blip r:embed="rId1"/>
          <a:stretch/>
        </p:blipFill>
        <p:spPr>
          <a:xfrm>
            <a:off x="0" y="0"/>
            <a:ext cx="1871640" cy="160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>
            <a:lum bright="-12000"/>
          </a:blip>
          <a:srcRect l="0" t="0" r="0" b="-1811"/>
          <a:stretch/>
        </p:blipFill>
        <p:spPr>
          <a:xfrm>
            <a:off x="252360" y="2259000"/>
            <a:ext cx="809640" cy="1665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3">
            <a:lum bright="-12000"/>
          </a:blip>
          <a:srcRect l="0" t="0" r="0" b="-1811"/>
          <a:stretch/>
        </p:blipFill>
        <p:spPr>
          <a:xfrm>
            <a:off x="1467000" y="2259000"/>
            <a:ext cx="809640" cy="1665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2976480" y="2259000"/>
            <a:ext cx="117720" cy="1803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3311640" y="2259000"/>
            <a:ext cx="117360" cy="1792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672000" y="2259000"/>
            <a:ext cx="117360" cy="1792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3986280" y="2259000"/>
            <a:ext cx="117360" cy="1792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"/>
          <p:cNvPicPr/>
          <p:nvPr/>
        </p:nvPicPr>
        <p:blipFill>
          <a:blip r:embed="rId8">
            <a:lum bright="-12000"/>
          </a:blip>
          <a:stretch/>
        </p:blipFill>
        <p:spPr>
          <a:xfrm>
            <a:off x="4392720" y="2262240"/>
            <a:ext cx="117360" cy="1800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4707000" y="2259000"/>
            <a:ext cx="115920" cy="17892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6"/>
          <p:cNvSpPr/>
          <p:nvPr/>
        </p:nvSpPr>
        <p:spPr>
          <a:xfrm>
            <a:off x="5029200" y="2529000"/>
            <a:ext cx="9381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7f808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17" descr=""/>
          <p:cNvPicPr/>
          <p:nvPr/>
        </p:nvPicPr>
        <p:blipFill>
          <a:blip r:embed="rId10">
            <a:lum bright="-12000"/>
          </a:blip>
          <a:stretch/>
        </p:blipFill>
        <p:spPr>
          <a:xfrm>
            <a:off x="6070680" y="2255760"/>
            <a:ext cx="115920" cy="1792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8" descr=""/>
          <p:cNvPicPr/>
          <p:nvPr/>
        </p:nvPicPr>
        <p:blipFill>
          <a:blip r:embed="rId11">
            <a:lum bright="-12000"/>
          </a:blip>
          <a:stretch/>
        </p:blipFill>
        <p:spPr>
          <a:xfrm>
            <a:off x="6423120" y="2262240"/>
            <a:ext cx="115920" cy="1789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9" descr=""/>
          <p:cNvPicPr/>
          <p:nvPr/>
        </p:nvPicPr>
        <p:blipFill>
          <a:blip r:embed="rId12">
            <a:lum bright="-12000"/>
          </a:blip>
          <a:stretch/>
        </p:blipFill>
        <p:spPr>
          <a:xfrm>
            <a:off x="6783480" y="2255760"/>
            <a:ext cx="115920" cy="1789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0" descr=""/>
          <p:cNvPicPr/>
          <p:nvPr/>
        </p:nvPicPr>
        <p:blipFill>
          <a:blip r:embed="rId13">
            <a:lum bright="-12000"/>
          </a:blip>
          <a:stretch/>
        </p:blipFill>
        <p:spPr>
          <a:xfrm>
            <a:off x="7129440" y="2255760"/>
            <a:ext cx="11592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PRAV31"/>
          <p:cNvPicPr/>
          <p:nvPr/>
        </p:nvPicPr>
        <p:blipFill>
          <a:blip r:embed="rId1"/>
          <a:stretch/>
        </p:blipFill>
        <p:spPr>
          <a:xfrm>
            <a:off x="7272360" y="0"/>
            <a:ext cx="1871640" cy="203364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20"/>
          <p:cNvGrpSpPr/>
          <p:nvPr/>
        </p:nvGrpSpPr>
        <p:grpSpPr>
          <a:xfrm>
            <a:off x="353880" y="3603600"/>
            <a:ext cx="1497240" cy="1344600"/>
            <a:chOff x="353880" y="3603600"/>
            <a:chExt cx="1497240" cy="1344600"/>
          </a:xfrm>
        </p:grpSpPr>
        <p:pic>
          <p:nvPicPr>
            <p:cNvPr id="279" name="Picture 5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353880" y="3606840"/>
              <a:ext cx="12888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6" descr=""/>
            <p:cNvPicPr/>
            <p:nvPr/>
          </p:nvPicPr>
          <p:blipFill>
            <a:blip r:embed="rId3">
              <a:lum bright="-12000"/>
            </a:blip>
            <a:stretch/>
          </p:blipFill>
          <p:spPr>
            <a:xfrm>
              <a:off x="630360" y="3608280"/>
              <a:ext cx="12852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7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933480" y="3608280"/>
              <a:ext cx="12852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8" descr=""/>
            <p:cNvPicPr/>
            <p:nvPr/>
          </p:nvPicPr>
          <p:blipFill>
            <a:blip r:embed="rId5">
              <a:lum bright="-12000"/>
            </a:blip>
            <a:stretch/>
          </p:blipFill>
          <p:spPr>
            <a:xfrm>
              <a:off x="1170000" y="3603600"/>
              <a:ext cx="12852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9" descr=""/>
            <p:cNvPicPr/>
            <p:nvPr/>
          </p:nvPicPr>
          <p:blipFill>
            <a:blip r:embed="rId6">
              <a:lum bright="-12000"/>
            </a:blip>
            <a:stretch/>
          </p:blipFill>
          <p:spPr>
            <a:xfrm>
              <a:off x="1467000" y="3603600"/>
              <a:ext cx="12852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0" descr=""/>
            <p:cNvPicPr/>
            <p:nvPr/>
          </p:nvPicPr>
          <p:blipFill>
            <a:blip r:embed="rId7">
              <a:lum bright="-12000"/>
            </a:blip>
            <a:stretch/>
          </p:blipFill>
          <p:spPr>
            <a:xfrm>
              <a:off x="1722600" y="3603600"/>
              <a:ext cx="128520" cy="13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 Box 11"/>
          <p:cNvSpPr/>
          <p:nvPr/>
        </p:nvSpPr>
        <p:spPr>
          <a:xfrm>
            <a:off x="1916280" y="3608280"/>
            <a:ext cx="855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7f808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21"/>
          <p:cNvGrpSpPr/>
          <p:nvPr/>
        </p:nvGrpSpPr>
        <p:grpSpPr>
          <a:xfrm>
            <a:off x="3041640" y="3608280"/>
            <a:ext cx="1119240" cy="1341720"/>
            <a:chOff x="3041640" y="3608280"/>
            <a:chExt cx="1119240" cy="1341720"/>
          </a:xfrm>
        </p:grpSpPr>
        <p:pic>
          <p:nvPicPr>
            <p:cNvPr id="287" name="Picture 12" descr=""/>
            <p:cNvPicPr/>
            <p:nvPr/>
          </p:nvPicPr>
          <p:blipFill>
            <a:blip r:embed="rId8">
              <a:lum bright="-12000"/>
            </a:blip>
            <a:stretch/>
          </p:blipFill>
          <p:spPr>
            <a:xfrm>
              <a:off x="3041640" y="3608280"/>
              <a:ext cx="1285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3" descr=""/>
            <p:cNvPicPr/>
            <p:nvPr/>
          </p:nvPicPr>
          <p:blipFill>
            <a:blip r:embed="rId9">
              <a:lum bright="-12000"/>
            </a:blip>
            <a:stretch/>
          </p:blipFill>
          <p:spPr>
            <a:xfrm>
              <a:off x="3357720" y="3608280"/>
              <a:ext cx="1285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4" descr=""/>
            <p:cNvPicPr/>
            <p:nvPr/>
          </p:nvPicPr>
          <p:blipFill>
            <a:blip r:embed="rId10">
              <a:lum bright="-12000"/>
            </a:blip>
            <a:stretch/>
          </p:blipFill>
          <p:spPr>
            <a:xfrm>
              <a:off x="3716280" y="3608280"/>
              <a:ext cx="1285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5" descr=""/>
            <p:cNvPicPr/>
            <p:nvPr/>
          </p:nvPicPr>
          <p:blipFill>
            <a:blip r:embed="rId11">
              <a:lum bright="-12000"/>
            </a:blip>
            <a:stretch/>
          </p:blipFill>
          <p:spPr>
            <a:xfrm>
              <a:off x="4032360" y="3608280"/>
              <a:ext cx="128520" cy="134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17" descr=""/>
          <p:cNvPicPr/>
          <p:nvPr/>
        </p:nvPicPr>
        <p:blipFill>
          <a:blip r:embed="rId12">
            <a:lum bright="-12000"/>
          </a:blip>
          <a:srcRect l="0" t="0" r="0" b="-1811"/>
          <a:stretch/>
        </p:blipFill>
        <p:spPr>
          <a:xfrm>
            <a:off x="252360" y="611280"/>
            <a:ext cx="809640" cy="1692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8" descr=""/>
          <p:cNvPicPr/>
          <p:nvPr/>
        </p:nvPicPr>
        <p:blipFill>
          <a:blip r:embed="rId13">
            <a:lum bright="-12000"/>
          </a:blip>
          <a:srcRect l="0" t="0" r="0" b="-1811"/>
          <a:stretch/>
        </p:blipFill>
        <p:spPr>
          <a:xfrm>
            <a:off x="1190520" y="611280"/>
            <a:ext cx="809640" cy="16923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9"/>
          <p:cNvSpPr/>
          <p:nvPr/>
        </p:nvSpPr>
        <p:spPr>
          <a:xfrm>
            <a:off x="4346640" y="3603600"/>
            <a:ext cx="765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7f808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22" descr=""/>
          <p:cNvPicPr/>
          <p:nvPr/>
        </p:nvPicPr>
        <p:blipFill>
          <a:blip r:embed="rId14">
            <a:lum bright="-12000"/>
          </a:blip>
          <a:stretch/>
        </p:blipFill>
        <p:spPr>
          <a:xfrm>
            <a:off x="5143680" y="3603600"/>
            <a:ext cx="96480" cy="1484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3" descr=""/>
          <p:cNvPicPr/>
          <p:nvPr/>
        </p:nvPicPr>
        <p:blipFill>
          <a:blip r:embed="rId15">
            <a:lum bright="-12000"/>
          </a:blip>
          <a:stretch/>
        </p:blipFill>
        <p:spPr>
          <a:xfrm>
            <a:off x="5419800" y="360360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4" descr=""/>
          <p:cNvPicPr/>
          <p:nvPr/>
        </p:nvPicPr>
        <p:blipFill>
          <a:blip r:embed="rId16">
            <a:lum bright="-12000"/>
          </a:blip>
          <a:stretch/>
        </p:blipFill>
        <p:spPr>
          <a:xfrm>
            <a:off x="5697360" y="3608280"/>
            <a:ext cx="88920" cy="1486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5" descr=""/>
          <p:cNvPicPr/>
          <p:nvPr/>
        </p:nvPicPr>
        <p:blipFill>
          <a:blip r:embed="rId17">
            <a:lum bright="-12000"/>
          </a:blip>
          <a:stretch/>
        </p:blipFill>
        <p:spPr>
          <a:xfrm>
            <a:off x="6058080" y="3608280"/>
            <a:ext cx="96480" cy="1484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" descr=""/>
          <p:cNvPicPr/>
          <p:nvPr/>
        </p:nvPicPr>
        <p:blipFill>
          <a:blip r:embed="rId18">
            <a:lum bright="-12000"/>
          </a:blip>
          <a:stretch/>
        </p:blipFill>
        <p:spPr>
          <a:xfrm>
            <a:off x="6372360" y="360828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7" descr=""/>
          <p:cNvPicPr/>
          <p:nvPr/>
        </p:nvPicPr>
        <p:blipFill>
          <a:blip r:embed="rId19">
            <a:lum bright="-12000"/>
          </a:blip>
          <a:stretch/>
        </p:blipFill>
        <p:spPr>
          <a:xfrm>
            <a:off x="6686640" y="360828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8" descr=""/>
          <p:cNvPicPr/>
          <p:nvPr/>
        </p:nvPicPr>
        <p:blipFill>
          <a:blip r:embed="rId20">
            <a:lum bright="-12000"/>
          </a:blip>
          <a:stretch/>
        </p:blipFill>
        <p:spPr>
          <a:xfrm>
            <a:off x="6958080" y="360360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9" descr=""/>
          <p:cNvPicPr/>
          <p:nvPr/>
        </p:nvPicPr>
        <p:blipFill>
          <a:blip r:embed="rId21">
            <a:lum bright="-12000"/>
          </a:blip>
          <a:stretch/>
        </p:blipFill>
        <p:spPr>
          <a:xfrm>
            <a:off x="7223040" y="360360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0" descr=""/>
          <p:cNvPicPr/>
          <p:nvPr/>
        </p:nvPicPr>
        <p:blipFill>
          <a:blip r:embed="rId22">
            <a:lum bright="-12000"/>
          </a:blip>
          <a:stretch/>
        </p:blipFill>
        <p:spPr>
          <a:xfrm>
            <a:off x="7542360" y="360828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1" descr=""/>
          <p:cNvPicPr/>
          <p:nvPr/>
        </p:nvPicPr>
        <p:blipFill>
          <a:blip r:embed="rId23">
            <a:lum bright="-12000"/>
          </a:blip>
          <a:stretch/>
        </p:blipFill>
        <p:spPr>
          <a:xfrm>
            <a:off x="7858080" y="3603600"/>
            <a:ext cx="96840" cy="14842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2"/>
          <p:cNvSpPr/>
          <p:nvPr/>
        </p:nvSpPr>
        <p:spPr>
          <a:xfrm>
            <a:off x="587520" y="4943520"/>
            <a:ext cx="691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2075040" y="4906800"/>
            <a:ext cx="6728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3390840" y="4906800"/>
            <a:ext cx="650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5"/>
          <p:cNvSpPr/>
          <p:nvPr/>
        </p:nvSpPr>
        <p:spPr>
          <a:xfrm>
            <a:off x="4280040" y="4906800"/>
            <a:ext cx="6728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5910120" y="4950000"/>
            <a:ext cx="11178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38"/>
          <p:cNvSpPr/>
          <p:nvPr/>
        </p:nvSpPr>
        <p:spPr>
          <a:xfrm>
            <a:off x="3844800" y="1808280"/>
            <a:ext cx="2046240" cy="225360"/>
          </a:xfrm>
          <a:prstGeom prst="pie">
            <a:avLst/>
          </a:prstGeom>
          <a:noFill/>
          <a:ln w="50760">
            <a:solidFill>
              <a:srgbClr val="ff0066"/>
            </a:solidFill>
            <a:round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00"/>
                            </p:stCondLst>
                            <p:childTnLst>
                              <p:par>
                                <p:cTn id="4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3.7037E-006 L 0.10833 -0.06551 E">
                                      <p:cBhvr>
                                        <p:cTn id="49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-0.06551 L -0.02466 0.01319 E">
                                      <p:cBhvr>
                                        <p:cTn id="496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7 L -0.09393 0.01667 E">
                                      <p:cBhvr>
                                        <p:cTn id="50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-0.11319 -1.48148E-006 E">
                                      <p:cBhvr>
                                        <p:cTn id="502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0.02986 L -0.13802 0.02986 E">
                                      <p:cBhvr>
                                        <p:cTn id="504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6 L -0.13785 7.40741E-006 E">
                                      <p:cBhvr>
                                        <p:cTn id="506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0.17222 7.40741E-007 E">
                                      <p:cBhvr>
                                        <p:cTn id="508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4954 L -0.21197 0.04954 E">
                                      <p:cBhvr>
                                        <p:cTn id="510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3056 L -0.2809 0.05024 E">
                                      <p:cBhvr>
                                        <p:cTn id="512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0.01318 L 0.05486 0.40042 E">
                                      <p:cBhvr>
                                        <p:cTn id="516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27а"/>
          <p:cNvPicPr/>
          <p:nvPr/>
        </p:nvPicPr>
        <p:blipFill>
          <a:blip r:embed="rId1"/>
          <a:stretch/>
        </p:blipFill>
        <p:spPr>
          <a:xfrm>
            <a:off x="5967360" y="3564000"/>
            <a:ext cx="2938680" cy="316080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7"/>
          <p:cNvGrpSpPr/>
          <p:nvPr/>
        </p:nvGrpSpPr>
        <p:grpSpPr>
          <a:xfrm>
            <a:off x="250920" y="954000"/>
            <a:ext cx="2023560" cy="1688760"/>
            <a:chOff x="250920" y="954000"/>
            <a:chExt cx="2023560" cy="1688760"/>
          </a:xfrm>
        </p:grpSpPr>
        <p:pic>
          <p:nvPicPr>
            <p:cNvPr id="312" name="Picture 5" descr=""/>
            <p:cNvPicPr/>
            <p:nvPr/>
          </p:nvPicPr>
          <p:blipFill>
            <a:blip r:embed="rId2">
              <a:lum bright="-12000"/>
            </a:blip>
            <a:srcRect l="0" t="0" r="0" b="-1811"/>
            <a:stretch/>
          </p:blipFill>
          <p:spPr>
            <a:xfrm>
              <a:off x="250920" y="954000"/>
              <a:ext cx="809280" cy="166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6" descr=""/>
            <p:cNvPicPr/>
            <p:nvPr/>
          </p:nvPicPr>
          <p:blipFill>
            <a:blip r:embed="rId3">
              <a:lum bright="-12000"/>
            </a:blip>
            <a:srcRect l="0" t="0" r="0" b="-1811"/>
            <a:stretch/>
          </p:blipFill>
          <p:spPr>
            <a:xfrm>
              <a:off x="1465200" y="976680"/>
              <a:ext cx="809280" cy="166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Text Box 8"/>
          <p:cNvSpPr/>
          <p:nvPr/>
        </p:nvSpPr>
        <p:spPr>
          <a:xfrm>
            <a:off x="2427120" y="998640"/>
            <a:ext cx="777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0" descr=""/>
          <p:cNvPicPr/>
          <p:nvPr/>
        </p:nvPicPr>
        <p:blipFill>
          <a:blip r:embed="rId4">
            <a:lum bright="-12000"/>
          </a:blip>
          <a:srcRect l="0" t="0" r="0" b="-1811"/>
          <a:stretch/>
        </p:blipFill>
        <p:spPr>
          <a:xfrm>
            <a:off x="3446640" y="998640"/>
            <a:ext cx="809280" cy="16174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1"/>
          <p:cNvSpPr/>
          <p:nvPr/>
        </p:nvSpPr>
        <p:spPr>
          <a:xfrm>
            <a:off x="4346640" y="954000"/>
            <a:ext cx="900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5"/>
          <p:cNvGrpSpPr/>
          <p:nvPr/>
        </p:nvGrpSpPr>
        <p:grpSpPr>
          <a:xfrm>
            <a:off x="5472000" y="998640"/>
            <a:ext cx="2835360" cy="1617120"/>
            <a:chOff x="5472000" y="998640"/>
            <a:chExt cx="2835360" cy="1617120"/>
          </a:xfrm>
        </p:grpSpPr>
        <p:pic>
          <p:nvPicPr>
            <p:cNvPr id="318" name="Picture 12" descr=""/>
            <p:cNvPicPr/>
            <p:nvPr/>
          </p:nvPicPr>
          <p:blipFill>
            <a:blip r:embed="rId5">
              <a:lum bright="-12000"/>
            </a:blip>
            <a:srcRect l="0" t="0" r="0" b="-1811"/>
            <a:stretch/>
          </p:blipFill>
          <p:spPr>
            <a:xfrm>
              <a:off x="5472000" y="1033920"/>
              <a:ext cx="809640" cy="15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3" descr=""/>
            <p:cNvPicPr/>
            <p:nvPr/>
          </p:nvPicPr>
          <p:blipFill>
            <a:blip r:embed="rId6">
              <a:lum bright="-12000"/>
            </a:blip>
            <a:srcRect l="0" t="0" r="0" b="-1811"/>
            <a:stretch/>
          </p:blipFill>
          <p:spPr>
            <a:xfrm>
              <a:off x="6507000" y="998640"/>
              <a:ext cx="809640" cy="15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4" descr=""/>
            <p:cNvPicPr/>
            <p:nvPr/>
          </p:nvPicPr>
          <p:blipFill>
            <a:blip r:embed="rId7">
              <a:lum bright="-12000"/>
            </a:blip>
            <a:srcRect l="0" t="0" r="0" b="-1811"/>
            <a:stretch/>
          </p:blipFill>
          <p:spPr>
            <a:xfrm>
              <a:off x="7497720" y="998640"/>
              <a:ext cx="809640" cy="158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16"/>
          <p:cNvSpPr/>
          <p:nvPr/>
        </p:nvSpPr>
        <p:spPr>
          <a:xfrm>
            <a:off x="6210360" y="2843280"/>
            <a:ext cx="1314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PRAV31"/>
          <p:cNvPicPr/>
          <p:nvPr/>
        </p:nvPicPr>
        <p:blipFill>
          <a:blip r:embed="rId1"/>
          <a:stretch/>
        </p:blipFill>
        <p:spPr>
          <a:xfrm>
            <a:off x="385920" y="54000"/>
            <a:ext cx="1871640" cy="20336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"/>
          <p:cNvSpPr/>
          <p:nvPr/>
        </p:nvSpPr>
        <p:spPr>
          <a:xfrm>
            <a:off x="0" y="3024360"/>
            <a:ext cx="1047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2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00000" y="3068640"/>
            <a:ext cx="4762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76280" y="3024360"/>
            <a:ext cx="4082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 flipH="1">
            <a:off x="182160" y="3787920"/>
            <a:ext cx="20340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9"/>
          <p:cNvSpPr/>
          <p:nvPr/>
        </p:nvSpPr>
        <p:spPr>
          <a:xfrm>
            <a:off x="719280" y="3787920"/>
            <a:ext cx="180720" cy="6300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-333360" y="4417920"/>
            <a:ext cx="1233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200" y="4826160"/>
            <a:ext cx="18432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719280" y="4417920"/>
            <a:ext cx="41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784520" y="3068640"/>
            <a:ext cx="4730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2257560" y="3024360"/>
            <a:ext cx="1054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2838600" y="3024360"/>
            <a:ext cx="946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581280" y="3024360"/>
            <a:ext cx="586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4167360" y="3024360"/>
            <a:ext cx="404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4167360" y="3024360"/>
            <a:ext cx="1260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3986280" y="2394000"/>
            <a:ext cx="85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5067360" y="3068640"/>
            <a:ext cx="809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5742000" y="3000240"/>
            <a:ext cx="990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6550200" y="3000240"/>
            <a:ext cx="496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+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6867360" y="3000240"/>
            <a:ext cx="9669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7586640" y="3000240"/>
            <a:ext cx="900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6"/>
          <p:cNvSpPr/>
          <p:nvPr/>
        </p:nvSpPr>
        <p:spPr>
          <a:xfrm flipH="1">
            <a:off x="7835760" y="3000240"/>
            <a:ext cx="13096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animClr clrSpc="rgb">
                                      <p:cBhvr>
                                        <p:cTn id="638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set>
                                      <p:cBhvr>
                                        <p:cTn id="639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50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animClr clrSpc="rgb">
                                      <p:cBhvr>
                                        <p:cTn id="642" dur="50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set>
                                      <p:cBhvr>
                                        <p:cTn id="643" dur="50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animClr clrSpc="rgb">
                                      <p:cBhvr>
                                        <p:cTn id="646" dur="50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set>
                                      <p:cBhvr>
                                        <p:cTn id="647" dur="50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PRAV31"/>
          <p:cNvPicPr/>
          <p:nvPr/>
        </p:nvPicPr>
        <p:blipFill>
          <a:blip r:embed="rId1"/>
          <a:stretch/>
        </p:blipFill>
        <p:spPr>
          <a:xfrm>
            <a:off x="431640" y="417600"/>
            <a:ext cx="1333800" cy="14288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1640" y="417600"/>
            <a:ext cx="540072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ВЫВОД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6" descr="PRAV31"/>
          <p:cNvPicPr/>
          <p:nvPr/>
        </p:nvPicPr>
        <p:blipFill>
          <a:blip r:embed="rId2"/>
          <a:stretch/>
        </p:blipFill>
        <p:spPr>
          <a:xfrm>
            <a:off x="385920" y="54000"/>
            <a:ext cx="1871640" cy="203364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1"/>
          <p:cNvSpPr/>
          <p:nvPr/>
        </p:nvSpPr>
        <p:spPr>
          <a:xfrm>
            <a:off x="2816280" y="1268280"/>
            <a:ext cx="562608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f808"/>
                </a:solidFill>
                <a:latin typeface="Arial"/>
              </a:rPr>
              <a:t>Чтобы к двузначному числу прибавить однозначное над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927000" y="3654360"/>
            <a:ext cx="7839000" cy="14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Сначала сложить един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К полученному числу прибавить деся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13" descr="27а"/>
          <p:cNvPicPr/>
          <p:nvPr/>
        </p:nvPicPr>
        <p:blipFill>
          <a:blip r:embed="rId3"/>
          <a:stretch/>
        </p:blipFill>
        <p:spPr>
          <a:xfrm>
            <a:off x="6205680" y="4103640"/>
            <a:ext cx="2938320" cy="3160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PRAV30"/>
          <p:cNvPicPr/>
          <p:nvPr/>
        </p:nvPicPr>
        <p:blipFill>
          <a:blip r:embed="rId1"/>
          <a:stretch/>
        </p:blipFill>
        <p:spPr>
          <a:xfrm>
            <a:off x="0" y="0"/>
            <a:ext cx="2475000" cy="275436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8"/>
          <p:cNvSpPr/>
          <p:nvPr/>
        </p:nvSpPr>
        <p:spPr>
          <a:xfrm>
            <a:off x="657360" y="3249720"/>
            <a:ext cx="7966080" cy="3014640"/>
          </a:xfrm>
          <a:custGeom>
            <a:avLst/>
            <a:gdLst>
              <a:gd name="textAreaLeft" fmla="*/ 0 w 7966080"/>
              <a:gd name="textAreaRight" fmla="*/ 7966080 w 7966080"/>
              <a:gd name="textAreaTop" fmla="*/ 390600 h 3014640"/>
              <a:gd name="textAreaBottom" fmla="*/ 2624040 h 3014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Arial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179000"/>
            <a:ext cx="76708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у-ка, юный мой дружок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Ты готов начать урок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сё в порядке на стол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сть порядок в голов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p12_n05-25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1403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Рисунок1"/>
          <p:cNvPicPr/>
          <p:nvPr/>
        </p:nvPicPr>
        <p:blipFill>
          <a:blip r:embed="rId2"/>
          <a:stretch/>
        </p:blipFill>
        <p:spPr>
          <a:xfrm>
            <a:off x="3267000" y="4508640"/>
            <a:ext cx="254628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60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4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771280" y="260280"/>
            <a:ext cx="5915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Я приветствую вас, мои юные друзь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Приглашаю вас в увлекательное путешествие в страну Математику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А помощницей нам будет мудрая со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Но пришёл я не с пустыми рукам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27а"/>
          <p:cNvPicPr/>
          <p:nvPr/>
        </p:nvPicPr>
        <p:blipFill>
          <a:blip r:embed="rId1"/>
          <a:stretch/>
        </p:blipFill>
        <p:spPr>
          <a:xfrm>
            <a:off x="6877080" y="4599000"/>
            <a:ext cx="2266920" cy="2259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PRAV31"/>
          <p:cNvPicPr/>
          <p:nvPr/>
        </p:nvPicPr>
        <p:blipFill>
          <a:blip r:embed="rId2"/>
          <a:stretch/>
        </p:blipFill>
        <p:spPr>
          <a:xfrm>
            <a:off x="0" y="0"/>
            <a:ext cx="2627280" cy="2708280"/>
          </a:xfrm>
          <a:prstGeom prst="rect">
            <a:avLst/>
          </a:prstGeom>
          <a:ln w="0">
            <a:noFill/>
          </a:ln>
        </p:spPr>
      </p:pic>
      <p:sp>
        <p:nvSpPr>
          <p:cNvPr id="219" name="WordArt 47"/>
          <p:cNvSpPr txBox="1"/>
          <p:nvPr/>
        </p:nvSpPr>
        <p:spPr>
          <a:xfrm>
            <a:off x="657360" y="549900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52"/>
          <p:cNvSpPr txBox="1"/>
          <p:nvPr/>
        </p:nvSpPr>
        <p:spPr>
          <a:xfrm>
            <a:off x="2185920" y="527364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53"/>
          <p:cNvSpPr txBox="1"/>
          <p:nvPr/>
        </p:nvSpPr>
        <p:spPr>
          <a:xfrm>
            <a:off x="1239840" y="581328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54"/>
          <p:cNvSpPr txBox="1"/>
          <p:nvPr/>
        </p:nvSpPr>
        <p:spPr>
          <a:xfrm>
            <a:off x="1646280" y="563400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55"/>
          <p:cNvSpPr txBox="1"/>
          <p:nvPr/>
        </p:nvSpPr>
        <p:spPr>
          <a:xfrm>
            <a:off x="1916280" y="5319720"/>
            <a:ext cx="4572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56"/>
          <p:cNvSpPr txBox="1"/>
          <p:nvPr/>
        </p:nvSpPr>
        <p:spPr>
          <a:xfrm>
            <a:off x="1106640" y="5454720"/>
            <a:ext cx="4572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57"/>
          <p:cNvSpPr txBox="1"/>
          <p:nvPr/>
        </p:nvSpPr>
        <p:spPr>
          <a:xfrm>
            <a:off x="880920" y="545472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58"/>
          <p:cNvSpPr txBox="1"/>
          <p:nvPr/>
        </p:nvSpPr>
        <p:spPr>
          <a:xfrm>
            <a:off x="431640" y="576900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99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59"/>
          <p:cNvSpPr txBox="1"/>
          <p:nvPr/>
        </p:nvSpPr>
        <p:spPr>
          <a:xfrm>
            <a:off x="1511280" y="595008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60"/>
          <p:cNvSpPr txBox="1"/>
          <p:nvPr/>
        </p:nvSpPr>
        <p:spPr>
          <a:xfrm>
            <a:off x="2546280" y="5724360"/>
            <a:ext cx="44640" cy="7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Freeform 62"/>
          <p:cNvSpPr/>
          <p:nvPr/>
        </p:nvSpPr>
        <p:spPr>
          <a:xfrm>
            <a:off x="2997360" y="5487840"/>
            <a:ext cx="1968480" cy="1293840"/>
          </a:xfrm>
          <a:prstGeom prst="pie">
            <a:avLst/>
          </a:prstGeom>
          <a:noFill/>
          <a:ln w="54000">
            <a:solidFill>
              <a:srgbClr val="ff00ff"/>
            </a:solidFill>
            <a:round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3" descr=""/>
          <p:cNvPicPr/>
          <p:nvPr/>
        </p:nvPicPr>
        <p:blipFill>
          <a:blip r:embed="rId3">
            <a:lum bright="-12000"/>
          </a:blip>
          <a:srcRect l="0" t="0" r="0" b="-1811"/>
          <a:stretch/>
        </p:blipFill>
        <p:spPr>
          <a:xfrm>
            <a:off x="252360" y="2844720"/>
            <a:ext cx="628560" cy="130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4" descr=""/>
          <p:cNvPicPr/>
          <p:nvPr/>
        </p:nvPicPr>
        <p:blipFill>
          <a:blip r:embed="rId4">
            <a:lum bright="-12000"/>
          </a:blip>
          <a:srcRect l="0" t="0" r="0" b="-1811"/>
          <a:stretch/>
        </p:blipFill>
        <p:spPr>
          <a:xfrm>
            <a:off x="1916280" y="3159000"/>
            <a:ext cx="628560" cy="1305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5" descr=""/>
          <p:cNvPicPr/>
          <p:nvPr/>
        </p:nvPicPr>
        <p:blipFill>
          <a:blip r:embed="rId5">
            <a:lum bright="-12000"/>
          </a:blip>
          <a:srcRect l="0" t="0" r="0" b="-1811"/>
          <a:stretch/>
        </p:blipFill>
        <p:spPr>
          <a:xfrm>
            <a:off x="1063800" y="4149720"/>
            <a:ext cx="628560" cy="1305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70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60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3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8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719280" y="946080"/>
            <a:ext cx="6840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ма уро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79280" y="2664000"/>
            <a:ext cx="878544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 Приёмы вычислений  для случаев  вида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6 + 4 "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5" name="Picture 16" descr="Рисунок1"/>
          <p:cNvPicPr/>
          <p:nvPr/>
        </p:nvPicPr>
        <p:blipFill>
          <a:blip r:embed="rId1"/>
          <a:stretch/>
        </p:blipFill>
        <p:spPr>
          <a:xfrm>
            <a:off x="7559640" y="5491080"/>
            <a:ext cx="158436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6280" y="277920"/>
            <a:ext cx="666108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18 ноября.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Классная работ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4" descr="27а"/>
          <p:cNvPicPr/>
          <p:nvPr/>
        </p:nvPicPr>
        <p:blipFill>
          <a:blip r:embed="rId1"/>
          <a:stretch/>
        </p:blipFill>
        <p:spPr>
          <a:xfrm>
            <a:off x="6777000" y="-441360"/>
            <a:ext cx="2266920" cy="2259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Рисунок1"/>
          <p:cNvPicPr/>
          <p:nvPr/>
        </p:nvPicPr>
        <p:blipFill>
          <a:blip r:embed="rId2"/>
          <a:stretch/>
        </p:blipFill>
        <p:spPr>
          <a:xfrm>
            <a:off x="1535040" y="4014720"/>
            <a:ext cx="2476440" cy="2598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Рисунок2"/>
          <p:cNvPicPr/>
          <p:nvPr/>
        </p:nvPicPr>
        <p:blipFill>
          <a:blip r:embed="rId3"/>
          <a:stretch/>
        </p:blipFill>
        <p:spPr>
          <a:xfrm>
            <a:off x="5202360" y="3384720"/>
            <a:ext cx="2550960" cy="2604960"/>
          </a:xfrm>
          <a:prstGeom prst="rect">
            <a:avLst/>
          </a:prstGeom>
          <a:ln w="0">
            <a:noFill/>
          </a:ln>
        </p:spPr>
      </p:pic>
      <p:sp>
        <p:nvSpPr>
          <p:cNvPr id="240" name="Line 10"/>
          <p:cNvSpPr/>
          <p:nvPr/>
        </p:nvSpPr>
        <p:spPr>
          <a:xfrm flipV="1">
            <a:off x="6235560" y="4463640"/>
            <a:ext cx="360360" cy="41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2"/>
          <p:cNvSpPr/>
          <p:nvPr/>
        </p:nvSpPr>
        <p:spPr>
          <a:xfrm flipH="1">
            <a:off x="7272360" y="3486240"/>
            <a:ext cx="480960" cy="977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7480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457200" y="1600200"/>
            <a:ext cx="15289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1986120" y="1600200"/>
            <a:ext cx="74124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1754280" y="1600200"/>
            <a:ext cx="1692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- 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3446640" y="1600200"/>
            <a:ext cx="1935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+ 5</a:t>
            </a: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381640" y="1600200"/>
            <a:ext cx="2565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= 1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7"/>
          <p:cNvSpPr/>
          <p:nvPr/>
        </p:nvSpPr>
        <p:spPr>
          <a:xfrm>
            <a:off x="704880" y="1600200"/>
            <a:ext cx="104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9"/>
          <p:cNvSpPr/>
          <p:nvPr/>
        </p:nvSpPr>
        <p:spPr>
          <a:xfrm>
            <a:off x="162000" y="1403280"/>
            <a:ext cx="18241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Arial"/>
              </a:rPr>
              <a:t>11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022E-016 L 0.10035 -0.1419 E">
                                      <p:cBhvr>
                                        <p:cTn id="20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6227 L -0.07552 0.20255 E">
                                      <p:cBhvr>
                                        <p:cTn id="21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6280" y="2843280"/>
            <a:ext cx="8461440" cy="23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А СЕЙЧАС НАЧНЁМ ОПЯТЬ</a:t>
            </a: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ЕШАТЬ, ОТГАДЫВАТЬ, СМЕКАТЬ!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4" descr="Рисунок1"/>
          <p:cNvPicPr/>
          <p:nvPr/>
        </p:nvPicPr>
        <p:blipFill>
          <a:blip r:embed="rId1"/>
          <a:stretch/>
        </p:blipFill>
        <p:spPr>
          <a:xfrm>
            <a:off x="206280" y="98280"/>
            <a:ext cx="2835360" cy="2745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27а"/>
          <p:cNvPicPr/>
          <p:nvPr/>
        </p:nvPicPr>
        <p:blipFill>
          <a:blip r:embed="rId2"/>
          <a:stretch/>
        </p:blipFill>
        <p:spPr>
          <a:xfrm>
            <a:off x="6877080" y="4599000"/>
            <a:ext cx="2266920" cy="2259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32920"/>
            <a:ext cx="8461440" cy="85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ОВЕРЯЕМ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Picture 4" descr="27а"/>
          <p:cNvPicPr/>
          <p:nvPr/>
        </p:nvPicPr>
        <p:blipFill>
          <a:blip r:embed="rId1"/>
          <a:stretch/>
        </p:blipFill>
        <p:spPr>
          <a:xfrm>
            <a:off x="6877080" y="4824360"/>
            <a:ext cx="2266920" cy="2259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8"/>
          <p:cNvSpPr/>
          <p:nvPr/>
        </p:nvSpPr>
        <p:spPr>
          <a:xfrm>
            <a:off x="701640" y="1166400"/>
            <a:ext cx="783108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4 – 8 = 6         17 – 8 =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1 – 6 = 5         12 – 4 =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 – 9 = 6         15 – 6 =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2 – 3 = 9         11 – 7 =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16 – 10 = 6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13 – 5 =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18 – 10 = 8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22000" y="277920"/>
            <a:ext cx="6364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ОВЕРЯЕМ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91640" y="1989000"/>
            <a:ext cx="6705720" cy="17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7f808"/>
                </a:solidFill>
                <a:latin typeface="Arial"/>
              </a:rPr>
              <a:t>100 – 1 = 9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PRAV31"/>
          <p:cNvPicPr/>
          <p:nvPr/>
        </p:nvPicPr>
        <p:blipFill>
          <a:blip r:embed="rId1"/>
          <a:stretch/>
        </p:blipFill>
        <p:spPr>
          <a:xfrm>
            <a:off x="0" y="0"/>
            <a:ext cx="1871640" cy="16002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5"/>
          <p:cNvSpPr/>
          <p:nvPr/>
        </p:nvSpPr>
        <p:spPr>
          <a:xfrm>
            <a:off x="1062000" y="4419720"/>
            <a:ext cx="5985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7f808"/>
                </a:solidFill>
                <a:latin typeface="Arial"/>
              </a:rPr>
              <a:t>99 + 1 = 10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7f808"/>
                </a:solidFill>
                <a:latin typeface="Arial"/>
              </a:rPr>
              <a:t>Физпауза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6" descr="31"/>
          <p:cNvPicPr/>
          <p:nvPr/>
        </p:nvPicPr>
        <p:blipFill>
          <a:blip r:embed="rId1"/>
          <a:stretch/>
        </p:blipFill>
        <p:spPr>
          <a:xfrm>
            <a:off x="6757920" y="2079720"/>
            <a:ext cx="2386080" cy="3332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4.1337E-006 L -0.31041 4.1337E-006 E">
                                      <p:cBhvr>
                                        <p:cTn id="277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21:13:34Z</dcterms:created>
  <dc:creator>Мадина</dc:creator>
  <dc:description/>
  <dc:language>en-US</dc:language>
  <cp:lastModifiedBy>Связной</cp:lastModifiedBy>
  <dcterms:modified xsi:type="dcterms:W3CDTF">2017-02-05T17:28:43Z</dcterms:modified>
  <cp:revision>6</cp:revision>
  <dc:subject/>
  <dc:title>Слайд 1</dc:title>
</cp:coreProperties>
</file>