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D120-D228-475B-997D-2F312EE9B6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A195-3EF1-47C9-99EF-22F027ECF3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859D-1D14-4476-A3A7-D261D5CCA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BB9E-9561-4C65-8151-042F4C0D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7865-4B2D-4258-B18E-1F933FE67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BFD3-DC3D-4832-A418-B191FA3A3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141A-425C-4241-AE90-E90A6CDB0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9311-9294-4944-AFCD-7EBA7163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A33C-AC31-48A2-A339-70C0F1D5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A432-E020-4BD6-BA65-B1DECE69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7AF3-C822-4885-8E73-551A0121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46E8-F1B2-4BC4-9D1B-C10D3FCC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1816-7C4C-4859-B2ED-C35FF68E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F7C2-B00D-4341-BC90-BEFB5656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FFBD-50F5-4EA1-9158-21947826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4333-3FD7-4299-B868-1DDB6852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1A7A-995C-4147-8738-999B837D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E48F-BEAB-4435-AEA8-50BE5876A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82E3-D61B-4F73-9818-8853CEE4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C308E-D66E-4E37-B1D2-0EED4D5E4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1A90A-6C04-49DC-BBCA-32316BAD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FBA09-DF5A-43E5-BCA4-5F66A413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E292C-A810-436E-B508-0B5066D4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91934-49D1-4B27-AFEC-3B779DA3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1239-7D3A-4DC5-B00F-BBBCBAF3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4DDFD-F390-41E1-958A-678A84C6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4EC3D-10A6-474E-B731-24CE9DBB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C1435-6EA6-4EB3-B599-6AECCDF4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C2AC8-FBB3-4989-8133-A0E3E312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3C990-9FFD-4889-9879-F7F69223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E0366-FC9A-4F64-8411-3F144C683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092CB-B6DF-4488-B572-7803A827E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C8E79-11D1-41D4-A4BC-E2F43EC2C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5E43A-C169-4643-BCF4-A82EEF0A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559B3-7F5B-4BEE-9AED-3154795E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670B-C5EE-4AD3-BBF3-238AED53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C94E2-9F07-4BEE-B8E5-755FB66D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D4EA2-1686-4EFE-9EAD-066EAB50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EF6D0-465B-47A4-BFBC-8CA79D37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A2A5F-3CED-477B-AF5B-30A60F5D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A81F9-3EC5-4179-9A8D-EA3937BD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3B2B5-AEAC-47E5-989E-35A1D7B4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46738-9C2D-46B5-AB98-21698FA3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C640D-05E9-437B-A693-01BE2BE2D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24712-6E22-4585-80CE-6B37CCCAA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6F92-5268-4BC1-975B-D3FC06F0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42CD-38DC-46E1-BFD8-682D6FCA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BAB6-8A4E-493B-8C0E-81B3E084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D0AC-8ED7-4EF1-9158-48E12C6F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BD99-AA61-4AD6-8500-697EFA2D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BEE2-FB00-42A9-A268-64FCE48ECF32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E9F3-FF96-42F7-B8CB-C403D4B9E7AE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02F1-E1B8-476C-A3D7-530B1FE9EBF8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48C1-281B-4AEF-9DBE-3354CF402413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Рисунок 1" descr=""/>
          <p:cNvPicPr/>
          <p:nvPr/>
        </p:nvPicPr>
        <p:blipFill>
          <a:blip r:embed="rId1"/>
          <a:stretch/>
        </p:blipFill>
        <p:spPr>
          <a:xfrm>
            <a:off x="0" y="-762120"/>
            <a:ext cx="9144000" cy="7620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520" y="-152280"/>
            <a:ext cx="845820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вездия- «группа звёзд», участки, на которые разделена небесная сфера </a:t>
            </a:r>
            <a:br>
              <a:rPr sz="4600"/>
            </a:br>
            <a:r>
              <a:rPr b="1" lang="ru-RU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удобства ориентирования на звёздном небе.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3" name="Рисунок 8" descr=""/>
          <p:cNvPicPr/>
          <p:nvPr/>
        </p:nvPicPr>
        <p:blipFill>
          <a:blip r:embed="rId2"/>
          <a:stretch/>
        </p:blipFill>
        <p:spPr>
          <a:xfrm>
            <a:off x="3732120" y="4800600"/>
            <a:ext cx="1727280" cy="1728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1"/>
          <p:cNvSpPr/>
          <p:nvPr/>
        </p:nvSpPr>
        <p:spPr>
          <a:xfrm>
            <a:off x="609480" y="3886200"/>
            <a:ext cx="7925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вездие Весы – единственное, которое названо в честь предмета, а не живого существа, как остальные созвездия зодиакального круга. Чем же оно так особенно, почему его выделили среди остальных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Рисунок 5" descr=""/>
          <p:cNvPicPr/>
          <p:nvPr/>
        </p:nvPicPr>
        <p:blipFill>
          <a:blip r:embed="rId2"/>
          <a:stretch/>
        </p:blipFill>
        <p:spPr>
          <a:xfrm>
            <a:off x="609480" y="338040"/>
            <a:ext cx="7925040" cy="4218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1" descr=""/>
          <p:cNvPicPr/>
          <p:nvPr/>
        </p:nvPicPr>
        <p:blipFill>
          <a:blip r:embed="rId1"/>
          <a:stretch/>
        </p:blipFill>
        <p:spPr>
          <a:xfrm>
            <a:off x="0" y="-762120"/>
            <a:ext cx="9144000" cy="76201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562360" y="7238520"/>
            <a:ext cx="3886200" cy="14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-36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2840" algn="ctr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возникновения созвездия Весы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2840">
              <a:lnSpc>
                <a:spcPct val="115000"/>
              </a:lnSpc>
              <a:spcBef>
                <a:spcPts val="55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ным-давно, ещё в I веке до нашей эры, жил на свете мудрый и справедливый правитель, звали его Август. Правил он сильнейшим государством в истории – Римской империей. Подданные очень любили своего императора, были благодарны за его заботу и любовь к римскому народу. Великий поэт того времени, имя которого Вергилий, предложил в честь императора Августа выделить часть одного из созвездий, тем самым создав новое. Астрономы приняли во внимание его идею и «отщипнули» часть созвездия Скорпион. Раньше Скорпион выглядел так, будто держит в клешнях весы. Иногда, вместо весов в клешнях Скорпиона изображали лампу. После того, как часть созвездия Скорпион была отделена, и стала новым созвездием (Весы), говорят, что клешни Скорпиона опустели, будто он их разжал и выпустил свою добычу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284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1" descr=""/>
          <p:cNvPicPr/>
          <p:nvPr/>
        </p:nvPicPr>
        <p:blipFill>
          <a:blip r:embed="rId1"/>
          <a:stretch/>
        </p:blipFill>
        <p:spPr>
          <a:xfrm>
            <a:off x="0" y="-762120"/>
            <a:ext cx="9144000" cy="762012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2"/>
          <p:cNvSpPr/>
          <p:nvPr/>
        </p:nvSpPr>
        <p:spPr>
          <a:xfrm>
            <a:off x="533520" y="304920"/>
            <a:ext cx="7772400" cy="53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енда о созвездии Весы в Древней  Гре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ещё одна легенда появления созвездия Весов на небе. Появилась она в Древней Греции. Греки считали, что порядок и закон на земле устанавливает Зевс, главный среди богов греческого пантеона. Только Зевс нуждался в помощи, поэтому он вручил Фемиде волшебные весы, при помощи которых она могла взвешивать добрые и плохие поступки люд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определял дальнейшую судьб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го отдельно взятого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своей  доброты, Фемида не наказыва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ей за плохие поступки, она толь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аждала тех, кто делает добр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акое великодушие Зевс решил Увековеч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ь о богине Фемиде и помест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жение её весов на неб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Рисунок 4" descr=""/>
          <p:cNvPicPr/>
          <p:nvPr/>
        </p:nvPicPr>
        <p:blipFill>
          <a:blip r:embed="rId2"/>
          <a:stretch/>
        </p:blipFill>
        <p:spPr>
          <a:xfrm>
            <a:off x="6248520" y="3048120"/>
            <a:ext cx="2484360" cy="3001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1" descr=""/>
          <p:cNvPicPr/>
          <p:nvPr/>
        </p:nvPicPr>
        <p:blipFill>
          <a:blip r:embed="rId1"/>
          <a:stretch/>
        </p:blipFill>
        <p:spPr>
          <a:xfrm>
            <a:off x="0" y="-762120"/>
            <a:ext cx="9144000" cy="762012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2"/>
          <p:cNvSpPr/>
          <p:nvPr/>
        </p:nvSpPr>
        <p:spPr>
          <a:xfrm>
            <a:off x="3809880" y="380880"/>
            <a:ext cx="487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3"/>
          <p:cNvSpPr/>
          <p:nvPr/>
        </p:nvSpPr>
        <p:spPr>
          <a:xfrm>
            <a:off x="533520" y="609480"/>
            <a:ext cx="815328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чь Зевса и Фемиды - неутомимая Дике - обходила Землю со своими весами. Для того чтобы она была нелицеприятной, глаза ее были завязаны повязкой. Она рассказывала своему отцу Зевсу о деяниях несправедливых судей и людей, а он их жестоко наказывал за то, что они не соблюдали установленных им законов.    Богиня Дике была врагом всякого обмана и лжи. Она защищала только правду и справедливость. На своих весах она самым точным образом измеряла справедливые и несправедливые поступки людей, чтобы они получили от Зевса заслуженное наказание, чтобы повсюду в мире царила только справедливость.    Зевс оставил весы своей дочери Дике на небе. Так среди зодиакальных созвездий появилось созвездие Весов, чтобы напоминать людям о том, что они должны строго придерживаться законов и руководствоваться справедливостью в своих поступка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4T09:19:46Z</dcterms:created>
  <dc:creator>Алёна</dc:creator>
  <dc:description/>
  <dc:language>en-US</dc:language>
  <cp:lastModifiedBy>Алёна</cp:lastModifiedBy>
  <dcterms:modified xsi:type="dcterms:W3CDTF">2017-02-05T16:23:17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