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0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40004-B979-44B4-9061-476D8B83831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276C6-6CEB-4403-A4BC-B8F6FD939CB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DCE88-B913-46D5-87D3-5CBB1E031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8B47B-44F2-4F88-87D7-BDC823A43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04013-BCA1-411E-86FA-9E1B51E19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899A4-63AD-4831-94AB-E7DBE3ACB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4DF05-E612-41BA-B1F1-2029D9FB2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2D69E-DA7E-41B4-A21F-5EC4B1D1A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A46C7-8426-40D0-A309-4CD1D71C2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CBAC7-AD3F-4C34-852F-656604C9C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BB33C-2FBF-4CDE-AF35-75B4A03F0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CCF76-1D78-4C64-B070-EEB21D663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FE3F2-4EDF-4852-BC9C-FBBF0E89D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663C0-034D-4EDA-B994-656003D7E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4EE7E-0CC5-442A-9AD2-289FC225C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3DFAC-DDD2-4D40-BD2C-71E3AC452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D8A74-8358-498E-BFBD-E2688F64E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8390B-50D0-4B23-A100-7701A90E5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8CB4A-6B74-4788-930C-B9B33E546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4390C7-6DF3-48B2-808C-F17CBD500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C0800C-D7E0-4ADC-A796-F3167D7B3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96E067-86A9-4F24-BCF5-A932FAF88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A5AE00-C04B-4D86-BEBD-67D57879B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D406F0-3601-4D92-9FD0-C1779FF95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BF2C5-48AF-448B-B3CB-8640640FC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0DD43C-E842-465B-83E1-6488FEF4E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9249EB-2B19-4F10-B5A8-E2CD6C813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C1E3C2-3124-4312-ABA7-20EC269AC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9C65FB-424D-4B5B-90C9-79F35F22D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76A762-BFEF-45A5-B885-B4328180E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39C4DB-B44E-484A-9356-CE16AFB52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53D407-CD3F-4363-8D01-FA4C37591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4F9517-98AC-4716-AA93-D721A0E7C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FCCF88-5679-4BF6-B135-7BC7063AE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577F89-D5A5-47A1-A507-1941A5408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757CE-90FE-4A30-B058-ED85D1C37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710123-1895-4E32-806C-716E30B73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FDABAA-9958-4234-9F47-807A51419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4F9EEF-E08E-49EB-B18A-9A20970BB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8652C9-7FA2-4887-AFFF-F2BD8B898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611E55-5D07-43A4-B111-0E679148E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9D8538-FC8D-419A-91C4-7CDD3AF86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7ACCAA-77FF-42DF-A790-0B81C2416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C9725A-33B1-420E-9ACE-576E1F1E7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E150C8-5BC8-4620-8708-7FADB07D6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92C72-C5B7-44B5-8947-E1E0BEEC5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46379-7A28-49DF-9520-68C113AAC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D7D4B-7C28-462F-B1FB-EFA0F6620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A33C0-E6B5-4866-88DF-AC07C2ECF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F3CA8-5BB3-4010-B430-167A040AC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717DC-355E-44BF-9BB8-B09927BC05F7}" type="slidenum">
              <a:rPr b="1" lang="ru-RU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F4408-F96F-44C2-8426-F4AA9EB71F47}" type="slidenum">
              <a:rPr b="1" lang="ru-RU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13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16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20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ADE59-5C62-4920-B767-B430F09D2AAD}" type="slidenum">
              <a:rPr b="1" lang="ru-RU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6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67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71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90CEC-EF3D-4170-8E41-6B37E2C33818}" type="slidenum">
              <a:rPr b="1" lang="ru-RU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Рисунок 1" descr=""/>
          <p:cNvPicPr/>
          <p:nvPr/>
        </p:nvPicPr>
        <p:blipFill>
          <a:blip r:embed="rId1"/>
          <a:stretch/>
        </p:blipFill>
        <p:spPr>
          <a:xfrm>
            <a:off x="0" y="-762120"/>
            <a:ext cx="9144000" cy="7620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80520" y="-152280"/>
            <a:ext cx="845820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вездия- «группа звёзд», участки, на которые разделена небесная сфера </a:t>
            </a:r>
            <a:br>
              <a:rPr sz="4600"/>
            </a:br>
            <a:r>
              <a:rPr b="1" lang="ru-RU" sz="4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удобства ориентирования на звёздном небе.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3" name="Рисунок 8" descr=""/>
          <p:cNvPicPr/>
          <p:nvPr/>
        </p:nvPicPr>
        <p:blipFill>
          <a:blip r:embed="rId2"/>
          <a:stretch/>
        </p:blipFill>
        <p:spPr>
          <a:xfrm>
            <a:off x="3732120" y="4800600"/>
            <a:ext cx="1727280" cy="172872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5" name="Прямоугольник 1"/>
          <p:cNvSpPr/>
          <p:nvPr/>
        </p:nvSpPr>
        <p:spPr>
          <a:xfrm>
            <a:off x="609480" y="3886200"/>
            <a:ext cx="79250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озвездие Весы – единственное, которое названо в честь предмета, а не живого существа, как остальные созвездия зодиакального круга. Чем же оно так особенно, почему его выделили среди остальных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Рисунок 5" descr=""/>
          <p:cNvPicPr/>
          <p:nvPr/>
        </p:nvPicPr>
        <p:blipFill>
          <a:blip r:embed="rId2"/>
          <a:stretch/>
        </p:blipFill>
        <p:spPr>
          <a:xfrm>
            <a:off x="609480" y="338040"/>
            <a:ext cx="7925040" cy="421812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Рисунок 1" descr=""/>
          <p:cNvPicPr/>
          <p:nvPr/>
        </p:nvPicPr>
        <p:blipFill>
          <a:blip r:embed="rId1"/>
          <a:stretch/>
        </p:blipFill>
        <p:spPr>
          <a:xfrm>
            <a:off x="0" y="-762120"/>
            <a:ext cx="9144000" cy="7620120"/>
          </a:xfrm>
          <a:prstGeom prst="rect">
            <a:avLst/>
          </a:prstGeom>
          <a:ln w="0">
            <a:noFill/>
          </a:ln>
        </p:spPr>
      </p:pic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562360" y="7238520"/>
            <a:ext cx="3886200" cy="14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304920" y="-360"/>
            <a:ext cx="86104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2840" algn="ctr">
              <a:lnSpc>
                <a:spcPct val="115000"/>
              </a:lnSpc>
              <a:spcBef>
                <a:spcPts val="79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ория возникновения созвездия Весы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42840">
              <a:lnSpc>
                <a:spcPct val="115000"/>
              </a:lnSpc>
              <a:spcBef>
                <a:spcPts val="55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вным-давно, ещё в I веке до нашей эры, жил на свете мудрый и справедливый правитель, звали его Август. Правил он сильнейшим государством в истории – Римской империей. Подданные очень любили своего императора, были благодарны за его заботу и любовь к римскому народу. Великий поэт того времени, имя которого Вергилий, предложил в честь императора Августа выделить часть одного из созвездий, тем самым создав новое. Астрономы приняли во внимание его идею и «отщипнули» часть созвездия Скорпион. Раньше Скорпион выглядел так, будто держит в клешнях весы. Иногда, вместо весов в клешнях Скорпиона изображали лампу. После того, как часть созвездия Скорпион была отделена, и стала новым созвездием (Весы), говорят, что клешни Скорпиона опустели, будто он их разжал и выпустил свою добычу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2840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 spd="slow"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Рисунок 1" descr=""/>
          <p:cNvPicPr/>
          <p:nvPr/>
        </p:nvPicPr>
        <p:blipFill>
          <a:blip r:embed="rId1"/>
          <a:stretch/>
        </p:blipFill>
        <p:spPr>
          <a:xfrm>
            <a:off x="0" y="-762120"/>
            <a:ext cx="9144000" cy="7620120"/>
          </a:xfrm>
          <a:prstGeom prst="rect">
            <a:avLst/>
          </a:prstGeom>
          <a:ln w="0">
            <a:noFill/>
          </a:ln>
        </p:spPr>
      </p:pic>
      <p:sp>
        <p:nvSpPr>
          <p:cNvPr id="231" name="Прямоугольник 2"/>
          <p:cNvSpPr/>
          <p:nvPr/>
        </p:nvSpPr>
        <p:spPr>
          <a:xfrm>
            <a:off x="533520" y="304920"/>
            <a:ext cx="7772400" cy="53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генда о созвездии Весы в Древней  Гре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ть ещё одна легенда появления созвездия Весов на небе. Появилась она в Древней Греции. Греки считали, что порядок и закон на земле устанавливает Зевс, главный среди богов греческого пантеона. Только Зевс нуждался в помощи, поэтому он вручил Фемиде волшебные весы, при помощи которых она могла взвешивать добрые и плохие поступки люде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ультат определял дальнейшую судьб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ждого отдельно взятого челове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-за своей  доброты, Фемида не наказывал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юдей за плохие поступки, она тольк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граждала тех, кто делает добро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такое великодушие Зевс решил Увековечи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мять о богине Фемиде и помести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ображение её весов на неб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Рисунок 4" descr=""/>
          <p:cNvPicPr/>
          <p:nvPr/>
        </p:nvPicPr>
        <p:blipFill>
          <a:blip r:embed="rId2"/>
          <a:stretch/>
        </p:blipFill>
        <p:spPr>
          <a:xfrm>
            <a:off x="6248520" y="3048120"/>
            <a:ext cx="2484360" cy="300168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Рисунок 1" descr=""/>
          <p:cNvPicPr/>
          <p:nvPr/>
        </p:nvPicPr>
        <p:blipFill>
          <a:blip r:embed="rId1"/>
          <a:stretch/>
        </p:blipFill>
        <p:spPr>
          <a:xfrm>
            <a:off x="0" y="-762120"/>
            <a:ext cx="9144000" cy="7620120"/>
          </a:xfrm>
          <a:prstGeom prst="rect">
            <a:avLst/>
          </a:prstGeom>
          <a:ln w="0">
            <a:noFill/>
          </a:ln>
        </p:spPr>
      </p:pic>
      <p:sp>
        <p:nvSpPr>
          <p:cNvPr id="234" name="Прямоугольник 2"/>
          <p:cNvSpPr/>
          <p:nvPr/>
        </p:nvSpPr>
        <p:spPr>
          <a:xfrm>
            <a:off x="3809880" y="380880"/>
            <a:ext cx="4876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Прямоугольник 3"/>
          <p:cNvSpPr/>
          <p:nvPr/>
        </p:nvSpPr>
        <p:spPr>
          <a:xfrm>
            <a:off x="533520" y="609480"/>
            <a:ext cx="8153280" cy="56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чь Зевса и Фемиды - неутомимая Дике - обходила Землю со своими весами. Для того чтобы она была нелицеприятной, глаза ее были завязаны повязкой. Она рассказывала своему отцу Зевсу о деяниях несправедливых судей и людей, а он их жестоко наказывал за то, что они не соблюдали установленных им законов.    Богиня Дике была врагом всякого обмана и лжи. Она защищала только правду и справедливость. На своих весах она самым точным образом измеряла справедливые и несправедливые поступки людей, чтобы они получили от Зевса заслуженное наказание, чтобы повсюду в мире царила только справедливость.    Зевс оставил весы своей дочери Дике на небе. Так среди зодиакальных созвездий появилось созвездие Весов, чтобы напоминать людям о том, что они должны строго придерживаться законов и руководствоваться справедливостью в своих поступках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2-04T09:19:46Z</dcterms:created>
  <dc:creator>Алёна</dc:creator>
  <dc:description/>
  <dc:language>en-US</dc:language>
  <cp:lastModifiedBy>Алёна</cp:lastModifiedBy>
  <dcterms:modified xsi:type="dcterms:W3CDTF">2017-02-05T16:23:17Z</dcterms:modified>
  <cp:revision>2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