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3FC-97F6-40FB-8A9D-DE4594A3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75E-56F5-4EF8-9636-7D38D19D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D7F-3D57-4C06-AF5F-C5379FBF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952-14ED-4E97-93D4-824052B7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9ECD-885F-4D4F-B20A-0E54794A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87A6-5B79-4A3D-9847-BBCBE81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55BA-2994-4F5C-A6AA-CF9F1A64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F27C-DB93-4C2E-94C8-A7B1A27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368F-471D-463A-B40D-DE124D2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AC7-DB96-4D93-921C-4B4122E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422-8261-49FE-BC4B-E995A33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E11-5C2B-4974-AF43-EAAEA29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6D76-B19D-4B33-A028-F8A36026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FFA-5649-4C18-A26C-FD690E0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AC2C-C3B1-4EA2-8702-379E7152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A480-18FF-49E3-9D5F-D9243F12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F33-6625-4C18-A2DC-C0322510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0DE6-A52B-40C4-A6C7-63EA48D6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C7BC-1EC5-4308-BCB6-D5619B6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8B12-1B6A-462B-819E-C63E44EE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9D9E-7B5C-4F29-8496-8E997455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0E1B-9543-4D18-9191-2DF8C4A5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9B2-0D1D-4253-AC26-AEC4E96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FFAA-8788-4120-B6CC-CF63756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9B0C-2B8D-4747-B132-FF24784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2FCF-DA07-4667-81FC-A3B4627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5486-3207-4A46-8010-2151FC8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D2F3-D6F8-454E-AC8D-545FC24A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4F1C-674F-4C4B-AD24-F8A83B65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8615-77FD-4E5B-A90A-82601EC9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2A1F-135D-47AA-8C06-D5FB2C8D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0637-E14E-49FF-AD8F-A8F8235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82C8-4FAD-492D-B512-2F55810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D9F-159D-410A-BA8E-F99B7AAC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C8E1-5D9B-45C7-A4D3-AD03B50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C284-9FEE-4A91-9D87-7091828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CDF1-8020-4D3F-8914-B07C013F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2E36-9B46-4FDA-A5EB-96DA6A1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921EB-086C-4084-A41B-FDA5193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3EFE-59D2-47B9-AD3C-D3E3933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B059B-5FEC-4BBB-818C-A9DC017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EC3B-2CEE-45B3-B26E-D9E96A50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DCAD-5075-47BC-A1E3-4A3449FF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0FC-B1D8-4B66-BB4D-08B9DE5A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A1F-0720-4C69-82B3-AA28D85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939-66C8-4D15-8C40-E5112EF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228-DCB1-4246-8B68-30CB2A5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29C-35D1-4056-B976-834011A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34DA-BF6F-4449-9C06-72A5963442E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7DE-53A5-48C5-851B-859C0B3F0C3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36F-8482-467F-B779-488B1E86D17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0D97-36A7-4308-9845-C8FDF0C1AFB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3809880" y="38088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занятием древних египтян было земледелие. Все работы по сбору урожая начинались осенью. В эту пору трудолюбивые египтяне занимались жатвой, мололи зерно. Когда работа по сбору урожая была окончена, всё зерно нужно было взвесить. Его всегда взвешивали именно в то время, когда день длится ровно столько часов, сколько длится ночь. В этот день светлое и тёмное время суток как будто весят одинаково. Нам он известен, как «день осеннего равноденствия», который наступает 23 сентября. Ровно в эту дату Солнце попадает в созвездие В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Алёна\Desktop\презентация Матвея 2 б\Libra.jpg"/>
          <p:cNvPicPr/>
          <p:nvPr/>
        </p:nvPicPr>
        <p:blipFill>
          <a:blip r:embed="rId2"/>
          <a:srcRect l="19671" t="-751" r="21034" b="765"/>
          <a:stretch/>
        </p:blipFill>
        <p:spPr>
          <a:xfrm>
            <a:off x="345960" y="1892160"/>
            <a:ext cx="2881440" cy="273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7772400" cy="63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838080" y="-380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созвездие Весы на неб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990720" y="41760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вездие Весы расположилось между созвездиями Девы и Скорпиона. Найти Весы на звёздном небе не так-то просто. Всё дело в том, что в созвездии мало ярких звёздочек, по которым было бы легко его определ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2633760" y="3352680"/>
            <a:ext cx="4181400" cy="293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30:4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