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7B7-8515-426A-8A83-38D99C24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998-9247-4AC7-84F4-C0BB6CA2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0AF-4324-472B-9DB9-680DA6AA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E3C-C53A-4725-BB68-7308F56A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F95-3756-445D-9592-3410841F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8053-BEB1-4D11-8F84-3B06950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845-DB70-47F5-B723-9B01C900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8D46-C029-49FA-B3F8-D17FA586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6C29-3E3F-4940-84A3-B6A0F191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A462-97DB-44E1-9441-2607969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EAF4-9AA4-40D0-B83F-CEE1861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55B-5715-4ED3-9952-F1BEC94C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88CF-B9DB-456C-9F0F-999D8E31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9572-3078-4E63-A3BC-D9AF466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D7FA-BB8D-4FB3-9A4F-5BCE5FA1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2177-5559-4F8B-AB22-32E33FD0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B54-8213-4AFA-A138-425D8C3D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121B-783F-444E-8450-224C3CD5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9131-BF45-425A-9441-8B046985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9EA6-D664-4F30-856D-0A283C0C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B600-3572-46A9-B268-0B61A5E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5C2F-3B20-4FFA-8B50-24A538CA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9FA-302F-4A97-A875-5889DA09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2BFD-7EC7-4C3C-95FE-FD38DD8F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4273-365A-4724-B81F-CD083DA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1767-A98A-42F6-BF6D-D14E298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63C8-59F8-4F7C-98A2-5CEAD71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1CC4-3EC4-4933-AA99-8B695442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9DB1-ACF3-44FD-B7A6-0FC46159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DBED-5099-4F1C-9576-021231EC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CF60-37DD-448B-80C5-A3792F74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8026-D099-47BE-B586-7CD9EE7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6DB3-F48C-42B9-A2B2-FF25CE0B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E39-844A-47BC-B2DE-7B715782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1F790-1BFE-4542-8060-CCE41447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7CC9-5231-4F6F-B0BB-DF816C1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9EE1-8E98-46E7-86AE-C1E6A06D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9073-9576-48EF-8DD2-D5916F7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0B83-541A-4D7B-91BB-3A753656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5E54-38FF-4D21-93E8-E446B6E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78FC-F115-4BA0-AC64-625D9E3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437A-EA1F-4039-B9AC-86DD2A30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891C-4F6D-4E77-80DE-1D50A4D5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E32-FC91-42B8-B5E1-BA132EE9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B94-837F-4728-BFE5-FE739E11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59A-90D8-4510-822E-AD53C1F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09E-EB30-4ED7-90B1-B8A2F64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573-46B0-4C37-96E7-D2AEEC4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ED8E-AC12-4993-8B37-05107B866BF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7FFA-7282-4A57-8470-549AE6EB173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4E81-6E99-48D4-B1B3-4940D3428AB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9138-26BD-47A2-8939-5568EBF4E49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3809880" y="380880"/>
            <a:ext cx="4876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занятием древних египтян было земледелие. Все работы по сбору урожая начинались осенью. В эту пору трудолюбивые египтяне занимались жатвой, мололи зерно. Когда работа по сбору урожая была окончена, всё зерно нужно было взвесить. Его всегда взвешивали именно в то время, когда день длится ровно столько часов, сколько длится ночь. В этот день светлое и тёмное время суток как будто весят одинаково. Нам он известен, как «день осеннего равноденствия», который наступает 23 сентября. Ровно в эту дату Солнце попадает в созвездие В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Алёна\Desktop\презентация Матвея 2 б\Libra.jpg"/>
          <p:cNvPicPr/>
          <p:nvPr/>
        </p:nvPicPr>
        <p:blipFill>
          <a:blip r:embed="rId2"/>
          <a:srcRect l="19671" t="-751" r="21034" b="765"/>
          <a:stretch/>
        </p:blipFill>
        <p:spPr>
          <a:xfrm>
            <a:off x="345960" y="1892160"/>
            <a:ext cx="2881440" cy="2732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7772400" cy="63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5"/>
          <p:cNvSpPr/>
          <p:nvPr/>
        </p:nvSpPr>
        <p:spPr>
          <a:xfrm>
            <a:off x="838080" y="-380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созвездие Весы на неб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990720" y="417600"/>
            <a:ext cx="746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е Весы расположилось между созвездиями Девы и Скорпиона. Найти Весы на звёздном небе не так-то просто. Всё дело в том, что в созвездии мало ярких звёздочек, по которым было бы легко его определ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2633760" y="3352680"/>
            <a:ext cx="4181400" cy="293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30:4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