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A772-6A7B-419C-9AB0-1AE53247A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2196-1706-4D76-8AFD-A41BA6A54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F9F1-C2E5-4763-A130-0023ED2A4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DE0E-2954-4ABD-A2E2-8DF46AAB3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608F9-5B2C-4873-8F66-F87CF9AE9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F9D2C-0FAA-4587-8D4C-34567CC33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EC7B9-83AF-4782-AB5A-B90A48683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69E51-338C-4757-B7B6-3B3EB2E12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5E42C-74AF-4F4D-A378-5E480D420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4C57A-F49C-4F5E-865E-BA6A1B014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D1A12-E473-4D5E-8DFC-DC954A3C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3F9F-F08D-42AE-9525-70B96558C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ED07F-4AA1-4D05-B70F-AE44CA4D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46D54-4E6F-4435-97B2-E9C412A1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CD869-97E8-4BAE-A22F-78B3A32DC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9877A-EC6C-4BA8-886E-B9FE36A90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76348-812E-4817-B268-7BEE5AF7F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153E8-7186-4E6A-8C90-76641FC4E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AC5B5-34A9-48A0-80AC-D2EF6182E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AB5EE-50DA-4676-B735-ED03331A6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9CE1B-FD10-48BF-B297-AE4C9C8C5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E5590-314C-43C7-8AEB-27577ACC3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7CBD-79EC-49AE-BCC7-0CF9B7CF2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1F600-FAA5-4788-8910-536AB9811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F5CD0-3BBF-4F66-8D13-E40BF5A7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DE074-06EC-4783-99D3-0DE0E937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B9DE0-96E7-429E-A6A6-60225DC0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38AA6-CDF2-4AC1-8C2A-AB9AC5E69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B9D8E-87DB-4DC5-85FA-906D19DED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8A797-6EF0-48D2-8B0C-CF9F559AB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4A0C9-9968-4179-99BD-4B48D1809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60E9A-5771-4D59-B490-5ACD03225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C1112-E43B-4D5E-AA90-BDFD712B8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F768-CE21-430E-95F3-8118023BB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605EE-71DD-4AB3-ABF2-FE2322463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6806F-65CF-4A56-A695-530EE5A1D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DBA27-F0A9-4AD7-AA10-34AE6A049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A93BE-DFCA-42D5-A499-7856FC4E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758D7-DD98-4304-949C-4BB88ECC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25CE0-550C-4F76-A21E-DE255517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B7C23-BB85-43B2-9C68-1CFDD4634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191AD-C0E2-4FD1-806B-18A1F1538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3EE3E-B09E-4D40-8F17-36B80B6EB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A031-9E06-4D62-9757-0F12A1BAD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2974-3137-4C08-B418-8CC0068B8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6B87-E5E6-46AD-B552-828A0B97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D4E0-D3B9-4752-9158-69A814CA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68C9-2FD0-4D25-A2B2-5CB3B63D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2BE3-40BA-4B79-A08E-0F0402D2532B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658FF-2079-4BE3-A8DF-836F80676065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E7FEF-61C1-4BC4-9CA2-E8E6654D876D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DE602-D0A1-4421-AECA-1CBEECA8C259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Рисунок 1" descr=""/>
          <p:cNvPicPr/>
          <p:nvPr/>
        </p:nvPicPr>
        <p:blipFill>
          <a:blip r:embed="rId1"/>
          <a:stretch/>
        </p:blipFill>
        <p:spPr>
          <a:xfrm>
            <a:off x="0" y="-762120"/>
            <a:ext cx="9144000" cy="762012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оугольник 2"/>
          <p:cNvSpPr/>
          <p:nvPr/>
        </p:nvSpPr>
        <p:spPr>
          <a:xfrm>
            <a:off x="685800" y="533520"/>
            <a:ext cx="7696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попробовать его найти мож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этого астрономы советуют начинать наблюдения за созвездием в апреле-ма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ошо Весы видно в центре России и на её юге. Лучший помощник в поиске созвездия Весы – Скорпион. Найдите созвездие Скорпиона и продолжите его клеш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2"/>
          <a:stretch/>
        </p:blipFill>
        <p:spPr>
          <a:xfrm>
            <a:off x="2247840" y="3211560"/>
            <a:ext cx="4572000" cy="3267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4T09:19:46Z</dcterms:created>
  <dc:creator>Алёна</dc:creator>
  <dc:description/>
  <dc:language>en-US</dc:language>
  <cp:lastModifiedBy>Алёна</cp:lastModifiedBy>
  <dcterms:modified xsi:type="dcterms:W3CDTF">2017-02-05T16:40:46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