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7CFD-2E36-4167-A35C-1933AF9B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73AF-CF22-4E71-BB32-012ACC03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E834-8EB9-4B9B-A692-6CD3CDC4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64EB-1C09-4876-830B-ACBEA8A3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BE30-0E83-44CD-AA58-930F10D1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31F4-2E1B-4B39-8010-73E3F542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150E-E741-47A2-9814-439C1D7E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7710-7B17-453F-B62B-F783191C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47E8-0673-4A54-85AB-02BE579F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765E-92E4-45B3-8D99-B2BDADE1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5F96-8DC6-46B8-AB34-2F228491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5895-2BFE-45FB-B90B-34ACC28E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02E1-2FAE-4CA0-9FD8-D02C6DE6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AC8E-7390-4BD6-82BE-65852040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D5B3-5878-468E-A0DB-6A1442F7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84F0-2BD6-4EC1-9D18-8B2052E0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99F4-BB71-4714-9FFE-2311720A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2D704-B10F-4C17-BFF2-1AC0B8A8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79300-FC9A-4D61-B69A-F98911CE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30A07-AAC1-456C-92B1-C5B6E3EF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61EF9-56CA-4865-BC44-9EAE7C7A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98C35-A392-4F35-BDAF-A30340A0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A97F-62B2-40F6-8DEB-A76F43A6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32CB5-F878-48E5-A6E4-4CD3D1FD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763EF-C9D5-4B1E-B037-984AEFB5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F8852-ED4C-40DD-8327-42B781F3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4D127-840A-4818-A306-CD53EEC7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0CAA5-5F17-4E71-89EA-CB55B4D6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045E0-9254-4740-893C-F7462F86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E715C-635D-492B-BC77-1B75B47D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2E861-990F-4CF7-B3E3-D81DE7C5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7F3A8-3717-4CC2-A892-374725E9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B4849-C9BA-4536-AB00-94A75C4C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8F20-0FA2-4F07-B5D0-0F3DC49A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D53D6-2F10-4030-9911-5D6F9EFB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A6FDE-3E48-4D43-B4FF-AD36942F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A51F4-64F4-4206-9064-6799ACEF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CC9FD-0F27-4B37-B40C-2734B19F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A93BD-A902-4849-9EFB-500730FC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4A1A1-5984-4C43-B467-D81EFAD3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A6891-250A-4EC1-AC0B-1BB2BE58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5F7BD-7E86-4762-8EC9-6C757973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414BC-5276-4912-A114-BF87C330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13D3-AC9F-4BCA-8416-82E05279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384B-D560-41F8-94BD-CFC482D6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CDC9-0FD4-458C-A4F1-91C19232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8C2F-B05C-4F29-BDAB-959F5193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155E-C58D-4C6D-BB6C-2436BDC2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24DE-F6C6-45B9-A48C-9AF822FAF34B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E896-06EF-4411-A9EE-0DDA8044DFA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C120-CD5E-45CD-9383-7AB369E8DF56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8E3D-E3FD-4C79-BA0E-D6768C147667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2"/>
          <p:cNvSpPr/>
          <p:nvPr/>
        </p:nvSpPr>
        <p:spPr>
          <a:xfrm>
            <a:off x="685800" y="533520"/>
            <a:ext cx="769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попробовать его найти мож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астрономы советуют начинать наблюдения за созвездием в апреле-ма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Весы видно в центре России и на её юге. Лучший помощник в поиске созвездия Весы – Скорпион. Найдите созвездие Скорпиона и продолжите его клеш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2247840" y="3211560"/>
            <a:ext cx="4572000" cy="3267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4T09:19:46Z</dcterms:created>
  <dc:creator>Алёна</dc:creator>
  <dc:description/>
  <dc:language>en-US</dc:language>
  <cp:lastModifiedBy>Алёна</cp:lastModifiedBy>
  <dcterms:modified xsi:type="dcterms:W3CDTF">2017-02-05T16:40:4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