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B0D-9F53-4DA1-BAE4-F342DC8D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327-6379-4B5D-B4D5-E75E0A86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103-F292-4567-BE0F-ADDF01D6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FCC-A5C7-4425-9F8D-34356EDE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EF1B-BC1D-46E4-87A9-82B28ECB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1A1F-2AA6-4556-95EA-2CA15586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1062-F8DB-46DB-9E60-5BC2660C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469F-CEEA-49B2-A93A-81C44A90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640A-D77D-4264-9391-77F02DED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55E5-3E9F-4F46-B24F-26D43E02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A971-A1E3-491D-8662-594D774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95C-90DF-4AFF-B6D0-890D44C2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F37F-E945-46D9-890D-F3AC4A2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9C5-2294-417D-AB5D-063B012D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F317-2627-4F87-8632-18A1BE02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51CE-8DC7-454E-8160-57E5EE9B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82E6-6FB0-45B5-88EF-55842A6F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3F9C5-98C3-419D-9FB4-04666C59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93EF-CBEA-4771-97B6-F41A09E8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F727-604A-4C3F-BCAB-16BC49A2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5532-EA48-4F28-9DC5-19A583B5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6E5A5-0E32-4AF4-B1C3-6079BB3A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537-518B-4477-A69B-2DC61077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77B8-6EC8-4BA1-811D-AF00AFD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CAAC-64E4-4A5F-B272-772A28EA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9CBB-578D-4DD7-ADC4-614B310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A901-6AD1-4CC7-AD44-14085282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3A3A-3CF9-44B3-A669-93A1E5E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82E8-9E59-479C-B004-2785AA6B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B647-C6ED-4A3D-98AE-9D69FE14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4069-47C1-4274-ABE0-901AF26E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0175-699B-42FF-A958-F387D98E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D97C-ADB4-4DD2-8A99-7BC1F73C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45A-BC7F-4151-9EAB-DFE876BE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B0AE-FCBF-4934-A5C9-1D32574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364B-6900-4A43-AE62-D437EF19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5265-4AF6-4013-9046-D20C1B4E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1E3A-BECE-4249-854B-14F306CB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738C-D5B1-43DF-963D-66E87BB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6C75-D604-4440-94CB-B228B7A4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5869-0080-4009-99E1-E2C52B6C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BF0B-B0A9-4D8B-886F-4E9627C4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1F7E-8A27-4EDC-B6E7-85E5AD9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7DA-0651-48DB-8C53-E1636A0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DED-F943-4CF9-99CF-FA8B5DCF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44A-7F11-4B4F-B0B1-EA029D24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784-4462-4A78-A2D1-F24B782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971-8B44-4370-95D4-9AAE9090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7433-7599-4356-B11D-BA6C874DB4D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C447-2F83-4D05-90F9-2FB829B9A7A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4A2-5AEE-4259-9D10-61E866551B1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48E-9C4A-44C0-8795-B82E6B42EBD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685800" y="76320"/>
            <a:ext cx="8139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глядит созвездие Вес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вездие Весы мало похоже на бытовой предмет, который называется весами. Это тре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нования которого, как бы спускаются нит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этих ниточек (правая) имеет на окончании зелёную звезду. Это единственная звезда с зеленоватым оттенком, которую можно увидеть на небе не прибегая к помощи телеско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вездие Весы интересно сво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ждением и ц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ис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5715000" y="3425760"/>
            <a:ext cx="31100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2"/>
          <p:cNvSpPr/>
          <p:nvPr/>
        </p:nvSpPr>
        <p:spPr>
          <a:xfrm>
            <a:off x="1295280" y="3809880"/>
            <a:ext cx="6553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зодиака указывает на зодиакальный знак созвездия. Знак зодиака определяется датой рождения человека и каждый из этих 12 знаков обладает основными характерными только для себя чертами и особенностями, описываемые в гороскопе знаков зоди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1919160" y="457200"/>
            <a:ext cx="5166000" cy="373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3200400" y="682560"/>
            <a:ext cx="4876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ерта характера - судить по справедливости, совершен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характер: легкий, общительный, обаятельный, элегантный, с хорошим вкусом, тактичный, терпимый, неконфликтный, способный найти "золотую середину" во всем, с устойчивой системой цен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й характер: нерешительный, неспособный к действию в ситуации выбора, не выносящий одиночества, шумный и суетливый по пустякам, дающий множество советов, с неожиданными перепадами на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Users\Алёна\Desktop\презентация Матвея 2 б\10_prichin_druzhit_s_vesami_kazhdomu_iz_nas__kaifzona_ru-10.jpg"/>
          <p:cNvPicPr/>
          <p:nvPr/>
        </p:nvPicPr>
        <p:blipFill>
          <a:blip r:embed="rId2"/>
          <a:stretch/>
        </p:blipFill>
        <p:spPr>
          <a:xfrm>
            <a:off x="345960" y="1676520"/>
            <a:ext cx="262908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42:2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