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EDC-C5CA-4BEC-B6D1-24539C26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1D3-E2E0-48B8-85B3-DBD20A26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D2B-5306-4928-84CE-C39C51E7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BF4-2D0B-4B56-BF64-A1AC5667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10A2-1BBB-44E6-BDA8-06192919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7225-E271-4672-BF8E-FFBEDDDE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C4BA-7DDF-431D-A1FB-B3D349DE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2A56-7663-42E2-9AA8-B346B06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C8B7-2AF0-4C4A-B41B-AB35D72C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CD1-6D41-498E-87CB-7A410E4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4EAC-7B7E-4772-BCF1-EDC3D09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FBA-58E5-416F-B66A-662FBCF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CCF4-E37E-44FF-BE79-3DDD1BA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43C1-EC78-4D03-9A2B-4BF659F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AE19-5943-47A1-9EB4-6DD0EEA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944C-82DD-487C-A1BE-1B61390F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3BF-97CF-489D-AE0B-5F35992E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CAAA-0F44-4E98-8B1D-73697047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588D-0F08-4682-84B9-3BA701E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E733-F483-43F1-B363-4CC7D6E6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23A9-155D-441A-B3C6-D86C6E9A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7ADE-50E0-4FD4-9E44-13DE2A1A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ED8-09CA-4D8D-A76B-DB629811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D50C-FE0E-4A62-8749-13B94A3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7E51-EC29-40BF-8109-E3F2B0D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1DD3-4292-4490-A76F-2F541F9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2680-328C-4D0D-8CB2-9F9FB0F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6410-75B7-4D01-9848-BEA459CA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1991-008A-4E33-8889-37F2EBD1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B3F7-D325-4561-86D1-D873725E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8CD8-81EF-4258-AE40-45ABA0DC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DE85-D910-41E4-AE86-51C7FA32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AF63F-9174-43A2-AFE9-FDE60CB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FEA-7700-40E4-8213-B52394F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EE242-1E7E-4B61-9789-F103584C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4273-CAB6-4125-9332-77CB96A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0EBC-DF7F-41FF-A803-D4106995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2E1E-A1F0-427F-AD4F-EFC15D9F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0707-9030-495F-AD37-63A23AB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FCC5B-29DE-4F9A-8EEA-7107772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5A06-105A-4247-82A3-1A8F188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9E64-DBB6-4110-AA70-5C6DC0D6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18B5-0C62-47BC-A74F-B6A107E3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3DB-3435-4845-98B0-CE39AF83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B72-5739-4A2D-B162-C89F5889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D4E-35C7-4D9E-9A42-5864762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8E9-BD91-45F3-8998-7ED1FA5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034-E80C-4644-8ABE-BD219D2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F9C1-C011-4446-925F-53A6EDA658C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FCC9-C9FC-45A0-9D80-4183E924CAB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FC0-B3EA-42DB-81C5-6316DC28C23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1B05-9046-46B2-A995-A4D643416CB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685800" y="76320"/>
            <a:ext cx="8139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глядит созвездие Вес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е Весы мало похоже на бытовой предмет, который называется весами. Это тре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снования которого, как бы спускаются ни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этих ниточек (правая) имеет на окончании зелёную звезду. Это единственная звезда с зеленоватым оттенком, которую можно увидеть на небе не прибегая к помощи телеско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е Весы интересно сво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м и ц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ис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5715000" y="3425760"/>
            <a:ext cx="31100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1295280" y="3809880"/>
            <a:ext cx="6553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зодиака указывает на зодиакальный знак созвездия. Знак зодиака определяется датой рождения человека и каждый из этих 12 знаков обладает основными характерными только для себя чертами и особенностями, описываемые в гороскопе знаков зоди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1919160" y="457200"/>
            <a:ext cx="5166000" cy="373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3200400" y="682560"/>
            <a:ext cx="4876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ерта характера - судить по справедливости, совершен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характер: легкий, общительный, обаятельный, элегантный, с хорошим вкусом, тактичный, терпимый, неконфликтный, способный найти "золотую середину" во всем, с устойчивой системой це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й характер: нерешительный, неспособный к действию в ситуации выбора, не выносящий одиночества, шумный и суетливый по пустякам, дающий множество советов, с неожиданными перепадами на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Users\Алёна\Desktop\презентация Матвея 2 б\10_prichin_druzhit_s_vesami_kazhdomu_iz_nas__kaifzona_ru-10.jpg"/>
          <p:cNvPicPr/>
          <p:nvPr/>
        </p:nvPicPr>
        <p:blipFill>
          <a:blip r:embed="rId2"/>
          <a:stretch/>
        </p:blipFill>
        <p:spPr>
          <a:xfrm>
            <a:off x="345960" y="1676520"/>
            <a:ext cx="262908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42:2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