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6E1-8759-4362-9E16-C7637536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899-4F87-4BAF-8DF4-A1787866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AB6-CB98-49D5-BCD9-C4E58613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4E6-BFA8-4B5B-A7B1-BF695AF7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9C75-8CF3-4CAD-A1E6-66A6C387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284D-C037-4920-BB02-947A3485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C4F6-9AB4-438D-A89D-FEBE9A4A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5352-FC7A-4E46-A161-12B68B42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26D8-D15A-4AE4-973E-F4048F33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C067-BF54-4899-8DA5-CD97963B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089E-D145-45F2-B897-2587890F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76D-B166-47DA-8CD8-DC07D919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A7BE-B95D-4AF1-B897-08601A6E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C619-874F-4A43-95EF-BF52E3F3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E30A-2747-42CC-809C-259664C2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A919-04A4-4B5C-A373-C00B5396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A80E-4206-409B-B94E-C4B27AE8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6C95E-0E9A-4184-B674-2A7D63F1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77523-DA20-42B3-9552-AE55CEC0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8366D-A18E-43A3-BC74-AC880D47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765CD-75C8-497C-BBBC-27260DD9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59E6F-9822-4C1D-A207-F6A220F1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1C7-432E-40D8-BD1C-0A576E38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2435B-3D88-46DB-852B-F5C77C89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50EFE-9CEE-4C01-BD8C-68862FB1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ECA0E-02F2-4C30-8036-2D70DEEB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D1660-8AF9-4969-9AA5-8CBF949A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A8470-A3DA-487C-85AC-507BAEFB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601AE-FD49-4BFB-8DF5-5942FC47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3D15B-CDB6-4C25-BDCB-0F53E211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3DD3-6881-4D29-AFCA-EDF1AFF8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9342E-0757-43D6-A5BF-CE5AAEC8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71015-E7D8-4ACA-B0F5-82F69A4D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81D-56D9-4DE5-9657-CB4A97BE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1265F-B43F-4059-A436-C873D77E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4ECA3-88F4-475A-A5E2-775D4474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D31F2-55DF-4DDC-B59C-4E482B53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61CFA-8E2F-46C5-AFF5-26D6A66B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EAC6-B8F9-4322-8264-23A1D3C7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28908-464F-4F6B-BCF7-DBA04EE2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A2801-AA0B-4DC0-8E5D-6EFB3BA2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88C3A-2CB4-4A23-B44B-1E366E4E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F3349-8674-4C90-BD8A-6C0BF2BF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47F-36F5-4E6F-B0F1-B89E0824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1CE-E619-4784-B03E-0FE0F415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D5C-AB5B-4358-9DA6-851DCA2B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C27-BDBA-4636-8612-7398A7F9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18F-44CD-4569-85D0-91367E7F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7814-69B0-41EE-885D-B835E2B24AF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8D7F-A1C6-4632-8E13-F2EF4FFCCC0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902D-AA7C-4876-9281-6620518B7C8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CA63-4318-41E0-ACAC-A8076459571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2"/>
          <p:cNvSpPr/>
          <p:nvPr/>
        </p:nvSpPr>
        <p:spPr>
          <a:xfrm>
            <a:off x="3200400" y="682560"/>
            <a:ext cx="4876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ерта характера - судить по справедливости, совершен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й характер: легкий, общительный, обаятельный, элегантный, с хорошим вкусом, тактичный, терпимый, неконфликтный, способный найти "золотую середину" во всем, с устойчивой системой цен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ый характер: нерешительный, неспособный к действию в ситуации выбора, не выносящий одиночества, шумный и суетливый по пустякам, дающий множество советов, с неожиданными перепадами настр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C:\Users\Алёна\Desktop\презентация Матвея 2 б\10_prichin_druzhit_s_vesami_kazhdomu_iz_nas__kaifzona_ru-10.jpg"/>
          <p:cNvPicPr/>
          <p:nvPr/>
        </p:nvPicPr>
        <p:blipFill>
          <a:blip r:embed="rId2"/>
          <a:stretch/>
        </p:blipFill>
        <p:spPr>
          <a:xfrm>
            <a:off x="345960" y="1676520"/>
            <a:ext cx="2629080" cy="2104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2"/>
          <p:cNvSpPr/>
          <p:nvPr/>
        </p:nvSpPr>
        <p:spPr>
          <a:xfrm>
            <a:off x="762120" y="474840"/>
            <a:ext cx="8153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античных времен астрология (учение о якобы существующей связи между расположением небесных светил и историческими событиями, судьбами людей и народов) была высокоуважаемой наукой и даже в наши дни она остается широко практикуемой, дающая довольно точные предсказания посредством астрологического гороскопа знаков зодиака. В нашем классе учится много учеников. И каждый из нас рожден под своим знаком зодиака. Астрологический гороскоп знаков дает лишь общие сведения об индивидуальных чертах человека родившегося под тем или иным созвездием. И какими бы мы не были активными, целеустремленными, трудолюбивыми, эгоистичными, мы просто ученики 2 «Б»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2"/>
          <a:stretch/>
        </p:blipFill>
        <p:spPr>
          <a:xfrm>
            <a:off x="411480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2" descr=""/>
          <p:cNvPicPr/>
          <p:nvPr/>
        </p:nvPicPr>
        <p:blipFill>
          <a:blip r:embed="rId2"/>
          <a:stretch/>
        </p:blipFill>
        <p:spPr>
          <a:xfrm>
            <a:off x="171360" y="103320"/>
            <a:ext cx="8723520" cy="160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Алёна\Desktop\презентация Матвея 2 б\kak-ljubjat-vesy-9-0.jpg"/>
          <p:cNvPicPr/>
          <p:nvPr/>
        </p:nvPicPr>
        <p:blipFill>
          <a:blip r:embed="rId3"/>
          <a:stretch/>
        </p:blipFill>
        <p:spPr>
          <a:xfrm>
            <a:off x="1131840" y="129384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4T09:19:46Z</dcterms:created>
  <dc:creator>Алёна</dc:creator>
  <dc:description/>
  <dc:language>en-US</dc:language>
  <cp:lastModifiedBy>Алёна</cp:lastModifiedBy>
  <dcterms:modified xsi:type="dcterms:W3CDTF">2017-02-05T16:43:3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