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2.jpeg" ContentType="image/jpe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30CF-5A18-495A-AFA2-219DE66BC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BA0E-8C83-4F9A-A4B4-7A8A8EEF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42B4-8850-4B1F-A2EF-1A1215F9C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FC93-3598-464B-9FD4-27429D83C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7709A-1EBA-4B4A-A3DA-101000BF2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354F-063C-45B8-B304-72C2BC5B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155EE-10D5-437A-A675-A37B442F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2B0C-13F6-4B54-B277-43E92565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321C5-E228-46D4-A8F1-5F6D95A9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F6C82-3294-4B39-8292-0A6AEB5C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301B-E563-4B94-AF65-7D99781D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4225-621B-4468-B570-A6C8E368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6A932-484E-4570-A7DB-540A3491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4722-BC86-42FD-8AF9-258C3DFB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0C7BA-FBDF-48C3-B1AD-250A719A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6B20-CB8D-4B90-AED2-8E8A459AD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AFC4-3BE7-48BD-B560-BA13564C4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5F4A0-9733-49BC-9B4D-3A9BA9E69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EE47F-6C6A-4801-BF5E-B0D575EB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32F93-3AB1-40DE-90E3-58546628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DEF7E-FC32-4AF2-A90A-5E8C235E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C41FE-F16E-43AF-BC11-1522F0D0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F39F-E64D-4A15-AFA2-E1DDAB2A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594D1-7B53-4500-B916-3B6A34B4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42EAF-0534-4522-AE28-80776E0F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E9841-27D3-495F-9744-EB41033B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1370C-B665-4978-A36E-A4180C9F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FEAD4-A97B-4B4D-88C8-BE91F739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442B0-898E-4549-92D2-55A04E5C3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C13CD-E27F-45B9-8CC2-526791275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BB98A-E37A-471A-8D93-E3A25FF69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5112C-E29D-44BB-B624-08A6EE00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351CA-F35D-4EEE-8065-74CDD4CD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539B-F285-474F-8085-2E6A79D0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4FCC0-420E-4190-B6F2-8D4E8C65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2C0EF-B4D6-4A88-B018-21D03071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B84D5-4051-49B1-BE14-CFA498E7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515D4-2005-4985-B92F-0CB61608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B9EBA-D735-4EDE-89AF-F46D5888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3BA97-EAD3-42D9-BDED-29916ACA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E446E-3C7B-440F-A1AD-E4A94D11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DD65A-D00D-4C16-9535-5F7399E2C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B6B3D-4C64-42A6-AF64-AC5224087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B324-386C-47FC-9286-E69D4DAC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6585-F0D0-4D2B-B3BD-3003231D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EEC4-274E-4773-AE46-112199EB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F475-EF1A-4074-BE19-F704BE4A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63E7-4471-4399-8DAE-6F39E76F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4F60-40DE-4678-9498-367C48557C55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CB4B-B393-42B4-923B-A6DE84620EE9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BAF5-D7F5-4E03-9089-B23813E5F24B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94A1-48F7-44B0-8522-C7F80042B932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Рисунок 1" descr=""/>
          <p:cNvPicPr/>
          <p:nvPr/>
        </p:nvPicPr>
        <p:blipFill>
          <a:blip r:embed="rId1"/>
          <a:stretch/>
        </p:blipFill>
        <p:spPr>
          <a:xfrm>
            <a:off x="0" y="-762120"/>
            <a:ext cx="9144000" cy="762012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2"/>
          <p:cNvSpPr/>
          <p:nvPr/>
        </p:nvSpPr>
        <p:spPr>
          <a:xfrm>
            <a:off x="3200400" y="682560"/>
            <a:ext cx="48769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черта характера - судить по справедливости, совершенствов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ительный характер: легкий, общительный, обаятельный, элегантный, с хорошим вкусом, тактичный, терпимый, неконфликтный, способный найти "золотую середину" во всем, с устойчивой системой ценност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ицательный характер: нерешительный, неспособный к действию в ситуации выбора, не выносящий одиночества, шумный и суетливый по пустякам, дающий множество советов, с неожиданными перепадами настро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" descr="C:\Users\Алёна\Desktop\презентация Матвея 2 б\10_prichin_druzhit_s_vesami_kazhdomu_iz_nas__kaifzona_ru-10.jpg"/>
          <p:cNvPicPr/>
          <p:nvPr/>
        </p:nvPicPr>
        <p:blipFill>
          <a:blip r:embed="rId2"/>
          <a:stretch/>
        </p:blipFill>
        <p:spPr>
          <a:xfrm>
            <a:off x="345960" y="1676520"/>
            <a:ext cx="2629080" cy="2104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Рисунок 1" descr=""/>
          <p:cNvPicPr/>
          <p:nvPr/>
        </p:nvPicPr>
        <p:blipFill>
          <a:blip r:embed="rId1"/>
          <a:stretch/>
        </p:blipFill>
        <p:spPr>
          <a:xfrm>
            <a:off x="0" y="-762120"/>
            <a:ext cx="9144000" cy="7620120"/>
          </a:xfrm>
          <a:prstGeom prst="rect">
            <a:avLst/>
          </a:prstGeom>
          <a:ln w="0">
            <a:noFill/>
          </a:ln>
        </p:spPr>
      </p:pic>
      <p:sp>
        <p:nvSpPr>
          <p:cNvPr id="218" name="Прямоугольник 2"/>
          <p:cNvSpPr/>
          <p:nvPr/>
        </p:nvSpPr>
        <p:spPr>
          <a:xfrm>
            <a:off x="762120" y="474840"/>
            <a:ext cx="8153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античных времен астрология (учение о якобы существующей связи между расположением небесных светил и историческими событиями, судьбами людей и народов) была высокоуважаемой наукой и даже в наши дни она остается широко практикуемой, дающая довольно точные предсказания посредством астрологического гороскопа знаков зодиака. В нашем классе учится много учеников. И каждый из нас рожден под своим знаком зодиака. Астрологический гороскоп знаков дает лишь общие сведения об индивидуальных чертах человека родившегося под тем или иным созвездием. И какими бы мы не были активными, целеустремленными, трудолюбивыми, эгоистичными, мы просто ученики 2 «Б» кла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Рисунок 3" descr=""/>
          <p:cNvPicPr/>
          <p:nvPr/>
        </p:nvPicPr>
        <p:blipFill>
          <a:blip r:embed="rId2"/>
          <a:stretch/>
        </p:blipFill>
        <p:spPr>
          <a:xfrm>
            <a:off x="4114800" y="41148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Рисунок 1" descr=""/>
          <p:cNvPicPr/>
          <p:nvPr/>
        </p:nvPicPr>
        <p:blipFill>
          <a:blip r:embed="rId1"/>
          <a:stretch/>
        </p:blipFill>
        <p:spPr>
          <a:xfrm>
            <a:off x="0" y="-762120"/>
            <a:ext cx="9144000" cy="7620120"/>
          </a:xfrm>
          <a:prstGeom prst="rect">
            <a:avLst/>
          </a:prstGeom>
          <a:ln w="0">
            <a:noFill/>
          </a:ln>
        </p:spPr>
      </p:pic>
      <p:pic>
        <p:nvPicPr>
          <p:cNvPr id="221" name="Прямоугольник 2" descr=""/>
          <p:cNvPicPr/>
          <p:nvPr/>
        </p:nvPicPr>
        <p:blipFill>
          <a:blip r:embed="rId2"/>
          <a:stretch/>
        </p:blipFill>
        <p:spPr>
          <a:xfrm>
            <a:off x="171360" y="103320"/>
            <a:ext cx="8723520" cy="16030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C:\Users\Алёна\Desktop\презентация Матвея 2 б\kak-ljubjat-vesy-9-0.jpg"/>
          <p:cNvPicPr/>
          <p:nvPr/>
        </p:nvPicPr>
        <p:blipFill>
          <a:blip r:embed="rId3"/>
          <a:stretch/>
        </p:blipFill>
        <p:spPr>
          <a:xfrm>
            <a:off x="1131840" y="1293840"/>
            <a:ext cx="6804000" cy="5103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4T09:19:46Z</dcterms:created>
  <dc:creator>Алёна</dc:creator>
  <dc:description/>
  <dc:language>en-US</dc:language>
  <cp:lastModifiedBy>Алёна</cp:lastModifiedBy>
  <dcterms:modified xsi:type="dcterms:W3CDTF">2017-02-05T16:43:36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